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</p:sldIdLst>
  <p:sldSz cx="6858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4507-9769-4FC7-A51B-D8EF19A2FDA3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5885-0D82-41A7-8811-F9E611746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18F4-C670-4554-8C80-4069C6567E5F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3139-BA66-4A2D-A324-D8DD13171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1DBF-61A3-42F4-8C75-E96B73181F46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1B78-733C-4812-B632-3138F79CE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AFD08B-5F19-431D-B70A-EEBDAD28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ECE6AA-921B-441D-887A-703A6A41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AAB0B8-8119-4BAF-9765-613190DD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CA75BC-7768-4088-9CB2-06C62569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58C58A-6B8D-4E1D-B374-F72B7173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6D25B8-A375-4C22-B0C1-E5B2CCB4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088336-3537-4F44-8D98-B8327031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ED7792-B0CA-4FAB-88BA-4EA86235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DC17FE-C1E2-4940-9770-EAB25278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1EFB4-D9CF-43CB-A84A-4EBC1912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6C37D-822B-40C5-B597-9C28771C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E006B-E909-40C7-8240-AFD4B659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E29A57-CAD9-43BE-A16A-123882A5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2EB8BE-2A28-4698-BB67-1BEA799B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F0A4B1-B490-433E-9AA5-3AFB80D6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4502B-3731-4734-888C-454A561D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C9C15C-5F44-4E14-8F48-C042862B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2B763-1854-4B0D-ACCD-BDB239B6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55E33-9ADF-40B7-8D7C-7EE13E5B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364359-E8D1-4547-A70F-E018C3A2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9BA78-B97F-4491-B7A2-4A78761A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99F78-D953-4162-93FE-B40CB289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940E60-C701-42BE-AD97-FBE46977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08C1ED-3572-4955-8173-C165ED4D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9B3D7F-FA34-48C8-BFF2-9AC16DE3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2D450-9AAC-465B-98F3-1C32C6CC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DD8546-D44F-41D6-AA1D-F6A40BC3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456B4-2766-4135-A01C-B96455CE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A74A07-E804-40A2-9A21-79AFB3BC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1BC81-AA39-47AD-9BCD-D6273271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5F106-8002-4E57-A01A-742C9CBB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C7F66-0736-406C-B347-974333A9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F614A-8065-41E8-8EA3-7490D637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A9DDA-420C-4E1F-869C-6C72743B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354FB2-C368-48D9-B0AA-B82719FF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4332BC-E20B-48D6-9174-42518B1B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E129B1-05C0-4787-9CB0-07F337E6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262E13-5225-485C-A8B6-5133CD2A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5A29BA-AB15-4E07-BC57-428601F0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3CCDB9-4562-4E94-95DA-5B378F4F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2F1F4D-2613-4CEA-8B9C-523AE266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49C5F-B4E2-4714-B36A-B449379D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EC6D41-8596-47EC-B800-3357C794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E4E6B3-3EC9-446B-A3AA-0978B3BB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248F66-EFC4-43DB-AB43-82260790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9C71C1-21FC-479C-9B47-7D827CB9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BC6797-6685-496D-A3B1-BAAA6B15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5EA06-6376-4D12-A8F6-256C21CD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7A9E3A-9AC7-40A2-A4B2-BCFD6587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C3D3D-3BD4-44B2-8491-4CA3E334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25A328-C792-48BE-9057-670FF7F5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E15B48-2A7C-4275-8F5E-74DD26F1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319AB-E423-4244-9A51-9572CEF2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22AB23-E210-47CB-BAD1-207207AF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9DD089-F15C-438E-A090-03BE3603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F2FB7-DAC5-4510-BF90-786BB714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EC7739-74CA-4826-AFF6-5C532A08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69FE5F-8397-4272-8555-B3E10F20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6D4B5-748C-4978-8AE2-272E07F3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1D5915-88BC-458A-8DFF-AF907A66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B68CA1-AEC1-4E18-B4F6-203C4754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7F2A6F6-1EE9-4776-8F9A-7C50F95A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6C2214-CA00-47A1-A10E-5B42E468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6ED6A-9C3D-4F2C-8FBF-1334DCA7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FD3C11-A21D-4BA4-A1A6-46F5AEBC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F0BADA-3060-41CD-8B39-A4797FD2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D71D49-3B69-4913-8CFB-2E2C5D49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1E001E-CB63-4F0C-A84F-96436FC4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FA5EF1-3175-49A6-9433-161F4385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2A16F1-28CA-43A4-A91A-C37265AE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AA1360A-5C7E-4BF9-8EB1-FEFBFDD1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BF07EC-B4FF-4E7C-A92A-E823051A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E968B9-AB7C-464E-A06B-CD247A99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92F51-EE81-451F-84C0-0AFF6A38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1BE9F-47A3-42B5-BFDF-C3072D4E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0ABD4-1B87-4631-9060-B8809BBA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4FB04-2BB9-4CC9-B574-108B10C2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C3E9E-097A-4406-9CDE-4D121617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6A7A7-400C-40D8-8B2E-6C3A8647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5AE45-F35E-4756-9AF5-D57CC19B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CA709-97C5-4B7A-8672-9369AB81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0AAD40-E8D1-4866-A28A-39AE5A1D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430E22-A422-46FE-972E-8ACC1A95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91AA27-8944-41B8-A40E-8CEA1E42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6B79C8-FFA9-41FA-9948-BD4AA6EB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C1A70F-4B38-415A-B8E8-7542F22A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1751CE-6303-4344-A01C-3A965C99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E1711C-9BE4-4DFF-81DC-E0A4CABE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B70E64-1F8D-487D-A9E7-A062C3B8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DA4395-2825-4A80-8160-8F99D68F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86C99A-E454-4EE9-8C8B-9024028C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49C09D-D5AC-46D9-9F9A-96E1F3FF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B74E0B-985D-4FBA-B8E8-478C2F69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D8639D-53FF-4612-8BB1-94AD2FF5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0AB0A1-F83E-4040-B749-16E9196C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017978-4705-4AAA-90E5-3E5C80F9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0E2C71-FB98-4EA9-9054-B352E1FE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3A6D7-5DDB-4346-921F-AC0B1802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A3B44D-40A9-4A2A-8666-56B4F86F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D951F8-A004-44C1-A99A-EA229225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26B924-93C3-40A8-8955-1693629A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EE5DF0-5EED-422F-A69B-976E00B7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B7499D-845E-4532-BC3E-1D2BA7AA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99A2E7-1214-4288-8BC2-7D4866FD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414B0F-E3C9-4C7F-BA1D-6062AB60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8DD288-CAFA-4643-9F92-DDA5039E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9065C9-BDAD-42F8-AE21-9E7AEF8C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E5577B-EB1D-4956-98EF-27D80923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6ACDD4-DE6A-40E9-A0E2-BC3AF05B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0A4B11-1DF0-4102-A245-840F0159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E01C54-63A3-496A-A657-FB0E6C0C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1D601D-4C74-436E-A85C-74C4FC9F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4E0356-F420-4F8B-856D-4AFE9EA5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DFF95B-E867-4EDC-BA22-B68EDE98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F4F23D-6C6D-4137-998D-099E8E1A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721409-F2FA-498F-89A1-2E7778EF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C835F2-2F43-4D61-AFEE-A48CD51F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3A519F-8B71-4A6F-B553-A3C019D3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51A34B-7EF9-4FC0-BB8A-6B9B077A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B13569-4D84-4E7F-A1AA-4B88DC46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32CCF1-4941-4B89-A990-7688632A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61EBFA-2CF2-498B-A07A-1332A56B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13E3D1-4758-4F8F-8312-BFE0A5A9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6D42C0-07EB-4A4F-A49B-E4CC3584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BE4D5A-61F2-432A-AAF4-AF0B5D57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4AF2B6-2189-4C07-9272-F7F9B561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0EFDC8-3592-44E6-B97B-77F6A106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40BCB5-9C90-4A02-82E3-BFAEB2EF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3A9622-0166-44D1-900C-33F4CDC6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280A6C-29E2-4749-AF85-410A7096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E8718A-DA82-4400-92FC-E175794F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E640C7-0010-4911-8A2E-7930D326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104C16-4FDA-497F-998A-148BF574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EF0003-61F8-4B38-B412-3F55B71C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DEC99B-CF14-4D82-9004-EAB9932C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457246-CA94-4FB3-823A-05847A27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BA5DBB-5006-4EB9-9CE4-4EF1351D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AE5D0B-CDFC-476F-B211-C90FD5F2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DDA0AC-8AD0-4F7B-B2C4-FAE50922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41E130-7733-47E3-8F94-58C0DD56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32C9C4-E6B1-4201-A667-CB504DE5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3F537B-BED5-42A2-BF8D-0F5E8713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AA5310-EE4A-4D66-A00A-356C89EA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4B87AE-3A1C-4B8D-A9FA-6FACDE58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7"/>
          <p:cNvPicPr/>
          <p:nvPr/>
        </p:nvPicPr>
        <p:blipFill>
          <a:blip r:embed="rId2"/>
          <a:stretch/>
        </p:blipFill>
        <p:spPr>
          <a:xfrm>
            <a:off x="0" y="4665600"/>
            <a:ext cx="685656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532080" y="4826160"/>
            <a:ext cx="111348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HUAWEI </a:t>
            </a:r>
            <a:r>
              <a:rPr b="0" lang="en-US" sz="700" spc="-1" strike="noStrike">
                <a:solidFill>
                  <a:srgbClr val="990000"/>
                </a:solidFill>
                <a:latin typeface="FrutigerNext LT Bold"/>
                <a:ea typeface="ＭＳ Ｐゴシック"/>
              </a:rPr>
              <a:t>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446720" y="4800240"/>
            <a:ext cx="793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0EB07A49-01CA-4BA8-8480-3A9F8B806B1D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8"/>
          <p:cNvPicPr/>
          <p:nvPr/>
        </p:nvPicPr>
        <p:blipFill>
          <a:blip r:embed="rId3"/>
          <a:stretch/>
        </p:blipFill>
        <p:spPr>
          <a:xfrm>
            <a:off x="5630760" y="4807080"/>
            <a:ext cx="982800" cy="2332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2087640" y="4805280"/>
            <a:ext cx="2082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楷体_GB2312"/>
              </a:rPr>
              <a:t>内部资料 注意保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3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B6BE1D7-4405-4313-8113-2541B5E9D9E6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4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5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8C4E-F322-4191-A069-8051561813C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6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F73CB7EE-F798-4E64-AE2C-7AE24D71EFC9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7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8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205F-702F-4478-9941-B8A5D2D4D32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05911731-09C8-4984-A0AD-94F912782F1A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315B-B00A-4E49-AC19-99AC130FC95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06805BBB-8874-444A-939A-98A137E72AAE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BF66-D967-473A-99F9-CCF26547932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C7EF927-887D-4921-A492-9928ECDDFCD3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0893-6ABC-4634-9F77-8642D25B34E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DA7AB5ED-61FA-46E4-AFE9-25BEDDBFABCE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8D76-A967-4D4B-A91A-1D0A2A0C6E10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ogo"/>
          <p:cNvPicPr/>
          <p:nvPr/>
        </p:nvPicPr>
        <p:blipFill>
          <a:blip r:embed="rId2"/>
          <a:stretch/>
        </p:blipFill>
        <p:spPr>
          <a:xfrm>
            <a:off x="5630760" y="41846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2"/>
          <p:cNvPicPr/>
          <p:nvPr/>
        </p:nvPicPr>
        <p:blipFill>
          <a:blip r:embed="rId3"/>
          <a:stretch/>
        </p:blipFill>
        <p:spPr>
          <a:xfrm>
            <a:off x="1440" y="588960"/>
            <a:ext cx="685656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23080" y="246240"/>
            <a:ext cx="8028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FrutigerNext LT Regular"/>
                <a:ea typeface="ＭＳ Ｐゴシック"/>
              </a:rPr>
              <a:t>06.April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05800" y="4654440"/>
            <a:ext cx="164700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HUAWEI TECHNOLOGIES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433840" y="2989440"/>
            <a:ext cx="1128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huawei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CD52A243-1316-4B51-8677-C304DB12B7BB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D0FC-8E9F-42DF-9CE3-00506CB67C5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8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BCD777A1-15DF-457B-92FD-7F72A9581BB4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0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B464-57AC-4526-A04C-08F23C13077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CC0B02B8-0A05-4718-AA9C-FBB42AAE3466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2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3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7556-13F1-42D5-90C0-61F4DB0CA1F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1285108-088D-4A21-A5C4-3DB1572AE4CB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5931-C269-4834-9734-605782332AE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7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9EF56BE4-9AF0-4E56-B092-06907929B52C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9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11A3-049B-4F24-AEDC-079E77D61880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0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9CBD123-609A-456C-8FA9-584550CF06BC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1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2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5ADF-5F4B-4ABF-9887-3A6F3FD141C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411120" y="1285920"/>
            <a:ext cx="603576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Use of BIER Entropy for Data Center CLOS Network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draft-xie-mboned-bier-entropy-staged-dc-clos-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411120" y="2859120"/>
            <a:ext cx="603576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Jingrong Xie, Mike McBride, Gang 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@Huaw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Xiaohu X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@Alibaba In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0760" y="268200"/>
            <a:ext cx="5915160" cy="4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Problem Statement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88640" y="915840"/>
            <a:ext cx="65530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escribes how BIER Entropy can be useful in DC CLOS network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arge, long lived elephant flows may affect performance of smaller short lived flows and reduce efficiency of per flow load sharing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ue to ECMP hash function inefficiencies it is possible to have frequent flow collisions. More flows get placed on one path over the othe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solating faults in the network with multiple parallel paths and ECMP based routing is non trivial due to lack of determinism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en BIER is deployed in a multi-tenant data center network for efficient delivery of BUM, an operator may want a deterministic path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deterministic path for a multicast path in the DC, with multiple staged equal cost paths, is comparable to a traffic-engineering path defined in ietf-mpls-spring-entropy-label with multiple hop equal cost path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deterministic path can be found by part of the 20 bit entropy field. Bit 0 to bit 2 of entropy label can represent a value of 0 to 7, and can be used to select a deterministic path from 8 equal cost path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0760" y="268200"/>
            <a:ext cx="5915160" cy="4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Problem Statement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11120" y="3579480"/>
            <a:ext cx="6221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C-CLOS network: 3 layers, 5 stages, Northwards Stages (stage 1 &amp; 2) have rich EC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1: Steering for elephant flows (A1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-&gt;C1-&gt;S1--&gt;A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2: Path Division for Tenant flows to different SIs (A1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-&gt;C1-&gt;S1--&gt;A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 A1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-&gt;D1-&gt;S4--&gt;A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椭圆 37"/>
          <p:cNvSpPr/>
          <p:nvPr/>
        </p:nvSpPr>
        <p:spPr>
          <a:xfrm>
            <a:off x="1479600" y="1981080"/>
            <a:ext cx="306360" cy="257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椭圆 39"/>
          <p:cNvSpPr/>
          <p:nvPr/>
        </p:nvSpPr>
        <p:spPr>
          <a:xfrm>
            <a:off x="1898640" y="1981080"/>
            <a:ext cx="306360" cy="257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椭圆 40"/>
          <p:cNvSpPr/>
          <p:nvPr/>
        </p:nvSpPr>
        <p:spPr>
          <a:xfrm>
            <a:off x="1479600" y="2610000"/>
            <a:ext cx="306360" cy="2584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椭圆 41"/>
          <p:cNvSpPr/>
          <p:nvPr/>
        </p:nvSpPr>
        <p:spPr>
          <a:xfrm>
            <a:off x="1898640" y="2610000"/>
            <a:ext cx="306360" cy="2584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椭圆 42"/>
          <p:cNvSpPr/>
          <p:nvPr/>
        </p:nvSpPr>
        <p:spPr>
          <a:xfrm>
            <a:off x="1982880" y="1087560"/>
            <a:ext cx="311040" cy="225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椭圆 43"/>
          <p:cNvSpPr/>
          <p:nvPr/>
        </p:nvSpPr>
        <p:spPr>
          <a:xfrm>
            <a:off x="2360520" y="1087560"/>
            <a:ext cx="311400" cy="225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椭圆 44"/>
          <p:cNvSpPr/>
          <p:nvPr/>
        </p:nvSpPr>
        <p:spPr>
          <a:xfrm>
            <a:off x="3645000" y="1087560"/>
            <a:ext cx="311040" cy="225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椭圆 45"/>
          <p:cNvSpPr/>
          <p:nvPr/>
        </p:nvSpPr>
        <p:spPr>
          <a:xfrm>
            <a:off x="4059360" y="1096920"/>
            <a:ext cx="311040" cy="225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椭圆 46"/>
          <p:cNvSpPr/>
          <p:nvPr/>
        </p:nvSpPr>
        <p:spPr>
          <a:xfrm>
            <a:off x="2992320" y="1981080"/>
            <a:ext cx="304920" cy="257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椭圆 47"/>
          <p:cNvSpPr/>
          <p:nvPr/>
        </p:nvSpPr>
        <p:spPr>
          <a:xfrm>
            <a:off x="3411360" y="1981080"/>
            <a:ext cx="304920" cy="257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接连接符 48"/>
          <p:cNvSpPr/>
          <p:nvPr/>
        </p:nvSpPr>
        <p:spPr>
          <a:xfrm>
            <a:off x="1631880" y="2238480"/>
            <a:ext cx="0" cy="371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直接连接符 49"/>
          <p:cNvSpPr/>
          <p:nvPr/>
        </p:nvSpPr>
        <p:spPr>
          <a:xfrm>
            <a:off x="1631880" y="2238480"/>
            <a:ext cx="419040" cy="371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直接连接符 50"/>
          <p:cNvSpPr/>
          <p:nvPr/>
        </p:nvSpPr>
        <p:spPr>
          <a:xfrm>
            <a:off x="2050920" y="2238480"/>
            <a:ext cx="0" cy="37152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直接连接符 51"/>
          <p:cNvSpPr/>
          <p:nvPr/>
        </p:nvSpPr>
        <p:spPr>
          <a:xfrm flipH="1">
            <a:off x="1631880" y="2238480"/>
            <a:ext cx="419040" cy="37152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直接连接符 52"/>
          <p:cNvSpPr/>
          <p:nvPr/>
        </p:nvSpPr>
        <p:spPr>
          <a:xfrm flipV="1">
            <a:off x="1631880" y="1312920"/>
            <a:ext cx="506520" cy="6681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直接连接符 53"/>
          <p:cNvSpPr/>
          <p:nvPr/>
        </p:nvSpPr>
        <p:spPr>
          <a:xfrm flipH="1" flipV="1">
            <a:off x="2138400" y="1312920"/>
            <a:ext cx="1006560" cy="6681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椭圆 54"/>
          <p:cNvSpPr/>
          <p:nvPr/>
        </p:nvSpPr>
        <p:spPr>
          <a:xfrm>
            <a:off x="2992320" y="2619360"/>
            <a:ext cx="304920" cy="2588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椭圆 55"/>
          <p:cNvSpPr/>
          <p:nvPr/>
        </p:nvSpPr>
        <p:spPr>
          <a:xfrm>
            <a:off x="3411360" y="2619360"/>
            <a:ext cx="304920" cy="2588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直接连接符 56"/>
          <p:cNvSpPr/>
          <p:nvPr/>
        </p:nvSpPr>
        <p:spPr>
          <a:xfrm>
            <a:off x="3144960" y="2238480"/>
            <a:ext cx="0" cy="3808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直接连接符 57"/>
          <p:cNvSpPr/>
          <p:nvPr/>
        </p:nvSpPr>
        <p:spPr>
          <a:xfrm>
            <a:off x="3144960" y="2238480"/>
            <a:ext cx="419040" cy="3808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直接连接符 58"/>
          <p:cNvSpPr/>
          <p:nvPr/>
        </p:nvSpPr>
        <p:spPr>
          <a:xfrm>
            <a:off x="3564000" y="2238480"/>
            <a:ext cx="0" cy="38088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直接连接符 59"/>
          <p:cNvSpPr/>
          <p:nvPr/>
        </p:nvSpPr>
        <p:spPr>
          <a:xfrm flipH="1">
            <a:off x="3144960" y="2238480"/>
            <a:ext cx="419040" cy="38088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直接连接符 60"/>
          <p:cNvSpPr/>
          <p:nvPr/>
        </p:nvSpPr>
        <p:spPr>
          <a:xfrm flipV="1">
            <a:off x="2050920" y="1312920"/>
            <a:ext cx="1749600" cy="6681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61"/>
          <p:cNvSpPr/>
          <p:nvPr/>
        </p:nvSpPr>
        <p:spPr>
          <a:xfrm flipV="1">
            <a:off x="3564000" y="1312920"/>
            <a:ext cx="236520" cy="6681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62"/>
          <p:cNvSpPr/>
          <p:nvPr/>
        </p:nvSpPr>
        <p:spPr>
          <a:xfrm flipV="1">
            <a:off x="1631880" y="1312920"/>
            <a:ext cx="884160" cy="6681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接连接符 63"/>
          <p:cNvSpPr/>
          <p:nvPr/>
        </p:nvSpPr>
        <p:spPr>
          <a:xfrm flipV="1">
            <a:off x="2050920" y="1322280"/>
            <a:ext cx="2163960" cy="65880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直接连接符 64"/>
          <p:cNvSpPr/>
          <p:nvPr/>
        </p:nvSpPr>
        <p:spPr>
          <a:xfrm flipH="1" flipV="1">
            <a:off x="2515680" y="1312920"/>
            <a:ext cx="628920" cy="6681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直接连接符 65"/>
          <p:cNvSpPr/>
          <p:nvPr/>
        </p:nvSpPr>
        <p:spPr>
          <a:xfrm flipV="1">
            <a:off x="3564000" y="1322280"/>
            <a:ext cx="650880" cy="65880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椭圆 66"/>
          <p:cNvSpPr/>
          <p:nvPr/>
        </p:nvSpPr>
        <p:spPr>
          <a:xfrm>
            <a:off x="2757600" y="1077840"/>
            <a:ext cx="311040" cy="225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67"/>
          <p:cNvSpPr/>
          <p:nvPr/>
        </p:nvSpPr>
        <p:spPr>
          <a:xfrm flipV="1">
            <a:off x="1631880" y="1302840"/>
            <a:ext cx="1281240" cy="6778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椭圆 68"/>
          <p:cNvSpPr/>
          <p:nvPr/>
        </p:nvSpPr>
        <p:spPr>
          <a:xfrm>
            <a:off x="4432320" y="1109520"/>
            <a:ext cx="311040" cy="225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直接连接符 69"/>
          <p:cNvSpPr/>
          <p:nvPr/>
        </p:nvSpPr>
        <p:spPr>
          <a:xfrm flipV="1">
            <a:off x="2050920" y="1335240"/>
            <a:ext cx="2536920" cy="6458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直接连接符 70"/>
          <p:cNvSpPr/>
          <p:nvPr/>
        </p:nvSpPr>
        <p:spPr>
          <a:xfrm flipV="1">
            <a:off x="3564000" y="1335240"/>
            <a:ext cx="1023840" cy="6458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直接连接符 71"/>
          <p:cNvSpPr/>
          <p:nvPr/>
        </p:nvSpPr>
        <p:spPr>
          <a:xfrm flipH="1" flipV="1">
            <a:off x="2913120" y="1302840"/>
            <a:ext cx="231840" cy="6778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3" name="直接箭头连接符 10"/>
          <p:cNvCxnSpPr/>
          <p:nvPr/>
        </p:nvCxnSpPr>
        <p:spPr>
          <a:xfrm flipV="1">
            <a:off x="1267920" y="2526840"/>
            <a:ext cx="1080" cy="4168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64" name="直接箭头连接符 72"/>
          <p:cNvCxnSpPr/>
          <p:nvPr/>
        </p:nvCxnSpPr>
        <p:spPr>
          <a:xfrm flipV="1">
            <a:off x="1267920" y="1923480"/>
            <a:ext cx="1080" cy="4165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65" name="直接箭头连接符 12"/>
          <p:cNvCxnSpPr/>
          <p:nvPr/>
        </p:nvCxnSpPr>
        <p:spPr>
          <a:xfrm>
            <a:off x="5524200" y="1058400"/>
            <a:ext cx="1080" cy="4359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66" name="直接箭头连接符 75"/>
          <p:cNvCxnSpPr/>
          <p:nvPr/>
        </p:nvCxnSpPr>
        <p:spPr>
          <a:xfrm>
            <a:off x="5516280" y="1923840"/>
            <a:ext cx="1080" cy="43380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67" name="直接箭头连接符 76"/>
          <p:cNvCxnSpPr/>
          <p:nvPr/>
        </p:nvCxnSpPr>
        <p:spPr>
          <a:xfrm>
            <a:off x="5516280" y="2500200"/>
            <a:ext cx="1080" cy="4341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668" name="文本框 13"/>
          <p:cNvSpPr/>
          <p:nvPr/>
        </p:nvSpPr>
        <p:spPr>
          <a:xfrm>
            <a:off x="476280" y="26193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78"/>
          <p:cNvSpPr/>
          <p:nvPr/>
        </p:nvSpPr>
        <p:spPr>
          <a:xfrm>
            <a:off x="476280" y="19969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79"/>
          <p:cNvSpPr/>
          <p:nvPr/>
        </p:nvSpPr>
        <p:spPr>
          <a:xfrm>
            <a:off x="5595840" y="11714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0"/>
          <p:cNvSpPr/>
          <p:nvPr/>
        </p:nvSpPr>
        <p:spPr>
          <a:xfrm>
            <a:off x="5595840" y="19875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81"/>
          <p:cNvSpPr/>
          <p:nvPr/>
        </p:nvSpPr>
        <p:spPr>
          <a:xfrm>
            <a:off x="5595840" y="25765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矩形 82"/>
          <p:cNvSpPr/>
          <p:nvPr/>
        </p:nvSpPr>
        <p:spPr>
          <a:xfrm>
            <a:off x="2852640" y="1897200"/>
            <a:ext cx="1081080" cy="1492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D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fr-id 11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矩形 83"/>
          <p:cNvSpPr/>
          <p:nvPr/>
        </p:nvSpPr>
        <p:spPr>
          <a:xfrm>
            <a:off x="1332000" y="1897200"/>
            <a:ext cx="1081080" cy="1492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D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fr-id 1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椭圆 154"/>
          <p:cNvSpPr/>
          <p:nvPr/>
        </p:nvSpPr>
        <p:spPr>
          <a:xfrm>
            <a:off x="4533840" y="1981080"/>
            <a:ext cx="306360" cy="257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椭圆 155"/>
          <p:cNvSpPr/>
          <p:nvPr/>
        </p:nvSpPr>
        <p:spPr>
          <a:xfrm>
            <a:off x="4952880" y="1981080"/>
            <a:ext cx="306360" cy="257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椭圆 156"/>
          <p:cNvSpPr/>
          <p:nvPr/>
        </p:nvSpPr>
        <p:spPr>
          <a:xfrm>
            <a:off x="4533840" y="2619360"/>
            <a:ext cx="306360" cy="2588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椭圆 157"/>
          <p:cNvSpPr/>
          <p:nvPr/>
        </p:nvSpPr>
        <p:spPr>
          <a:xfrm>
            <a:off x="4952880" y="2619360"/>
            <a:ext cx="306360" cy="2588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直接连接符 158"/>
          <p:cNvSpPr/>
          <p:nvPr/>
        </p:nvSpPr>
        <p:spPr>
          <a:xfrm>
            <a:off x="4687920" y="2238480"/>
            <a:ext cx="0" cy="3808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直接连接符 159"/>
          <p:cNvSpPr/>
          <p:nvPr/>
        </p:nvSpPr>
        <p:spPr>
          <a:xfrm>
            <a:off x="4687920" y="2238480"/>
            <a:ext cx="419040" cy="3808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直接连接符 160"/>
          <p:cNvSpPr/>
          <p:nvPr/>
        </p:nvSpPr>
        <p:spPr>
          <a:xfrm>
            <a:off x="5106960" y="2238480"/>
            <a:ext cx="0" cy="38088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直接连接符 161"/>
          <p:cNvSpPr/>
          <p:nvPr/>
        </p:nvSpPr>
        <p:spPr>
          <a:xfrm flipH="1">
            <a:off x="4687920" y="2238480"/>
            <a:ext cx="419040" cy="38088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162"/>
          <p:cNvSpPr/>
          <p:nvPr/>
        </p:nvSpPr>
        <p:spPr>
          <a:xfrm>
            <a:off x="4395960" y="1897200"/>
            <a:ext cx="1079280" cy="1492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D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fr-id 301-3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163"/>
          <p:cNvSpPr/>
          <p:nvPr/>
        </p:nvSpPr>
        <p:spPr>
          <a:xfrm flipH="1" flipV="1">
            <a:off x="2913120" y="1302840"/>
            <a:ext cx="1774800" cy="6778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直接连接符 166"/>
          <p:cNvSpPr/>
          <p:nvPr/>
        </p:nvSpPr>
        <p:spPr>
          <a:xfrm flipH="1" flipV="1">
            <a:off x="2515680" y="1312920"/>
            <a:ext cx="2171880" cy="6681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直接连接符 169"/>
          <p:cNvSpPr/>
          <p:nvPr/>
        </p:nvSpPr>
        <p:spPr>
          <a:xfrm flipH="1" flipV="1">
            <a:off x="2138400" y="1312920"/>
            <a:ext cx="2549520" cy="6681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直接连接符 172"/>
          <p:cNvSpPr/>
          <p:nvPr/>
        </p:nvSpPr>
        <p:spPr>
          <a:xfrm flipH="1" flipV="1">
            <a:off x="4587840" y="1335240"/>
            <a:ext cx="519120" cy="6458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直接连接符 175"/>
          <p:cNvSpPr/>
          <p:nvPr/>
        </p:nvSpPr>
        <p:spPr>
          <a:xfrm flipH="1" flipV="1">
            <a:off x="4214880" y="1322280"/>
            <a:ext cx="892080" cy="65880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178"/>
          <p:cNvSpPr/>
          <p:nvPr/>
        </p:nvSpPr>
        <p:spPr>
          <a:xfrm flipH="1" flipV="1">
            <a:off x="3800160" y="1312920"/>
            <a:ext cx="1306440" cy="6681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10760" y="268200"/>
            <a:ext cx="5915160" cy="4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olution by using BIER Entropy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537840" y="3281400"/>
            <a:ext cx="5915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ge 1: use bit[0] of the 20-bit Entropy to represent RED and BLUE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ge 2: use bit[1~2] of the 20-bit Entropy to represent 3 paths to each RED/BLUE clu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 to the [ietf-mpls-spring-entropy-label] for multi-stage ECMPs along a path by breaking the 20-bit BIER Entro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椭圆 37"/>
          <p:cNvSpPr/>
          <p:nvPr/>
        </p:nvSpPr>
        <p:spPr>
          <a:xfrm>
            <a:off x="1479600" y="1981080"/>
            <a:ext cx="306360" cy="257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椭圆 39"/>
          <p:cNvSpPr/>
          <p:nvPr/>
        </p:nvSpPr>
        <p:spPr>
          <a:xfrm>
            <a:off x="1898640" y="1981080"/>
            <a:ext cx="306360" cy="257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椭圆 40"/>
          <p:cNvSpPr/>
          <p:nvPr/>
        </p:nvSpPr>
        <p:spPr>
          <a:xfrm>
            <a:off x="1479600" y="2655720"/>
            <a:ext cx="306360" cy="25740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椭圆 41"/>
          <p:cNvSpPr/>
          <p:nvPr/>
        </p:nvSpPr>
        <p:spPr>
          <a:xfrm>
            <a:off x="1898640" y="2655720"/>
            <a:ext cx="306360" cy="25740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椭圆 42"/>
          <p:cNvSpPr/>
          <p:nvPr/>
        </p:nvSpPr>
        <p:spPr>
          <a:xfrm>
            <a:off x="1982880" y="1100160"/>
            <a:ext cx="311040" cy="225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43"/>
          <p:cNvSpPr/>
          <p:nvPr/>
        </p:nvSpPr>
        <p:spPr>
          <a:xfrm>
            <a:off x="2360520" y="1100160"/>
            <a:ext cx="311400" cy="225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44"/>
          <p:cNvSpPr/>
          <p:nvPr/>
        </p:nvSpPr>
        <p:spPr>
          <a:xfrm>
            <a:off x="3645000" y="1100160"/>
            <a:ext cx="311040" cy="225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椭圆 45"/>
          <p:cNvSpPr/>
          <p:nvPr/>
        </p:nvSpPr>
        <p:spPr>
          <a:xfrm>
            <a:off x="4059360" y="1109520"/>
            <a:ext cx="311040" cy="225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椭圆 46"/>
          <p:cNvSpPr/>
          <p:nvPr/>
        </p:nvSpPr>
        <p:spPr>
          <a:xfrm>
            <a:off x="2992320" y="1981080"/>
            <a:ext cx="304920" cy="257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椭圆 47"/>
          <p:cNvSpPr/>
          <p:nvPr/>
        </p:nvSpPr>
        <p:spPr>
          <a:xfrm>
            <a:off x="3411360" y="1981080"/>
            <a:ext cx="304920" cy="257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直接连接符 48"/>
          <p:cNvSpPr/>
          <p:nvPr/>
        </p:nvSpPr>
        <p:spPr>
          <a:xfrm>
            <a:off x="1631880" y="2238480"/>
            <a:ext cx="0" cy="41724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直接连接符 49"/>
          <p:cNvSpPr/>
          <p:nvPr/>
        </p:nvSpPr>
        <p:spPr>
          <a:xfrm>
            <a:off x="1631880" y="2238480"/>
            <a:ext cx="419040" cy="41724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直接连接符 50"/>
          <p:cNvSpPr/>
          <p:nvPr/>
        </p:nvSpPr>
        <p:spPr>
          <a:xfrm>
            <a:off x="2050920" y="2238480"/>
            <a:ext cx="0" cy="4172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51"/>
          <p:cNvSpPr/>
          <p:nvPr/>
        </p:nvSpPr>
        <p:spPr>
          <a:xfrm flipH="1">
            <a:off x="1631880" y="2238480"/>
            <a:ext cx="419040" cy="4172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直接连接符 52"/>
          <p:cNvSpPr/>
          <p:nvPr/>
        </p:nvSpPr>
        <p:spPr>
          <a:xfrm flipV="1">
            <a:off x="1631880" y="1325160"/>
            <a:ext cx="50652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直接连接符 53"/>
          <p:cNvSpPr/>
          <p:nvPr/>
        </p:nvSpPr>
        <p:spPr>
          <a:xfrm flipH="1" flipV="1">
            <a:off x="2138400" y="1325160"/>
            <a:ext cx="100656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椭圆 54"/>
          <p:cNvSpPr/>
          <p:nvPr/>
        </p:nvSpPr>
        <p:spPr>
          <a:xfrm>
            <a:off x="2992320" y="2665440"/>
            <a:ext cx="304920" cy="2570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椭圆 55"/>
          <p:cNvSpPr/>
          <p:nvPr/>
        </p:nvSpPr>
        <p:spPr>
          <a:xfrm>
            <a:off x="3411360" y="2665440"/>
            <a:ext cx="304920" cy="2570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直接连接符 56"/>
          <p:cNvSpPr/>
          <p:nvPr/>
        </p:nvSpPr>
        <p:spPr>
          <a:xfrm>
            <a:off x="3144960" y="2238480"/>
            <a:ext cx="0" cy="4269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直接连接符 57"/>
          <p:cNvSpPr/>
          <p:nvPr/>
        </p:nvSpPr>
        <p:spPr>
          <a:xfrm>
            <a:off x="3144960" y="2238480"/>
            <a:ext cx="419040" cy="4269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直接连接符 58"/>
          <p:cNvSpPr/>
          <p:nvPr/>
        </p:nvSpPr>
        <p:spPr>
          <a:xfrm>
            <a:off x="3564000" y="2238480"/>
            <a:ext cx="0" cy="4269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接连接符 59"/>
          <p:cNvSpPr/>
          <p:nvPr/>
        </p:nvSpPr>
        <p:spPr>
          <a:xfrm flipH="1">
            <a:off x="3144960" y="2238480"/>
            <a:ext cx="419040" cy="4269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直接连接符 60"/>
          <p:cNvSpPr/>
          <p:nvPr/>
        </p:nvSpPr>
        <p:spPr>
          <a:xfrm flipV="1">
            <a:off x="2050920" y="1325160"/>
            <a:ext cx="1749600" cy="6555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 61"/>
          <p:cNvSpPr/>
          <p:nvPr/>
        </p:nvSpPr>
        <p:spPr>
          <a:xfrm flipV="1">
            <a:off x="3564000" y="1325160"/>
            <a:ext cx="236520" cy="6555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接连接符 62"/>
          <p:cNvSpPr/>
          <p:nvPr/>
        </p:nvSpPr>
        <p:spPr>
          <a:xfrm flipV="1">
            <a:off x="1631880" y="1325160"/>
            <a:ext cx="88416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直接连接符 63"/>
          <p:cNvSpPr/>
          <p:nvPr/>
        </p:nvSpPr>
        <p:spPr>
          <a:xfrm flipV="1">
            <a:off x="2050920" y="1335240"/>
            <a:ext cx="2163960" cy="6458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直接连接符 64"/>
          <p:cNvSpPr/>
          <p:nvPr/>
        </p:nvSpPr>
        <p:spPr>
          <a:xfrm flipH="1" flipV="1">
            <a:off x="2515680" y="1325160"/>
            <a:ext cx="62892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直接连接符 65"/>
          <p:cNvSpPr/>
          <p:nvPr/>
        </p:nvSpPr>
        <p:spPr>
          <a:xfrm flipV="1">
            <a:off x="3564000" y="1335240"/>
            <a:ext cx="650880" cy="6458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椭圆 66"/>
          <p:cNvSpPr/>
          <p:nvPr/>
        </p:nvSpPr>
        <p:spPr>
          <a:xfrm>
            <a:off x="2757600" y="1090440"/>
            <a:ext cx="311040" cy="225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直接连接符 67"/>
          <p:cNvSpPr/>
          <p:nvPr/>
        </p:nvSpPr>
        <p:spPr>
          <a:xfrm flipV="1">
            <a:off x="1631880" y="1315800"/>
            <a:ext cx="1281240" cy="6649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椭圆 68"/>
          <p:cNvSpPr/>
          <p:nvPr/>
        </p:nvSpPr>
        <p:spPr>
          <a:xfrm>
            <a:off x="4432320" y="1120680"/>
            <a:ext cx="311040" cy="227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直接连接符 69"/>
          <p:cNvSpPr/>
          <p:nvPr/>
        </p:nvSpPr>
        <p:spPr>
          <a:xfrm flipV="1">
            <a:off x="2050920" y="1347480"/>
            <a:ext cx="2536920" cy="6332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直接连接符 70"/>
          <p:cNvSpPr/>
          <p:nvPr/>
        </p:nvSpPr>
        <p:spPr>
          <a:xfrm flipV="1">
            <a:off x="3564000" y="1347480"/>
            <a:ext cx="1023840" cy="6332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直接连接符 71"/>
          <p:cNvSpPr/>
          <p:nvPr/>
        </p:nvSpPr>
        <p:spPr>
          <a:xfrm flipH="1" flipV="1">
            <a:off x="2913120" y="1315800"/>
            <a:ext cx="231840" cy="6649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6" name="直接箭头连接符 10"/>
          <p:cNvCxnSpPr/>
          <p:nvPr/>
        </p:nvCxnSpPr>
        <p:spPr>
          <a:xfrm flipV="1">
            <a:off x="1267920" y="2571480"/>
            <a:ext cx="1080" cy="4183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727" name="直接箭头连接符 72"/>
          <p:cNvCxnSpPr/>
          <p:nvPr/>
        </p:nvCxnSpPr>
        <p:spPr>
          <a:xfrm flipV="1">
            <a:off x="1267920" y="1923480"/>
            <a:ext cx="1080" cy="4165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728" name="文本框 13"/>
          <p:cNvSpPr/>
          <p:nvPr/>
        </p:nvSpPr>
        <p:spPr>
          <a:xfrm>
            <a:off x="476280" y="26654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78"/>
          <p:cNvSpPr/>
          <p:nvPr/>
        </p:nvSpPr>
        <p:spPr>
          <a:xfrm>
            <a:off x="476280" y="19969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82"/>
          <p:cNvSpPr/>
          <p:nvPr/>
        </p:nvSpPr>
        <p:spPr>
          <a:xfrm>
            <a:off x="2852640" y="1897200"/>
            <a:ext cx="1081080" cy="12506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D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83"/>
          <p:cNvSpPr/>
          <p:nvPr/>
        </p:nvSpPr>
        <p:spPr>
          <a:xfrm>
            <a:off x="1332000" y="1897200"/>
            <a:ext cx="1081080" cy="12506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D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椭圆 154"/>
          <p:cNvSpPr/>
          <p:nvPr/>
        </p:nvSpPr>
        <p:spPr>
          <a:xfrm>
            <a:off x="4533840" y="1981080"/>
            <a:ext cx="306360" cy="257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椭圆 155"/>
          <p:cNvSpPr/>
          <p:nvPr/>
        </p:nvSpPr>
        <p:spPr>
          <a:xfrm>
            <a:off x="4952880" y="1981080"/>
            <a:ext cx="306360" cy="257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椭圆 156"/>
          <p:cNvSpPr/>
          <p:nvPr/>
        </p:nvSpPr>
        <p:spPr>
          <a:xfrm>
            <a:off x="4533840" y="2665440"/>
            <a:ext cx="306360" cy="2570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椭圆 157"/>
          <p:cNvSpPr/>
          <p:nvPr/>
        </p:nvSpPr>
        <p:spPr>
          <a:xfrm>
            <a:off x="4952880" y="2665440"/>
            <a:ext cx="306360" cy="2570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直接连接符 158"/>
          <p:cNvSpPr/>
          <p:nvPr/>
        </p:nvSpPr>
        <p:spPr>
          <a:xfrm>
            <a:off x="4687920" y="2238480"/>
            <a:ext cx="0" cy="4269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直接连接符 159"/>
          <p:cNvSpPr/>
          <p:nvPr/>
        </p:nvSpPr>
        <p:spPr>
          <a:xfrm>
            <a:off x="4687920" y="2238480"/>
            <a:ext cx="419040" cy="4269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160"/>
          <p:cNvSpPr/>
          <p:nvPr/>
        </p:nvSpPr>
        <p:spPr>
          <a:xfrm>
            <a:off x="5106960" y="2238480"/>
            <a:ext cx="0" cy="4269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161"/>
          <p:cNvSpPr/>
          <p:nvPr/>
        </p:nvSpPr>
        <p:spPr>
          <a:xfrm flipH="1">
            <a:off x="4687920" y="2238480"/>
            <a:ext cx="419040" cy="4269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 162"/>
          <p:cNvSpPr/>
          <p:nvPr/>
        </p:nvSpPr>
        <p:spPr>
          <a:xfrm>
            <a:off x="4395960" y="1897200"/>
            <a:ext cx="1079280" cy="12506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D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163"/>
          <p:cNvSpPr/>
          <p:nvPr/>
        </p:nvSpPr>
        <p:spPr>
          <a:xfrm flipH="1" flipV="1">
            <a:off x="2913120" y="1315800"/>
            <a:ext cx="1774800" cy="6649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166"/>
          <p:cNvSpPr/>
          <p:nvPr/>
        </p:nvSpPr>
        <p:spPr>
          <a:xfrm flipH="1" flipV="1">
            <a:off x="2515680" y="1325160"/>
            <a:ext cx="217188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直接连接符 169"/>
          <p:cNvSpPr/>
          <p:nvPr/>
        </p:nvSpPr>
        <p:spPr>
          <a:xfrm flipH="1" flipV="1">
            <a:off x="2138400" y="1325160"/>
            <a:ext cx="254952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接连接符 172"/>
          <p:cNvSpPr/>
          <p:nvPr/>
        </p:nvSpPr>
        <p:spPr>
          <a:xfrm flipH="1" flipV="1">
            <a:off x="4587840" y="1347480"/>
            <a:ext cx="519120" cy="6332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175"/>
          <p:cNvSpPr/>
          <p:nvPr/>
        </p:nvSpPr>
        <p:spPr>
          <a:xfrm flipH="1" flipV="1">
            <a:off x="4214880" y="1335240"/>
            <a:ext cx="892080" cy="6458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178"/>
          <p:cNvSpPr/>
          <p:nvPr/>
        </p:nvSpPr>
        <p:spPr>
          <a:xfrm flipH="1" flipV="1">
            <a:off x="3800160" y="1325160"/>
            <a:ext cx="1306440" cy="6555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11120" y="123480"/>
            <a:ext cx="622152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Local convergence and global optimization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411120" y="2754000"/>
            <a:ext cx="622152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flow from A1, originally using Entropy[0]=0, and Entropy[2~1]=00,  t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pwards path(s):  A1-&gt;C1-&gt;S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ownwards path(s): C1-&gt;B1(intra-POD),  S1-&gt;C2-&gt;A2/B2(inter-POD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Link between C1 and B1 fail, then A1 can do local converg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pwards path(s): A1-&gt;C1-&gt;S1,  A1-&gt;D1.  //the BIFT-0 on A1 can converge for BFER&lt;B1&gt; locally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ownwards path(s): D1-&gt;B1(intra-POD),  S1-&gt;C2-&gt;A2/B2(inter-POD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1 can also do a global optimization by using Entropy[0]=1 and Entropy[2~1]=01 or 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椭圆 37"/>
          <p:cNvSpPr/>
          <p:nvPr/>
        </p:nvSpPr>
        <p:spPr>
          <a:xfrm>
            <a:off x="1479600" y="1519200"/>
            <a:ext cx="306360" cy="257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椭圆 39"/>
          <p:cNvSpPr/>
          <p:nvPr/>
        </p:nvSpPr>
        <p:spPr>
          <a:xfrm>
            <a:off x="1898640" y="1519200"/>
            <a:ext cx="306360" cy="257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椭圆 40"/>
          <p:cNvSpPr/>
          <p:nvPr/>
        </p:nvSpPr>
        <p:spPr>
          <a:xfrm>
            <a:off x="1479600" y="2192400"/>
            <a:ext cx="306360" cy="2588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椭圆 41"/>
          <p:cNvSpPr/>
          <p:nvPr/>
        </p:nvSpPr>
        <p:spPr>
          <a:xfrm>
            <a:off x="1898640" y="2192400"/>
            <a:ext cx="306360" cy="2588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椭圆 42"/>
          <p:cNvSpPr/>
          <p:nvPr/>
        </p:nvSpPr>
        <p:spPr>
          <a:xfrm>
            <a:off x="1982880" y="636480"/>
            <a:ext cx="311040" cy="227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椭圆 43"/>
          <p:cNvSpPr/>
          <p:nvPr/>
        </p:nvSpPr>
        <p:spPr>
          <a:xfrm>
            <a:off x="2360520" y="636480"/>
            <a:ext cx="311400" cy="227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椭圆 44"/>
          <p:cNvSpPr/>
          <p:nvPr/>
        </p:nvSpPr>
        <p:spPr>
          <a:xfrm>
            <a:off x="3645000" y="636480"/>
            <a:ext cx="311040" cy="227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椭圆 45"/>
          <p:cNvSpPr/>
          <p:nvPr/>
        </p:nvSpPr>
        <p:spPr>
          <a:xfrm>
            <a:off x="4059360" y="646200"/>
            <a:ext cx="311040" cy="2268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46"/>
          <p:cNvSpPr/>
          <p:nvPr/>
        </p:nvSpPr>
        <p:spPr>
          <a:xfrm>
            <a:off x="2992320" y="1519200"/>
            <a:ext cx="304920" cy="257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47"/>
          <p:cNvSpPr/>
          <p:nvPr/>
        </p:nvSpPr>
        <p:spPr>
          <a:xfrm>
            <a:off x="3411360" y="1519200"/>
            <a:ext cx="304920" cy="257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接连接符 48"/>
          <p:cNvSpPr/>
          <p:nvPr/>
        </p:nvSpPr>
        <p:spPr>
          <a:xfrm>
            <a:off x="1631880" y="1776240"/>
            <a:ext cx="0" cy="4161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49"/>
          <p:cNvSpPr/>
          <p:nvPr/>
        </p:nvSpPr>
        <p:spPr>
          <a:xfrm>
            <a:off x="1631880" y="1776240"/>
            <a:ext cx="419040" cy="4161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50"/>
          <p:cNvSpPr/>
          <p:nvPr/>
        </p:nvSpPr>
        <p:spPr>
          <a:xfrm>
            <a:off x="2050920" y="1776240"/>
            <a:ext cx="0" cy="4161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直接连接符 51"/>
          <p:cNvSpPr/>
          <p:nvPr/>
        </p:nvSpPr>
        <p:spPr>
          <a:xfrm flipH="1">
            <a:off x="1631880" y="1776240"/>
            <a:ext cx="419040" cy="4161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直接连接符 52"/>
          <p:cNvSpPr/>
          <p:nvPr/>
        </p:nvSpPr>
        <p:spPr>
          <a:xfrm flipV="1">
            <a:off x="1631880" y="863280"/>
            <a:ext cx="50652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53"/>
          <p:cNvSpPr/>
          <p:nvPr/>
        </p:nvSpPr>
        <p:spPr>
          <a:xfrm flipH="1" flipV="1">
            <a:off x="2138400" y="863280"/>
            <a:ext cx="100656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椭圆 54"/>
          <p:cNvSpPr/>
          <p:nvPr/>
        </p:nvSpPr>
        <p:spPr>
          <a:xfrm>
            <a:off x="2992320" y="2201760"/>
            <a:ext cx="304920" cy="2588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椭圆 55"/>
          <p:cNvSpPr/>
          <p:nvPr/>
        </p:nvSpPr>
        <p:spPr>
          <a:xfrm>
            <a:off x="3411360" y="2201760"/>
            <a:ext cx="304920" cy="2588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直接连接符 56"/>
          <p:cNvSpPr/>
          <p:nvPr/>
        </p:nvSpPr>
        <p:spPr>
          <a:xfrm>
            <a:off x="3144960" y="1776240"/>
            <a:ext cx="0" cy="425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直接连接符 57"/>
          <p:cNvSpPr/>
          <p:nvPr/>
        </p:nvSpPr>
        <p:spPr>
          <a:xfrm>
            <a:off x="3144960" y="1776240"/>
            <a:ext cx="419040" cy="425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58"/>
          <p:cNvSpPr/>
          <p:nvPr/>
        </p:nvSpPr>
        <p:spPr>
          <a:xfrm>
            <a:off x="3564000" y="1776240"/>
            <a:ext cx="0" cy="42552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59"/>
          <p:cNvSpPr/>
          <p:nvPr/>
        </p:nvSpPr>
        <p:spPr>
          <a:xfrm flipH="1">
            <a:off x="3144960" y="1776240"/>
            <a:ext cx="419040" cy="42552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直接连接符 60"/>
          <p:cNvSpPr/>
          <p:nvPr/>
        </p:nvSpPr>
        <p:spPr>
          <a:xfrm flipV="1">
            <a:off x="2050920" y="863280"/>
            <a:ext cx="1749600" cy="6555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直接连接符 61"/>
          <p:cNvSpPr/>
          <p:nvPr/>
        </p:nvSpPr>
        <p:spPr>
          <a:xfrm flipV="1">
            <a:off x="3564000" y="863280"/>
            <a:ext cx="236520" cy="6555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直接连接符 62"/>
          <p:cNvSpPr/>
          <p:nvPr/>
        </p:nvSpPr>
        <p:spPr>
          <a:xfrm flipV="1">
            <a:off x="1631880" y="863280"/>
            <a:ext cx="88416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直接连接符 63"/>
          <p:cNvSpPr/>
          <p:nvPr/>
        </p:nvSpPr>
        <p:spPr>
          <a:xfrm flipV="1">
            <a:off x="2050920" y="872640"/>
            <a:ext cx="2163960" cy="64620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直接连接符 64"/>
          <p:cNvSpPr/>
          <p:nvPr/>
        </p:nvSpPr>
        <p:spPr>
          <a:xfrm flipH="1" flipV="1">
            <a:off x="2515680" y="863280"/>
            <a:ext cx="62892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接连接符 65"/>
          <p:cNvSpPr/>
          <p:nvPr/>
        </p:nvSpPr>
        <p:spPr>
          <a:xfrm flipV="1">
            <a:off x="3564000" y="872640"/>
            <a:ext cx="650880" cy="64620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椭圆 66"/>
          <p:cNvSpPr/>
          <p:nvPr/>
        </p:nvSpPr>
        <p:spPr>
          <a:xfrm>
            <a:off x="2757600" y="627120"/>
            <a:ext cx="311040" cy="226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直接连接符 67"/>
          <p:cNvSpPr/>
          <p:nvPr/>
        </p:nvSpPr>
        <p:spPr>
          <a:xfrm flipV="1">
            <a:off x="1631880" y="853920"/>
            <a:ext cx="1281240" cy="6652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椭圆 68"/>
          <p:cNvSpPr/>
          <p:nvPr/>
        </p:nvSpPr>
        <p:spPr>
          <a:xfrm>
            <a:off x="4432320" y="658800"/>
            <a:ext cx="311040" cy="227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直接连接符 69"/>
          <p:cNvSpPr/>
          <p:nvPr/>
        </p:nvSpPr>
        <p:spPr>
          <a:xfrm flipV="1">
            <a:off x="2050920" y="885600"/>
            <a:ext cx="2536920" cy="6332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直接连接符 70"/>
          <p:cNvSpPr/>
          <p:nvPr/>
        </p:nvSpPr>
        <p:spPr>
          <a:xfrm flipV="1">
            <a:off x="3564000" y="885600"/>
            <a:ext cx="1023840" cy="6332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71"/>
          <p:cNvSpPr/>
          <p:nvPr/>
        </p:nvSpPr>
        <p:spPr>
          <a:xfrm flipH="1" flipV="1">
            <a:off x="2913120" y="853920"/>
            <a:ext cx="231840" cy="6652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3" name="直接箭头连接符 10"/>
          <p:cNvCxnSpPr/>
          <p:nvPr/>
        </p:nvCxnSpPr>
        <p:spPr>
          <a:xfrm flipV="1">
            <a:off x="1267920" y="2109240"/>
            <a:ext cx="1080" cy="4165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784" name="直接箭头连接符 72"/>
          <p:cNvCxnSpPr/>
          <p:nvPr/>
        </p:nvCxnSpPr>
        <p:spPr>
          <a:xfrm flipV="1">
            <a:off x="1267920" y="1460160"/>
            <a:ext cx="1080" cy="4183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785" name="文本框 13"/>
          <p:cNvSpPr/>
          <p:nvPr/>
        </p:nvSpPr>
        <p:spPr>
          <a:xfrm>
            <a:off x="476280" y="22017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78"/>
          <p:cNvSpPr/>
          <p:nvPr/>
        </p:nvSpPr>
        <p:spPr>
          <a:xfrm>
            <a:off x="476280" y="15350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82"/>
          <p:cNvSpPr/>
          <p:nvPr/>
        </p:nvSpPr>
        <p:spPr>
          <a:xfrm>
            <a:off x="2852640" y="1433520"/>
            <a:ext cx="1081080" cy="12841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D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83"/>
          <p:cNvSpPr/>
          <p:nvPr/>
        </p:nvSpPr>
        <p:spPr>
          <a:xfrm>
            <a:off x="1332000" y="1433520"/>
            <a:ext cx="1081080" cy="12841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D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椭圆 154"/>
          <p:cNvSpPr/>
          <p:nvPr/>
        </p:nvSpPr>
        <p:spPr>
          <a:xfrm>
            <a:off x="4533840" y="1519200"/>
            <a:ext cx="306360" cy="257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椭圆 155"/>
          <p:cNvSpPr/>
          <p:nvPr/>
        </p:nvSpPr>
        <p:spPr>
          <a:xfrm>
            <a:off x="4952880" y="1519200"/>
            <a:ext cx="306360" cy="257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椭圆 156"/>
          <p:cNvSpPr/>
          <p:nvPr/>
        </p:nvSpPr>
        <p:spPr>
          <a:xfrm>
            <a:off x="4533840" y="2201760"/>
            <a:ext cx="306360" cy="2588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椭圆 157"/>
          <p:cNvSpPr/>
          <p:nvPr/>
        </p:nvSpPr>
        <p:spPr>
          <a:xfrm>
            <a:off x="4952880" y="2201760"/>
            <a:ext cx="306360" cy="2588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直接连接符 158"/>
          <p:cNvSpPr/>
          <p:nvPr/>
        </p:nvSpPr>
        <p:spPr>
          <a:xfrm>
            <a:off x="4687920" y="1776240"/>
            <a:ext cx="0" cy="425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159"/>
          <p:cNvSpPr/>
          <p:nvPr/>
        </p:nvSpPr>
        <p:spPr>
          <a:xfrm>
            <a:off x="4687920" y="1776240"/>
            <a:ext cx="419040" cy="425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直接连接符 160"/>
          <p:cNvSpPr/>
          <p:nvPr/>
        </p:nvSpPr>
        <p:spPr>
          <a:xfrm>
            <a:off x="5106960" y="1776240"/>
            <a:ext cx="0" cy="42552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61"/>
          <p:cNvSpPr/>
          <p:nvPr/>
        </p:nvSpPr>
        <p:spPr>
          <a:xfrm flipH="1">
            <a:off x="4687920" y="1776240"/>
            <a:ext cx="419040" cy="42552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162"/>
          <p:cNvSpPr/>
          <p:nvPr/>
        </p:nvSpPr>
        <p:spPr>
          <a:xfrm>
            <a:off x="4395960" y="1433520"/>
            <a:ext cx="1079280" cy="12841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D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163"/>
          <p:cNvSpPr/>
          <p:nvPr/>
        </p:nvSpPr>
        <p:spPr>
          <a:xfrm flipH="1" flipV="1">
            <a:off x="2913120" y="853920"/>
            <a:ext cx="1774800" cy="6652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直接连接符 166"/>
          <p:cNvSpPr/>
          <p:nvPr/>
        </p:nvSpPr>
        <p:spPr>
          <a:xfrm flipH="1" flipV="1">
            <a:off x="2515680" y="863280"/>
            <a:ext cx="217188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169"/>
          <p:cNvSpPr/>
          <p:nvPr/>
        </p:nvSpPr>
        <p:spPr>
          <a:xfrm flipH="1" flipV="1">
            <a:off x="2138400" y="863280"/>
            <a:ext cx="254952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直接连接符 172"/>
          <p:cNvSpPr/>
          <p:nvPr/>
        </p:nvSpPr>
        <p:spPr>
          <a:xfrm flipH="1" flipV="1">
            <a:off x="4587840" y="885600"/>
            <a:ext cx="519120" cy="6332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175"/>
          <p:cNvSpPr/>
          <p:nvPr/>
        </p:nvSpPr>
        <p:spPr>
          <a:xfrm flipH="1" flipV="1">
            <a:off x="4214880" y="872640"/>
            <a:ext cx="892080" cy="64620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接连接符 178"/>
          <p:cNvSpPr/>
          <p:nvPr/>
        </p:nvSpPr>
        <p:spPr>
          <a:xfrm flipH="1" flipV="1">
            <a:off x="3800160" y="863280"/>
            <a:ext cx="1306440" cy="6555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爆炸形 1 1"/>
          <p:cNvSpPr/>
          <p:nvPr/>
        </p:nvSpPr>
        <p:spPr>
          <a:xfrm>
            <a:off x="1706400" y="1824120"/>
            <a:ext cx="138240" cy="141120"/>
          </a:xfrm>
          <a:prstGeom prst="irregularSeal1">
            <a:avLst/>
          </a:prstGeom>
          <a:solidFill>
            <a:srgbClr val="ffffff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爆炸形 1 73"/>
          <p:cNvSpPr/>
          <p:nvPr/>
        </p:nvSpPr>
        <p:spPr>
          <a:xfrm>
            <a:off x="3513240" y="873000"/>
            <a:ext cx="117360" cy="142920"/>
          </a:xfrm>
          <a:prstGeom prst="irregularSeal1">
            <a:avLst/>
          </a:prstGeom>
          <a:solidFill>
            <a:srgbClr val="ffffff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orwarding Procedu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410760" y="1371240"/>
            <a:ext cx="620388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use of BIER entropy label to select a path between some equal cost paths is a local configuration matter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s draft defines a method to use part of the 20-bit entropy label in each router, and this needs a data-plane to do some bit operation functio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t is expected to be easier than hashing functio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4D2F2151-72D2-4874-96BE-CC285F9E08D0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3"/>
          <p:cNvSpPr/>
          <p:nvPr/>
        </p:nvSpPr>
        <p:spPr>
          <a:xfrm>
            <a:off x="2414880" y="1954080"/>
            <a:ext cx="166824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FrutigerNext LT Medium"/>
                <a:ea typeface="ＭＳ Ｐゴシック"/>
              </a:rPr>
              <a:t>Thank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文本框 1"/>
          <p:cNvSpPr/>
          <p:nvPr/>
        </p:nvSpPr>
        <p:spPr>
          <a:xfrm>
            <a:off x="1197000" y="17715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7:41:12Z</dcterms:created>
  <dc:creator>Chen Ming</dc:creator>
  <dc:description/>
  <dc:language>en-US</dc:language>
  <cp:lastModifiedBy>Michael McBride</cp:lastModifiedBy>
  <dcterms:modified xsi:type="dcterms:W3CDTF">2018-07-17T13:50:48Z</dcterms:modified>
  <cp:revision>15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3)egPpAfS9wpBpnyPKYaWlItL7BbntFHzLquku8Qy/Qp024ucEHKDJm4LUVODGGVu6paDO64cD
Q+LqMcA8eno+dlrvDT+xZs0efiGqaG7LVsGghc2uWBlciZ+iejZ7EsCvZrQvb6CFUDKm5fO2
rfekT23SzEV/7NM3MWnmqSH8xTuNS7JPJ9T23qQvYxnoKIzJr4V9sR4Uxxpg0NqLTDcmF58p
xm2Ear0JdkFQF3VQ5S</vt:lpwstr>
  </property>
  <property fmtid="{D5CDD505-2E9C-101B-9397-08002B2CF9AE}" pid="3" name="_2015_ms_pID_7253431">
    <vt:lpwstr>jojPQfp42MJJKEpFu7pLEkEUXmaSGjhYIckbUnj4sDOrxe7rjI1VaE
ubO/iJ7a2+utvt21oNg8dFh/eaKF0ezPQeSOdfyWrz6MRxQT0X65XcutsTrSH/SCDBwtyYPs
g+L8MY4jhyiofUHjVh0KGjE0pyAwwQz2e0DABT73JBLqZ50ZQ2C76k3qBD7pOvnsyeIM9EGF
7oMekVKIluJtlbraTSpfGlVoEaKOKPCAyr0H</vt:lpwstr>
  </property>
  <property fmtid="{D5CDD505-2E9C-101B-9397-08002B2CF9AE}" pid="4" name="_2015_ms_pID_7253431_00">
    <vt:lpwstr>_2015_ms_pID_7253431</vt:lpwstr>
  </property>
  <property fmtid="{D5CDD505-2E9C-101B-9397-08002B2CF9AE}" pid="5" name="_2015_ms_pID_7253432">
    <vt:lpwstr>a5W3kwVmM63OvF8FTGor7N6BnzWGfsWop3DP
Aexnu18EP0DpkJMiPeRiazC+eC3gIA==</vt:lpwstr>
  </property>
  <property fmtid="{D5CDD505-2E9C-101B-9397-08002B2CF9AE}" pid="6" name="_2015_ms_pID_7253432_00">
    <vt:lpwstr>_2015_ms_pID_7253432</vt:lpwstr>
  </property>
  <property fmtid="{D5CDD505-2E9C-101B-9397-08002B2CF9AE}" pid="7" name="_2015_ms_pID_725343_00">
    <vt:lpwstr>_2015_ms_pID_725343</vt:lpwstr>
  </property>
  <property fmtid="{D5CDD505-2E9C-101B-9397-08002B2CF9AE}" pid="8" name="_change">
    <vt:lpwstr/>
  </property>
  <property fmtid="{D5CDD505-2E9C-101B-9397-08002B2CF9AE}" pid="9" name="_full-control">
    <vt:lpwstr/>
  </property>
  <property fmtid="{D5CDD505-2E9C-101B-9397-08002B2CF9AE}" pid="10" name="_ms_pID_725343">
    <vt:lpwstr>(2)nEjfLa5zkFjJ24cFH1rD/CO99/SkKnuZt+jVj3euFWHS8MDkQjkBUSuq5IKksPFWrQEBjRsK
X+9l3cxTXRvzitClRlh3DpX2uIOS2R1ylp5QzOrr9VjtVeoV/WboZE7JM5mA6wA6hPIyRfnA
B86tkkz7o8RCTCbH3lBENhFaLa430zPmj47FtwLuMS+E1k3ruXoA6lIpFD5pxcmNqojImzW4
GwtdW1BZqH632JDAWU</vt:lpwstr>
  </property>
  <property fmtid="{D5CDD505-2E9C-101B-9397-08002B2CF9AE}" pid="11" name="_ms_pID_7253431">
    <vt:lpwstr>nhH+p/c2eKA5nuNEEnrUckmJKi9mx6LklbuGnSvOwQe8mcbzaUyX8z
ivZ/xK2LwqmMFV3oMI0hQ5nIm0nwBPrb6dNV0x0ONe1veEp3g/9l3w==</vt:lpwstr>
  </property>
  <property fmtid="{D5CDD505-2E9C-101B-9397-08002B2CF9AE}" pid="12" name="_new_ms_pID_72543">
    <vt:lpwstr>(4)8pb00NXgvfolPpdOp/im+iyocGkxj/FUozmtz+z3gf+89nHNxJewsJZtSXf5VaB6o0OySm5d
8gJwl174hgqzvOKZ9ktSU80sEzQWz+ediLA3FTdnitiu6PmyptT7CdkmWgnWetjIsC0wZ8k1
W/xfL6d9Zz02BuWRLVbj60gAnn7FXSD47ByU1iFS2iBgNVPDWqptFOpG7EGg/52sr796NAe6
Y88lxiNYEsD1weV4F7</vt:lpwstr>
  </property>
  <property fmtid="{D5CDD505-2E9C-101B-9397-08002B2CF9AE}" pid="13" name="_new_ms_pID_725431">
    <vt:lpwstr>q6f4vIblOYL9YUlQw4CP+hRGkRVRz/K88xTcCqM2TwfOF7lkn3vAEC
3+jPeoxHE/A6OcWwtKbWIgLEAFTHSMCU7vs1fQ+5oJypm6dqE9pPFXxOyWxAT7U1Xsz0Gq7t
wPyuDZFIE0AtufL4sKGECU+Mguj4AvfcNMKe5Vi7WziBZWrOTV99ZFu4PkQO37as5Yqy9LvI
lAl7byCF9QET+JXyHTe8uCFR/XYVz+qCOiu+</vt:lpwstr>
  </property>
  <property fmtid="{D5CDD505-2E9C-101B-9397-08002B2CF9AE}" pid="14" name="_new_ms_pID_725431_00">
    <vt:lpwstr>_new_ms_pID_725431</vt:lpwstr>
  </property>
  <property fmtid="{D5CDD505-2E9C-101B-9397-08002B2CF9AE}" pid="15" name="_new_ms_pID_725432">
    <vt:lpwstr>z7SAloLzPkKVNgiMlG+aDfsWNnntB5eaoVEQ
3nMuZfFFwpho/aTa1IU/IkK9+arTH6FV42W2B54W7pcEwahC9jb9alrmJ/1/iMjMlhdSPZTA
eoTX1lmZ4IH1To1PhIk7P8s6DyYeV9YmksxKB0KMM4wNXUK5c1R1jgCJPrnuoaTc/erG6n77
UOCBtkcmIPYMZ6SHWKblasdnWmcydo8N42cifZ4XLeD8W/b3/qIlSr</vt:lpwstr>
  </property>
  <property fmtid="{D5CDD505-2E9C-101B-9397-08002B2CF9AE}" pid="16" name="_new_ms_pID_725432_00">
    <vt:lpwstr>_new_ms_pID_725432</vt:lpwstr>
  </property>
  <property fmtid="{D5CDD505-2E9C-101B-9397-08002B2CF9AE}" pid="17" name="_new_ms_pID_725433">
    <vt:lpwstr>loxyd/lA5K1PndCMAt
wIYmBxctIdXWQ4qfL8GKFDszyBvh+zINy4Sn9UBWwfN+apNH</vt:lpwstr>
  </property>
  <property fmtid="{D5CDD505-2E9C-101B-9397-08002B2CF9AE}" pid="18" name="_new_ms_pID_725433_00">
    <vt:lpwstr>_new_ms_pID_725433</vt:lpwstr>
  </property>
  <property fmtid="{D5CDD505-2E9C-101B-9397-08002B2CF9AE}" pid="19" name="_new_ms_pID_72543_00">
    <vt:lpwstr>_new_ms_pID_72543</vt:lpwstr>
  </property>
  <property fmtid="{D5CDD505-2E9C-101B-9397-08002B2CF9AE}" pid="20" name="_readonly">
    <vt:lpwstr/>
  </property>
  <property fmtid="{D5CDD505-2E9C-101B-9397-08002B2CF9AE}" pid="21" name="sflag">
    <vt:lpwstr>1531833331</vt:lpwstr>
  </property>
</Properties>
</file>