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</p:sldIdLst>
  <p:sldSz cx="6858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dt" idx="3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605C-ED5B-4417-A11B-5629A49D62F5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3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 type="sldNum" idx="4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3C04B-49B5-4EBF-B0C0-823FD07B8A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72E8-FEA3-44E9-BB49-AAF25B8C9517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6981-8D67-4137-99F1-89EF69FFB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7BF4-8195-42F1-9F70-623DE4F18B47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B2D7-46E4-46D7-92EB-A9517A50C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7E3CBBA-3887-4C42-B1A6-DEC033A2E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8063FF-2DCC-45D4-9B93-FA8A0C644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4AB7A7-3C15-4A57-9366-F3B44486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D169C2-F162-4B31-A819-DA05A9AC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4B2FD73-9278-4EC7-9FBE-4F5C999E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896C22-4D49-4FD0-82D9-351782112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EF8F33-BCFD-40E6-A287-9BA275F0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686547-618A-480F-9951-81DDED535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2FBAA0-5402-47A5-BDC0-CE5682F7E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529FC5-26A9-4A56-A738-BF012228F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DC1172-5B10-4CCB-8ECF-B144A5D5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83691B-7E4C-478A-8B7A-D55D7A4A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F54D93-1387-4819-8312-1BAC7B56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60BD51-76B8-4714-8835-A9FBC08FB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D7E77F-0B24-4B10-8178-038B4420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88969B-2EE6-476C-9A0C-BA2BC008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044EA1-E1CD-43F7-9A8B-8CB8FDC2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6A202E2-4397-4AB9-AB87-39CB79F97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AC4B59-D4EC-4F6E-A693-2A6F1B6E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8D18C3-7D83-4326-9A17-AB74C96A8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EA9326-3BFB-4BBC-8ADB-6D7CB05EE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505251-227A-431F-B66A-6FE93E20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BFEA96-777C-4E44-B769-7672EA00D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9AEB82-80F4-43EC-AC2C-A6566DEF9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8CDD75-7D9E-439E-A9ED-A4125D2E4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0E8128-FF45-4193-A1B6-2D528904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89D967-6D41-4C89-BD86-686458EC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6EF8E5-8FA4-4E70-9E07-20C1E07D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C6EBF7-46B5-4158-9CE2-532C3B4F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B4E356-7516-4A32-A05C-ADDFE826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ACFA02-27C3-4C7F-92D7-2C4118DA9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E02748-9ADF-4F33-9790-B8CB9E88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15B56C-DEDB-4ADD-878F-216D99A58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49FA77-90E8-4D11-A76C-9E674984D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343573A-17F9-432F-9A7B-62A3B0384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CBEF4D-A7E2-4746-A276-500E7F89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4852907-347C-4312-BDB5-E47527B1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434A358-2590-48DE-80FD-A3400EA13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AD8E9AC-6732-4AA6-9A30-D8A09C7AB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581EB11-3B76-4D56-88E9-A40CCD851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13E89C1-77CB-475E-B39C-E64CAC10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E4D90-3176-464D-8723-FAD1B62E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405E7CE-C949-48FA-ADB5-EC8D570D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5BDF40A-9A18-4888-B21F-0F9AE9CE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EE9FA81-D515-426A-B4FC-DEC8B58D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74AA41F-CC84-4E6B-B25A-5B407A5AA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9B173C0-267F-4A67-978E-323AE34EC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CCBF9D-B5CF-487A-B2AF-38E423BC2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0D284D-2A9C-46A3-8AA9-0038DAB5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42401E-7C09-4A8A-9F0B-32E819D5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F5BEDD-85A5-4E75-A67E-70906E74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948309-37B2-4775-9E0C-671F01D7A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99374D-8C7B-4066-AB47-8694DD43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6E43012-98E5-4F09-BC01-C61F926C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681C2E-BAA7-49AB-9485-2B59E786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B60E31-B13E-444F-8439-DD0D83B2B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5024DE-66F0-4AB1-839B-B3BA4AE23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759480-4406-4642-8F0D-738337E9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C99E05-01E0-4697-9A75-A3E65B674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69EA00-26E0-466D-ADA1-DB3DB3A78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0C10BA5-A52C-40D2-9805-4CEC4773D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29BB58E-EED5-4BC5-8466-8E57A5AEB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540510B-0A99-4FFE-8F0B-8E4EC28B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4A1F8B-665D-4A1A-8582-C341A5DC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32D862C-1745-46CE-BD08-3F0CD0D6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52B10DE-1002-4A81-B46F-1640C222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6C3B3A8-46BB-4FAE-93A4-3716750B5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5121A6E-F818-4971-A10A-691C633E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CB383F3-40A0-4B8E-AB2A-2390B709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38B3CA8-CEC9-467B-A727-19144A4D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8710775-B769-40EA-821F-2C203589B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7D816F3-6695-4C42-85E5-3BD5FE019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14A51BF-EBAE-4E19-800F-36E0EE65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C497E7-C12B-4ACA-9B3E-4D4EF5D78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575A91-6BF4-4E5B-AC6E-42C11C87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6F3985-4FC5-4286-9FCB-AF469E713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F6417A-1A80-47FF-BA24-2B799611F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07CC4-57D5-4FAE-ABF9-F5D3123BC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17B72E-F265-46FB-B83A-DC4392C4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9D444-901D-4F4D-87E2-399D2AF46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27D2C-EC8A-41AD-90E7-F0CA4B4A1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275423-B04F-4BD3-9C12-CD9E9A21E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0D251F-2FA3-4745-949C-ED59BFEE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4CF942-8C67-46EB-B7DF-E18973B2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2B19EB-57A5-423B-A873-33901BEBC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4DFD2D-9343-4182-869E-40C445DC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405DD3-AF11-43E9-8E8E-64217A17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A36D09-C5DB-44B4-928B-F749F12F2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1FF93D-199A-473D-86F8-04D754CA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F39764-F457-42F0-8136-42581112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3C681E-6D0E-4780-91CF-E13023987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02C2F2-8CC8-45A9-92F1-A8D12790F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4F52D8-0CF1-4435-8631-88E5698A5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9D69DA-6D21-4507-B56B-33E1E5427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1D16B7-F26F-4474-A3C2-832E022CB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862915-C964-4FB2-AF0D-BAAC1B2C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DF3FB6-CA43-4DA1-BFF9-51F27CB2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AD745C-434F-43AD-948E-0556269C1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98408E-98BB-41F4-9AEB-446FF819A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961A3D-B617-4408-BFFB-63363809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7222B8-03A0-4145-A47D-43195943A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6AD9E5-CB49-4674-8418-1DD5639B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861140-4434-485B-9D2A-BD09D0100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59D77E-11F6-451B-A004-E20705026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F38E95-E61F-4C2B-9CC2-01BCB1362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942937-00C8-46CF-8088-97E55CC40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E437E4-2D33-4AF8-AD8F-79F8C430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A2773B-BA0D-46D0-BFF3-6F032E3B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E22D26-F8E7-4460-8EB2-F37BEFD17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5BE85A-601F-4EEF-965A-0B8C92E62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80A526-52CE-489C-8E43-D4227FC6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774120-26CE-45A2-9085-1B38FF13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05042A-5C64-4212-8743-5E0E5830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7DE20B-02B6-422C-A15E-CC9A3FB96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2AFFDEA-51A9-4902-93FD-3626489A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1EDBD5-615B-45BF-A3C9-CDEA9A429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B40DC1-C5C1-4766-9A8F-5D48CC951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799909-82EF-4AA0-B642-30EEFEC3D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31CCE8-90F1-4C8F-8F34-AFA16B4E0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A864C5-46A4-40F2-A721-914DF196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73615C-D300-46BF-AD62-F5F999D00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E13AC5-D457-4F13-BBD0-F0FF4238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1CFA84-869F-4239-A82B-7C39A176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B79B06-6A60-4E26-B325-F35BC373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1CF890-BB53-4FD8-AD6A-C53E3E995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E7ED07-8CB2-414E-85D9-A512770A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4009A54-494A-482C-A79C-46B9F8C3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EAA9B1-4301-4A2D-B11C-BE44C0E3E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B23519-D461-46CC-A170-7870A6A3B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4F47BD-5CBB-4F28-AED8-CE0EE4520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C05162E-B707-4D4A-9B8D-1B3FBE82B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A2DE47-1F0B-4983-89AB-0E3BF424F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DF47FA-72FE-46CF-95D7-F58D57776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73CBE7F-686F-4246-A866-F114076B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F5E10E-DF48-4C90-9E61-FDEFD126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8D60905-1566-4D3A-AC52-B448DA7A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831BDB-45B5-4273-AB25-49631910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44477C5-2ADC-4718-ACA3-A6087F9D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882174F-56C4-4112-8DAB-7EC2BA40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F4534E-E1C1-4BE6-88B9-96793431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905115B-6CA4-4F51-B642-AE338A717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4208BFF-A7A3-476B-A47C-6B3476B10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F7DE52-F020-4BE7-8C74-B1D48AF16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210E52-8F28-44E6-B0D9-8072A828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6560" y="87480"/>
            <a:ext cx="6048720" cy="474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" y="681120"/>
            <a:ext cx="6372000" cy="39132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marL="158760" indent="-158760">
              <a:lnSpc>
                <a:spcPct val="14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317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31720" indent="-106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744480" indent="-10620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7"/>
          <p:cNvPicPr/>
          <p:nvPr/>
        </p:nvPicPr>
        <p:blipFill>
          <a:blip r:embed="rId2"/>
          <a:stretch/>
        </p:blipFill>
        <p:spPr>
          <a:xfrm>
            <a:off x="0" y="4665600"/>
            <a:ext cx="6856560" cy="478080"/>
          </a:xfrm>
          <a:prstGeom prst="rect">
            <a:avLst/>
          </a:prstGeom>
          <a:ln w="0">
            <a:noFill/>
          </a:ln>
        </p:spPr>
      </p:pic>
      <p:sp>
        <p:nvSpPr>
          <p:cNvPr id="3" name="Text Box 5"/>
          <p:cNvSpPr/>
          <p:nvPr/>
        </p:nvSpPr>
        <p:spPr>
          <a:xfrm>
            <a:off x="532080" y="4826160"/>
            <a:ext cx="1113480" cy="1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HUAWEI </a:t>
            </a:r>
            <a:r>
              <a:rPr b="0" lang="en-US" sz="700" spc="-1" strike="noStrike">
                <a:solidFill>
                  <a:srgbClr val="990000"/>
                </a:solidFill>
                <a:latin typeface="FrutigerNext LT Bold"/>
                <a:ea typeface="ＭＳ Ｐゴシック"/>
              </a:rPr>
              <a:t>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446720" y="4800240"/>
            <a:ext cx="7934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600" spc="-1" strike="noStrike">
                <a:solidFill>
                  <a:srgbClr val="000000"/>
                </a:solidFill>
                <a:latin typeface="FrutigerNext LT Medium"/>
                <a:ea typeface="ＭＳ Ｐゴシック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9F800A13-998C-4EB6-B956-5F5C3F9B7BE2}" type="slidenum">
              <a:rPr b="0" lang="de-DE" sz="6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8"/>
          <p:cNvPicPr/>
          <p:nvPr/>
        </p:nvPicPr>
        <p:blipFill>
          <a:blip r:embed="rId3"/>
          <a:stretch/>
        </p:blipFill>
        <p:spPr>
          <a:xfrm>
            <a:off x="5630760" y="4807080"/>
            <a:ext cx="982800" cy="23328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2087640" y="4805280"/>
            <a:ext cx="20826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680" rIns="49680" tIns="24840" bIns="2484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楷体_GB2312"/>
              </a:rPr>
              <a:t>内部资料 注意保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3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441CA1C2-7A5D-4789-A860-4DD86F4F69F9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4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5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AC354-A150-4459-8E99-89DD69F7F0AD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6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F1AF29CB-CF0E-4BB2-99F0-D5085750A85E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7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8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53E7-1E91-41F0-BBC8-0AF5B4B945AE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9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CD7C345A-2B3E-44C8-90AA-6BEEDE0D4B4C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0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1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D729-1406-406B-B35A-5548FEFBC7CF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2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889F7640-5594-4937-BB68-FFC8C03A705F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3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4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1BDB-9D2E-4BCF-9EBA-1EADD0BB0F3B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5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75394CE9-336D-4D18-A608-DE8D9D2DCDA6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6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7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DE77-6BAD-4787-B86F-8DF545E0A666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D509F3D4-F2AF-43E5-9C62-8CC7E07D72AB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5319-F80C-46E5-B2AD-7B37083B05A4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Logo"/>
          <p:cNvPicPr/>
          <p:nvPr/>
        </p:nvPicPr>
        <p:blipFill>
          <a:blip r:embed="rId2"/>
          <a:stretch/>
        </p:blipFill>
        <p:spPr>
          <a:xfrm>
            <a:off x="5630760" y="4184640"/>
            <a:ext cx="615960" cy="615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2"/>
          <p:cNvPicPr/>
          <p:nvPr/>
        </p:nvPicPr>
        <p:blipFill>
          <a:blip r:embed="rId3"/>
          <a:stretch/>
        </p:blipFill>
        <p:spPr>
          <a:xfrm>
            <a:off x="1440" y="588960"/>
            <a:ext cx="6856560" cy="28576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523080" y="246240"/>
            <a:ext cx="8028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666666"/>
                </a:solidFill>
                <a:latin typeface="FrutigerNext LT Regular"/>
                <a:ea typeface="ＭＳ Ｐゴシック"/>
              </a:rPr>
              <a:t>06.April 20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05800" y="4654440"/>
            <a:ext cx="1647000" cy="1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FrutigerNext LT Bold"/>
                <a:ea typeface="ＭＳ Ｐゴシック"/>
              </a:rPr>
              <a:t>HUAWEI TECHNOLOGIES CO., LT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433840" y="2989440"/>
            <a:ext cx="112896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ww.huawei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6560" y="87480"/>
            <a:ext cx="6048720" cy="474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243000" y="681120"/>
            <a:ext cx="6372000" cy="39132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marL="158760" indent="-158760">
              <a:lnSpc>
                <a:spcPct val="14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317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31720" indent="-106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744480" indent="-10620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5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B17156EF-5EAE-4560-9C40-FDFC1A01AA24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6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7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59FE3-F2BD-41C5-B11F-C31E03A6A3FA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8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FB52E281-57D0-4769-84B9-B1F45553FDFE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9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0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61DD8-A406-484D-9FE5-2D4D39BCA875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1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A06DF562-625C-4334-A38E-704C1F923DE9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2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3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1B40-BF44-40E2-8B60-00A1698733EB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4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8E1A4C0D-D694-43FF-95F7-9700F755DDD8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5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6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B0F68-3314-4CCC-A742-B44B4E559984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7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6D83DFCE-5465-4C89-B18A-40C3EF03DA16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8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9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97DC7-8B14-41DF-880F-0A6408C1E9F9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0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3BA1693D-9AAE-4D97-959C-E2994E00385E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1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2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C332-0F3C-4362-ACAC-D9FE4952FEFA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6"/>
          <p:cNvSpPr/>
          <p:nvPr/>
        </p:nvSpPr>
        <p:spPr>
          <a:xfrm>
            <a:off x="411120" y="1285920"/>
            <a:ext cx="6035760" cy="8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楷体_GB2312"/>
              </a:rPr>
              <a:t>Use of BIER Entropy for Data Center CLOS Network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楷体_GB2312"/>
              </a:rPr>
              <a:t>draft-xie-mboned-bier-entropy-staged-dc-clos-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6"/>
          <p:cNvSpPr/>
          <p:nvPr/>
        </p:nvSpPr>
        <p:spPr>
          <a:xfrm>
            <a:off x="411120" y="2859120"/>
            <a:ext cx="6035760" cy="9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Jingrong Xie, Mike McBride, Gang 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@Huaw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Xiaohu X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@Alibaba In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10760" y="268200"/>
            <a:ext cx="5915160" cy="41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Problem Statement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188640" y="915840"/>
            <a:ext cx="655308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-173160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Describes how BIER Entropy can be useful in DC CLOS network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Large, long lived elephant flows may affect performance of smaller short lived flows and reduce efficiency of per flow load sharing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Due to ECMP hash function inefficiencies it is possible to have frequent flow collisions. More flows get placed on one path over the other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Isolating faults in the network with multiple parallel paths and ECMP based routing is non trivial due to lack of determinism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hen BIER is deployed in a multi-tenant data center network for efficient delivery of BUM, an operator may want a deterministic path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 deterministic path for a multicast path in the DC, with multiple staged equal cost paths, is comparable to a traffic-engineering path defined in ietf-mpls-spring-entropy-label with multiple hop equal cost path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lnSpc>
                <a:spcPct val="107000"/>
              </a:lnSpc>
              <a:buClr>
                <a:srgbClr val="000000"/>
              </a:buClr>
              <a:buFont typeface="Symbol" charset="2"/>
              <a:buChar char="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 deterministic path can be found by part of the 20 bit entropy field. Bit 0 to bit 2 of entropy label can represent a value of 0 to 7, and can be used to select a deterministic path from 8 equal cost path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10760" y="268200"/>
            <a:ext cx="5915160" cy="41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Problem Statement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411120" y="3579480"/>
            <a:ext cx="622152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C-CLOS network: 3 layers, 5 stages, Northwards Stages (stage 1 &amp; 2) have rich ECMP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1: Steering for elephant flows (A1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-&gt;C1-&gt;S1--&gt;A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 2: Path Division for Tenant flows to different SIs (A1</a:t>
            </a:r>
            <a:r>
              <a:rPr b="0" lang="en-US" sz="1200" spc="-1" strike="noStrike">
                <a:solidFill>
                  <a:srgbClr val="ff0000"/>
                </a:solidFill>
                <a:latin typeface="Calibri"/>
              </a:rPr>
              <a:t>-&gt;C1-&gt;S1--&gt;A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 A1</a:t>
            </a:r>
            <a:r>
              <a:rPr b="0" lang="en-US" sz="1200" spc="-1" strike="noStrike">
                <a:solidFill>
                  <a:srgbClr val="0000ff"/>
                </a:solidFill>
                <a:latin typeface="Calibri"/>
              </a:rPr>
              <a:t>-&gt;D1-&gt;S4--&gt;A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椭圆 37"/>
          <p:cNvSpPr/>
          <p:nvPr/>
        </p:nvSpPr>
        <p:spPr>
          <a:xfrm>
            <a:off x="1479600" y="1981080"/>
            <a:ext cx="306360" cy="257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椭圆 39"/>
          <p:cNvSpPr/>
          <p:nvPr/>
        </p:nvSpPr>
        <p:spPr>
          <a:xfrm>
            <a:off x="1898640" y="1981080"/>
            <a:ext cx="306360" cy="2574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椭圆 40"/>
          <p:cNvSpPr/>
          <p:nvPr/>
        </p:nvSpPr>
        <p:spPr>
          <a:xfrm>
            <a:off x="1479600" y="2610000"/>
            <a:ext cx="306360" cy="2584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椭圆 41"/>
          <p:cNvSpPr/>
          <p:nvPr/>
        </p:nvSpPr>
        <p:spPr>
          <a:xfrm>
            <a:off x="1898640" y="2610000"/>
            <a:ext cx="306360" cy="25848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B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椭圆 42"/>
          <p:cNvSpPr/>
          <p:nvPr/>
        </p:nvSpPr>
        <p:spPr>
          <a:xfrm>
            <a:off x="1982880" y="1087560"/>
            <a:ext cx="311040" cy="2253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椭圆 43"/>
          <p:cNvSpPr/>
          <p:nvPr/>
        </p:nvSpPr>
        <p:spPr>
          <a:xfrm>
            <a:off x="2360520" y="1087560"/>
            <a:ext cx="311400" cy="2253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椭圆 44"/>
          <p:cNvSpPr/>
          <p:nvPr/>
        </p:nvSpPr>
        <p:spPr>
          <a:xfrm>
            <a:off x="3645000" y="1087560"/>
            <a:ext cx="311040" cy="2253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椭圆 45"/>
          <p:cNvSpPr/>
          <p:nvPr/>
        </p:nvSpPr>
        <p:spPr>
          <a:xfrm>
            <a:off x="4059360" y="1096920"/>
            <a:ext cx="311040" cy="2253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椭圆 46"/>
          <p:cNvSpPr/>
          <p:nvPr/>
        </p:nvSpPr>
        <p:spPr>
          <a:xfrm>
            <a:off x="2992320" y="1981080"/>
            <a:ext cx="304920" cy="257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椭圆 47"/>
          <p:cNvSpPr/>
          <p:nvPr/>
        </p:nvSpPr>
        <p:spPr>
          <a:xfrm>
            <a:off x="3411360" y="1981080"/>
            <a:ext cx="304920" cy="2574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直接连接符 48"/>
          <p:cNvSpPr/>
          <p:nvPr/>
        </p:nvSpPr>
        <p:spPr>
          <a:xfrm>
            <a:off x="1631880" y="2238480"/>
            <a:ext cx="0" cy="37152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直接连接符 49"/>
          <p:cNvSpPr/>
          <p:nvPr/>
        </p:nvSpPr>
        <p:spPr>
          <a:xfrm>
            <a:off x="1631880" y="2238480"/>
            <a:ext cx="419040" cy="37152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直接连接符 50"/>
          <p:cNvSpPr/>
          <p:nvPr/>
        </p:nvSpPr>
        <p:spPr>
          <a:xfrm>
            <a:off x="2050920" y="2238480"/>
            <a:ext cx="0" cy="37152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直接连接符 51"/>
          <p:cNvSpPr/>
          <p:nvPr/>
        </p:nvSpPr>
        <p:spPr>
          <a:xfrm flipH="1">
            <a:off x="1631880" y="2238480"/>
            <a:ext cx="419040" cy="37152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直接连接符 52"/>
          <p:cNvSpPr/>
          <p:nvPr/>
        </p:nvSpPr>
        <p:spPr>
          <a:xfrm flipV="1">
            <a:off x="1631880" y="1312920"/>
            <a:ext cx="506520" cy="66816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直接连接符 53"/>
          <p:cNvSpPr/>
          <p:nvPr/>
        </p:nvSpPr>
        <p:spPr>
          <a:xfrm flipH="1" flipV="1">
            <a:off x="2138400" y="1312920"/>
            <a:ext cx="1006560" cy="66816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椭圆 54"/>
          <p:cNvSpPr/>
          <p:nvPr/>
        </p:nvSpPr>
        <p:spPr>
          <a:xfrm>
            <a:off x="2992320" y="2619360"/>
            <a:ext cx="304920" cy="2588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椭圆 55"/>
          <p:cNvSpPr/>
          <p:nvPr/>
        </p:nvSpPr>
        <p:spPr>
          <a:xfrm>
            <a:off x="3411360" y="2619360"/>
            <a:ext cx="304920" cy="2588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B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直接连接符 56"/>
          <p:cNvSpPr/>
          <p:nvPr/>
        </p:nvSpPr>
        <p:spPr>
          <a:xfrm>
            <a:off x="3144960" y="2238480"/>
            <a:ext cx="0" cy="38088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直接连接符 57"/>
          <p:cNvSpPr/>
          <p:nvPr/>
        </p:nvSpPr>
        <p:spPr>
          <a:xfrm>
            <a:off x="3144960" y="2238480"/>
            <a:ext cx="419040" cy="38088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直接连接符 58"/>
          <p:cNvSpPr/>
          <p:nvPr/>
        </p:nvSpPr>
        <p:spPr>
          <a:xfrm>
            <a:off x="3564000" y="2238480"/>
            <a:ext cx="0" cy="38088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直接连接符 59"/>
          <p:cNvSpPr/>
          <p:nvPr/>
        </p:nvSpPr>
        <p:spPr>
          <a:xfrm flipH="1">
            <a:off x="3144960" y="2238480"/>
            <a:ext cx="419040" cy="38088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直接连接符 60"/>
          <p:cNvSpPr/>
          <p:nvPr/>
        </p:nvSpPr>
        <p:spPr>
          <a:xfrm flipV="1">
            <a:off x="2050920" y="1312920"/>
            <a:ext cx="1749600" cy="66816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直接连接符 61"/>
          <p:cNvSpPr/>
          <p:nvPr/>
        </p:nvSpPr>
        <p:spPr>
          <a:xfrm flipV="1">
            <a:off x="3564000" y="1312920"/>
            <a:ext cx="236520" cy="66816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直接连接符 62"/>
          <p:cNvSpPr/>
          <p:nvPr/>
        </p:nvSpPr>
        <p:spPr>
          <a:xfrm flipV="1">
            <a:off x="1631880" y="1312920"/>
            <a:ext cx="884160" cy="66816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直接连接符 63"/>
          <p:cNvSpPr/>
          <p:nvPr/>
        </p:nvSpPr>
        <p:spPr>
          <a:xfrm flipV="1">
            <a:off x="2050920" y="1322280"/>
            <a:ext cx="2163960" cy="65880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直接连接符 64"/>
          <p:cNvSpPr/>
          <p:nvPr/>
        </p:nvSpPr>
        <p:spPr>
          <a:xfrm flipH="1" flipV="1">
            <a:off x="2515680" y="1312920"/>
            <a:ext cx="628920" cy="66816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直接连接符 65"/>
          <p:cNvSpPr/>
          <p:nvPr/>
        </p:nvSpPr>
        <p:spPr>
          <a:xfrm flipV="1">
            <a:off x="3564000" y="1322280"/>
            <a:ext cx="650880" cy="65880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椭圆 66"/>
          <p:cNvSpPr/>
          <p:nvPr/>
        </p:nvSpPr>
        <p:spPr>
          <a:xfrm>
            <a:off x="2757600" y="1077840"/>
            <a:ext cx="311040" cy="2253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直接连接符 67"/>
          <p:cNvSpPr/>
          <p:nvPr/>
        </p:nvSpPr>
        <p:spPr>
          <a:xfrm flipV="1">
            <a:off x="1631880" y="1302840"/>
            <a:ext cx="1281240" cy="67788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椭圆 68"/>
          <p:cNvSpPr/>
          <p:nvPr/>
        </p:nvSpPr>
        <p:spPr>
          <a:xfrm>
            <a:off x="4432320" y="1109520"/>
            <a:ext cx="311040" cy="2257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直接连接符 69"/>
          <p:cNvSpPr/>
          <p:nvPr/>
        </p:nvSpPr>
        <p:spPr>
          <a:xfrm flipV="1">
            <a:off x="2050920" y="1335240"/>
            <a:ext cx="2536920" cy="64584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直接连接符 70"/>
          <p:cNvSpPr/>
          <p:nvPr/>
        </p:nvSpPr>
        <p:spPr>
          <a:xfrm flipV="1">
            <a:off x="3564000" y="1335240"/>
            <a:ext cx="1023840" cy="64584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直接连接符 71"/>
          <p:cNvSpPr/>
          <p:nvPr/>
        </p:nvSpPr>
        <p:spPr>
          <a:xfrm flipH="1" flipV="1">
            <a:off x="2913120" y="1302840"/>
            <a:ext cx="231840" cy="67788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3" name="直接箭头连接符 10"/>
          <p:cNvCxnSpPr/>
          <p:nvPr/>
        </p:nvCxnSpPr>
        <p:spPr>
          <a:xfrm flipV="1">
            <a:off x="1267920" y="2526840"/>
            <a:ext cx="1080" cy="41688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664" name="直接箭头连接符 72"/>
          <p:cNvCxnSpPr/>
          <p:nvPr/>
        </p:nvCxnSpPr>
        <p:spPr>
          <a:xfrm flipV="1">
            <a:off x="1267920" y="1923480"/>
            <a:ext cx="1080" cy="41652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665" name="直接箭头连接符 12"/>
          <p:cNvCxnSpPr/>
          <p:nvPr/>
        </p:nvCxnSpPr>
        <p:spPr>
          <a:xfrm>
            <a:off x="5524200" y="1058400"/>
            <a:ext cx="1080" cy="43596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666" name="直接箭头连接符 75"/>
          <p:cNvCxnSpPr/>
          <p:nvPr/>
        </p:nvCxnSpPr>
        <p:spPr>
          <a:xfrm>
            <a:off x="5516280" y="1923840"/>
            <a:ext cx="1080" cy="43380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667" name="直接箭头连接符 76"/>
          <p:cNvCxnSpPr/>
          <p:nvPr/>
        </p:nvCxnSpPr>
        <p:spPr>
          <a:xfrm>
            <a:off x="5516280" y="2500200"/>
            <a:ext cx="1080" cy="43416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sp>
        <p:nvSpPr>
          <p:cNvPr id="668" name="文本框 13"/>
          <p:cNvSpPr/>
          <p:nvPr/>
        </p:nvSpPr>
        <p:spPr>
          <a:xfrm>
            <a:off x="476280" y="261936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g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文本框 78"/>
          <p:cNvSpPr/>
          <p:nvPr/>
        </p:nvSpPr>
        <p:spPr>
          <a:xfrm>
            <a:off x="476280" y="199692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g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文本框 79"/>
          <p:cNvSpPr/>
          <p:nvPr/>
        </p:nvSpPr>
        <p:spPr>
          <a:xfrm>
            <a:off x="5595840" y="117144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ge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文本框 80"/>
          <p:cNvSpPr/>
          <p:nvPr/>
        </p:nvSpPr>
        <p:spPr>
          <a:xfrm>
            <a:off x="5595840" y="198756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ge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文本框 81"/>
          <p:cNvSpPr/>
          <p:nvPr/>
        </p:nvSpPr>
        <p:spPr>
          <a:xfrm>
            <a:off x="5595840" y="257652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ge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矩形 82"/>
          <p:cNvSpPr/>
          <p:nvPr/>
        </p:nvSpPr>
        <p:spPr>
          <a:xfrm>
            <a:off x="2852640" y="1897200"/>
            <a:ext cx="1081080" cy="1492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OD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fr-id 11-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矩形 83"/>
          <p:cNvSpPr/>
          <p:nvPr/>
        </p:nvSpPr>
        <p:spPr>
          <a:xfrm>
            <a:off x="1332000" y="1897200"/>
            <a:ext cx="1081080" cy="1492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OD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fr-id 1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椭圆 154"/>
          <p:cNvSpPr/>
          <p:nvPr/>
        </p:nvSpPr>
        <p:spPr>
          <a:xfrm>
            <a:off x="4533840" y="1981080"/>
            <a:ext cx="306360" cy="257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椭圆 155"/>
          <p:cNvSpPr/>
          <p:nvPr/>
        </p:nvSpPr>
        <p:spPr>
          <a:xfrm>
            <a:off x="4952880" y="1981080"/>
            <a:ext cx="306360" cy="2574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椭圆 156"/>
          <p:cNvSpPr/>
          <p:nvPr/>
        </p:nvSpPr>
        <p:spPr>
          <a:xfrm>
            <a:off x="4533840" y="2619360"/>
            <a:ext cx="306360" cy="2588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椭圆 157"/>
          <p:cNvSpPr/>
          <p:nvPr/>
        </p:nvSpPr>
        <p:spPr>
          <a:xfrm>
            <a:off x="4952880" y="2619360"/>
            <a:ext cx="306360" cy="2588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B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直接连接符 158"/>
          <p:cNvSpPr/>
          <p:nvPr/>
        </p:nvSpPr>
        <p:spPr>
          <a:xfrm>
            <a:off x="4687920" y="2238480"/>
            <a:ext cx="0" cy="38088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直接连接符 159"/>
          <p:cNvSpPr/>
          <p:nvPr/>
        </p:nvSpPr>
        <p:spPr>
          <a:xfrm>
            <a:off x="4687920" y="2238480"/>
            <a:ext cx="419040" cy="38088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直接连接符 160"/>
          <p:cNvSpPr/>
          <p:nvPr/>
        </p:nvSpPr>
        <p:spPr>
          <a:xfrm>
            <a:off x="5106960" y="2238480"/>
            <a:ext cx="0" cy="38088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直接连接符 161"/>
          <p:cNvSpPr/>
          <p:nvPr/>
        </p:nvSpPr>
        <p:spPr>
          <a:xfrm flipH="1">
            <a:off x="4687920" y="2238480"/>
            <a:ext cx="419040" cy="38088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矩形 162"/>
          <p:cNvSpPr/>
          <p:nvPr/>
        </p:nvSpPr>
        <p:spPr>
          <a:xfrm>
            <a:off x="4395960" y="1897200"/>
            <a:ext cx="1079280" cy="149220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OD3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fr-id 301-3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直接连接符 163"/>
          <p:cNvSpPr/>
          <p:nvPr/>
        </p:nvSpPr>
        <p:spPr>
          <a:xfrm flipH="1" flipV="1">
            <a:off x="2913120" y="1302840"/>
            <a:ext cx="1774800" cy="67788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直接连接符 166"/>
          <p:cNvSpPr/>
          <p:nvPr/>
        </p:nvSpPr>
        <p:spPr>
          <a:xfrm flipH="1" flipV="1">
            <a:off x="2515680" y="1312920"/>
            <a:ext cx="2171880" cy="66816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直接连接符 169"/>
          <p:cNvSpPr/>
          <p:nvPr/>
        </p:nvSpPr>
        <p:spPr>
          <a:xfrm flipH="1" flipV="1">
            <a:off x="2138400" y="1312920"/>
            <a:ext cx="2549520" cy="66816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直接连接符 172"/>
          <p:cNvSpPr/>
          <p:nvPr/>
        </p:nvSpPr>
        <p:spPr>
          <a:xfrm flipH="1" flipV="1">
            <a:off x="4587840" y="1335240"/>
            <a:ext cx="519120" cy="64584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直接连接符 175"/>
          <p:cNvSpPr/>
          <p:nvPr/>
        </p:nvSpPr>
        <p:spPr>
          <a:xfrm flipH="1" flipV="1">
            <a:off x="4214880" y="1322280"/>
            <a:ext cx="892080" cy="65880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直接连接符 178"/>
          <p:cNvSpPr/>
          <p:nvPr/>
        </p:nvSpPr>
        <p:spPr>
          <a:xfrm flipH="1" flipV="1">
            <a:off x="3800160" y="1312920"/>
            <a:ext cx="1306440" cy="66816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10760" y="268200"/>
            <a:ext cx="5915160" cy="41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Solution by using BIER Entropy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537840" y="3281400"/>
            <a:ext cx="591516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ge 1: use bit[0] of the 20-bit Entropy to represent RED and BLUE p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ge 2: use bit[1~2] of the 20-bit Entropy to represent 3 paths to each RED/BLUE clus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ilar to the [ietf-mpls-spring-entropy-label] for multi-stage ECMPs along a path by breaking the 20-bit BIER Entrop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椭圆 37"/>
          <p:cNvSpPr/>
          <p:nvPr/>
        </p:nvSpPr>
        <p:spPr>
          <a:xfrm>
            <a:off x="1479600" y="1981080"/>
            <a:ext cx="306360" cy="257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椭圆 39"/>
          <p:cNvSpPr/>
          <p:nvPr/>
        </p:nvSpPr>
        <p:spPr>
          <a:xfrm>
            <a:off x="1898640" y="1981080"/>
            <a:ext cx="306360" cy="2574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椭圆 40"/>
          <p:cNvSpPr/>
          <p:nvPr/>
        </p:nvSpPr>
        <p:spPr>
          <a:xfrm>
            <a:off x="1479600" y="2655720"/>
            <a:ext cx="306360" cy="25740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椭圆 41"/>
          <p:cNvSpPr/>
          <p:nvPr/>
        </p:nvSpPr>
        <p:spPr>
          <a:xfrm>
            <a:off x="1898640" y="2655720"/>
            <a:ext cx="306360" cy="25740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B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椭圆 42"/>
          <p:cNvSpPr/>
          <p:nvPr/>
        </p:nvSpPr>
        <p:spPr>
          <a:xfrm>
            <a:off x="1982880" y="1100160"/>
            <a:ext cx="311040" cy="2253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椭圆 43"/>
          <p:cNvSpPr/>
          <p:nvPr/>
        </p:nvSpPr>
        <p:spPr>
          <a:xfrm>
            <a:off x="2360520" y="1100160"/>
            <a:ext cx="311400" cy="2253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椭圆 44"/>
          <p:cNvSpPr/>
          <p:nvPr/>
        </p:nvSpPr>
        <p:spPr>
          <a:xfrm>
            <a:off x="3645000" y="1100160"/>
            <a:ext cx="311040" cy="2253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椭圆 45"/>
          <p:cNvSpPr/>
          <p:nvPr/>
        </p:nvSpPr>
        <p:spPr>
          <a:xfrm>
            <a:off x="4059360" y="1109520"/>
            <a:ext cx="311040" cy="2257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椭圆 46"/>
          <p:cNvSpPr/>
          <p:nvPr/>
        </p:nvSpPr>
        <p:spPr>
          <a:xfrm>
            <a:off x="2992320" y="1981080"/>
            <a:ext cx="304920" cy="257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椭圆 47"/>
          <p:cNvSpPr/>
          <p:nvPr/>
        </p:nvSpPr>
        <p:spPr>
          <a:xfrm>
            <a:off x="3411360" y="1981080"/>
            <a:ext cx="304920" cy="2574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直接连接符 48"/>
          <p:cNvSpPr/>
          <p:nvPr/>
        </p:nvSpPr>
        <p:spPr>
          <a:xfrm>
            <a:off x="1631880" y="2238480"/>
            <a:ext cx="0" cy="41724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直接连接符 49"/>
          <p:cNvSpPr/>
          <p:nvPr/>
        </p:nvSpPr>
        <p:spPr>
          <a:xfrm>
            <a:off x="1631880" y="2238480"/>
            <a:ext cx="419040" cy="41724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直接连接符 50"/>
          <p:cNvSpPr/>
          <p:nvPr/>
        </p:nvSpPr>
        <p:spPr>
          <a:xfrm>
            <a:off x="2050920" y="2238480"/>
            <a:ext cx="0" cy="41724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直接连接符 51"/>
          <p:cNvSpPr/>
          <p:nvPr/>
        </p:nvSpPr>
        <p:spPr>
          <a:xfrm flipH="1">
            <a:off x="1631880" y="2238480"/>
            <a:ext cx="419040" cy="41724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直接连接符 52"/>
          <p:cNvSpPr/>
          <p:nvPr/>
        </p:nvSpPr>
        <p:spPr>
          <a:xfrm flipV="1">
            <a:off x="1631880" y="1325160"/>
            <a:ext cx="506520" cy="65556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直接连接符 53"/>
          <p:cNvSpPr/>
          <p:nvPr/>
        </p:nvSpPr>
        <p:spPr>
          <a:xfrm flipH="1" flipV="1">
            <a:off x="2138400" y="1325160"/>
            <a:ext cx="1006560" cy="65556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椭圆 54"/>
          <p:cNvSpPr/>
          <p:nvPr/>
        </p:nvSpPr>
        <p:spPr>
          <a:xfrm>
            <a:off x="2992320" y="2665440"/>
            <a:ext cx="304920" cy="2570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椭圆 55"/>
          <p:cNvSpPr/>
          <p:nvPr/>
        </p:nvSpPr>
        <p:spPr>
          <a:xfrm>
            <a:off x="3411360" y="2665440"/>
            <a:ext cx="304920" cy="2570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B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直接连接符 56"/>
          <p:cNvSpPr/>
          <p:nvPr/>
        </p:nvSpPr>
        <p:spPr>
          <a:xfrm>
            <a:off x="3144960" y="2238480"/>
            <a:ext cx="0" cy="42696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直接连接符 57"/>
          <p:cNvSpPr/>
          <p:nvPr/>
        </p:nvSpPr>
        <p:spPr>
          <a:xfrm>
            <a:off x="3144960" y="2238480"/>
            <a:ext cx="419040" cy="42696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直接连接符 58"/>
          <p:cNvSpPr/>
          <p:nvPr/>
        </p:nvSpPr>
        <p:spPr>
          <a:xfrm>
            <a:off x="3564000" y="2238480"/>
            <a:ext cx="0" cy="42696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直接连接符 59"/>
          <p:cNvSpPr/>
          <p:nvPr/>
        </p:nvSpPr>
        <p:spPr>
          <a:xfrm flipH="1">
            <a:off x="3144960" y="2238480"/>
            <a:ext cx="419040" cy="42696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直接连接符 60"/>
          <p:cNvSpPr/>
          <p:nvPr/>
        </p:nvSpPr>
        <p:spPr>
          <a:xfrm flipV="1">
            <a:off x="2050920" y="1325160"/>
            <a:ext cx="1749600" cy="65556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直接连接符 61"/>
          <p:cNvSpPr/>
          <p:nvPr/>
        </p:nvSpPr>
        <p:spPr>
          <a:xfrm flipV="1">
            <a:off x="3564000" y="1325160"/>
            <a:ext cx="236520" cy="65556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直接连接符 62"/>
          <p:cNvSpPr/>
          <p:nvPr/>
        </p:nvSpPr>
        <p:spPr>
          <a:xfrm flipV="1">
            <a:off x="1631880" y="1325160"/>
            <a:ext cx="884160" cy="65556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直接连接符 63"/>
          <p:cNvSpPr/>
          <p:nvPr/>
        </p:nvSpPr>
        <p:spPr>
          <a:xfrm flipV="1">
            <a:off x="2050920" y="1335240"/>
            <a:ext cx="2163960" cy="64584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直接连接符 64"/>
          <p:cNvSpPr/>
          <p:nvPr/>
        </p:nvSpPr>
        <p:spPr>
          <a:xfrm flipH="1" flipV="1">
            <a:off x="2515680" y="1325160"/>
            <a:ext cx="628920" cy="65556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直接连接符 65"/>
          <p:cNvSpPr/>
          <p:nvPr/>
        </p:nvSpPr>
        <p:spPr>
          <a:xfrm flipV="1">
            <a:off x="3564000" y="1335240"/>
            <a:ext cx="650880" cy="64584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椭圆 66"/>
          <p:cNvSpPr/>
          <p:nvPr/>
        </p:nvSpPr>
        <p:spPr>
          <a:xfrm>
            <a:off x="2757600" y="1090440"/>
            <a:ext cx="311040" cy="2257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直接连接符 67"/>
          <p:cNvSpPr/>
          <p:nvPr/>
        </p:nvSpPr>
        <p:spPr>
          <a:xfrm flipV="1">
            <a:off x="1631880" y="1315800"/>
            <a:ext cx="1281240" cy="66492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椭圆 68"/>
          <p:cNvSpPr/>
          <p:nvPr/>
        </p:nvSpPr>
        <p:spPr>
          <a:xfrm>
            <a:off x="4432320" y="1120680"/>
            <a:ext cx="311040" cy="2271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直接连接符 69"/>
          <p:cNvSpPr/>
          <p:nvPr/>
        </p:nvSpPr>
        <p:spPr>
          <a:xfrm flipV="1">
            <a:off x="2050920" y="1347480"/>
            <a:ext cx="2536920" cy="63324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直接连接符 70"/>
          <p:cNvSpPr/>
          <p:nvPr/>
        </p:nvSpPr>
        <p:spPr>
          <a:xfrm flipV="1">
            <a:off x="3564000" y="1347480"/>
            <a:ext cx="1023840" cy="63324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直接连接符 71"/>
          <p:cNvSpPr/>
          <p:nvPr/>
        </p:nvSpPr>
        <p:spPr>
          <a:xfrm flipH="1" flipV="1">
            <a:off x="2913120" y="1315800"/>
            <a:ext cx="231840" cy="66492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6" name="直接箭头连接符 10"/>
          <p:cNvCxnSpPr/>
          <p:nvPr/>
        </p:nvCxnSpPr>
        <p:spPr>
          <a:xfrm flipV="1">
            <a:off x="1267920" y="2571480"/>
            <a:ext cx="1080" cy="41832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727" name="直接箭头连接符 72"/>
          <p:cNvCxnSpPr/>
          <p:nvPr/>
        </p:nvCxnSpPr>
        <p:spPr>
          <a:xfrm flipV="1">
            <a:off x="1267920" y="1923480"/>
            <a:ext cx="1080" cy="41652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sp>
        <p:nvSpPr>
          <p:cNvPr id="728" name="文本框 13"/>
          <p:cNvSpPr/>
          <p:nvPr/>
        </p:nvSpPr>
        <p:spPr>
          <a:xfrm>
            <a:off x="476280" y="266544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g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文本框 78"/>
          <p:cNvSpPr/>
          <p:nvPr/>
        </p:nvSpPr>
        <p:spPr>
          <a:xfrm>
            <a:off x="476280" y="199692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g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矩形 82"/>
          <p:cNvSpPr/>
          <p:nvPr/>
        </p:nvSpPr>
        <p:spPr>
          <a:xfrm>
            <a:off x="2852640" y="1897200"/>
            <a:ext cx="1081080" cy="12506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OD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矩形 83"/>
          <p:cNvSpPr/>
          <p:nvPr/>
        </p:nvSpPr>
        <p:spPr>
          <a:xfrm>
            <a:off x="1332000" y="1897200"/>
            <a:ext cx="1081080" cy="12506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OD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椭圆 154"/>
          <p:cNvSpPr/>
          <p:nvPr/>
        </p:nvSpPr>
        <p:spPr>
          <a:xfrm>
            <a:off x="4533840" y="1981080"/>
            <a:ext cx="306360" cy="2574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椭圆 155"/>
          <p:cNvSpPr/>
          <p:nvPr/>
        </p:nvSpPr>
        <p:spPr>
          <a:xfrm>
            <a:off x="4952880" y="1981080"/>
            <a:ext cx="306360" cy="2574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椭圆 156"/>
          <p:cNvSpPr/>
          <p:nvPr/>
        </p:nvSpPr>
        <p:spPr>
          <a:xfrm>
            <a:off x="4533840" y="2665440"/>
            <a:ext cx="306360" cy="2570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椭圆 157"/>
          <p:cNvSpPr/>
          <p:nvPr/>
        </p:nvSpPr>
        <p:spPr>
          <a:xfrm>
            <a:off x="4952880" y="2665440"/>
            <a:ext cx="306360" cy="2570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B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直接连接符 158"/>
          <p:cNvSpPr/>
          <p:nvPr/>
        </p:nvSpPr>
        <p:spPr>
          <a:xfrm>
            <a:off x="4687920" y="2238480"/>
            <a:ext cx="0" cy="42696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直接连接符 159"/>
          <p:cNvSpPr/>
          <p:nvPr/>
        </p:nvSpPr>
        <p:spPr>
          <a:xfrm>
            <a:off x="4687920" y="2238480"/>
            <a:ext cx="419040" cy="42696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直接连接符 160"/>
          <p:cNvSpPr/>
          <p:nvPr/>
        </p:nvSpPr>
        <p:spPr>
          <a:xfrm>
            <a:off x="5106960" y="2238480"/>
            <a:ext cx="0" cy="42696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直接连接符 161"/>
          <p:cNvSpPr/>
          <p:nvPr/>
        </p:nvSpPr>
        <p:spPr>
          <a:xfrm flipH="1">
            <a:off x="4687920" y="2238480"/>
            <a:ext cx="419040" cy="42696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矩形 162"/>
          <p:cNvSpPr/>
          <p:nvPr/>
        </p:nvSpPr>
        <p:spPr>
          <a:xfrm>
            <a:off x="4395960" y="1897200"/>
            <a:ext cx="1079280" cy="125064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OD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直接连接符 163"/>
          <p:cNvSpPr/>
          <p:nvPr/>
        </p:nvSpPr>
        <p:spPr>
          <a:xfrm flipH="1" flipV="1">
            <a:off x="2913120" y="1315800"/>
            <a:ext cx="1774800" cy="66492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直接连接符 166"/>
          <p:cNvSpPr/>
          <p:nvPr/>
        </p:nvSpPr>
        <p:spPr>
          <a:xfrm flipH="1" flipV="1">
            <a:off x="2515680" y="1325160"/>
            <a:ext cx="2171880" cy="65556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直接连接符 169"/>
          <p:cNvSpPr/>
          <p:nvPr/>
        </p:nvSpPr>
        <p:spPr>
          <a:xfrm flipH="1" flipV="1">
            <a:off x="2138400" y="1325160"/>
            <a:ext cx="2549520" cy="65556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直接连接符 172"/>
          <p:cNvSpPr/>
          <p:nvPr/>
        </p:nvSpPr>
        <p:spPr>
          <a:xfrm flipH="1" flipV="1">
            <a:off x="4587840" y="1347480"/>
            <a:ext cx="519120" cy="63324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直接连接符 175"/>
          <p:cNvSpPr/>
          <p:nvPr/>
        </p:nvSpPr>
        <p:spPr>
          <a:xfrm flipH="1" flipV="1">
            <a:off x="4214880" y="1335240"/>
            <a:ext cx="892080" cy="64584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直接连接符 178"/>
          <p:cNvSpPr/>
          <p:nvPr/>
        </p:nvSpPr>
        <p:spPr>
          <a:xfrm flipH="1" flipV="1">
            <a:off x="3800160" y="1325160"/>
            <a:ext cx="1306440" cy="65556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11120" y="123480"/>
            <a:ext cx="6221520" cy="41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Local convergence and global optimization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411120" y="2754000"/>
            <a:ext cx="6221520" cy="21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 flow from A1, originally using Entropy[0]=0, and Entropy[2~1]=00,  th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pwards path(s):  A1-&gt;C1-&gt;S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ownwards path(s): C1-&gt;B1(intra-POD),  S1-&gt;C2-&gt;A2/B2(inter-POD)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Link between C1 and B1 fail, then A1 can do local converg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pwards path(s): A1-&gt;C1-&gt;S1,  A1-&gt;D1.  //the BIFT-0 on A1 can converge for BFER&lt;B1&gt; locally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ownwards path(s): D1-&gt;B1(intra-POD),  S1-&gt;C2-&gt;A2/B2(inter-POD)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1 can also do a global optimization by using Entropy[0]=1 and Entropy[2~1]=01 or 0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椭圆 37"/>
          <p:cNvSpPr/>
          <p:nvPr/>
        </p:nvSpPr>
        <p:spPr>
          <a:xfrm>
            <a:off x="1479600" y="1519200"/>
            <a:ext cx="306360" cy="257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椭圆 39"/>
          <p:cNvSpPr/>
          <p:nvPr/>
        </p:nvSpPr>
        <p:spPr>
          <a:xfrm>
            <a:off x="1898640" y="1519200"/>
            <a:ext cx="306360" cy="2570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椭圆 40"/>
          <p:cNvSpPr/>
          <p:nvPr/>
        </p:nvSpPr>
        <p:spPr>
          <a:xfrm>
            <a:off x="1479600" y="2192400"/>
            <a:ext cx="306360" cy="2588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椭圆 41"/>
          <p:cNvSpPr/>
          <p:nvPr/>
        </p:nvSpPr>
        <p:spPr>
          <a:xfrm>
            <a:off x="1898640" y="2192400"/>
            <a:ext cx="306360" cy="2588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B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椭圆 42"/>
          <p:cNvSpPr/>
          <p:nvPr/>
        </p:nvSpPr>
        <p:spPr>
          <a:xfrm>
            <a:off x="1982880" y="636480"/>
            <a:ext cx="311040" cy="227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椭圆 43"/>
          <p:cNvSpPr/>
          <p:nvPr/>
        </p:nvSpPr>
        <p:spPr>
          <a:xfrm>
            <a:off x="2360520" y="636480"/>
            <a:ext cx="311400" cy="22716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椭圆 44"/>
          <p:cNvSpPr/>
          <p:nvPr/>
        </p:nvSpPr>
        <p:spPr>
          <a:xfrm>
            <a:off x="3645000" y="636480"/>
            <a:ext cx="311040" cy="2271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椭圆 45"/>
          <p:cNvSpPr/>
          <p:nvPr/>
        </p:nvSpPr>
        <p:spPr>
          <a:xfrm>
            <a:off x="4059360" y="646200"/>
            <a:ext cx="311040" cy="22680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椭圆 46"/>
          <p:cNvSpPr/>
          <p:nvPr/>
        </p:nvSpPr>
        <p:spPr>
          <a:xfrm>
            <a:off x="2992320" y="1519200"/>
            <a:ext cx="304920" cy="257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椭圆 47"/>
          <p:cNvSpPr/>
          <p:nvPr/>
        </p:nvSpPr>
        <p:spPr>
          <a:xfrm>
            <a:off x="3411360" y="1519200"/>
            <a:ext cx="304920" cy="2570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直接连接符 48"/>
          <p:cNvSpPr/>
          <p:nvPr/>
        </p:nvSpPr>
        <p:spPr>
          <a:xfrm>
            <a:off x="1631880" y="1776240"/>
            <a:ext cx="0" cy="41616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直接连接符 49"/>
          <p:cNvSpPr/>
          <p:nvPr/>
        </p:nvSpPr>
        <p:spPr>
          <a:xfrm>
            <a:off x="1631880" y="1776240"/>
            <a:ext cx="419040" cy="41616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直接连接符 50"/>
          <p:cNvSpPr/>
          <p:nvPr/>
        </p:nvSpPr>
        <p:spPr>
          <a:xfrm>
            <a:off x="2050920" y="1776240"/>
            <a:ext cx="0" cy="41616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直接连接符 51"/>
          <p:cNvSpPr/>
          <p:nvPr/>
        </p:nvSpPr>
        <p:spPr>
          <a:xfrm flipH="1">
            <a:off x="1631880" y="1776240"/>
            <a:ext cx="419040" cy="41616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直接连接符 52"/>
          <p:cNvSpPr/>
          <p:nvPr/>
        </p:nvSpPr>
        <p:spPr>
          <a:xfrm flipV="1">
            <a:off x="1631880" y="863280"/>
            <a:ext cx="506520" cy="65556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直接连接符 53"/>
          <p:cNvSpPr/>
          <p:nvPr/>
        </p:nvSpPr>
        <p:spPr>
          <a:xfrm flipH="1" flipV="1">
            <a:off x="2138400" y="863280"/>
            <a:ext cx="1006560" cy="65556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椭圆 54"/>
          <p:cNvSpPr/>
          <p:nvPr/>
        </p:nvSpPr>
        <p:spPr>
          <a:xfrm>
            <a:off x="2992320" y="2201760"/>
            <a:ext cx="304920" cy="2588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椭圆 55"/>
          <p:cNvSpPr/>
          <p:nvPr/>
        </p:nvSpPr>
        <p:spPr>
          <a:xfrm>
            <a:off x="3411360" y="2201760"/>
            <a:ext cx="304920" cy="2588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B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直接连接符 56"/>
          <p:cNvSpPr/>
          <p:nvPr/>
        </p:nvSpPr>
        <p:spPr>
          <a:xfrm>
            <a:off x="3144960" y="1776240"/>
            <a:ext cx="0" cy="42552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直接连接符 57"/>
          <p:cNvSpPr/>
          <p:nvPr/>
        </p:nvSpPr>
        <p:spPr>
          <a:xfrm>
            <a:off x="3144960" y="1776240"/>
            <a:ext cx="419040" cy="42552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直接连接符 58"/>
          <p:cNvSpPr/>
          <p:nvPr/>
        </p:nvSpPr>
        <p:spPr>
          <a:xfrm>
            <a:off x="3564000" y="1776240"/>
            <a:ext cx="0" cy="42552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直接连接符 59"/>
          <p:cNvSpPr/>
          <p:nvPr/>
        </p:nvSpPr>
        <p:spPr>
          <a:xfrm flipH="1">
            <a:off x="3144960" y="1776240"/>
            <a:ext cx="419040" cy="42552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直接连接符 60"/>
          <p:cNvSpPr/>
          <p:nvPr/>
        </p:nvSpPr>
        <p:spPr>
          <a:xfrm flipV="1">
            <a:off x="2050920" y="863280"/>
            <a:ext cx="1749600" cy="65556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直接连接符 61"/>
          <p:cNvSpPr/>
          <p:nvPr/>
        </p:nvSpPr>
        <p:spPr>
          <a:xfrm flipV="1">
            <a:off x="3564000" y="863280"/>
            <a:ext cx="236520" cy="65556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直接连接符 62"/>
          <p:cNvSpPr/>
          <p:nvPr/>
        </p:nvSpPr>
        <p:spPr>
          <a:xfrm flipV="1">
            <a:off x="1631880" y="863280"/>
            <a:ext cx="884160" cy="65556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直接连接符 63"/>
          <p:cNvSpPr/>
          <p:nvPr/>
        </p:nvSpPr>
        <p:spPr>
          <a:xfrm flipV="1">
            <a:off x="2050920" y="872640"/>
            <a:ext cx="2163960" cy="64620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直接连接符 64"/>
          <p:cNvSpPr/>
          <p:nvPr/>
        </p:nvSpPr>
        <p:spPr>
          <a:xfrm flipH="1" flipV="1">
            <a:off x="2515680" y="863280"/>
            <a:ext cx="628920" cy="65556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直接连接符 65"/>
          <p:cNvSpPr/>
          <p:nvPr/>
        </p:nvSpPr>
        <p:spPr>
          <a:xfrm flipV="1">
            <a:off x="3564000" y="872640"/>
            <a:ext cx="650880" cy="64620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椭圆 66"/>
          <p:cNvSpPr/>
          <p:nvPr/>
        </p:nvSpPr>
        <p:spPr>
          <a:xfrm>
            <a:off x="2757600" y="627120"/>
            <a:ext cx="311040" cy="22680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直接连接符 67"/>
          <p:cNvSpPr/>
          <p:nvPr/>
        </p:nvSpPr>
        <p:spPr>
          <a:xfrm flipV="1">
            <a:off x="1631880" y="853920"/>
            <a:ext cx="1281240" cy="66528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椭圆 68"/>
          <p:cNvSpPr/>
          <p:nvPr/>
        </p:nvSpPr>
        <p:spPr>
          <a:xfrm>
            <a:off x="4432320" y="658800"/>
            <a:ext cx="311040" cy="22716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直接连接符 69"/>
          <p:cNvSpPr/>
          <p:nvPr/>
        </p:nvSpPr>
        <p:spPr>
          <a:xfrm flipV="1">
            <a:off x="2050920" y="885600"/>
            <a:ext cx="2536920" cy="63324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直接连接符 70"/>
          <p:cNvSpPr/>
          <p:nvPr/>
        </p:nvSpPr>
        <p:spPr>
          <a:xfrm flipV="1">
            <a:off x="3564000" y="885600"/>
            <a:ext cx="1023840" cy="63324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直接连接符 71"/>
          <p:cNvSpPr/>
          <p:nvPr/>
        </p:nvSpPr>
        <p:spPr>
          <a:xfrm flipH="1" flipV="1">
            <a:off x="2913120" y="853920"/>
            <a:ext cx="231840" cy="66528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3" name="直接箭头连接符 10"/>
          <p:cNvCxnSpPr/>
          <p:nvPr/>
        </p:nvCxnSpPr>
        <p:spPr>
          <a:xfrm flipV="1">
            <a:off x="1267920" y="2109240"/>
            <a:ext cx="1080" cy="41652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784" name="直接箭头连接符 72"/>
          <p:cNvCxnSpPr/>
          <p:nvPr/>
        </p:nvCxnSpPr>
        <p:spPr>
          <a:xfrm flipV="1">
            <a:off x="1267920" y="1460160"/>
            <a:ext cx="1080" cy="41832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sp>
        <p:nvSpPr>
          <p:cNvPr id="785" name="文本框 13"/>
          <p:cNvSpPr/>
          <p:nvPr/>
        </p:nvSpPr>
        <p:spPr>
          <a:xfrm>
            <a:off x="476280" y="220176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g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文本框 78"/>
          <p:cNvSpPr/>
          <p:nvPr/>
        </p:nvSpPr>
        <p:spPr>
          <a:xfrm>
            <a:off x="476280" y="1535040"/>
            <a:ext cx="72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g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82"/>
          <p:cNvSpPr/>
          <p:nvPr/>
        </p:nvSpPr>
        <p:spPr>
          <a:xfrm>
            <a:off x="2852640" y="1433520"/>
            <a:ext cx="1081080" cy="12841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OD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83"/>
          <p:cNvSpPr/>
          <p:nvPr/>
        </p:nvSpPr>
        <p:spPr>
          <a:xfrm>
            <a:off x="1332000" y="1433520"/>
            <a:ext cx="1081080" cy="12841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OD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椭圆 154"/>
          <p:cNvSpPr/>
          <p:nvPr/>
        </p:nvSpPr>
        <p:spPr>
          <a:xfrm>
            <a:off x="4533840" y="1519200"/>
            <a:ext cx="306360" cy="2570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椭圆 155"/>
          <p:cNvSpPr/>
          <p:nvPr/>
        </p:nvSpPr>
        <p:spPr>
          <a:xfrm>
            <a:off x="4952880" y="1519200"/>
            <a:ext cx="306360" cy="2570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椭圆 156"/>
          <p:cNvSpPr/>
          <p:nvPr/>
        </p:nvSpPr>
        <p:spPr>
          <a:xfrm>
            <a:off x="4533840" y="2201760"/>
            <a:ext cx="306360" cy="2588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椭圆 157"/>
          <p:cNvSpPr/>
          <p:nvPr/>
        </p:nvSpPr>
        <p:spPr>
          <a:xfrm>
            <a:off x="4952880" y="2201760"/>
            <a:ext cx="306360" cy="258840"/>
          </a:xfrm>
          <a:prstGeom prst="ellipse">
            <a:avLst/>
          </a:prstGeom>
          <a:solidFill>
            <a:srgbClr val="ffc000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B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直接连接符 158"/>
          <p:cNvSpPr/>
          <p:nvPr/>
        </p:nvSpPr>
        <p:spPr>
          <a:xfrm>
            <a:off x="4687920" y="1776240"/>
            <a:ext cx="0" cy="42552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直接连接符 159"/>
          <p:cNvSpPr/>
          <p:nvPr/>
        </p:nvSpPr>
        <p:spPr>
          <a:xfrm>
            <a:off x="4687920" y="1776240"/>
            <a:ext cx="419040" cy="42552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直接连接符 160"/>
          <p:cNvSpPr/>
          <p:nvPr/>
        </p:nvSpPr>
        <p:spPr>
          <a:xfrm>
            <a:off x="5106960" y="1776240"/>
            <a:ext cx="0" cy="42552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直接连接符 161"/>
          <p:cNvSpPr/>
          <p:nvPr/>
        </p:nvSpPr>
        <p:spPr>
          <a:xfrm flipH="1">
            <a:off x="4687920" y="1776240"/>
            <a:ext cx="419040" cy="42552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162"/>
          <p:cNvSpPr/>
          <p:nvPr/>
        </p:nvSpPr>
        <p:spPr>
          <a:xfrm>
            <a:off x="4395960" y="1433520"/>
            <a:ext cx="1079280" cy="1284120"/>
          </a:xfrm>
          <a:prstGeom prst="rect">
            <a:avLst/>
          </a:prstGeom>
          <a:noFill/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OD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直接连接符 163"/>
          <p:cNvSpPr/>
          <p:nvPr/>
        </p:nvSpPr>
        <p:spPr>
          <a:xfrm flipH="1" flipV="1">
            <a:off x="2913120" y="853920"/>
            <a:ext cx="1774800" cy="66528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直接连接符 166"/>
          <p:cNvSpPr/>
          <p:nvPr/>
        </p:nvSpPr>
        <p:spPr>
          <a:xfrm flipH="1" flipV="1">
            <a:off x="2515680" y="863280"/>
            <a:ext cx="2171880" cy="65556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直接连接符 169"/>
          <p:cNvSpPr/>
          <p:nvPr/>
        </p:nvSpPr>
        <p:spPr>
          <a:xfrm flipH="1" flipV="1">
            <a:off x="2138400" y="863280"/>
            <a:ext cx="2549520" cy="655560"/>
          </a:xfrm>
          <a:prstGeom prst="line">
            <a:avLst/>
          </a:prstGeom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直接连接符 172"/>
          <p:cNvSpPr/>
          <p:nvPr/>
        </p:nvSpPr>
        <p:spPr>
          <a:xfrm flipH="1" flipV="1">
            <a:off x="4587840" y="885600"/>
            <a:ext cx="519120" cy="63324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直接连接符 175"/>
          <p:cNvSpPr/>
          <p:nvPr/>
        </p:nvSpPr>
        <p:spPr>
          <a:xfrm flipH="1" flipV="1">
            <a:off x="4214880" y="872640"/>
            <a:ext cx="892080" cy="64620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直接连接符 178"/>
          <p:cNvSpPr/>
          <p:nvPr/>
        </p:nvSpPr>
        <p:spPr>
          <a:xfrm flipH="1" flipV="1">
            <a:off x="3800160" y="863280"/>
            <a:ext cx="1306440" cy="655560"/>
          </a:xfrm>
          <a:prstGeom prst="line">
            <a:avLst/>
          </a:prstGeom>
          <a:ln w="3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爆炸形 1 1"/>
          <p:cNvSpPr/>
          <p:nvPr/>
        </p:nvSpPr>
        <p:spPr>
          <a:xfrm>
            <a:off x="1706400" y="1824120"/>
            <a:ext cx="138240" cy="141120"/>
          </a:xfrm>
          <a:prstGeom prst="irregularSeal1">
            <a:avLst/>
          </a:prstGeom>
          <a:solidFill>
            <a:srgbClr val="ffffff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爆炸形 1 73"/>
          <p:cNvSpPr/>
          <p:nvPr/>
        </p:nvSpPr>
        <p:spPr>
          <a:xfrm>
            <a:off x="3513240" y="873000"/>
            <a:ext cx="117360" cy="142920"/>
          </a:xfrm>
          <a:prstGeom prst="irregularSeal1">
            <a:avLst/>
          </a:prstGeom>
          <a:solidFill>
            <a:srgbClr val="ffffff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Forwarding Procedur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410760" y="1371240"/>
            <a:ext cx="6203880" cy="24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e use of BIER entropy label to select a path between some equal cost paths is a local configuration matter. 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s draft defines a method to use part of the 20-bit entropy label in each router, and this needs a data-plane to do some bit operation functio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It is expected to be easier than hashing function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日期占位符 3"/>
          <p:cNvSpPr/>
          <p:nvPr/>
        </p:nvSpPr>
        <p:spPr>
          <a:xfrm>
            <a:off x="471600" y="4767120"/>
            <a:ext cx="154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92A548A3-E611-48D0-93E8-EAD20CE124FB}" type="slidenum">
              <a:rPr b="0" lang="de-DE" sz="6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3"/>
          <p:cNvSpPr/>
          <p:nvPr/>
        </p:nvSpPr>
        <p:spPr>
          <a:xfrm>
            <a:off x="2414880" y="1954080"/>
            <a:ext cx="166824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FrutigerNext LT Medium"/>
                <a:ea typeface="ＭＳ Ｐゴシック"/>
              </a:rPr>
              <a:t>Thank Yo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文本框 1"/>
          <p:cNvSpPr/>
          <p:nvPr/>
        </p:nvSpPr>
        <p:spPr>
          <a:xfrm>
            <a:off x="1197000" y="177156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07:41:12Z</dcterms:created>
  <dc:creator>Chen Ming</dc:creator>
  <dc:description/>
  <dc:language>en-US</dc:language>
  <cp:lastModifiedBy>Michael McBride</cp:lastModifiedBy>
  <dcterms:modified xsi:type="dcterms:W3CDTF">2018-07-17T13:50:48Z</dcterms:modified>
  <cp:revision>152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2015_ms_pID_725343">
    <vt:lpwstr>(3)egPpAfS9wpBpnyPKYaWlItL7BbntFHzLquku8Qy/Qp024ucEHKDJm4LUVODGGVu6paDO64cD
Q+LqMcA8eno+dlrvDT+xZs0efiGqaG7LVsGghc2uWBlciZ+iejZ7EsCvZrQvb6CFUDKm5fO2
rfekT23SzEV/7NM3MWnmqSH8xTuNS7JPJ9T23qQvYxnoKIzJr4V9sR4Uxxpg0NqLTDcmF58p
xm2Ear0JdkFQF3VQ5S</vt:lpwstr>
  </property>
  <property fmtid="{D5CDD505-2E9C-101B-9397-08002B2CF9AE}" pid="3" name="_2015_ms_pID_7253431">
    <vt:lpwstr>jojPQfp42MJJKEpFu7pLEkEUXmaSGjhYIckbUnj4sDOrxe7rjI1VaE
ubO/iJ7a2+utvt21oNg8dFh/eaKF0ezPQeSOdfyWrz6MRxQT0X65XcutsTrSH/SCDBwtyYPs
g+L8MY4jhyiofUHjVh0KGjE0pyAwwQz2e0DABT73JBLqZ50ZQ2C76k3qBD7pOvnsyeIM9EGF
7oMekVKIluJtlbraTSpfGlVoEaKOKPCAyr0H</vt:lpwstr>
  </property>
  <property fmtid="{D5CDD505-2E9C-101B-9397-08002B2CF9AE}" pid="4" name="_2015_ms_pID_7253431_00">
    <vt:lpwstr>_2015_ms_pID_7253431</vt:lpwstr>
  </property>
  <property fmtid="{D5CDD505-2E9C-101B-9397-08002B2CF9AE}" pid="5" name="_2015_ms_pID_7253432">
    <vt:lpwstr>a5W3kwVmM63OvF8FTGor7N6BnzWGfsWop3DP
Aexnu18EP0DpkJMiPeRiazC+eC3gIA==</vt:lpwstr>
  </property>
  <property fmtid="{D5CDD505-2E9C-101B-9397-08002B2CF9AE}" pid="6" name="_2015_ms_pID_7253432_00">
    <vt:lpwstr>_2015_ms_pID_7253432</vt:lpwstr>
  </property>
  <property fmtid="{D5CDD505-2E9C-101B-9397-08002B2CF9AE}" pid="7" name="_2015_ms_pID_725343_00">
    <vt:lpwstr>_2015_ms_pID_725343</vt:lpwstr>
  </property>
  <property fmtid="{D5CDD505-2E9C-101B-9397-08002B2CF9AE}" pid="8" name="_change">
    <vt:lpwstr/>
  </property>
  <property fmtid="{D5CDD505-2E9C-101B-9397-08002B2CF9AE}" pid="9" name="_full-control">
    <vt:lpwstr/>
  </property>
  <property fmtid="{D5CDD505-2E9C-101B-9397-08002B2CF9AE}" pid="10" name="_ms_pID_725343">
    <vt:lpwstr>(2)nEjfLa5zkFjJ24cFH1rD/CO99/SkKnuZt+jVj3euFWHS8MDkQjkBUSuq5IKksPFWrQEBjRsK
X+9l3cxTXRvzitClRlh3DpX2uIOS2R1ylp5QzOrr9VjtVeoV/WboZE7JM5mA6wA6hPIyRfnA
B86tkkz7o8RCTCbH3lBENhFaLa430zPmj47FtwLuMS+E1k3ruXoA6lIpFD5pxcmNqojImzW4
GwtdW1BZqH632JDAWU</vt:lpwstr>
  </property>
  <property fmtid="{D5CDD505-2E9C-101B-9397-08002B2CF9AE}" pid="11" name="_ms_pID_7253431">
    <vt:lpwstr>nhH+p/c2eKA5nuNEEnrUckmJKi9mx6LklbuGnSvOwQe8mcbzaUyX8z
ivZ/xK2LwqmMFV3oMI0hQ5nIm0nwBPrb6dNV0x0ONe1veEp3g/9l3w==</vt:lpwstr>
  </property>
  <property fmtid="{D5CDD505-2E9C-101B-9397-08002B2CF9AE}" pid="12" name="_new_ms_pID_72543">
    <vt:lpwstr>(4)8pb00NXgvfolPpdOp/im+iyocGkxj/FUozmtz+z3gf+89nHNxJewsJZtSXf5VaB6o0OySm5d
8gJwl174hgqzvOKZ9ktSU80sEzQWz+ediLA3FTdnitiu6PmyptT7CdkmWgnWetjIsC0wZ8k1
W/xfL6d9Zz02BuWRLVbj60gAnn7FXSD47ByU1iFS2iBgNVPDWqptFOpG7EGg/52sr796NAe6
Y88lxiNYEsD1weV4F7</vt:lpwstr>
  </property>
  <property fmtid="{D5CDD505-2E9C-101B-9397-08002B2CF9AE}" pid="13" name="_new_ms_pID_725431">
    <vt:lpwstr>q6f4vIblOYL9YUlQw4CP+hRGkRVRz/K88xTcCqM2TwfOF7lkn3vAEC
3+jPeoxHE/A6OcWwtKbWIgLEAFTHSMCU7vs1fQ+5oJypm6dqE9pPFXxOyWxAT7U1Xsz0Gq7t
wPyuDZFIE0AtufL4sKGECU+Mguj4AvfcNMKe5Vi7WziBZWrOTV99ZFu4PkQO37as5Yqy9LvI
lAl7byCF9QET+JXyHTe8uCFR/XYVz+qCOiu+</vt:lpwstr>
  </property>
  <property fmtid="{D5CDD505-2E9C-101B-9397-08002B2CF9AE}" pid="14" name="_new_ms_pID_725431_00">
    <vt:lpwstr>_new_ms_pID_725431</vt:lpwstr>
  </property>
  <property fmtid="{D5CDD505-2E9C-101B-9397-08002B2CF9AE}" pid="15" name="_new_ms_pID_725432">
    <vt:lpwstr>z7SAloLzPkKVNgiMlG+aDfsWNnntB5eaoVEQ
3nMuZfFFwpho/aTa1IU/IkK9+arTH6FV42W2B54W7pcEwahC9jb9alrmJ/1/iMjMlhdSPZTA
eoTX1lmZ4IH1To1PhIk7P8s6DyYeV9YmksxKB0KMM4wNXUK5c1R1jgCJPrnuoaTc/erG6n77
UOCBtkcmIPYMZ6SHWKblasdnWmcydo8N42cifZ4XLeD8W/b3/qIlSr</vt:lpwstr>
  </property>
  <property fmtid="{D5CDD505-2E9C-101B-9397-08002B2CF9AE}" pid="16" name="_new_ms_pID_725432_00">
    <vt:lpwstr>_new_ms_pID_725432</vt:lpwstr>
  </property>
  <property fmtid="{D5CDD505-2E9C-101B-9397-08002B2CF9AE}" pid="17" name="_new_ms_pID_725433">
    <vt:lpwstr>loxyd/lA5K1PndCMAt
wIYmBxctIdXWQ4qfL8GKFDszyBvh+zINy4Sn9UBWwfN+apNH</vt:lpwstr>
  </property>
  <property fmtid="{D5CDD505-2E9C-101B-9397-08002B2CF9AE}" pid="18" name="_new_ms_pID_725433_00">
    <vt:lpwstr>_new_ms_pID_725433</vt:lpwstr>
  </property>
  <property fmtid="{D5CDD505-2E9C-101B-9397-08002B2CF9AE}" pid="19" name="_new_ms_pID_72543_00">
    <vt:lpwstr>_new_ms_pID_72543</vt:lpwstr>
  </property>
  <property fmtid="{D5CDD505-2E9C-101B-9397-08002B2CF9AE}" pid="20" name="_readonly">
    <vt:lpwstr/>
  </property>
  <property fmtid="{D5CDD505-2E9C-101B-9397-08002B2CF9AE}" pid="21" name="sflag">
    <vt:lpwstr>1531833331</vt:lpwstr>
  </property>
</Properties>
</file>