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</p:sldIdLst>
  <p:sldSz cx="6858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2A1B-E08B-49EE-82F2-521FA0859EC8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9BEAE-DD5E-419D-A241-F5487DF31B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BBAD-7831-438A-8D30-9C6E4450F3A6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C59CC-F842-4108-9220-AAF4F0495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126B4-35E6-4876-8C29-A6FC77C43FF1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64978-A408-4DFA-8EBB-9921D8320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AA44F6-4960-40EE-B359-7E95533B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056822-E0A0-410A-81C8-05EE36CD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C812A3-B839-427A-9780-A5A1143A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9FE6463-C0C4-438D-A086-15DD58C0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50C1E0-1C82-41DB-9B15-ABA31DAB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9C8676-2B1D-4BF2-9955-AAE5CCF96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0AC2CA-8801-45E8-BFB9-C7F4058FB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A600F9-BEB0-4A79-885F-00550B39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D3EBF71-D0AE-4FFF-867C-7BDD1869E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17E23E9-3244-47CC-8725-1F4F495D3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24BA97-1A9F-4750-AC64-A674072EF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36D31E-1A45-4D3E-9FCE-E6074FEA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91D16FF-5A0C-4034-94CB-30A6E9C1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6CB46A-4371-4348-A71B-D81DD457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D1613B-FAAA-4E42-B12F-01672B8E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6EB0E-3549-4526-B0A2-2D2081C9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270A12-CF3C-4AD7-B887-BD68CAC5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08BE7F-E55B-4FE7-925F-4E757CF9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B2B2E8-7910-43F8-88CC-4F20EBC4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915E90-B4AE-4CA6-9FA3-C93912EB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FC3F3-3D46-4521-AADC-9B7B6C24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A533CF-1159-4FD7-ACF0-74288439A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E9E13C-1A81-4864-BBE0-FB9EB6F3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A2E20E-FCF8-452F-9F7C-2463604A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2154A4-9D2C-4FE0-8846-04509C97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D6846F-63E8-49EE-A846-639B8741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37EFC2-BDDC-4BAD-A69F-983A3D1A9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8C4A50-33DB-46B7-9904-40546C81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71E92A-66D4-45E4-AAF6-48767A1FE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AE5D72-604E-4FC0-91F5-2B45489DA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83B72-D6F6-45CB-A274-DCE563D99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F0A645-FAE2-4EDE-BFA7-33D1488AD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5670EC-8CDB-46AA-B347-C73C462E2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22F9C4-C495-4D72-9219-0C70C966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6458060-FBC6-4588-A346-FEC3A85F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3671EB-0502-4E2D-B635-D61163B0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6F6334E-33FE-401D-8512-FB5D88833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AF292F3-508D-43B9-9EEC-D77B0FE4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6A66F9A-DB4A-4E20-811A-0B4C85E7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3032E1-EFDA-4F73-9CD8-C1B08E2A6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72D2AF-932E-4D31-A9A6-16F1016A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28191D-9BE2-48EF-B35B-393D4270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86E903-1D07-4992-958A-3738B8A6C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1FC1B50-4FC7-4275-823C-9C040F83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1B48BE5-9366-4297-A6FD-990259F7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DDE8A47-EECA-4169-A8CE-592E7AAF0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B8E8576-F54F-44EC-8A2F-4A1AE1013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5B2E77-4F65-4DEC-AD9C-7FD789A12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309A40-6A30-470C-A14E-61DC6E4F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B7792AC-82AB-479D-A551-E9809E6B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9820BD5-170F-4F89-B3F9-53069CF4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CFEC60-48AE-4547-99EE-5326E07F2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C0DE52-55DB-4955-97EB-8B6CF7CD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451B8D-407E-4659-B907-D2633B154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D1A66DA-52F2-4E1D-9C2F-75A4FA38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EB5656-DBF8-4011-BA54-BD1B9EC25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737169-B550-4501-ACDF-3E5BC480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D5D88C-261B-4D08-BFE8-A08C69CC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6E8F2A7-39DA-490F-99B0-BEADE2EE6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2D7BFD-0F86-447F-98AA-CAE33B777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23FD32C-64FC-4C81-923F-ABE6E6D90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18A7927-210B-483F-AA3D-E5C6A330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B6E173C-0117-4215-AFE1-05AAA54D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4B575-0292-4A9D-A4AC-A32618AF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1552E6-F93A-4D31-96CB-2FDA2F3BF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3DCE3F2-5CA1-4EC0-9BFB-31480C2D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A115B06-9574-4C9D-B3A7-0E62B803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5559F04-5250-4118-92A3-DD7750310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FF0DF52-C7B1-4522-BD9C-FF49532F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DAE1458-D6EA-4085-BB87-6BBF404F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F1517CF-35E5-4BD6-892C-2A905E96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9A2D622-5B9C-4555-990A-8AEC4468E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46BB65-EAA2-46E3-8882-5CDB919AB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1B11D9-9143-4089-8B7E-6A1A9DC46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E519F0-B374-4EF0-BF6C-E1EAEF41B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46AB5C-C557-4F61-B730-6B342A2B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0B868-D4CF-407E-9914-431D42ACE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AB23F2-660D-4FCF-A0BF-A96ECCCC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7605C9-FF9C-4BEC-AC2C-6963E2AC9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A95D50-BE8C-4F37-85F6-4773C6A1A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84AA80-478A-46AE-8E0B-C6018456A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B0E1A90-0566-4D7D-9C9E-5C030ADE9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760756-FF73-4589-9832-EA8762D8F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F6F457-3792-47EE-AE6B-2A8D66C5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00F593-E038-47BE-AE15-A50964C6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16E09C-DE54-469C-A388-D5B10A81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80A7CD-8573-47A6-AC80-2302D26A3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0837AF-8712-4E6E-B858-C8BD84E6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AEF77D-FDA4-41E8-8ECC-BAB4F07E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E9670C-23FE-41CD-86C0-7926D3BA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01BB5B-2C6A-408F-B65D-12E23F40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7FCF8F-BB9A-44FC-844D-6E7E53379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61477C-FECF-4BDC-93E2-5F968D89A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C9C136-E717-4D02-BB06-27B29E9A2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43EFF1-6F0D-4C64-87A4-226FA6C0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8BD28C-FB4C-46FF-905C-77E027F31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3658631-6E0F-4964-91D0-48A408D03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53DBA4-CCCE-4E15-8F73-6F38F2E7A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921E77-A63A-4247-9567-ABAD0210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425D98-9288-4E10-9911-6D47182C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437E17-3471-4510-8C61-F8736088F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FAECCD-11DA-4D0E-9CAA-A4BDA2E2B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591608-932D-4CAA-AD71-46AFDB84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2A802E-B354-4166-BB5A-BC4E6EF6C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46A9C8-6551-45FD-9C7F-DDE574C2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3F39B04-27F9-4832-AA87-29A97C63C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0B86E9-E0D9-4DCA-BD3C-B07A5F986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3BF820-2A90-4B78-824C-443F3D53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53E486-99BC-43B0-93BE-9C537DAC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EC490D-A09E-4ED8-928E-0AB9D37A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2CE7E5-342A-4314-8401-2620DAC2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F8D78C-B4AF-4A76-BB17-AEF73AD0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0B31FB-8730-41D8-B1E8-4EAA1631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34FCC3-C46C-4C8B-BDEC-B7A2FE25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D4A986-BD43-46FC-87D7-872E583A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E315E9-C42A-47DF-955A-BE14DA18A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9C5787-764D-4A07-9E99-D37EBBD8A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AD90E8-26F3-4EEE-B398-1C60C3148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36CDF7D-8348-4802-9912-A3CE1BF2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A80AEC-1CC0-46F2-A09D-FD6F0389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516684B-31C8-4B18-A3E5-B0D38A5EC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06F990-7CDB-4964-8A05-D8E8CD642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278D13-914C-4BA1-A8A8-5593DECA0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FF4AEA-E8D7-47DA-A8E0-9B423B8A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E74436-CD8F-45D6-AB04-9700DFCD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8F7269-FC7C-4312-B008-167CEFB5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A5C377-4CEE-49BE-8975-AC31F4AC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FCC0FE-B5F3-45CF-B7EC-01D186403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956F6C-DF21-4288-896B-D65707E1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33A73E5-F7BF-489A-840D-830A4AA8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0E245F-8383-45DF-8EC6-101296AC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F94A8DE-F233-4463-A23F-CB91F211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1DC0FB-83F3-4E0F-B9A6-5DAE5539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D1B92E0-5A6B-428E-81D2-A624461F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59011A6-4149-42AB-9A54-68CE7155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866B73-FD06-48D5-9801-9E0542F3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5E2C84-4F4E-4105-B4D9-BCE879A4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6B9222B-68B8-485F-9AD3-07C25D6C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AA0E65-737E-4C5E-9A04-FEACDCEE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6E9AD41-F322-4C4F-97FF-E6C2D83D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2D48451-AFDD-4ABB-96A3-0A0BFA711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40DE2C-F8DC-42FB-AA24-B5B2CB23D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60C7F27-3516-4522-A495-B6E117F7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2751B2-C71F-427B-9B1E-1BD33CF1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7"/>
          <p:cNvPicPr/>
          <p:nvPr/>
        </p:nvPicPr>
        <p:blipFill>
          <a:blip r:embed="rId2"/>
          <a:stretch/>
        </p:blipFill>
        <p:spPr>
          <a:xfrm>
            <a:off x="0" y="4665600"/>
            <a:ext cx="685656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532080" y="4826160"/>
            <a:ext cx="111348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HUAWEI </a:t>
            </a:r>
            <a:r>
              <a:rPr b="0" lang="en-US" sz="700" spc="-1" strike="noStrike">
                <a:solidFill>
                  <a:srgbClr val="990000"/>
                </a:solidFill>
                <a:latin typeface="FrutigerNext LT Bold"/>
                <a:ea typeface="ＭＳ Ｐゴシック"/>
              </a:rPr>
              <a:t>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446720" y="4800240"/>
            <a:ext cx="793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AAAE6AF6-F0DF-4B8C-9F76-11656E092CFF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8"/>
          <p:cNvPicPr/>
          <p:nvPr/>
        </p:nvPicPr>
        <p:blipFill>
          <a:blip r:embed="rId3"/>
          <a:stretch/>
        </p:blipFill>
        <p:spPr>
          <a:xfrm>
            <a:off x="5630760" y="4807080"/>
            <a:ext cx="982800" cy="2332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2087640" y="4805280"/>
            <a:ext cx="2082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楷体_GB2312"/>
              </a:rPr>
              <a:t>内部资料 注意保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3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3A4409BD-C92B-4BEA-A03A-30A1F9560BBA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4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5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10BB-E7F4-4C5B-8E59-CA2879CBFCE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6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096C5B6E-594B-464D-B584-CC9F4E47BD4A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7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8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F8E21-DCA0-4A2A-BCC2-77432692F95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B558E26A-3836-4467-9E9A-DDF7A82E2936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F8E8-D99A-492F-B71A-7BF2D5CD9292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610CC74D-82BA-4CE4-8BE2-EC7FD7275579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5AC2-E707-42FB-AC77-95E914EFD85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91316C00-BDEF-4969-9000-3C33C7E695F3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7A13-A942-4ABE-8030-3B944D3FE7AE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154D0CA8-87AC-4E08-A2A3-5863FB4272EA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A09C-4E0B-408E-BBF9-71B0A6318869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ogo"/>
          <p:cNvPicPr/>
          <p:nvPr/>
        </p:nvPicPr>
        <p:blipFill>
          <a:blip r:embed="rId2"/>
          <a:stretch/>
        </p:blipFill>
        <p:spPr>
          <a:xfrm>
            <a:off x="5630760" y="41846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2"/>
          <p:cNvPicPr/>
          <p:nvPr/>
        </p:nvPicPr>
        <p:blipFill>
          <a:blip r:embed="rId3"/>
          <a:stretch/>
        </p:blipFill>
        <p:spPr>
          <a:xfrm>
            <a:off x="1440" y="588960"/>
            <a:ext cx="6856560" cy="2857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23080" y="246240"/>
            <a:ext cx="8028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FrutigerNext LT Regular"/>
                <a:ea typeface="ＭＳ Ｐゴシック"/>
              </a:rPr>
              <a:t>06.April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05800" y="4654440"/>
            <a:ext cx="164700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HUAWEI TECHNOLOGIES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433840" y="2989440"/>
            <a:ext cx="1128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huawei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F4258165-1FC7-4F2D-A556-66AE7700B584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0F1E-2878-4D47-835F-11433AAB17A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8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F7F5D92E-CF4C-487A-8F92-71D84A0AA809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9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0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5EE5-58AC-46D9-8916-589C75BAF732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B8E8E0AD-2F31-4A89-A250-F85153200837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2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3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06E50-5C8F-45FE-90E2-A46F573C5F4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4A46F3A9-26E0-4051-A575-1C0161691B88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40F0-A103-4FC3-ADBD-4B0B4D6834A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7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98C1793D-A26A-4CC3-A6EE-5EEBAFD2E0E6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9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3399-B265-47FC-9CD0-00AAF7D6C13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0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2EF79A6-9AF9-46F0-B862-1C135FC964D6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1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2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C786-740A-4552-BBC4-A137963DA1E7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ietf.org/mail-archive/web/bier/current/msg00986.html" TargetMode="External"/><Relationship Id="rId2" Type="http://schemas.openxmlformats.org/officeDocument/2006/relationships/hyperlink" Target="https://www.ietf.org/mail-archive/web/bier/current/msg00991.html" TargetMode="External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6"/>
          <p:cNvSpPr/>
          <p:nvPr/>
        </p:nvSpPr>
        <p:spPr>
          <a:xfrm>
            <a:off x="411120" y="1079640"/>
            <a:ext cx="6035760" cy="13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Encapsulation for BIER in Non-MPLS IPv6 Network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draft-xie-bier-6man-encapsulation-02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IETF103   2018-11-07  Bangko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411120" y="2859120"/>
            <a:ext cx="6035760" cy="11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Jingrong Xie @Huaw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Liang Geng @China 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Lei Wang @China Mob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Mike McBride @Huaw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Gang Yan @Huaw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Yang Xia@Huawe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71600" y="282600"/>
            <a:ext cx="59148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Open discussion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404280" y="1131480"/>
            <a:ext cx="59756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get debating the different solutions right now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es the WG think a BIER IPv6 encapsulation problem/requirement draft is good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so let’s do that. Then solu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C6A91A3E-42F6-4EEC-A451-C4FA7A059B27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3"/>
          <p:cNvSpPr/>
          <p:nvPr/>
        </p:nvSpPr>
        <p:spPr>
          <a:xfrm>
            <a:off x="2414880" y="1954080"/>
            <a:ext cx="166824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FrutigerNext LT Medium"/>
                <a:ea typeface="ＭＳ Ｐゴシック"/>
              </a:rPr>
              <a:t>Thank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1"/>
          <p:cNvSpPr/>
          <p:nvPr/>
        </p:nvSpPr>
        <p:spPr>
          <a:xfrm>
            <a:off x="1197000" y="17715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0760" y="410760"/>
            <a:ext cx="591516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hould bier start work on v6 encap?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15440" y="4227120"/>
            <a:ext cx="63723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If there is interest let’s get going, perhaps problem statement draft with use cases and then solutions draft?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etermine if we really have a need for an encapsulation that is IPv6-specific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图片 1" descr="image001"/>
          <p:cNvPicPr/>
          <p:nvPr/>
        </p:nvPicPr>
        <p:blipFill>
          <a:blip r:embed="rId1"/>
          <a:stretch/>
        </p:blipFill>
        <p:spPr>
          <a:xfrm>
            <a:off x="411120" y="1058760"/>
            <a:ext cx="5681880" cy="28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椭圆 42"/>
          <p:cNvSpPr/>
          <p:nvPr/>
        </p:nvSpPr>
        <p:spPr>
          <a:xfrm>
            <a:off x="1163520" y="2583000"/>
            <a:ext cx="752760" cy="625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文本框 80"/>
          <p:cNvSpPr/>
          <p:nvPr/>
        </p:nvSpPr>
        <p:spPr>
          <a:xfrm>
            <a:off x="650880" y="27432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f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文本框 80"/>
          <p:cNvSpPr/>
          <p:nvPr/>
        </p:nvSpPr>
        <p:spPr>
          <a:xfrm>
            <a:off x="3141720" y="274320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文本框 80"/>
          <p:cNvSpPr/>
          <p:nvPr/>
        </p:nvSpPr>
        <p:spPr>
          <a:xfrm>
            <a:off x="5415120" y="211608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文本框 80"/>
          <p:cNvSpPr/>
          <p:nvPr/>
        </p:nvSpPr>
        <p:spPr>
          <a:xfrm>
            <a:off x="5445000" y="32083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2"/>
          <p:cNvSpPr/>
          <p:nvPr/>
        </p:nvSpPr>
        <p:spPr>
          <a:xfrm>
            <a:off x="1916280" y="1995480"/>
            <a:ext cx="2952720" cy="1800360"/>
          </a:xfrm>
          <a:prstGeom prst="ellipse">
            <a:avLst/>
          </a:prstGeom>
          <a:noFill/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椭圆 42"/>
          <p:cNvSpPr/>
          <p:nvPr/>
        </p:nvSpPr>
        <p:spPr>
          <a:xfrm>
            <a:off x="4641840" y="1995480"/>
            <a:ext cx="752400" cy="625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椭圆 42"/>
          <p:cNvSpPr/>
          <p:nvPr/>
        </p:nvSpPr>
        <p:spPr>
          <a:xfrm>
            <a:off x="4662360" y="3121200"/>
            <a:ext cx="752760" cy="6253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37760" y="410760"/>
            <a:ext cx="612612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Replicate bier packets from BFIR to BFERs across v6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71240" y="274320"/>
            <a:ext cx="612612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Do we need an IPv6 encapsulation 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45600" y="987480"/>
            <a:ext cx="6040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R has simplified the IP transpor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R has SR-MPLS and SRv6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Rv6 works without MPLS labels: transport labels like LSP, Service labels like Vpn, etc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ow does BIER run in SRv6 network ?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Do we need a BIER IPv6 encapsulation 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804F750E-8CC0-4217-9FE8-D49260AD15D3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71600" y="274320"/>
            <a:ext cx="591480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The existing proposal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45600" y="987480"/>
            <a:ext cx="604044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Embedded BitString in part of the 128bit IPv6 Destination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 new Hop-By-Hop Extension Header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 new Extension Header with unicast destination addres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 new Extension Header with multicast destination addres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A Destination Option Header with multicast destination address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604B03E1-F5D4-4688-B07E-6A1B12FCF21A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71600" y="274320"/>
            <a:ext cx="591480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The past discussions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45600" y="987480"/>
            <a:ext cx="6040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Sep 2016, there was a suggestion to provide a method of using IPv6 extension head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s://www.ietf.org/mail-archive/web/bier/current/msg00986.htm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ain there were some 'requirements' mentioned by this thread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https://www.ietf.org/mail-archive/web/bier/current/msg00991.htm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"it shouldn't require hop-by-hop modification of the IP destination address fiel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 shouldn't require the BFRs to inspect layer 4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 shouldn't require changes to layer 4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 shouldn't allow a multicast address to be put in the IP source address field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 shouldn't assume that bits never get set incorrectly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it shouldn't require changes in source address filtering procedur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addition, it should be possible to use it to support the entire BIER architecture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7D0DFDCE-9B43-4A36-B826-C792B0BE6C74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74480" y="247680"/>
            <a:ext cx="60498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bierv6 encap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2F779513-1684-4E20-BC42-0995398C2D9F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图片 1" descr="image001"/>
          <p:cNvPicPr/>
          <p:nvPr/>
        </p:nvPicPr>
        <p:blipFill>
          <a:blip r:embed="rId1"/>
          <a:stretch/>
        </p:blipFill>
        <p:spPr>
          <a:xfrm>
            <a:off x="115920" y="1203480"/>
            <a:ext cx="6575400" cy="2446200"/>
          </a:xfrm>
          <a:prstGeom prst="rect">
            <a:avLst/>
          </a:prstGeom>
          <a:ln w="0">
            <a:noFill/>
          </a:ln>
        </p:spPr>
      </p:pic>
      <p:sp>
        <p:nvSpPr>
          <p:cNvPr id="649" name="Rectangle 1"/>
          <p:cNvSpPr/>
          <p:nvPr/>
        </p:nvSpPr>
        <p:spPr>
          <a:xfrm>
            <a:off x="115920" y="3768840"/>
            <a:ext cx="650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Calibri"/>
              </a:rPr>
              <a:t>Could use new defined IPv6 extension to carry the BIER he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  <a:ea typeface="Calibri"/>
              </a:rPr>
              <a:t>Could use existing Dest Option extension to carry the BIER he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74480" y="247680"/>
            <a:ext cx="60498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One proposed 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B62D2763-C30E-4365-97C3-8FC4FEEA9220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文本框 5"/>
          <p:cNvSpPr/>
          <p:nvPr/>
        </p:nvSpPr>
        <p:spPr>
          <a:xfrm>
            <a:off x="260280" y="2787480"/>
            <a:ext cx="627696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Pv6 Head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DA=Multicast Addr) +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t Opt Hd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LV&lt;T=bier, L, V=BIER Hdr&gt;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IPv6 BIER Option is the only one TLV in the Destination Options, with a Option Type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BI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AN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Destination Options that carry a BIER Header, has a recommended Next Header Value of 59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ly be checked when the Destination Address is a Multicast Address indicating BI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IAN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] is expected to specify a Multicast Address for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BIER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图片 5" descr=""/>
          <p:cNvPicPr/>
          <p:nvPr/>
        </p:nvPicPr>
        <p:blipFill>
          <a:blip r:embed="rId1"/>
          <a:stretch/>
        </p:blipFill>
        <p:spPr>
          <a:xfrm>
            <a:off x="1189080" y="915840"/>
            <a:ext cx="309240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71600" y="282600"/>
            <a:ext cx="59148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Why Proposing the encapsulation ?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404280" y="1131480"/>
            <a:ext cx="59756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RFC8200] Defining </a:t>
            </a:r>
            <a:r>
              <a:rPr b="0" lang="en-US" sz="1300" spc="-1" strike="noStrike">
                <a:solidFill>
                  <a:srgbClr val="0000ff"/>
                </a:solidFill>
                <a:latin typeface="Calibri"/>
              </a:rPr>
              <a:t>new IPv6 extension headers is not recommended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, unless there are no existing IPv6 extension headers that can be used by specifying a new option for that IPv6 extension header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RFC8200] it is </a:t>
            </a:r>
            <a:r>
              <a:rPr b="0" lang="en-US" sz="1300" spc="-1" strike="noStrike">
                <a:solidFill>
                  <a:srgbClr val="0000ff"/>
                </a:solidFill>
                <a:latin typeface="Calibri"/>
              </a:rPr>
              <a:t>recommended that the Destination Options header is used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o carry optional information that must be examined only by a packet's destination node(s), because they provide better handling and backward compatibility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[RFC8200] Extension headers are not processed until the packet reaches the node (or </a:t>
            </a:r>
            <a:r>
              <a:rPr b="0" lang="en-US" sz="1300" spc="-1" strike="noStrike">
                <a:solidFill>
                  <a:srgbClr val="0000ff"/>
                </a:solidFill>
                <a:latin typeface="Calibri"/>
              </a:rPr>
              <a:t>each of the set of nodes, in the case of multicast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identified in the Destination Address field of the IPv6 header.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The reason why we select Using [Multicast Addr + Dest Opt Hdr] to pilot the hop-by-hop repli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483E8D44-1A65-40A0-8DD2-22BD53A51C0F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7:41:12Z</dcterms:created>
  <dc:creator>Chen Ming</dc:creator>
  <dc:description/>
  <dc:language>en-US</dc:language>
  <cp:lastModifiedBy>Michael McBride</cp:lastModifiedBy>
  <dcterms:modified xsi:type="dcterms:W3CDTF">2018-11-07T16:44:01Z</dcterms:modified>
  <cp:revision>159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3)4GVYE6NzfO6ErWAynUMwI34q8noguIOsJDHGddTYINlsFp1FQsKjO/fieHFcyBVnvfQvz3Tw
lH4hm7sOc89J+ki7SnH2eTtRNJ+/Ykgv7jAjbUARrDa2H75Ju2yX7JBITgnGeicXxPl2N31m
3IHh7iecm/1XUPSyiYLV7Cw1upp/qpE0jif92UnnC8XL4AOFd6hu6gGSEeLiBqDv/uCQ3n0z
fGeLLJ5//dJtDsq93k</vt:lpwstr>
  </property>
  <property fmtid="{D5CDD505-2E9C-101B-9397-08002B2CF9AE}" pid="3" name="_2015_ms_pID_7253431">
    <vt:lpwstr>qBR4KqXgL+pJ62KDYKrmrXay/lSxYdZT/8oPwPEWhuHG8jAZq5H8G0
yPrf1+BNTihtwf/JLie/ArDKEtZHGwe9BqIkuNHB6UneCovYAnCipx6/VRCowOpWIeFoHZmw
CjBmlBkk3C5M85eonlg5OtsevYrqRWd5jRrVaWBktRRx3831mFVIC1m5pYLiV4IzhYu/M7WQ
sbIkWouNqKeyQpqKR/q84Ix/o5XQ4j9gPbuf</vt:lpwstr>
  </property>
  <property fmtid="{D5CDD505-2E9C-101B-9397-08002B2CF9AE}" pid="4" name="_2015_ms_pID_7253431_00">
    <vt:lpwstr>_2015_ms_pID_7253431</vt:lpwstr>
  </property>
  <property fmtid="{D5CDD505-2E9C-101B-9397-08002B2CF9AE}" pid="5" name="_2015_ms_pID_7253432">
    <vt:lpwstr>TAaEJVrbO07cOkfUlQgnlOro6Jmajt/C+emH
4uISODLbVhzqMJcTAtrKOsYq8gj9UgFWO4jWGq0Eq8v6gTyMK/A=</vt:lpwstr>
  </property>
  <property fmtid="{D5CDD505-2E9C-101B-9397-08002B2CF9AE}" pid="6" name="_2015_ms_pID_7253432_00">
    <vt:lpwstr>_2015_ms_pID_7253432</vt:lpwstr>
  </property>
  <property fmtid="{D5CDD505-2E9C-101B-9397-08002B2CF9AE}" pid="7" name="_2015_ms_pID_725343_00">
    <vt:lpwstr>_2015_ms_pID_725343</vt:lpwstr>
  </property>
  <property fmtid="{D5CDD505-2E9C-101B-9397-08002B2CF9AE}" pid="8" name="_change">
    <vt:lpwstr/>
  </property>
  <property fmtid="{D5CDD505-2E9C-101B-9397-08002B2CF9AE}" pid="9" name="_full-control">
    <vt:lpwstr/>
  </property>
  <property fmtid="{D5CDD505-2E9C-101B-9397-08002B2CF9AE}" pid="10" name="_ms_pID_725343">
    <vt:lpwstr>(2)nEjfLa5zkFjJ24cFH1rD/CO99/SkKnuZt+jVj3euFWHS8MDkQjkBUSuq5IKksPFWrQEBjRsK
X+9l3cxTXRvzitClRlh3DpX2uIOS2R1ylp5QzOrr9VjtVeoV/WboZE7JM5mA6wA6hPIyRfnA
B86tkkz7o8RCTCbH3lBENhFaLa430zPmj47FtwLuMS+E1k3ruXoA6lIpFD5pxcmNqojImzW4
GwtdW1BZqH632JDAWU</vt:lpwstr>
  </property>
  <property fmtid="{D5CDD505-2E9C-101B-9397-08002B2CF9AE}" pid="11" name="_ms_pID_7253431">
    <vt:lpwstr>nhH+p/c2eKA5nuNEEnrUckmJKi9mx6LklbuGnSvOwQe8mcbzaUyX8z
ivZ/xK2LwqmMFV3oMI0hQ5nIm0nwBPrb6dNV0x0ONe1veEp3g/9l3w==</vt:lpwstr>
  </property>
  <property fmtid="{D5CDD505-2E9C-101B-9397-08002B2CF9AE}" pid="12" name="_new_ms_pID_72543">
    <vt:lpwstr>(4)8pb00NXgvfolPpdOp/im+iyocGkxj/FUozmtz+z3gf+89nHNxJewsJZtSXf5VaB6o0OySm5d
8gJwl174hgqzvOKZ9ktSU80sEzQWz+ediLA3FTdnitiu6PmyptT7CdkmWgnWetjIsC0wZ8k1
W/xfL6d9Zz02BuWRLVbj60gAnn7FXSD47ByU1iFS2iBgNVPDWqptFOpG7EGg/52sr796NAe6
Y88lxiNYEsD1weV4F7</vt:lpwstr>
  </property>
  <property fmtid="{D5CDD505-2E9C-101B-9397-08002B2CF9AE}" pid="13" name="_new_ms_pID_725431">
    <vt:lpwstr>q6f4vIblOYL9YUlQw4CP+hRGkRVRz/K88xTcCqM2TwfOF7lkn3vAEC
3+jPeoxHE/A6OcWwtKbWIgLEAFTHSMCU7vs1fQ+5oJypm6dqE9pPFXxOyWxAT7U1Xsz0Gq7t
wPyuDZFIE0AtufL4sKGECU+Mguj4AvfcNMKe5Vi7WziBZWrOTV99ZFu4PkQO37as5Yqy9LvI
lAl7byCF9QET+JXyHTe8uCFR/XYVz+qCOiu+</vt:lpwstr>
  </property>
  <property fmtid="{D5CDD505-2E9C-101B-9397-08002B2CF9AE}" pid="14" name="_new_ms_pID_725431_00">
    <vt:lpwstr>_new_ms_pID_725431</vt:lpwstr>
  </property>
  <property fmtid="{D5CDD505-2E9C-101B-9397-08002B2CF9AE}" pid="15" name="_new_ms_pID_725432">
    <vt:lpwstr>z7SAloLzPkKVNgiMlG+aDfsWNnntB5eaoVEQ
3nMuZfFFwpho/aTa1IU/IkK9+arTH6FV42W2B54W7pcEwahC9jb9alrmJ/1/iMjMlhdSPZTA
eoTX1lmZ4IH1To1PhIk7P8s6DyYeV9YmksxKB0KMM4wNXUK5c1R1jgCJPrnuoaTc/erG6n77
UOCBtkcmIPYMZ6SHWKblasdnWmcydo8N42cifZ4XLeD8W/b3/qIlSr</vt:lpwstr>
  </property>
  <property fmtid="{D5CDD505-2E9C-101B-9397-08002B2CF9AE}" pid="16" name="_new_ms_pID_725432_00">
    <vt:lpwstr>_new_ms_pID_725432</vt:lpwstr>
  </property>
  <property fmtid="{D5CDD505-2E9C-101B-9397-08002B2CF9AE}" pid="17" name="_new_ms_pID_725433">
    <vt:lpwstr>loxyd/lA5K1PndCMAt
wIYmBxctIdXWQ4qfL8GKFDszyBvh+zINy4Sn9UBWwfN+apNH</vt:lpwstr>
  </property>
  <property fmtid="{D5CDD505-2E9C-101B-9397-08002B2CF9AE}" pid="18" name="_new_ms_pID_725433_00">
    <vt:lpwstr>_new_ms_pID_725433</vt:lpwstr>
  </property>
  <property fmtid="{D5CDD505-2E9C-101B-9397-08002B2CF9AE}" pid="19" name="_new_ms_pID_72543_00">
    <vt:lpwstr>_new_ms_pID_72543</vt:lpwstr>
  </property>
  <property fmtid="{D5CDD505-2E9C-101B-9397-08002B2CF9AE}" pid="20" name="_readonly">
    <vt:lpwstr/>
  </property>
  <property fmtid="{D5CDD505-2E9C-101B-9397-08002B2CF9AE}" pid="21" name="sflag">
    <vt:lpwstr>1541587694</vt:lpwstr>
  </property>
</Properties>
</file>