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0C2-23B6-414C-BD1E-EA361CF1B25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10C-BD30-46C4-AB4A-DC0A1981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739A-91F7-46D4-A55C-E27A6A5FDE9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7AD-42E7-4804-99AD-5DCE2DEB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832-F59A-45FD-9CB0-BEB57B4857E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B09-483E-41EE-B132-92FB01E4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F8093-2FF0-4D93-9302-E243999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5E6376-F28A-4927-BD9B-B1CDD97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02467-01AE-4F51-A568-C845153B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96A7E-C9D7-44CE-9B54-A870988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EFB44-67A0-44E8-A7B5-9059BAD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3774A-1C6F-4B1A-B006-9081982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112AC-0101-4A45-B979-82E2551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AC564D-78CE-4375-AEDD-8D1402F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B4BAD0-5691-4C55-ACEE-7DBF7270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3D98A-42AC-42C3-9074-D8C9AA43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DE552-4BDA-421B-8621-7237A5A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E2D75-B967-4E39-9C51-34629FF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3F5EE-F1F9-417E-A580-613663CC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5C5F1-6F41-4D5D-BDA6-9A2369E8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539C5-149E-4F0C-A662-2B8AE29C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8DEF0-AE7F-4937-BA9D-9B0022D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30A7F-251F-4C86-80A9-27ABAE1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C556E-A0D8-44A7-9F7A-36F0E841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D735C-3C85-4697-BD8B-F500A611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FBCD-CB26-48A4-A0C2-15F42610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9ED64-B66B-4C01-918F-6A876D81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08EDC-89B6-45A2-922D-0A28DD6D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F51E7-6D23-46F6-BDA2-E4406133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5C33A-96B5-4566-8905-AD4CECE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4FFC1-D7AA-485E-858E-4EA687AF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219ED-0520-4494-979D-087640C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1A994-D4F1-4339-BA0C-7D04859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F7CB3-5693-4579-9F8B-5E4B5FE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452E1-0830-4DDC-A3F7-1447530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02AFC-B500-4B1D-86DE-EA7A8EA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80162-E219-4C3C-BFE9-10F6125D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23A0C-A3BC-44AE-B4DF-08D20188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C8924-BE52-496A-94D2-D2DFA8BE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851E5-05CB-4364-9199-2B9BD9A7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9CCFF2-C90F-449A-BDE8-4CADF9FC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2853F5-4ACA-469A-B1E1-40FF6DFA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864673-D598-4D61-90FF-5C9A589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944CCC-0F68-41F3-B48B-32BE211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4C18E4-BDEF-42B9-BB0A-C0062245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F56FF4-46D0-4B20-8998-094DD05D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AD01EF-0AAF-41DD-9CBD-046B97B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985C-5C1A-462C-BE38-90441338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7A2DA3-F846-4B75-A647-1D52763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E48B2-DED3-40F9-A8A8-8CE5E92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ADEBD6-7514-406B-9641-BB0D1F2C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08FF85-BC4F-4AFF-9984-D61DB689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F33583-89BF-4622-B33D-3F02B8CE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8F8C7-C0A1-4985-9611-FFD3693F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43676-94A2-4FC6-A8F6-9772504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6F3A0-636D-4E02-8E32-0B21B1AF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0E2DD-4244-4C8C-B775-7C6CE6B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79637-7CDB-445A-A06D-0E25916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51082-FEFD-492C-AA81-F546660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7980D-8A79-42AE-9843-BA5393E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27AA5-C4AA-44EE-BB40-B71B642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AAFD6-C42A-42BD-A870-2301B4E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F8D3F-9A3F-4FE3-B1D7-0EE33EE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A73C5-F7A3-4D44-ADF0-F243B9D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BE36A-FEC0-444E-96EB-452A18DF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9B25C-DA87-49B0-9B8F-D0776CCE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D20080-61D8-4B64-B6F0-F30A2BB1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D61159-253C-4A6D-ABED-04A2F241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A04846-B718-47E6-87D5-533555B2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EFC0A-BEEB-4443-8F1E-4E1E666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CFB65C-015D-40EF-A897-05DD9B27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A9C7E1-C841-4784-BBBD-D9DC7067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369EC3-BE50-4199-B7FD-E02A33E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9F28B1-FCF5-4BAE-9BA1-3708CD0E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3E3B13-CE57-4AFC-9530-2D4A7CB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3AB5D-1467-4F2F-AA28-47F5F2CF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6E8126-E58F-4D66-B0F8-B30CF1FC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17B19A-CE1F-4200-99B9-B48383CF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4F321-C563-41AE-8B75-0533072F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78644-EB7F-4002-835C-A7977C7D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763A2-EDF7-423E-B2E3-F9E2A65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7E908-D5E8-403A-844F-6F2F8BC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988A-FA2B-42BA-8C56-1F251F9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2070-730E-49B7-B4F3-CF47671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E290-4D18-4C24-AF06-9E379F2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6C123-82FE-41F9-9BB5-BCA164F3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4B93A-FE4A-4BC0-9544-370BA7BA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9CA1F-563C-432B-9591-F01E5D52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68D62-B1E0-4108-93CC-42E7A42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3BA30-007E-4D12-A4C0-FFCA41E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4C462-F3D7-419F-AA6A-D543632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F462D-2816-4367-9E82-4B41202E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77130-7417-48C6-842C-64893EF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30C89-89A6-4E39-A766-2DF128B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0C3FD-E7A9-4C5B-9C2D-4F39331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D48C4-8A27-4C94-831B-113F735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E6D48-C771-4EAF-961F-522ED39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777F8-B95B-4BEF-AAE5-CF8B8523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C4D61-EEB6-4939-8423-26F5A379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A3EBE-D784-4C82-9A2A-9F86C8D7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229D2-48E3-4762-A647-972ADC1F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4B5D3-4069-4CD2-BF63-D2AF07A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BDCF2-3E25-46FA-A44D-597E100D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D734B-90DD-495D-8189-7E32E527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72408-9A0A-4C24-9A6E-39D74AA8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542B0-1692-4FD5-8436-FFCA864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AF9AA-FEF4-443D-913C-D099CA7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291DB-2713-4F42-9567-5052B65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D6FDD-53F0-49F8-BB51-21E68E5C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AD053-986D-43B1-8D3F-B4AA4505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B3CB8-0EC4-4D03-9E50-56FEC07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B6E0B-1414-4F64-89E4-24DF2597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264B0-0BA8-490E-8768-E1DD58D5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3F0EB-5AC5-43D4-B7DB-F381E6D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D9D5CF-BFF4-465B-8D22-83EDDD8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4F9BD-E39D-444C-AA33-18BEBF7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59BCD-FBA4-4E4B-BD5D-F264391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9A19E-210F-437F-84D4-A261887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6F2BA-BAF1-4D8E-A585-7BA7D80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9E296C-4284-42A9-9502-47E9C4B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2F8F6-FD27-43DC-8F46-2D51F24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BCFBC-CBBF-4D0B-9F7C-B6F1E336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49FD0-0CAB-4921-B83F-B7061799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BF06D-A6A7-4107-86D7-5FFC54E7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7CF10-46D2-4F9C-921E-BA30DAD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A84FC-C4EB-41FA-BACB-C72F364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64948-98E7-4BC8-97A9-F8DC5B33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34766-22CF-4882-896D-96652CD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0ACBEF-1FAD-4941-921A-14118083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1D217-AC5E-42D3-B785-933262B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82B0E-B7EC-42DA-A256-C717214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C25A8-5331-4CE7-8C0D-C67FE65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06BD9-31B7-4298-BAEE-A60B531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854C8-80A1-43C0-9271-4C68F088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74B331-0507-452B-9FBC-75C79102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360C2-5044-446C-873A-DA38E1F1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79F58F-19A4-49BF-9E1F-7F110668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A11B5-1CC3-495C-80A2-EB83E47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8621F-7F39-49BD-9C28-3E8F0A3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BAEC50-2FF3-4EF7-A314-948F8F9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66EB1-6BD4-4843-8D19-FB1A7CA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0A63D-C0A5-4DCA-A9B1-8E0B2F7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653B6B-2F5B-4F6E-B7BD-90000EA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F58782-43B2-4846-9BCF-8D7C5A5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BC2420-075F-4FB6-BBD1-8B22CC43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3CFA9-72B3-475D-9B3D-FA260610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95E95-C982-4681-BA0F-8F133164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D1CDB-A722-4AE0-9A4C-6958C9E5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4C98A-1561-437B-9DF8-9768C4B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5EA56-4CA2-4978-88D1-2A4FAFBF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ＭＳ Ｐゴシック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078D970-68E3-4310-8574-B66F9FDB2806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9397593-1CBD-4464-A20B-291117BA4BB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E5A4-A33F-4841-B1F7-95B965A516D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0A186AE-B0EE-44E6-98C7-B5C578BF7B3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7D5-9313-4021-8EE4-5137BE88EF2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BADCDFB-A668-4030-A1A5-F0F7DE8B63B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D86F-8E3F-46E0-8ED2-45B5B8B3AFE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B1AF946-D1A2-4F25-A196-D3C23576C9F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C64-2E61-4E33-AC09-AE710CE0937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1E7B060-4313-43B2-923E-EC3597BF822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E18A-F110-4CD9-9B21-3024755BC7D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BF8B425-9346-4A6B-9804-B6746DA88B1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635-88D2-420F-B04C-CF74C0F63FC1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F7144AE-A38A-4A27-98D7-EADCBE3135F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6D1-2773-4AEA-8FA7-52DE69D308C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D720D99-AD9C-48AA-AFF2-264660E39E2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A3D-CEAA-462B-AB40-20F279D8604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0F55581-DF58-496F-9B9F-80422B6C761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8DB2-5A3F-497D-BEE9-461F45D4E9E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4DA4CE8-33FC-408B-A2AB-41B0E7965AD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DCD-0E94-4A27-8D3B-CFD19435254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7EA145B-F5DF-451E-B5DA-5A1D4FFE88F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FF22-41FF-494B-8F3F-1F7DD1E6AC4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E093356-D782-400A-9559-E4AA009F5A6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28E-907E-407D-A34E-0C349C51594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etf.org/mail-archive/web/bier/current/msg00986.html" TargetMode="External"/><Relationship Id="rId2" Type="http://schemas.openxmlformats.org/officeDocument/2006/relationships/hyperlink" Target="https://www.ietf.org/mail-archive/web/bier/current/msg00991.html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Encapsulation for BIER in Non-MPLS IPv6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6man-encapsulation-0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3   2018-11-07  Bangk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 @China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ei Wang @China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ang Xia@Huawe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get debating the different solutions right now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WG think a BIER IPv6 encapsulation problem/requirement draft is goo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 let’s do that. Then sol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877C714-A072-4C48-8BC6-F404B59BC73D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ＭＳ Ｐゴシック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hould bier start work on v6 encap?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15440" y="4227120"/>
            <a:ext cx="637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there is interest let’s get going, perhaps problem statement draft with use cases and then solutions draf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rmine if we really have a need for an encapsulation that is IPv6-specif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图片 1" descr="image001"/>
          <p:cNvPicPr/>
          <p:nvPr/>
        </p:nvPicPr>
        <p:blipFill>
          <a:blip r:embed="rId1"/>
          <a:stretch/>
        </p:blipFill>
        <p:spPr>
          <a:xfrm>
            <a:off x="411120" y="1058760"/>
            <a:ext cx="56818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椭圆 42"/>
          <p:cNvSpPr/>
          <p:nvPr/>
        </p:nvSpPr>
        <p:spPr>
          <a:xfrm>
            <a:off x="1163520" y="2583000"/>
            <a:ext cx="75276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80"/>
          <p:cNvSpPr/>
          <p:nvPr/>
        </p:nvSpPr>
        <p:spPr>
          <a:xfrm>
            <a:off x="650880" y="27432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80"/>
          <p:cNvSpPr/>
          <p:nvPr/>
        </p:nvSpPr>
        <p:spPr>
          <a:xfrm>
            <a:off x="3141720" y="27432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80"/>
          <p:cNvSpPr/>
          <p:nvPr/>
        </p:nvSpPr>
        <p:spPr>
          <a:xfrm>
            <a:off x="5415120" y="21160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80"/>
          <p:cNvSpPr/>
          <p:nvPr/>
        </p:nvSpPr>
        <p:spPr>
          <a:xfrm>
            <a:off x="5445000" y="3208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"/>
          <p:cNvSpPr/>
          <p:nvPr/>
        </p:nvSpPr>
        <p:spPr>
          <a:xfrm>
            <a:off x="1916280" y="1995480"/>
            <a:ext cx="2952720" cy="1800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椭圆 42"/>
          <p:cNvSpPr/>
          <p:nvPr/>
        </p:nvSpPr>
        <p:spPr>
          <a:xfrm>
            <a:off x="4641840" y="1995480"/>
            <a:ext cx="75240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42"/>
          <p:cNvSpPr/>
          <p:nvPr/>
        </p:nvSpPr>
        <p:spPr>
          <a:xfrm>
            <a:off x="4662360" y="3121200"/>
            <a:ext cx="75276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7760" y="410760"/>
            <a:ext cx="6126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plicate bier packets from BFIR to BFERs across v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71240" y="274320"/>
            <a:ext cx="6126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o we need an IPv6 encapsulation 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45600" y="987480"/>
            <a:ext cx="6040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 has simplified the IP transpor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 has SR-MPLS and SRv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v6 works without MPLS labels: transport labels like LSP, Service labels like Vpn, etc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ow does BIER run in SRv6 network 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we need a BIER IPv6 encapsulation 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AD56597-4C2C-4650-A044-8C890B17E7AE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existing proposal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45600" y="987480"/>
            <a:ext cx="6040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mbedded BitString in part of the 128bit IPv6 Destin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Hop-By-Hop Extension Head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Extension Header with un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Extension Header with mult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Destination Option Header with mult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8AD9B9D-D34F-4DFC-BCA2-9C1D654A1EAA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past discussion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45600" y="98748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p 2016, there was a suggestion to provide a method of using IPv6 extension hea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ietf.org/mail-archive/web/bier/current/msg00986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 there were some 'requirements' mentioned by this thread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ietf.org/mail-archive/web/bier/current/msg00991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it shouldn't require hop-by-hop modification of the IP destination address fiel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the BFRs to inspect layer 4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changes to layer 4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allow a multicast address to be put in the IP source address fiel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assume that bits never get set incorrect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changes in source address filtering procedur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ddition, it should be possible to use it to support the entire BIER architecture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F082EA1-18C8-41D8-8B14-2F658F5C027E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erv6 enca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68CF668-0B8C-45C2-AF9B-C770E2BE7B67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图片 1" descr="image001"/>
          <p:cNvPicPr/>
          <p:nvPr/>
        </p:nvPicPr>
        <p:blipFill>
          <a:blip r:embed="rId1"/>
          <a:stretch/>
        </p:blipFill>
        <p:spPr>
          <a:xfrm>
            <a:off x="115920" y="1203480"/>
            <a:ext cx="6575400" cy="24462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"/>
          <p:cNvSpPr/>
          <p:nvPr/>
        </p:nvSpPr>
        <p:spPr>
          <a:xfrm>
            <a:off x="115920" y="3768840"/>
            <a:ext cx="65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Calibri"/>
              </a:rPr>
              <a:t>Could use new defined IPv6 extension to carry the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Calibri"/>
              </a:rPr>
              <a:t>Could use existing Dest Option extension to carry the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ne proposed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F00949D-BDF7-40BA-9D5A-982A93866A14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5"/>
          <p:cNvSpPr/>
          <p:nvPr/>
        </p:nvSpPr>
        <p:spPr>
          <a:xfrm>
            <a:off x="260280" y="2787480"/>
            <a:ext cx="627696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=Multicast Addr)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t Opt H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LV&lt;T=bier, L, V=BIER Hdr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Pv6 BIER Option is the only one TLV in the Destination Options, with a Option Type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I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stination Options that carry a BIER Header, has a recommended Next Header Value of 5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y be checked when the Destination Address is a Multicast Address indicating BI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 is expected to specify a Multicast Address for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I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5" descr=""/>
          <p:cNvPicPr/>
          <p:nvPr/>
        </p:nvPicPr>
        <p:blipFill>
          <a:blip r:embed="rId1"/>
          <a:stretch/>
        </p:blipFill>
        <p:spPr>
          <a:xfrm>
            <a:off x="1189080" y="915840"/>
            <a:ext cx="30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hy Proposing the encapsulation 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Defining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new IPv6 extension headers is not recommende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 unless there are no existing IPv6 extension headers that can be used by specifying a new option for that IPv6 extension header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it is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recommended that the Destination Options header is used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o carry optional information that must be examined only by a packet's destination node(s), because they provide better handling and backward compatibilit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Extension headers are not processed until the packet reaches the node (or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each of the set of nodes, in the case of multicast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identified in the Destination Address field of the IPv6 header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reason why we select Using [Multicast Addr + Dest Opt Hdr] to pilot the hop-by-hop repl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7521401-9DF9-4B0E-862C-F5064AF386CB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8-11-07T16:44:01Z</dcterms:modified>
  <cp:revision>15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4GVYE6NzfO6ErWAynUMwI34q8noguIOsJDHGddTYINlsFp1FQsKjO/fieHFcyBVnvfQvz3Tw
lH4hm7sOc89J+ki7SnH2eTtRNJ+/Ykgv7jAjbUARrDa2H75Ju2yX7JBITgnGeicXxPl2N31m
3IHh7iecm/1XUPSyiYLV7Cw1upp/qpE0jif92UnnC8XL4AOFd6hu6gGSEeLiBqDv/uCQ3n0z
fGeLLJ5//dJtDsq93k</vt:lpwstr>
  </property>
  <property fmtid="{D5CDD505-2E9C-101B-9397-08002B2CF9AE}" pid="3" name="_2015_ms_pID_7253431">
    <vt:lpwstr>qBR4KqXgL+pJ62KDYKrmrXay/lSxYdZT/8oPwPEWhuHG8jAZq5H8G0
yPrf1+BNTihtwf/JLie/ArDKEtZHGwe9BqIkuNHB6UneCovYAnCipx6/VRCowOpWIeFoHZmw
CjBmlBkk3C5M85eonlg5OtsevYrqRWd5jRrVaWBktRRx3831mFVIC1m5pYLiV4IzhYu/M7WQ
sbIkWouNqKeyQpqKR/q84Ix/o5XQ4j9gPbuf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TAaEJVrbO07cOkfUlQgnlOro6Jmajt/C+emH
4uISODLbVhzqMJcTAtrKOsYq8gj9UgFWO4jWGq0Eq8v6gTyMK/A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41587694</vt:lpwstr>
  </property>
</Properties>
</file>