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E9C2-2F77-4288-B7CE-D39B42467EF6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3C85-F0E9-49D0-A946-C3683170F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1F50-867F-47B8-A0BB-98D74962C89F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7850-922E-4F03-9A5F-2D98E5872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C1BA-32D4-4366-AD0C-5F581CA41080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16B6-25A3-4726-B1FE-C3EE8D48E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774784-FA90-4DE5-89A5-7FB0C8B0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44A3AC-B65B-4762-B436-043A9D12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D5B562-CE0D-4F2D-BF43-9D14ED3E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F28FFB-2581-41A3-9964-32EAE2EB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7FDADF-5647-4835-B577-8ED3C1C7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D93BC7-CA35-4BDF-8F0E-69ECC4A4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96F053-2C20-47C0-B124-8CAE4897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F60500-239B-4B5F-A8AA-07387EDE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52AF8E-FF6F-453A-8388-8AC136F5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2FA07-B749-4022-8197-A7D77E98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069C0-9C4B-4BF2-9C5B-A6B8FF2A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99084-3019-41F8-9803-772E1A6A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C8D17-ACDF-4320-86AD-EB6C3E51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C4033-D660-4E17-AD19-882BA837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90F5B-C043-4718-A90D-71E8ED78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70209-FCBC-4EB3-8642-D735479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2D7A7-A0C7-425C-9F20-673CAD8C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6F49B-0147-4DEB-AA3F-FBBA5B3A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099D2-BE7A-44A5-B52F-29597000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B443C-C7CC-48CC-A09B-BAC700ED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E61A5-86FE-40C4-B323-CD5C3A71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23EB8-0658-4D3C-98D3-EE714AC5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C8221-A536-423E-A8AB-15965D53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7FE7C-CE77-4EAC-9184-F2C36E3D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4131A-DD30-40D5-A8C7-1A3E8C5C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93956-7E45-4E9F-8D05-67D63CF1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CE581-59E9-4733-AA82-564CA34B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BB47C-1FA8-4983-A794-A5471F74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38D3A-6EE5-4EA9-85B8-59594864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E52F1-B333-4DE5-A42C-FEDCD6DD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0DBC2-712C-448F-A450-865893B3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75BC7-A5AF-488E-AB4C-D1BB2EC0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47440-F684-4AAC-9507-910EB766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37E46-9096-43D2-85EB-AADEC3C5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1F91C5-9B18-4380-86EF-AD68BECF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9889D5-7177-4331-9DF4-2D8FDF59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B0E1C6-A12E-4AC8-9B75-D20D0D04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8F3446-439B-4873-A745-A6ECFB50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8D52B3-7EFE-4A30-8EFD-2DDBCC6E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401E73-DAE9-4573-9AB8-C934E7B6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EDCED4-D6A8-46FD-8BE4-750CDB0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7587A-7337-465B-8916-7738FAFE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B08C7A-B93B-4062-BEC2-7C8E6339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2568F7-C061-466A-9809-7EA0F93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584B7C-D9CF-4884-B9A0-5D1F8937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EEC849-2471-4641-BAD2-B51D9840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C29DC3-FDF9-4AF3-9A0A-A8F6E334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75DD1-9915-44B8-B064-191EB19F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B7A6E-80D7-4501-AE33-88DD3AAC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785D0-56D5-40F6-8262-94E77598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4B8C9-DCD5-418F-8EC4-92CE978F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93089-B0BC-4286-BD1E-74087537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4314F-BE05-4204-A3E6-946D5AC3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ADE93-2B09-4DFD-B490-B213B2B8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0ECE2-B541-4EBF-A1FE-2D98AD19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B9CF8-D3EB-4C79-B989-4AD0226E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0FD30-F270-41F7-AF93-EEC81894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2464C-C436-48F9-8937-06A4A16B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A95B9-C4D6-4320-BC46-58B3E891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BD229-A23A-45C9-A172-2F386B2B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C78748-E9AD-48E2-91BB-CE42926A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2D7423-93C1-403B-8265-14242BE7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4FF6DD-E97E-4FBD-AD66-1C98249E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A017D-2653-4CB3-A319-3B3C6E52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816C2B-B22E-4E22-8184-CA78B85D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0335F2-8771-4928-A0E8-144784B9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95E464-9277-4A30-B701-1CC919A0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C6B8D5-10CF-46A2-89F5-CC4C856E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713CCE-F05F-4111-B153-10B7B989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F3932B-D4E4-4618-B80A-0AA482F5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234698-8C55-4EB0-8DE0-033BBB5E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2FC731-080D-48BF-ABA4-655DAD0B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935BD9-A6B9-4541-947C-5C76DC5C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CBE5B-903E-4399-99B1-168568D5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CC535-8E24-48B4-B58A-E9FC1DFD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DAF79-BB3A-4879-BF18-3283116C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B0C08-6FEF-4388-A9CE-6F50949F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AF340-B3B4-45AF-838E-2D651135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2943B-84AE-473C-BDBD-E11804FB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55747-D839-4B25-9CED-6ADA3545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593F2-94FA-4F48-A64C-9DE4406F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2EA9C-3689-461F-9075-8BBD48A2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E1D64-5B5B-4834-A1A1-1AD7FC1F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1961B-6E2C-4FD9-9B15-49DABE3C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3DFD9-0A37-47C3-B162-134E0BD5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EE032-8919-4512-A315-02138D6E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DAEDC8-5522-4B9D-B05C-947C58DA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31FE2-1864-45B1-9136-44EFD5AE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0295E-D525-4E83-82DC-6585FDB5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EC090-9B37-44CE-A95D-9342D06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4AAEC-253A-48E1-B55C-4D21F18E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6C008-7704-4A7D-84E7-AE9D82C4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0A699-E0E1-45B5-9C40-23C66C55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96434F-6EF9-40EF-B33F-659437C7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463EB-EDFD-4B46-97FB-8C9DAAA1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F1018-2E4A-4157-BD1C-CBDBF6CD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22BF7B-240C-41B0-A9CF-00E88714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51416-ED16-47CA-9C8D-D2CBCE48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59A09-F7DE-467D-9447-75ADA9E0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21492-7E59-4603-915B-F3F54A4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C526E-D315-446F-A707-EA3EE8E9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921691-A935-483C-99D8-96EC0B3C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02C94-5A74-4177-9289-C0A0D0DE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C2BD4-0552-4458-9CFC-245FB637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B4D9A-767F-4722-9DC5-D56E1D4C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B796EF-89B1-44DB-B911-1C3D874C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E21FA2-E453-4254-9021-CED070F4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7CCCF1-E9C3-45E3-BB2E-8BE58679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1F48B5-44F0-4CB9-B9CB-AD2A5CFA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F9AEB-7606-44E8-A866-A341E1EB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14646-7A6C-4A2F-8CB6-F8ED9FFC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B456B1-3A65-46D6-92FE-57094815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01B67C-D0C2-4F24-84F9-A1B575F7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253C2A-23F2-4D0F-8C79-DF263DC7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802CF-5D02-4AC9-94D0-F86666CE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2CF08D-2E6F-4677-9401-BF713FB7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A90AAB-0F3A-4931-BBFA-31195591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DAAC09-35A3-47CC-B972-6BF69131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52AD4F-90A0-4078-9B95-39CC00C1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0F443E-67F0-4E60-B019-ECA2E808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88080E-168C-4110-90E1-EFB3E671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A9030F-5716-4B6B-8AFA-586692BA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9FB98-8174-4C1F-894C-24EB2D06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DF8618-F576-4BE6-99D0-BD43A71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4C97D0-47E1-4B4C-99B6-3152518F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DE8226-395A-4BF4-ABAE-A94689F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963D91-A5FF-48C0-9420-E08C39D2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36EB47-21DB-4D19-9D06-431375B0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30B889-C1CD-4736-83AD-6BC07C83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54F57B-6510-4403-B521-0A691719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6B1DED-784F-4FE0-8A78-569C58ED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0F992C-E1A8-4773-85B5-D689EDD0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8A7A2D-A44F-4B36-97F1-82D835D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51A983-1436-4A87-B55F-040C1215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17BB89-4706-458D-8C03-E78A17EE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750273-F4B0-41F3-B1B1-6EC0510B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2620F7-76CA-42B7-8618-02473AE6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C06707-F27F-47B3-95A6-9FFED433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8EE101-4194-4DEE-AA8D-5AC3552E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16BFBC-ACBE-445E-9FAB-A70D0CEE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D81D0F-D0F0-46A8-B67B-0B467194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07D6AB-B5F2-48F2-8F2E-47E60D50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3114C3-B64E-485F-A4EB-38EE2A73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8C30AB-EB6D-4FCC-80DF-531F449F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A5FAD74B-7274-424D-A3B9-8F5F18730779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53ECBB12-DF15-4574-887E-9DA0E338640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86E1-A418-4705-89EB-B749E9D2ACA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CFA45A4-DE24-4F02-AF47-EC4339D55DE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0E3A-F510-411A-93E4-C09398EE656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41DC836-751B-4541-9912-093BF60F433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D76B-81BE-42DA-9A67-7C9B1C4958E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3C04F5C-C9A8-4734-8C6A-B0DAE734530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2E39-D970-41A1-AF3F-D0312411C8B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8E8B5C9-58E7-4A84-A0F5-DBC760C21D7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1A26-E8BD-45A7-A6E3-D38273F7A9B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8FF6EB3-1A4E-4D25-A1EB-C8FE578657C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19DD-8E85-4299-9CC1-ADD7AAC922E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0229ED31-65C0-4DE5-B2E5-713CDC433161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2CD5-B9A5-4BFB-807E-79FAB02D4D6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791DF325-49F3-4ED8-8CFA-94FBE6E06F0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2F41-0724-481B-9782-A07F80DBD98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5531100-BEE3-4299-B656-4E115719A80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193-9A44-425F-A68F-D85D6FE489D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E70DA99-6D60-498C-85B1-9CC578E1F1E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A500-06FD-407B-BB8C-B8861723EEA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0C4E745-695A-407F-9655-66BB73933BDB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4692-7F37-49BF-A31B-F6C9DC49548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1FDF2112-1321-4B29-80FC-09FF35748C3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34BC-EA94-46ED-9421-3D312C6EF78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11120" y="1079640"/>
            <a:ext cx="603576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Encapsulation for BIER in Non-MPLS IPv6 Networ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bier-ipv6-encapsulation-0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IETF104   2019-03-25  Prag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411120" y="2859120"/>
            <a:ext cx="603576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Liang Ge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Mike McB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Senthil Dhan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Gang 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Yang X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26520" y="194760"/>
            <a:ext cx="627084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BIERv6(L3) and BIER-ETH(L2.5) Brief Comparison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A01489F9-DF06-4A5C-BE39-7973033F0B69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3"/>
          <p:cNvSpPr/>
          <p:nvPr/>
        </p:nvSpPr>
        <p:spPr>
          <a:xfrm>
            <a:off x="333360" y="843120"/>
            <a:ext cx="61912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-by-hop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3 BIER uses L3 multicast DA/MAC, and doesn’t change hop-by-h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2.5 BIER uses unicast MAC, and change hop-by-h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hop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3 BIER uses L3 unicast DA, without introducing tunnel hand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sider unicast-multicast, multicast-unicast, unicast-unicast re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2.5 BIER uses L3 unicast tunnel (in Non-MPLS networ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y need more cost on tunnel endpoint encapsulation/decaps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y need more filtering of L2.5 packets, since tunnel allows L2.5 packet, various L2.5 packets may come from the tu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y need more control-plane to advertise the tunnel endpoint info like &lt;draft-ietf-isis-encapsulation-cap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y need more packet length and header cascading using GRE/UD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y not be able to use the IPv6 SA to identify a VPN, while having to use IPv6 for tunne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71600" y="282600"/>
            <a:ext cx="59148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Request to the WG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04280" y="1131480"/>
            <a:ext cx="5975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join 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ption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121A2328-6ABE-462B-9C8A-8E3A18968E05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"/>
          <p:cNvSpPr/>
          <p:nvPr/>
        </p:nvSpPr>
        <p:spPr>
          <a:xfrm>
            <a:off x="1197000" y="17715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tatus update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 version posted at April 2018, and updated to 02 ever sin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named from [draft-xie-bier-6man-encapsulation-02] to [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楷体_GB2312"/>
              </a:rPr>
              <a:t>draft-xie-bier-ipv6-encapsulation-00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arranged &amp; Updated Sections to make it more rea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the problem-statement part. Spawned new draft [draft-mcbride-bier-ipv6-problem-statement] to detail the problem statement and use cases of BIER in IPv6 environment as suggested IETF103 BIER WG discu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the dependency on SRH, and use Unicast IPv6 destination address inst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each field of the encapsulation, notably the IPv6 SA/DA and BIER Proto fie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the procedures, notably the IPv6-specific forwarding proced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80" y="-92520"/>
            <a:ext cx="605016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proposed 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文本框 5"/>
          <p:cNvSpPr/>
          <p:nvPr/>
        </p:nvSpPr>
        <p:spPr>
          <a:xfrm>
            <a:off x="765000" y="5667480"/>
            <a:ext cx="619308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Pv6 Heade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tination Options Hdr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with BIER Option TLV) +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IPv4/IPv6 Multicast packe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ndard BIER header (RFC8296) encoded inside Standard IPv6 Extension Header (RFC8200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IPv6 Option (0x70 = BIER Option) defined to carry BIER header inside Destination options Ext header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v6 SA is routable IPv6 unica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v6 DA is a well-known multicast address in general case, and is unicast address in special ca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2" descr=""/>
          <p:cNvPicPr/>
          <p:nvPr/>
        </p:nvPicPr>
        <p:blipFill>
          <a:blip r:embed="rId1"/>
          <a:stretch/>
        </p:blipFill>
        <p:spPr>
          <a:xfrm>
            <a:off x="549360" y="546120"/>
            <a:ext cx="4895640" cy="303372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5"/>
          <p:cNvSpPr/>
          <p:nvPr/>
        </p:nvSpPr>
        <p:spPr>
          <a:xfrm>
            <a:off x="476280" y="3645000"/>
            <a:ext cx="590544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ndard BIER header (RFC8296) in standard IPv6 Extension Header (RFC8200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IPv6 option defined, change type 1 -- “Option Data may change en route”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v6 DA is well-known multicast in general case, and is unicast in special ca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v6 SA is routable IPv6 unicast, and used to identify a VPN/GT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04640" y="194760"/>
            <a:ext cx="605016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Next Header values cover current BIER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B7B71524-F467-4273-846B-5B2A5407AF3C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5"/>
          <p:cNvSpPr/>
          <p:nvPr/>
        </p:nvSpPr>
        <p:spPr>
          <a:xfrm>
            <a:off x="115920" y="909720"/>
            <a:ext cx="662616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to’ field in BIER Header ---- replaced by ‘Next Header’ in IPv6 Dest Option Head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1, indicating downstream-assigned MPLS payload, use Next Header value 1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2, indicating upstream-assigned MPLS payload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use IPv6 SA to identify the MVP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use Next Header value 4 or 41 to indicate IPv4/IPv6 payloa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3, indicating Ethernet payload, use Next Header value TB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Value 97 can be used but it has an extra 2 octe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A new value is better since Ethernet in IPv6 is common in SRv6-L2VPN to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4, indicating IPv4 payload, use Next Header value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5, indicating BIER-OAM, use Next Header value 5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-PING need some adaption to IPv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6, indicating IPv6 payload, use Next Header value 4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74480" y="247680"/>
            <a:ext cx="60498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Forwarding Procedure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B0546036-BC28-43DB-ACB5-996EB5B93FB7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5"/>
          <p:cNvSpPr/>
          <p:nvPr/>
        </p:nvSpPr>
        <p:spPr>
          <a:xfrm>
            <a:off x="331920" y="915840"/>
            <a:ext cx="61214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mal BIER forwarding as required by RFC827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All steps ( from step 1 to step 8 ) defined in section 6.5 of RFC8279 app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Walk through the BitString to determine the BFR-NBR(s) to copy packets 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May change the BitString when copy packet to a BFR-NB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option type have chg flag 1 for this purpo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me “IPv6-specific” forwarding procedures required for this encapsul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IPv6 SA - Routable unicast IPv6 address (normally BFIR IPv6 Prefix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IPv6 DA – BIER multicast address (FF0X::AB37) or Unicast address (BFR-Prefix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v6 packet (IPv6 header with BIER Option type) is dropped if the DA is not one of the abov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Nodes which support BIERv6, obtain the standard non-MPLS BIER header in the BIER Option type and perform the BIER forwarding as specified by RFC827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560" y="50760"/>
            <a:ext cx="45370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The General case: Use Multicast DA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Rounded Rectangle 34"/>
          <p:cNvSpPr/>
          <p:nvPr/>
        </p:nvSpPr>
        <p:spPr>
          <a:xfrm>
            <a:off x="716040" y="1601640"/>
            <a:ext cx="5376960" cy="217332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35"/>
          <p:cNvSpPr/>
          <p:nvPr/>
        </p:nvSpPr>
        <p:spPr>
          <a:xfrm>
            <a:off x="65160" y="2473200"/>
            <a:ext cx="387360" cy="4017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36"/>
          <p:cNvSpPr/>
          <p:nvPr/>
        </p:nvSpPr>
        <p:spPr>
          <a:xfrm>
            <a:off x="1052640" y="2416320"/>
            <a:ext cx="556920" cy="529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7"/>
          <p:cNvSpPr/>
          <p:nvPr/>
        </p:nvSpPr>
        <p:spPr>
          <a:xfrm>
            <a:off x="5229360" y="3025800"/>
            <a:ext cx="503280" cy="514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38"/>
          <p:cNvSpPr/>
          <p:nvPr/>
        </p:nvSpPr>
        <p:spPr>
          <a:xfrm>
            <a:off x="6381720" y="3100320"/>
            <a:ext cx="417600" cy="3650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1"/>
          <p:cNvSpPr/>
          <p:nvPr/>
        </p:nvSpPr>
        <p:spPr>
          <a:xfrm>
            <a:off x="149400" y="192420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82"/>
          <p:cNvSpPr/>
          <p:nvPr/>
        </p:nvSpPr>
        <p:spPr>
          <a:xfrm>
            <a:off x="452520" y="2674800"/>
            <a:ext cx="600120" cy="64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79"/>
          <p:cNvSpPr/>
          <p:nvPr/>
        </p:nvSpPr>
        <p:spPr>
          <a:xfrm>
            <a:off x="5732640" y="3282840"/>
            <a:ext cx="649080" cy="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111"/>
          <p:cNvSpPr/>
          <p:nvPr/>
        </p:nvSpPr>
        <p:spPr>
          <a:xfrm>
            <a:off x="1609560" y="2681280"/>
            <a:ext cx="1432080" cy="936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84"/>
          <p:cNvSpPr/>
          <p:nvPr/>
        </p:nvSpPr>
        <p:spPr>
          <a:xfrm>
            <a:off x="3041640" y="2409840"/>
            <a:ext cx="531720" cy="5634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23"/>
          <p:cNvSpPr/>
          <p:nvPr/>
        </p:nvSpPr>
        <p:spPr>
          <a:xfrm>
            <a:off x="374760" y="3456000"/>
            <a:ext cx="104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er IPv6 Header with BIER Header in Destination Options extension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111"/>
          <p:cNvSpPr/>
          <p:nvPr/>
        </p:nvSpPr>
        <p:spPr>
          <a:xfrm>
            <a:off x="3573360" y="2690640"/>
            <a:ext cx="1656000" cy="59220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12"/>
          <p:cNvSpPr/>
          <p:nvPr/>
        </p:nvSpPr>
        <p:spPr>
          <a:xfrm>
            <a:off x="1714680" y="3333600"/>
            <a:ext cx="1358640" cy="14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13"/>
          <p:cNvSpPr/>
          <p:nvPr/>
        </p:nvSpPr>
        <p:spPr>
          <a:xfrm>
            <a:off x="1760400" y="3376440"/>
            <a:ext cx="1265400" cy="7272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FF0X::AB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0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14"/>
          <p:cNvSpPr/>
          <p:nvPr/>
        </p:nvSpPr>
        <p:spPr>
          <a:xfrm>
            <a:off x="1760400" y="415620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37"/>
          <p:cNvSpPr/>
          <p:nvPr/>
        </p:nvSpPr>
        <p:spPr>
          <a:xfrm>
            <a:off x="5208480" y="1811160"/>
            <a:ext cx="524160" cy="532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111"/>
          <p:cNvSpPr/>
          <p:nvPr/>
        </p:nvSpPr>
        <p:spPr>
          <a:xfrm flipV="1">
            <a:off x="3573360" y="2077920"/>
            <a:ext cx="1635120" cy="6127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79"/>
          <p:cNvSpPr/>
          <p:nvPr/>
        </p:nvSpPr>
        <p:spPr>
          <a:xfrm>
            <a:off x="5732640" y="2077920"/>
            <a:ext cx="591840" cy="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左大括号 32"/>
          <p:cNvSpPr/>
          <p:nvPr/>
        </p:nvSpPr>
        <p:spPr>
          <a:xfrm>
            <a:off x="1415880" y="4176720"/>
            <a:ext cx="223920" cy="53820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538200"/>
              <a:gd name="textAreaBottom" fmla="*/ 532440 h 5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5"/>
                  <a:pt x="10800" y="749"/>
                </a:cubicBezTo>
                <a:lnTo>
                  <a:pt x="10800" y="10051"/>
                </a:lnTo>
                <a:cubicBezTo>
                  <a:pt x="10800" y="10426"/>
                  <a:pt x="5400" y="10800"/>
                  <a:pt x="0" y="10800"/>
                </a:cubicBezTo>
                <a:cubicBezTo>
                  <a:pt x="5400" y="10800"/>
                  <a:pt x="10800" y="11175"/>
                  <a:pt x="10800" y="11549"/>
                </a:cubicBezTo>
                <a:lnTo>
                  <a:pt x="10800" y="20851"/>
                </a:lnTo>
                <a:cubicBezTo>
                  <a:pt x="10800" y="212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33"/>
          <p:cNvSpPr/>
          <p:nvPr/>
        </p:nvSpPr>
        <p:spPr>
          <a:xfrm>
            <a:off x="549360" y="424800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ner IPv4/IPv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cast pac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左大括号 34"/>
          <p:cNvSpPr/>
          <p:nvPr/>
        </p:nvSpPr>
        <p:spPr>
          <a:xfrm>
            <a:off x="1417680" y="3441600"/>
            <a:ext cx="223920" cy="66204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662040"/>
              <a:gd name="textAreaBottom" fmla="*/ 656280 h 6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5"/>
                  <a:pt x="10800" y="609"/>
                </a:cubicBezTo>
                <a:lnTo>
                  <a:pt x="10800" y="10191"/>
                </a:lnTo>
                <a:cubicBezTo>
                  <a:pt x="10800" y="10496"/>
                  <a:pt x="5400" y="10800"/>
                  <a:pt x="0" y="10800"/>
                </a:cubicBezTo>
                <a:cubicBezTo>
                  <a:pt x="5400" y="10800"/>
                  <a:pt x="10800" y="11105"/>
                  <a:pt x="10800" y="11409"/>
                </a:cubicBezTo>
                <a:lnTo>
                  <a:pt x="10800" y="20991"/>
                </a:lnTo>
                <a:cubicBezTo>
                  <a:pt x="10800" y="2129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38"/>
          <p:cNvSpPr/>
          <p:nvPr/>
        </p:nvSpPr>
        <p:spPr>
          <a:xfrm>
            <a:off x="6324480" y="1878120"/>
            <a:ext cx="417600" cy="398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0" name="Straight Arrow Connector 36"/>
          <p:cNvCxnSpPr/>
          <p:nvPr/>
        </p:nvCxnSpPr>
        <p:spPr>
          <a:xfrm>
            <a:off x="2276280" y="2787120"/>
            <a:ext cx="1080" cy="36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1" name="Straight Arrow Connector 38"/>
          <p:cNvCxnSpPr/>
          <p:nvPr/>
        </p:nvCxnSpPr>
        <p:spPr>
          <a:xfrm flipV="1">
            <a:off x="4156200" y="2139480"/>
            <a:ext cx="8640" cy="22464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2" name="Straight Arrow Connector 40"/>
          <p:cNvCxnSpPr/>
          <p:nvPr/>
        </p:nvCxnSpPr>
        <p:spPr>
          <a:xfrm>
            <a:off x="4163760" y="3003120"/>
            <a:ext cx="1080" cy="175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3" name="Straight Arrow Connector 60"/>
          <p:cNvCxnSpPr/>
          <p:nvPr/>
        </p:nvCxnSpPr>
        <p:spPr>
          <a:xfrm flipV="1">
            <a:off x="571680" y="2433240"/>
            <a:ext cx="8640" cy="1864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4" name="Straight Arrow Connector 62"/>
          <p:cNvCxnSpPr/>
          <p:nvPr/>
        </p:nvCxnSpPr>
        <p:spPr>
          <a:xfrm flipV="1">
            <a:off x="6156360" y="1833120"/>
            <a:ext cx="10080" cy="1864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5" name="Straight Arrow Connector 63"/>
          <p:cNvCxnSpPr/>
          <p:nvPr/>
        </p:nvCxnSpPr>
        <p:spPr>
          <a:xfrm>
            <a:off x="6165360" y="3333240"/>
            <a:ext cx="1080" cy="175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66" name="TextBox 112"/>
          <p:cNvSpPr/>
          <p:nvPr/>
        </p:nvSpPr>
        <p:spPr>
          <a:xfrm>
            <a:off x="3573360" y="3219480"/>
            <a:ext cx="135756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13"/>
          <p:cNvSpPr/>
          <p:nvPr/>
        </p:nvSpPr>
        <p:spPr>
          <a:xfrm>
            <a:off x="3619440" y="3262320"/>
            <a:ext cx="126540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FF0X::AB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0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4"/>
          <p:cNvSpPr/>
          <p:nvPr/>
        </p:nvSpPr>
        <p:spPr>
          <a:xfrm>
            <a:off x="3619440" y="404352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12"/>
          <p:cNvSpPr/>
          <p:nvPr/>
        </p:nvSpPr>
        <p:spPr>
          <a:xfrm>
            <a:off x="3573360" y="627120"/>
            <a:ext cx="135756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13"/>
          <p:cNvSpPr/>
          <p:nvPr/>
        </p:nvSpPr>
        <p:spPr>
          <a:xfrm>
            <a:off x="3619440" y="669960"/>
            <a:ext cx="126540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FF0X::AB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0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14"/>
          <p:cNvSpPr/>
          <p:nvPr/>
        </p:nvSpPr>
        <p:spPr>
          <a:xfrm>
            <a:off x="3619440" y="145080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81"/>
          <p:cNvSpPr/>
          <p:nvPr/>
        </p:nvSpPr>
        <p:spPr>
          <a:xfrm>
            <a:off x="5802480" y="132876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81"/>
          <p:cNvSpPr/>
          <p:nvPr/>
        </p:nvSpPr>
        <p:spPr>
          <a:xfrm>
            <a:off x="5713560" y="355752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42"/>
          <p:cNvSpPr/>
          <p:nvPr/>
        </p:nvSpPr>
        <p:spPr>
          <a:xfrm>
            <a:off x="139680" y="682560"/>
            <a:ext cx="220968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Use multicast address FF0X::AB37 as DA while forwarding the BIER packets. (To be allocated by IANA – reserved by this draf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ounded Rectangle 34"/>
          <p:cNvSpPr/>
          <p:nvPr/>
        </p:nvSpPr>
        <p:spPr>
          <a:xfrm>
            <a:off x="716040" y="1601640"/>
            <a:ext cx="5376960" cy="217332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35"/>
          <p:cNvSpPr/>
          <p:nvPr/>
        </p:nvSpPr>
        <p:spPr>
          <a:xfrm>
            <a:off x="65160" y="2473200"/>
            <a:ext cx="387360" cy="4017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36"/>
          <p:cNvSpPr/>
          <p:nvPr/>
        </p:nvSpPr>
        <p:spPr>
          <a:xfrm>
            <a:off x="1052640" y="2416320"/>
            <a:ext cx="556920" cy="529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37"/>
          <p:cNvSpPr/>
          <p:nvPr/>
        </p:nvSpPr>
        <p:spPr>
          <a:xfrm>
            <a:off x="5229360" y="3025800"/>
            <a:ext cx="503280" cy="514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38"/>
          <p:cNvSpPr/>
          <p:nvPr/>
        </p:nvSpPr>
        <p:spPr>
          <a:xfrm>
            <a:off x="6381720" y="3100320"/>
            <a:ext cx="417600" cy="3650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81"/>
          <p:cNvSpPr/>
          <p:nvPr/>
        </p:nvSpPr>
        <p:spPr>
          <a:xfrm>
            <a:off x="149400" y="192420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82"/>
          <p:cNvSpPr/>
          <p:nvPr/>
        </p:nvSpPr>
        <p:spPr>
          <a:xfrm>
            <a:off x="452520" y="2674800"/>
            <a:ext cx="600120" cy="64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79"/>
          <p:cNvSpPr/>
          <p:nvPr/>
        </p:nvSpPr>
        <p:spPr>
          <a:xfrm>
            <a:off x="5732640" y="3282840"/>
            <a:ext cx="649080" cy="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111"/>
          <p:cNvSpPr/>
          <p:nvPr/>
        </p:nvSpPr>
        <p:spPr>
          <a:xfrm>
            <a:off x="2529000" y="2687760"/>
            <a:ext cx="512640" cy="28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84"/>
          <p:cNvSpPr/>
          <p:nvPr/>
        </p:nvSpPr>
        <p:spPr>
          <a:xfrm>
            <a:off x="3041640" y="2409840"/>
            <a:ext cx="531720" cy="5634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3"/>
          <p:cNvSpPr/>
          <p:nvPr/>
        </p:nvSpPr>
        <p:spPr>
          <a:xfrm>
            <a:off x="374760" y="3541680"/>
            <a:ext cx="104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er IPv6 Header with BIER Header in Destination Options extension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111"/>
          <p:cNvSpPr/>
          <p:nvPr/>
        </p:nvSpPr>
        <p:spPr>
          <a:xfrm>
            <a:off x="3573360" y="2690640"/>
            <a:ext cx="1656000" cy="59220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112"/>
          <p:cNvSpPr/>
          <p:nvPr/>
        </p:nvSpPr>
        <p:spPr>
          <a:xfrm>
            <a:off x="1714680" y="3419640"/>
            <a:ext cx="1358640" cy="14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13"/>
          <p:cNvSpPr/>
          <p:nvPr/>
        </p:nvSpPr>
        <p:spPr>
          <a:xfrm>
            <a:off x="1760400" y="3462480"/>
            <a:ext cx="126540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B::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0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114"/>
          <p:cNvSpPr/>
          <p:nvPr/>
        </p:nvSpPr>
        <p:spPr>
          <a:xfrm>
            <a:off x="1760400" y="424332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37"/>
          <p:cNvSpPr/>
          <p:nvPr/>
        </p:nvSpPr>
        <p:spPr>
          <a:xfrm>
            <a:off x="5208480" y="1811160"/>
            <a:ext cx="524160" cy="532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11"/>
          <p:cNvSpPr/>
          <p:nvPr/>
        </p:nvSpPr>
        <p:spPr>
          <a:xfrm flipV="1">
            <a:off x="3573360" y="2077920"/>
            <a:ext cx="1635120" cy="6127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79"/>
          <p:cNvSpPr/>
          <p:nvPr/>
        </p:nvSpPr>
        <p:spPr>
          <a:xfrm>
            <a:off x="5732640" y="2077920"/>
            <a:ext cx="591840" cy="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左大括号 32"/>
          <p:cNvSpPr/>
          <p:nvPr/>
        </p:nvSpPr>
        <p:spPr>
          <a:xfrm>
            <a:off x="1415880" y="4262400"/>
            <a:ext cx="223920" cy="53820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538200"/>
              <a:gd name="textAreaBottom" fmla="*/ 532440 h 5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5"/>
                  <a:pt x="10800" y="749"/>
                </a:cubicBezTo>
                <a:lnTo>
                  <a:pt x="10800" y="10051"/>
                </a:lnTo>
                <a:cubicBezTo>
                  <a:pt x="10800" y="10426"/>
                  <a:pt x="5400" y="10800"/>
                  <a:pt x="0" y="10800"/>
                </a:cubicBezTo>
                <a:cubicBezTo>
                  <a:pt x="5400" y="10800"/>
                  <a:pt x="10800" y="11175"/>
                  <a:pt x="10800" y="11549"/>
                </a:cubicBezTo>
                <a:lnTo>
                  <a:pt x="10800" y="20851"/>
                </a:lnTo>
                <a:cubicBezTo>
                  <a:pt x="10800" y="212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33"/>
          <p:cNvSpPr/>
          <p:nvPr/>
        </p:nvSpPr>
        <p:spPr>
          <a:xfrm>
            <a:off x="549360" y="43340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ner IPv4/IPv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cast pac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左大括号 34"/>
          <p:cNvSpPr/>
          <p:nvPr/>
        </p:nvSpPr>
        <p:spPr>
          <a:xfrm>
            <a:off x="1417680" y="3527280"/>
            <a:ext cx="223920" cy="66384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663840"/>
              <a:gd name="textAreaBottom" fmla="*/ 658080 h 6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4"/>
                  <a:pt x="10800" y="607"/>
                </a:cubicBezTo>
                <a:lnTo>
                  <a:pt x="10800" y="10193"/>
                </a:lnTo>
                <a:cubicBezTo>
                  <a:pt x="10800" y="10497"/>
                  <a:pt x="5400" y="10800"/>
                  <a:pt x="0" y="10800"/>
                </a:cubicBezTo>
                <a:cubicBezTo>
                  <a:pt x="5400" y="10800"/>
                  <a:pt x="10800" y="11104"/>
                  <a:pt x="10800" y="11407"/>
                </a:cubicBezTo>
                <a:lnTo>
                  <a:pt x="10800" y="20993"/>
                </a:lnTo>
                <a:cubicBezTo>
                  <a:pt x="10800" y="212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38"/>
          <p:cNvSpPr/>
          <p:nvPr/>
        </p:nvSpPr>
        <p:spPr>
          <a:xfrm>
            <a:off x="6324480" y="1878120"/>
            <a:ext cx="417600" cy="398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7" name="Straight Arrow Connector 38"/>
          <p:cNvCxnSpPr/>
          <p:nvPr/>
        </p:nvCxnSpPr>
        <p:spPr>
          <a:xfrm flipV="1">
            <a:off x="4156200" y="2139480"/>
            <a:ext cx="8640" cy="22464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98" name="Straight Arrow Connector 40"/>
          <p:cNvCxnSpPr/>
          <p:nvPr/>
        </p:nvCxnSpPr>
        <p:spPr>
          <a:xfrm>
            <a:off x="4163760" y="3003120"/>
            <a:ext cx="1080" cy="175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99" name="Straight Arrow Connector 60"/>
          <p:cNvCxnSpPr/>
          <p:nvPr/>
        </p:nvCxnSpPr>
        <p:spPr>
          <a:xfrm flipV="1">
            <a:off x="571680" y="2433240"/>
            <a:ext cx="8640" cy="1864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00" name="Straight Arrow Connector 62"/>
          <p:cNvCxnSpPr/>
          <p:nvPr/>
        </p:nvCxnSpPr>
        <p:spPr>
          <a:xfrm flipV="1">
            <a:off x="6156360" y="1833120"/>
            <a:ext cx="10080" cy="1864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01" name="Straight Arrow Connector 63"/>
          <p:cNvCxnSpPr/>
          <p:nvPr/>
        </p:nvCxnSpPr>
        <p:spPr>
          <a:xfrm>
            <a:off x="6165360" y="3333240"/>
            <a:ext cx="1080" cy="175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702" name="TextBox 112"/>
          <p:cNvSpPr/>
          <p:nvPr/>
        </p:nvSpPr>
        <p:spPr>
          <a:xfrm>
            <a:off x="3573360" y="3219480"/>
            <a:ext cx="135756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13"/>
          <p:cNvSpPr/>
          <p:nvPr/>
        </p:nvSpPr>
        <p:spPr>
          <a:xfrm>
            <a:off x="3619440" y="3262320"/>
            <a:ext cx="126540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FF0X::AB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0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14"/>
          <p:cNvSpPr/>
          <p:nvPr/>
        </p:nvSpPr>
        <p:spPr>
          <a:xfrm>
            <a:off x="3619440" y="404352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12"/>
          <p:cNvSpPr/>
          <p:nvPr/>
        </p:nvSpPr>
        <p:spPr>
          <a:xfrm>
            <a:off x="3573360" y="627120"/>
            <a:ext cx="135756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13"/>
          <p:cNvSpPr/>
          <p:nvPr/>
        </p:nvSpPr>
        <p:spPr>
          <a:xfrm>
            <a:off x="3619440" y="669960"/>
            <a:ext cx="126540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FF0X::AB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0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114"/>
          <p:cNvSpPr/>
          <p:nvPr/>
        </p:nvSpPr>
        <p:spPr>
          <a:xfrm>
            <a:off x="3619440" y="145080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81"/>
          <p:cNvSpPr/>
          <p:nvPr/>
        </p:nvSpPr>
        <p:spPr>
          <a:xfrm>
            <a:off x="5802480" y="132876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81"/>
          <p:cNvSpPr/>
          <p:nvPr/>
        </p:nvSpPr>
        <p:spPr>
          <a:xfrm>
            <a:off x="5713560" y="355752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36"/>
          <p:cNvSpPr/>
          <p:nvPr/>
        </p:nvSpPr>
        <p:spPr>
          <a:xfrm>
            <a:off x="1971720" y="2422440"/>
            <a:ext cx="557280" cy="530280"/>
          </a:xfrm>
          <a:prstGeom prst="ellipse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traight Connector 111"/>
          <p:cNvSpPr/>
          <p:nvPr/>
        </p:nvSpPr>
        <p:spPr>
          <a:xfrm>
            <a:off x="1609560" y="2681280"/>
            <a:ext cx="362160" cy="64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4"/>
          <p:cNvSpPr/>
          <p:nvPr/>
        </p:nvSpPr>
        <p:spPr>
          <a:xfrm>
            <a:off x="1496880" y="2900520"/>
            <a:ext cx="1605240" cy="230040"/>
          </a:xfrm>
          <a:custGeom>
            <a:avLst/>
            <a:gdLst/>
            <a:ahLst/>
            <a:rect l="l" t="t" r="r" b="b"/>
            <a:pathLst>
              <a:path w="1604865" h="230183">
                <a:moveTo>
                  <a:pt x="0" y="12441"/>
                </a:moveTo>
                <a:cubicBezTo>
                  <a:pt x="255037" y="122334"/>
                  <a:pt x="510074" y="232228"/>
                  <a:pt x="777551" y="230155"/>
                </a:cubicBezTo>
                <a:cubicBezTo>
                  <a:pt x="1045028" y="228082"/>
                  <a:pt x="1535404" y="40433"/>
                  <a:pt x="1604865" y="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3" name="Straight Arrow Connector 44"/>
          <p:cNvCxnSpPr/>
          <p:nvPr/>
        </p:nvCxnSpPr>
        <p:spPr>
          <a:xfrm flipV="1">
            <a:off x="2247480" y="3177720"/>
            <a:ext cx="10440" cy="186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4120" y="123840"/>
            <a:ext cx="626724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Unicast DA Case 1: To bypass non-capable node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TextBox 47"/>
          <p:cNvSpPr/>
          <p:nvPr/>
        </p:nvSpPr>
        <p:spPr>
          <a:xfrm>
            <a:off x="476280" y="623880"/>
            <a:ext cx="2108160" cy="505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Use unicast address to bypass non bier capable nod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( No need for special tunneling  - </a:t>
            </a:r>
            <a:r>
              <a:rPr b="0" lang="en-US" sz="9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74840" y="195120"/>
            <a:ext cx="59068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Unicast DA case-2: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5A3B5326-A609-4BB7-AD81-42B132E4BCFC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ounded Rectangle 34"/>
          <p:cNvSpPr/>
          <p:nvPr/>
        </p:nvSpPr>
        <p:spPr>
          <a:xfrm>
            <a:off x="1743120" y="1203480"/>
            <a:ext cx="3486240" cy="137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Pv6 BIER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35"/>
          <p:cNvSpPr/>
          <p:nvPr/>
        </p:nvSpPr>
        <p:spPr>
          <a:xfrm>
            <a:off x="404640" y="1612800"/>
            <a:ext cx="432000" cy="37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36"/>
          <p:cNvSpPr/>
          <p:nvPr/>
        </p:nvSpPr>
        <p:spPr>
          <a:xfrm>
            <a:off x="1674720" y="1658880"/>
            <a:ext cx="557280" cy="530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37"/>
          <p:cNvSpPr/>
          <p:nvPr/>
        </p:nvSpPr>
        <p:spPr>
          <a:xfrm>
            <a:off x="4870440" y="1889280"/>
            <a:ext cx="503280" cy="5158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38"/>
          <p:cNvSpPr/>
          <p:nvPr/>
        </p:nvSpPr>
        <p:spPr>
          <a:xfrm>
            <a:off x="6080040" y="1971720"/>
            <a:ext cx="444600" cy="3603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81"/>
          <p:cNvSpPr/>
          <p:nvPr/>
        </p:nvSpPr>
        <p:spPr>
          <a:xfrm>
            <a:off x="677880" y="2039760"/>
            <a:ext cx="1047600" cy="5292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82"/>
          <p:cNvSpPr/>
          <p:nvPr/>
        </p:nvSpPr>
        <p:spPr>
          <a:xfrm>
            <a:off x="836640" y="1801800"/>
            <a:ext cx="838080" cy="12240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81"/>
          <p:cNvSpPr/>
          <p:nvPr/>
        </p:nvSpPr>
        <p:spPr>
          <a:xfrm>
            <a:off x="5270760" y="2373480"/>
            <a:ext cx="1032840" cy="5292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79"/>
          <p:cNvSpPr/>
          <p:nvPr/>
        </p:nvSpPr>
        <p:spPr>
          <a:xfrm>
            <a:off x="5373720" y="2147760"/>
            <a:ext cx="706320" cy="504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111"/>
          <p:cNvSpPr/>
          <p:nvPr/>
        </p:nvSpPr>
        <p:spPr>
          <a:xfrm flipV="1">
            <a:off x="2249640" y="1872720"/>
            <a:ext cx="863280" cy="1620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84"/>
          <p:cNvSpPr/>
          <p:nvPr/>
        </p:nvSpPr>
        <p:spPr>
          <a:xfrm>
            <a:off x="3112920" y="1592280"/>
            <a:ext cx="532080" cy="561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traight Connector 111"/>
          <p:cNvSpPr/>
          <p:nvPr/>
        </p:nvSpPr>
        <p:spPr>
          <a:xfrm>
            <a:off x="3645000" y="1873080"/>
            <a:ext cx="1225440" cy="2746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12"/>
          <p:cNvSpPr/>
          <p:nvPr/>
        </p:nvSpPr>
        <p:spPr>
          <a:xfrm>
            <a:off x="1859040" y="2692440"/>
            <a:ext cx="14986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13"/>
          <p:cNvSpPr/>
          <p:nvPr/>
        </p:nvSpPr>
        <p:spPr>
          <a:xfrm>
            <a:off x="1949400" y="2778120"/>
            <a:ext cx="1335240" cy="8748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B: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14"/>
          <p:cNvSpPr/>
          <p:nvPr/>
        </p:nvSpPr>
        <p:spPr>
          <a:xfrm>
            <a:off x="1922400" y="3706920"/>
            <a:ext cx="1362240" cy="6818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37"/>
          <p:cNvSpPr/>
          <p:nvPr/>
        </p:nvSpPr>
        <p:spPr>
          <a:xfrm>
            <a:off x="4849920" y="1252440"/>
            <a:ext cx="523800" cy="532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38"/>
          <p:cNvSpPr/>
          <p:nvPr/>
        </p:nvSpPr>
        <p:spPr>
          <a:xfrm>
            <a:off x="6049800" y="1324080"/>
            <a:ext cx="447840" cy="3762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1"/>
          <p:cNvSpPr/>
          <p:nvPr/>
        </p:nvSpPr>
        <p:spPr>
          <a:xfrm flipV="1">
            <a:off x="3645000" y="1517400"/>
            <a:ext cx="1204920" cy="3553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traight Connector 79"/>
          <p:cNvSpPr/>
          <p:nvPr/>
        </p:nvSpPr>
        <p:spPr>
          <a:xfrm flipV="1">
            <a:off x="5373720" y="1511280"/>
            <a:ext cx="676080" cy="79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112"/>
          <p:cNvSpPr/>
          <p:nvPr/>
        </p:nvSpPr>
        <p:spPr>
          <a:xfrm>
            <a:off x="3537000" y="2692440"/>
            <a:ext cx="15001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113"/>
          <p:cNvSpPr/>
          <p:nvPr/>
        </p:nvSpPr>
        <p:spPr>
          <a:xfrm>
            <a:off x="3629160" y="2778120"/>
            <a:ext cx="1334880" cy="8748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: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0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14"/>
          <p:cNvSpPr/>
          <p:nvPr/>
        </p:nvSpPr>
        <p:spPr>
          <a:xfrm>
            <a:off x="3602160" y="3706920"/>
            <a:ext cx="1361880" cy="6818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35"/>
          <p:cNvSpPr/>
          <p:nvPr/>
        </p:nvSpPr>
        <p:spPr>
          <a:xfrm>
            <a:off x="2421000" y="1612800"/>
            <a:ext cx="457200" cy="519120"/>
          </a:xfrm>
          <a:prstGeom prst="ellipse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云形 1"/>
          <p:cNvSpPr/>
          <p:nvPr/>
        </p:nvSpPr>
        <p:spPr>
          <a:xfrm>
            <a:off x="4005360" y="1477800"/>
            <a:ext cx="465120" cy="782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47"/>
          <p:cNvSpPr/>
          <p:nvPr/>
        </p:nvSpPr>
        <p:spPr>
          <a:xfrm>
            <a:off x="471600" y="771480"/>
            <a:ext cx="1949400" cy="23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This is an Unicast-Unicast ca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71600" y="282600"/>
            <a:ext cx="59148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Why is the encapsulatio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04280" y="915480"/>
            <a:ext cx="5975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hy use IPv6 Destination Option Header 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[RFC8200] Defining </a:t>
            </a: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new IPv6 extension headers is not recommende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unless there are no existing IPv6 extension headers that can be used by specifying a new option for that IPv6 extension heade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[RFC8200] it is </a:t>
            </a: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recommended that the Destination Options header is used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o carry optional information that must be examined only by a packet's destination node(s), because they provide better handling and backward compatibilit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Pv6 Destination Option Header is not only feasible, but also the recommended one in RFC8200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hy use well-known multicast address as IPv6 DA for general case 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[RFC8200] Extension headers are not processed until the packet reaches the node (or </a:t>
            </a: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each of the set of nodes, in the case of multicast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) identified in the Destination Address field of the IPv6 header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is can not only simplify the forwarding, but also match the general concept of Replication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hy use Next Header instead of BIER Proto in IPv6 encapsulation 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of Next Header to indicate the format of the payload  is more general IPv6 usa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etter backward compatibility, e.g., enable offline tools to know the payload typ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481CC88B-0347-46CE-B0FB-390EBB82B6D0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Michael McBride</cp:lastModifiedBy>
  <dcterms:modified xsi:type="dcterms:W3CDTF">2019-03-21T15:27:11Z</dcterms:modified>
  <cp:revision>16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yRmtUOVTW1DPnYzfinucMwz5r2xjTn79PlzG4kXifV61hIZWoTezn2Wbmnwir1NA62lfDZJQ
QVKi4YdNXa1+Up4WXxxKx97qeA/RFdJB9tWc5XWK7K3WSro1nm1FztvzyjpiRKZQQSTh1Q3e
8IAGmB0qd4AeNM0j4Pp7tsSzUvadutJzCuH0kW4yY80RB+EKJY0JBEsw56Lcm+XtIskJBCE2
aTBPY9i3m4sm/uw5ly</vt:lpwstr>
  </property>
  <property fmtid="{D5CDD505-2E9C-101B-9397-08002B2CF9AE}" pid="3" name="_2015_ms_pID_7253431">
    <vt:lpwstr>uKR4t+xPLEyCZFbGRatz9lLFG7dCKdacHOtBDqMFX1+hcJQQKhs3Ki
FI/1F5Gnw0rpvbOHfZbDz2u5IBaPUPgzLcwGv/IqySsPi7lgTuxCkQLKy77LaA/ZdHJKOox+
WkcLOpjs5+0tJYJABXBl9F3d48atMS/cvRuoVIGTQXtIaPwV/TV/Sj5sa614wDbSdZej+au5
z7gaEki1eYyjAXvsHOQO5jaP6Y/gxf+zKjZC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TpszxKQWmNgHUE+KA6PuU8AjxkqAAItZuPTx
RLAvshTZTppxEL8tepediMGZ6ZwBKln2g5UAREvT56/hECWziAY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53181983</vt:lpwstr>
  </property>
</Properties>
</file>