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</p:sldIdLst>
  <p:sldSz cx="6858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dt" idx="3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087AC-12D6-4834-B937-F9BD7E9C2258}" type="datetime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ftr" idx="3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 type="sldNum" idx="4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EB2BC-0B30-4DA8-8464-4A60093E14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9ABAB-F815-46D4-98F9-4EF031C809E6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463A-8331-4D08-9B2C-F4E1135C20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F6DB8-1180-473F-A51C-05774118C844}" type="datetime">
              <a:rPr b="0" lang="zh-CN" sz="12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0FC2C-DA8D-4B67-91DE-188922625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7A83C0-FC35-4F47-9B80-8CB3FED10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F2A956F-9417-4929-B565-9559D649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7E4555-D7F5-4104-9AC0-94746EA1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C868AB6-DFFB-478F-B3CD-785820D52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FCFB57-3F71-4FC4-B905-F6F53D4F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516CAB-73F5-429C-8442-AB9966C2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09DD712-7AC6-4A67-B8D7-E0E9A110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B296A9-1972-4354-86D4-BDF53C166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E0BC2E9-8C27-43FB-B3B2-8E69903EE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22E055-85B6-486A-B2A4-C431A0CDB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CE3E4-0D2C-402A-AFF9-FB0D9D9D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6FFBC1-A432-41D7-A05E-43E4720C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5729483-08BB-4062-A2EC-685D6CC87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090EA5-97E6-44EB-80A5-66225001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B35D2B-E266-4D3B-A917-BD42B1A08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BBE60-585D-4803-8648-BDE73E3E0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7CEE2B-6310-4F1B-8EAD-AB856F16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AF5FCD-BBA9-4834-BD9F-412A67AD2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07957-6628-478B-B838-7FF89E010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0A1FB0-E67A-4921-AF8B-FD7A50110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15DB33-20B5-4809-8C85-3BF2816B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9E442E-2AB7-499F-983B-958178425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38DE15-B7BD-41A8-AC21-1E378EAF3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AF9D5A-EF88-4E82-9D77-8707F7B89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41FE84-E569-4D47-809F-8F54F183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52A1B4-B7BD-46AC-8BEE-35A0A780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8C48AC-75F7-4DBF-87C5-CA52DA0C4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5BB629-5389-45B8-90A5-32F5E06C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381A2E-278E-407A-9EC2-1D57025C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937D5F9-473D-42B2-BE66-5488D2E4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8DFC3F-76A7-4C32-9E0D-C298AA69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43BAE-8017-4168-AB8C-3CD5DEFDF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BBA3B00-5518-4CA8-BCFC-146F0BA27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B99B0F-19FF-480C-BC1F-8B972BEEC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4997D86-B2EB-45A7-9E24-9384DAC7A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5959641-812E-47A3-AB1A-98AFCC5D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F1B7C67-304A-4324-AEF1-F5A56D253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816D58A-F2F6-4016-9E78-9150C10AF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38A56C4-F54B-4C51-8EE9-316A5BB0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0658C85-8C77-49F6-A8F5-298E24BF7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719682D-3C6C-463D-BC09-9476A5402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8E8F39-4258-481A-9851-313675D4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469DB55-7F2E-4712-9EC7-793F9863E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84E0ED5-CB75-4621-B129-0B357A872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B826E2B-9453-47B8-8DE9-6FD6E93E6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820B1AB-E027-495E-9A3F-6DE3CA8B5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9AD7521-5241-4CF8-A882-E30541EA0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1F4E36-22FB-4977-BD32-2D1664DB5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4AD0323-D5FE-4246-ACDA-36185B2F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F891F-0056-467D-BB89-56D86F6D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E0DB05-C518-42D3-BD32-3A5ACD9F0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02B18C-C4E4-43FA-B123-12705EBF4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EF09C-6359-408A-A4F8-355D239F8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E098F4-3DE4-4FF9-B2C0-7D8B4F29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7B90D7-5279-47B3-BE4F-918A04F2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441430-8ED4-4392-AFBB-08918B546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07C31E-400E-43AD-B4CB-7E5F8D711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0468B-8410-4907-82C8-092976FA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10750D-97B1-48B0-8887-7DE21DC9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7FF09E-BC25-4AF1-9B2E-DD07AE491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8652B4B-3DF8-4B99-9AB9-C3AEE0A47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2576153-94AC-48C0-8220-DA41D472C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3CFAF82-CBA7-4A06-AD83-507796BBD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652DC9-82A4-40D3-B900-E5171EDB7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FD474C1-4173-48D4-AA63-A06BB65C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CD2D99-7044-4967-8EFC-AA892A9A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79CEEFB-BDEB-4732-83CF-F0650A1F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6279EE6-3D8A-42CF-9F92-9EB8D4866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F9C650-7CEE-41F5-AD6C-71CF3A41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A3F8DF1-155F-40CA-901E-6359855F1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98B6E6-A6B0-40FE-9B9F-77B272C2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3C86FCD3-2CAC-4EDE-B7C0-16D22718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0D3AAF7-B2BE-49C7-B52C-F9EDF950F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C5A7B2-A09B-4FB2-9B44-23E21ADF3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BC57AE-3AEC-4CEB-810B-396A1BD9B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9712F-2747-4D1C-BF39-C40CE037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8C8BC-8600-43DA-8123-69389CA3D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5A65C-F09D-40C5-9253-EA4F481EA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D8521-81E3-472A-AAB9-965C5DC6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189CD3-E8C7-4B59-921E-DFECC5E1B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64E151-74F7-4A3F-B448-DC11A254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2555D4-C328-42C0-B48C-5A6B12E7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ECFEF0-CEB9-42BD-89CB-D8C08DBEF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CD560-D63E-439C-A986-CC81C17E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937DC1-F26C-4D46-A194-95B69F32D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783935-B09E-4E56-9253-28DA1300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A537D-0CC0-4F35-96A1-BB5651489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CA1F064-3125-4AE1-B331-BBA6000F3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0B5569-1B70-4A52-B307-C4E586CD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F0220A-852F-42B7-AB94-1D8DE8FC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395CC5-3329-4DCF-8B26-122638B67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210A07-404A-4667-9918-47A119542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B294F1-154E-43D0-A45A-78A86161B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F4FEEB-458E-4D3A-8337-62707C471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622334-DA4F-4648-843B-F182FCF8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01E7076-CD78-45D4-9A63-B66900339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859C59-68CC-4A73-99D3-8D798AD4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AFE10E-F500-4E3E-B4EE-A9B0D781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0781F1-83D2-4522-A75E-7B18D991A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F9D6BD-F8BF-42D2-B092-987BE92A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6EE6DF-4981-47D1-8C8A-E0929F2C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9B22D5-1FBF-41F2-B225-532AC0EF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5C86DD-093C-415C-851E-E0BE82EA2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ACD897D-2D5A-47AB-AE97-6579954E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69C8D-CD01-456A-B653-60C5FA4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BA9BE4-7D33-4E4A-B058-BCF2B228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C1D7573-BFF1-452A-BEE2-587BAA84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3DBD94-3FB9-49E3-BEEB-EFA860095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2679A67-12AC-4A5D-9C75-FE5D0477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470135-E34D-4016-94F3-8C0FAA09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8F4121-F3BC-4A5C-84A5-F8E330D3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275F2E-A3E4-4384-ADAD-9B0F3743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5285CD6-48CB-4980-807E-6AF9C5B1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5681652-82D6-423E-9392-08800326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3EA44A2-A306-4778-8E19-88D6CD7A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954D18-1E3E-4F70-946C-159D421FF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236D57-D01C-47DB-A520-65F0B6F32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FF7A5B0-5907-4BA0-8941-BD8B00E5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E8A2104-43CE-46CC-AF05-2C1FF5E23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70E0296-47A3-40A6-8E12-C114EC5F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FFEE27-47BA-4B6A-BF55-9FD7792A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F0B4F89-42A4-43E2-8711-805CDCDE2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08D817C-2A04-4518-B65C-400448E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F064AF8-B421-4A77-A6EA-C5E5540B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1180E4-7D11-40B1-A53B-493E898B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EADC72-07B4-4008-9744-E46C677C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F3A526-7592-4E82-BE5E-F2582821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BA11B7-68E6-4D03-AD57-1307B4A2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B849F9-6F72-4FE9-82A7-E5973A64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6CB6124-96D6-48BA-AA6A-96E60AE2F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1114005-5FA3-41C5-B094-3FA8B4788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DD638E-16F7-475B-AB3F-B76D77A0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C017051-F047-4C64-914C-70915707C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6CF21B0-84E5-4ACD-BBFF-1FAED284F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71600" y="274680"/>
            <a:ext cx="591480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0A96AC2-F6AE-49DA-8AEE-1C34C7E7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C210522-3D90-4026-8606-68F539040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3E2F367-D6C9-4F3C-A2CF-679AFA0F6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4C1C901-CF25-4A8E-BE19-53CA3A7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1600" y="3074400"/>
            <a:ext cx="59148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A24F55-D340-499E-AE97-D1A4FF48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502440" y="137016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160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3502440" y="3074400"/>
            <a:ext cx="288612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C480F3-F070-44A8-9BE9-E3C7646BC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24717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471560" y="137016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160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24717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4471560" y="3074400"/>
            <a:ext cx="1904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A2EFB31-5E79-4CC4-832B-518FC3A7E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24C0C8-27DC-4960-959B-7343BF54E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F8ACD4-60D8-408D-B5AD-F4BD24AC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A3C40A-2284-4CC2-86E9-3602BA02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7"/>
          <p:cNvPicPr/>
          <p:nvPr/>
        </p:nvPicPr>
        <p:blipFill>
          <a:blip r:embed="rId2"/>
          <a:stretch/>
        </p:blipFill>
        <p:spPr>
          <a:xfrm>
            <a:off x="0" y="4665600"/>
            <a:ext cx="6856560" cy="478080"/>
          </a:xfrm>
          <a:prstGeom prst="rect">
            <a:avLst/>
          </a:prstGeom>
          <a:ln w="0">
            <a:noFill/>
          </a:ln>
        </p:spPr>
      </p:pic>
      <p:sp>
        <p:nvSpPr>
          <p:cNvPr id="3" name="Text Box 5"/>
          <p:cNvSpPr/>
          <p:nvPr/>
        </p:nvSpPr>
        <p:spPr>
          <a:xfrm>
            <a:off x="532080" y="4826160"/>
            <a:ext cx="111348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</a:t>
            </a:r>
            <a:r>
              <a:rPr b="0" lang="en-US" sz="700" spc="-1" strike="noStrike">
                <a:solidFill>
                  <a:srgbClr val="990000"/>
                </a:solidFill>
                <a:latin typeface="FrutigerNext LT Bold"/>
                <a:ea typeface="MS PGothic"/>
              </a:rPr>
              <a:t>CONFIDENTIAL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446720" y="4800240"/>
            <a:ext cx="793440" cy="82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20413729-D205-488F-8D76-F76E5AE9B8C1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8"/>
          <p:cNvPicPr/>
          <p:nvPr/>
        </p:nvPicPr>
        <p:blipFill>
          <a:blip r:embed="rId3"/>
          <a:stretch/>
        </p:blipFill>
        <p:spPr>
          <a:xfrm>
            <a:off x="5630760" y="4807080"/>
            <a:ext cx="982800" cy="23328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2087640" y="4805280"/>
            <a:ext cx="20826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9680" rIns="49680" tIns="24840" bIns="2484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楷体_GB2312"/>
              </a:rPr>
              <a:t>内部资料 注意保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3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E2841D2A-A1DA-4D4D-AB9C-9EFEE420D84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4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25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B01A7-D3C1-4D25-809A-BC93176D5544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6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F10039D-193A-435E-B328-A9C04E2D1B1D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7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28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CDA54-5F3B-486C-8D54-C65A50E5E8E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9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C3A401D0-B626-4C7B-B682-E40F29A9F48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0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1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98D7-3A3D-4655-9849-23952915CA7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6FD01357-C4FF-45BF-BEBF-988B9BBD9872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10B0-DB2E-4254-8298-53AB302F661F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D88BD2E-7798-4097-AF6C-5A18035E918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39B4D-B7CB-4A53-A865-E4220EE9CCCB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7DD6987-EE59-4F52-8590-1B3DDA70EF5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7E8FD-10A4-4031-AB09-51C7FA426A6C}" type="slidenum"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Logo"/>
          <p:cNvPicPr/>
          <p:nvPr/>
        </p:nvPicPr>
        <p:blipFill>
          <a:blip r:embed="rId2"/>
          <a:stretch/>
        </p:blipFill>
        <p:spPr>
          <a:xfrm>
            <a:off x="5630760" y="4184640"/>
            <a:ext cx="615960" cy="615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2"/>
          <p:cNvPicPr/>
          <p:nvPr/>
        </p:nvPicPr>
        <p:blipFill>
          <a:blip r:embed="rId3"/>
          <a:stretch/>
        </p:blipFill>
        <p:spPr>
          <a:xfrm>
            <a:off x="1440" y="588960"/>
            <a:ext cx="6856560" cy="2857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4"/>
          <p:cNvSpPr/>
          <p:nvPr/>
        </p:nvSpPr>
        <p:spPr>
          <a:xfrm>
            <a:off x="523080" y="246240"/>
            <a:ext cx="8028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900" spc="-1" strike="noStrike">
                <a:solidFill>
                  <a:srgbClr val="666666"/>
                </a:solidFill>
                <a:latin typeface="FrutigerNext LT Regular"/>
                <a:ea typeface="MS PGothic"/>
              </a:rPr>
              <a:t>06.April 20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505800" y="4654440"/>
            <a:ext cx="1647000" cy="15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FrutigerNext LT Bold"/>
                <a:ea typeface="MS PGothic"/>
              </a:rPr>
              <a:t>HUAWEI TECHNOLOGIES CO., LT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5433840" y="2989440"/>
            <a:ext cx="1128960" cy="2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960" rIns="57960" tIns="29160" bIns="291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ww.huawei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87480"/>
            <a:ext cx="6048720" cy="47448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ctr">
            <a:noAutofit/>
          </a:bodyPr>
          <a:p>
            <a:pPr indent="0">
              <a:buNone/>
              <a:tabLst>
                <a:tab algn="l" pos="0"/>
                <a:tab algn="l" pos="496800"/>
                <a:tab algn="l" pos="993600"/>
                <a:tab algn="l" pos="1490760"/>
                <a:tab algn="l" pos="1987560"/>
                <a:tab algn="l" pos="2484360"/>
                <a:tab algn="l" pos="2981160"/>
                <a:tab algn="l" pos="3478320"/>
                <a:tab algn="l" pos="3975120"/>
                <a:tab algn="l" pos="4471920"/>
                <a:tab algn="l" pos="4968720"/>
                <a:tab algn="l" pos="5465880"/>
                <a:tab algn="l" pos="5962680"/>
                <a:tab algn="l" pos="6459480"/>
                <a:tab algn="l" pos="6956280"/>
                <a:tab algn="l" pos="7453440"/>
                <a:tab algn="l" pos="7950240"/>
                <a:tab algn="l" pos="8447040"/>
                <a:tab algn="l" pos="8943840"/>
                <a:tab algn="l" pos="9441000"/>
                <a:tab algn="l" pos="9937800"/>
              </a:tabLst>
            </a:pPr>
            <a:r>
              <a:rPr b="1" lang="en-US" sz="17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17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243000" y="681120"/>
            <a:ext cx="6372000" cy="3913200"/>
          </a:xfrm>
          <a:prstGeom prst="rect">
            <a:avLst/>
          </a:prstGeom>
          <a:noFill/>
          <a:ln w="0">
            <a:noFill/>
          </a:ln>
        </p:spPr>
        <p:txBody>
          <a:bodyPr lIns="78120" rIns="78120" tIns="39240" bIns="39240" anchor="t">
            <a:normAutofit/>
          </a:bodyPr>
          <a:p>
            <a:pPr marL="158760" indent="-158760">
              <a:lnSpc>
                <a:spcPct val="14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345960" indent="-1317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531720" indent="-10620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3" marL="744480" indent="-10620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4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5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6" marL="957240" indent="-104760">
              <a:lnSpc>
                <a:spcPct val="140000"/>
              </a:lnSpc>
              <a:buClr>
                <a:srgbClr val="000000"/>
              </a:buClr>
              <a:buFont typeface="Arial"/>
              <a:buChar char="»"/>
              <a:tabLst>
                <a:tab algn="l" pos="425520"/>
                <a:tab algn="l" pos="851040"/>
                <a:tab algn="l" pos="1276200"/>
                <a:tab algn="l" pos="1701720"/>
                <a:tab algn="l" pos="2127240"/>
                <a:tab algn="l" pos="2552760"/>
                <a:tab algn="l" pos="2978280"/>
                <a:tab algn="l" pos="3403440"/>
                <a:tab algn="l" pos="3828960"/>
                <a:tab algn="l" pos="4254480"/>
                <a:tab algn="l" pos="4680000"/>
                <a:tab algn="l" pos="5105520"/>
                <a:tab algn="l" pos="5530680"/>
                <a:tab algn="l" pos="5956200"/>
                <a:tab algn="l" pos="6381720"/>
                <a:tab algn="l" pos="6807240"/>
                <a:tab algn="l" pos="7232760"/>
                <a:tab algn="l" pos="7658280"/>
                <a:tab algn="l" pos="8083440"/>
                <a:tab algn="l" pos="850896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5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32D36FAE-D762-48A0-8851-C3C361ADCF25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6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7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B22C5-BDB2-41A3-968A-07B7A4500C9A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8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2C3A7A8-3510-4FBA-B7D2-F4A3FA2CC769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9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0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31B6F-5445-433A-9623-B6D3C7347810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1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49D0D46E-76B4-40C3-A45D-B1DBC6F8B1B7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2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3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4B37-3345-4AEB-AB55-4651EB6B303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4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F403E9E9-F88D-4335-B684-FD2033196A9C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5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6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5DE-C482-4BB5-A3E9-18ECACA4E6E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7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AE18C5C2-DAB6-435A-99CA-5DC307C85DD3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18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19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91F5-A937-4D92-98A7-95073ACB91F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71600" y="274680"/>
            <a:ext cx="59148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71600" y="1370160"/>
            <a:ext cx="591480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0"/>
          </p:nvPr>
        </p:nvSpPr>
        <p:spPr>
          <a:xfrm>
            <a:off x="47160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Page </a:t>
            </a:r>
            <a:fld id="{2831F1D8-572F-49EC-A493-F71B77A73D88}" type="slidenum">
              <a:rPr b="0" lang="de-DE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1"/>
          </p:nvPr>
        </p:nvSpPr>
        <p:spPr>
          <a:xfrm>
            <a:off x="2271600" y="4766760"/>
            <a:ext cx="23148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2"/>
          </p:nvPr>
        </p:nvSpPr>
        <p:spPr>
          <a:xfrm>
            <a:off x="4843440" y="4766760"/>
            <a:ext cx="15429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B2607-5E6E-49F5-97DE-89D88C7DA13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6"/>
          <p:cNvSpPr/>
          <p:nvPr/>
        </p:nvSpPr>
        <p:spPr>
          <a:xfrm>
            <a:off x="411120" y="1079640"/>
            <a:ext cx="603576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Encapsulation for BIER in Non-MPLS IPv6 Network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draft-xie-bier-ipv6-encapsulation-00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  <a:ea typeface="楷体_GB2312"/>
              </a:rPr>
              <a:t>IETF104   2019-03-25  Prag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6"/>
          <p:cNvSpPr/>
          <p:nvPr/>
        </p:nvSpPr>
        <p:spPr>
          <a:xfrm>
            <a:off x="411120" y="2859120"/>
            <a:ext cx="6035760" cy="15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2560" rIns="52560" tIns="26280" bIns="2628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Jingrong X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Liang Ge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Mike McBr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Senthil Dhanara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Gang 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Yang X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26520" y="194760"/>
            <a:ext cx="6270840" cy="48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BIERv6(L3) and BIER-ETH(L2.5) Brief Comparison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2AA10C72-EA98-4528-BBB7-0C65749784F1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文本框 3"/>
          <p:cNvSpPr/>
          <p:nvPr/>
        </p:nvSpPr>
        <p:spPr>
          <a:xfrm>
            <a:off x="333360" y="843120"/>
            <a:ext cx="619128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-by-hop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3 BIER uses L3 multicast DA/MAC, and doesn’t change hop-by-h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2.5 BIER uses unicast MAC, and change hop-by-ho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hop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3 BIER uses L3 unicast DA, without introducing tunnel handl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sider unicast-multicast, multicast-unicast, unicast-unicast re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1128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L2.5 BIER uses L3 unicast tunnel (in Non-MPLS network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cost on tunnel endpoint encapsulation/decapsul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filtering of L2.5 packets, since tunnel allows L2.5 packet, various L2.5 packets may come from the tunn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control-plane to advertise the tunnel endpoint info like &lt;draft-ietf-isis-encapsulation-cap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eed more packet length and header cascading using GRE/UD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ay not be able to use the IPv6 SA to identify a VPN, while having to use IPv6 for tunnel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9856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Request to the WG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"/>
          <p:cNvSpPr txBox="1"/>
          <p:nvPr/>
        </p:nvSpPr>
        <p:spPr>
          <a:xfrm>
            <a:off x="404280" y="1131480"/>
            <a:ext cx="597564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lease join 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option Reque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2CC4ECC1-CCB5-4ACD-B41D-D970AAD4A54E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3"/>
          <p:cNvSpPr/>
          <p:nvPr/>
        </p:nvSpPr>
        <p:spPr>
          <a:xfrm>
            <a:off x="2414880" y="1954080"/>
            <a:ext cx="1668240" cy="4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9680" rIns="49680" tIns="24840" bIns="24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FrutigerNext LT Medium"/>
                <a:ea typeface="MS PGothic"/>
              </a:rPr>
              <a:t>Thank You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文本框 1"/>
          <p:cNvSpPr/>
          <p:nvPr/>
        </p:nvSpPr>
        <p:spPr>
          <a:xfrm>
            <a:off x="1197000" y="1771560"/>
            <a:ext cx="42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10760" y="410760"/>
            <a:ext cx="5915160" cy="41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 Light"/>
              </a:rPr>
              <a:t>Status update</a:t>
            </a:r>
            <a:endParaRPr b="0" lang="en-US" sz="3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59920" y="987120"/>
            <a:ext cx="637236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0 version posted at April 2018, and updated to 02 ever since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named from [draft-xie-bier-6man-encapsulation-02] to [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楷体_GB2312"/>
              </a:rPr>
              <a:t>draft-xie-bier-ipv6-encapsulation-00]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-arranged &amp; Updated Sections to make it more readab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the problem-statement part. Spawned new draft [draft-mcbride-bier-ipv6-problem-statement] to detail the problem statement and use cases of BIER in IPv6 environment as suggested IETF103 BIER WG discu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moved the dependency on SRH, and use Unicast IPv6 destination address instea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each field of the encapsulation, notably the IPv6 SA/DA and BIER Proto fiel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iled the procedures, notably the IPv6-specific forwarding procedur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4280" y="-92520"/>
            <a:ext cx="60501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The proposed encapsulation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文本框 5"/>
          <p:cNvSpPr/>
          <p:nvPr/>
        </p:nvSpPr>
        <p:spPr>
          <a:xfrm>
            <a:off x="765000" y="5667480"/>
            <a:ext cx="6193080" cy="22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Pv6 Header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Destination Options Hdr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(with BIER Option TLV) +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ayload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(IPv4/IPv6 Multicast packet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(RFC8296) encoded inside Standard IPv6 Extension Header (RFC8200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IPv6 Option (0x70 = BIER Option) defined to carry BIER header inside Destination options Ext header.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SA is routable IPv6 unica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DA is a well-known multicast address in general case, and is unicast address in special c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图片 2" descr=""/>
          <p:cNvPicPr/>
          <p:nvPr/>
        </p:nvPicPr>
        <p:blipFill>
          <a:blip r:embed="rId1"/>
          <a:stretch/>
        </p:blipFill>
        <p:spPr>
          <a:xfrm>
            <a:off x="549360" y="546120"/>
            <a:ext cx="4895640" cy="3033720"/>
          </a:xfrm>
          <a:prstGeom prst="rect">
            <a:avLst/>
          </a:prstGeom>
          <a:ln w="0">
            <a:noFill/>
          </a:ln>
        </p:spPr>
      </p:pic>
      <p:sp>
        <p:nvSpPr>
          <p:cNvPr id="630" name="文本框 5"/>
          <p:cNvSpPr/>
          <p:nvPr/>
        </p:nvSpPr>
        <p:spPr>
          <a:xfrm>
            <a:off x="476280" y="3645000"/>
            <a:ext cx="5905440" cy="9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andard BIER header (RFC8296) in standard IPv6 Extension Header (RFC8200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ew IPv6 option defined, change type 1 -- “Option Data may change en route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DA is well-known multicast in general case, and is unicast in special case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Pv6 SA is routable IPv6 unicast, and used to identify a VPN/GT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04640" y="194760"/>
            <a:ext cx="605016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Next Header values cover current BIER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63DE7151-0C38-4E70-B097-CDE3AF8165D8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文本框 5"/>
          <p:cNvSpPr/>
          <p:nvPr/>
        </p:nvSpPr>
        <p:spPr>
          <a:xfrm>
            <a:off x="115920" y="909720"/>
            <a:ext cx="6626160" cy="33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roto’ field in BIER Header ---- replaced by ‘Next Header’ in IPv6 Dest Option Heade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1, indicating downstream-assigned MPLS payload, use Next Header value 13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2, indicating upstream-assigned MPLS payload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use IPv6 SA to identify the MVP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use Next Header value 4 or 41 to indicate IPv4/IPv6 payloa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3, indicating Ethernet payload, use Next Header value TB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Value 97 can be used but it has an extra 2 octet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A new value is better since Ethernet in IPv6 is common in SRv6-L2VPN to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4, indicating IPv4 payload, use Next Header value 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5, indicating BIER-OAM, use Next Header value 5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-PING need some adaption to IPv6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Proto=6, indicating IPv6 payload, use Next Header value 4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74480" y="247680"/>
            <a:ext cx="60498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Forwarding Procedur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33DC1AE6-7987-418D-B156-62640A833013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文本框 5"/>
          <p:cNvSpPr/>
          <p:nvPr/>
        </p:nvSpPr>
        <p:spPr>
          <a:xfrm>
            <a:off x="331920" y="915840"/>
            <a:ext cx="612144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ormal BIER forwarding as required by RFC827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All steps ( from step 1 to step 8 ) defined in section 6.5 of RFC8279 appl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Walk through the BitString to determine the BFR-NBR(s) to copy packets to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May change the BitString when copy packet to a BFR-NB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 option type have chg flag 1 for this purpos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me “IPv6-specific” forwarding procedures required for this encapsulatio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Pv6 SA - Routable unicast IPv6 address (normally BFIR IPv6 Prefix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Pv6 DA – BIER multicast address (FF0X::AB37) or Unicast address (BFR-Prefix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BIERv6 packet (IPv6 header with BIER Option type) is dropped if the DA is not one of the abov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Nodes which support BIERv6, obtain the standard non-MPLS BIER header in the BIER Option type and perform the BIER forwarding as specified by RFC8279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15560" y="50760"/>
            <a:ext cx="45370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The General case: Use Multicast DA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Rounded Rectangle 34"/>
          <p:cNvSpPr/>
          <p:nvPr/>
        </p:nvSpPr>
        <p:spPr>
          <a:xfrm>
            <a:off x="716040" y="1601640"/>
            <a:ext cx="5376960" cy="21733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35"/>
          <p:cNvSpPr/>
          <p:nvPr/>
        </p:nvSpPr>
        <p:spPr>
          <a:xfrm>
            <a:off x="65160" y="2473200"/>
            <a:ext cx="387360" cy="4017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36"/>
          <p:cNvSpPr/>
          <p:nvPr/>
        </p:nvSpPr>
        <p:spPr>
          <a:xfrm>
            <a:off x="1052640" y="2416320"/>
            <a:ext cx="556920" cy="529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37"/>
          <p:cNvSpPr/>
          <p:nvPr/>
        </p:nvSpPr>
        <p:spPr>
          <a:xfrm>
            <a:off x="5229360" y="3025800"/>
            <a:ext cx="503280" cy="514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38"/>
          <p:cNvSpPr/>
          <p:nvPr/>
        </p:nvSpPr>
        <p:spPr>
          <a:xfrm>
            <a:off x="6381720" y="3100320"/>
            <a:ext cx="417600" cy="3650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Box 81"/>
          <p:cNvSpPr/>
          <p:nvPr/>
        </p:nvSpPr>
        <p:spPr>
          <a:xfrm>
            <a:off x="149400" y="192420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82"/>
          <p:cNvSpPr/>
          <p:nvPr/>
        </p:nvSpPr>
        <p:spPr>
          <a:xfrm>
            <a:off x="452520" y="2674800"/>
            <a:ext cx="60012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traight Connector 79"/>
          <p:cNvSpPr/>
          <p:nvPr/>
        </p:nvSpPr>
        <p:spPr>
          <a:xfrm>
            <a:off x="5732640" y="3282840"/>
            <a:ext cx="64908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traight Connector 111"/>
          <p:cNvSpPr/>
          <p:nvPr/>
        </p:nvSpPr>
        <p:spPr>
          <a:xfrm>
            <a:off x="1609560" y="2681280"/>
            <a:ext cx="1432080" cy="936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Oval 84"/>
          <p:cNvSpPr/>
          <p:nvPr/>
        </p:nvSpPr>
        <p:spPr>
          <a:xfrm>
            <a:off x="3041640" y="2409840"/>
            <a:ext cx="531720" cy="5634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文本框 23"/>
          <p:cNvSpPr/>
          <p:nvPr/>
        </p:nvSpPr>
        <p:spPr>
          <a:xfrm>
            <a:off x="374760" y="3456000"/>
            <a:ext cx="104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with BIER Header in Destination Options extension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traight Connector 111"/>
          <p:cNvSpPr/>
          <p:nvPr/>
        </p:nvSpPr>
        <p:spPr>
          <a:xfrm>
            <a:off x="3573360" y="2690640"/>
            <a:ext cx="1656000" cy="592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Box 112"/>
          <p:cNvSpPr/>
          <p:nvPr/>
        </p:nvSpPr>
        <p:spPr>
          <a:xfrm>
            <a:off x="1714680" y="3333600"/>
            <a:ext cx="1358640" cy="14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Box 113"/>
          <p:cNvSpPr/>
          <p:nvPr/>
        </p:nvSpPr>
        <p:spPr>
          <a:xfrm>
            <a:off x="1760400" y="3376440"/>
            <a:ext cx="1265400" cy="7272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Box 114"/>
          <p:cNvSpPr/>
          <p:nvPr/>
        </p:nvSpPr>
        <p:spPr>
          <a:xfrm>
            <a:off x="1760400" y="41562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Oval 37"/>
          <p:cNvSpPr/>
          <p:nvPr/>
        </p:nvSpPr>
        <p:spPr>
          <a:xfrm>
            <a:off x="5208480" y="1811160"/>
            <a:ext cx="52416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traight Connector 111"/>
          <p:cNvSpPr/>
          <p:nvPr/>
        </p:nvSpPr>
        <p:spPr>
          <a:xfrm flipV="1">
            <a:off x="3573360" y="2077920"/>
            <a:ext cx="1635120" cy="6127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Straight Connector 79"/>
          <p:cNvSpPr/>
          <p:nvPr/>
        </p:nvSpPr>
        <p:spPr>
          <a:xfrm>
            <a:off x="5732640" y="2077920"/>
            <a:ext cx="59184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左大括号 32"/>
          <p:cNvSpPr/>
          <p:nvPr/>
        </p:nvSpPr>
        <p:spPr>
          <a:xfrm>
            <a:off x="1415880" y="417672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文本框 33"/>
          <p:cNvSpPr/>
          <p:nvPr/>
        </p:nvSpPr>
        <p:spPr>
          <a:xfrm>
            <a:off x="549360" y="424800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左大括号 34"/>
          <p:cNvSpPr/>
          <p:nvPr/>
        </p:nvSpPr>
        <p:spPr>
          <a:xfrm>
            <a:off x="1417680" y="3441600"/>
            <a:ext cx="223920" cy="66204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2040"/>
              <a:gd name="textAreaBottom" fmla="*/ 65628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5"/>
                  <a:pt x="10800" y="609"/>
                </a:cubicBezTo>
                <a:lnTo>
                  <a:pt x="10800" y="10191"/>
                </a:lnTo>
                <a:cubicBezTo>
                  <a:pt x="10800" y="10496"/>
                  <a:pt x="5400" y="10800"/>
                  <a:pt x="0" y="10800"/>
                </a:cubicBezTo>
                <a:cubicBezTo>
                  <a:pt x="5400" y="10800"/>
                  <a:pt x="10800" y="11105"/>
                  <a:pt x="10800" y="11409"/>
                </a:cubicBezTo>
                <a:lnTo>
                  <a:pt x="10800" y="20991"/>
                </a:lnTo>
                <a:cubicBezTo>
                  <a:pt x="10800" y="2129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Oval 38"/>
          <p:cNvSpPr/>
          <p:nvPr/>
        </p:nvSpPr>
        <p:spPr>
          <a:xfrm>
            <a:off x="6324480" y="1878120"/>
            <a:ext cx="417600" cy="398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0" name="Straight Arrow Connector 36"/>
          <p:cNvCxnSpPr/>
          <p:nvPr/>
        </p:nvCxnSpPr>
        <p:spPr>
          <a:xfrm>
            <a:off x="2276280" y="2787120"/>
            <a:ext cx="1080" cy="3610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1" name="Straight Arrow Connector 38"/>
          <p:cNvCxnSpPr/>
          <p:nvPr/>
        </p:nvCxnSpPr>
        <p:spPr>
          <a:xfrm flipV="1">
            <a:off x="4156200" y="2139480"/>
            <a:ext cx="8640" cy="224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2" name="Straight Arrow Connector 40"/>
          <p:cNvCxnSpPr/>
          <p:nvPr/>
        </p:nvCxnSpPr>
        <p:spPr>
          <a:xfrm>
            <a:off x="4163760" y="300312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3" name="Straight Arrow Connector 60"/>
          <p:cNvCxnSpPr/>
          <p:nvPr/>
        </p:nvCxnSpPr>
        <p:spPr>
          <a:xfrm flipV="1">
            <a:off x="571680" y="2433240"/>
            <a:ext cx="864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4" name="Straight Arrow Connector 62"/>
          <p:cNvCxnSpPr/>
          <p:nvPr/>
        </p:nvCxnSpPr>
        <p:spPr>
          <a:xfrm flipV="1">
            <a:off x="6156360" y="1833120"/>
            <a:ext cx="1008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65" name="Straight Arrow Connector 63"/>
          <p:cNvCxnSpPr/>
          <p:nvPr/>
        </p:nvCxnSpPr>
        <p:spPr>
          <a:xfrm>
            <a:off x="6165360" y="333324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666" name="TextBox 112"/>
          <p:cNvSpPr/>
          <p:nvPr/>
        </p:nvSpPr>
        <p:spPr>
          <a:xfrm>
            <a:off x="3573360" y="321948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Box 113"/>
          <p:cNvSpPr/>
          <p:nvPr/>
        </p:nvSpPr>
        <p:spPr>
          <a:xfrm>
            <a:off x="3619440" y="326232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Box 114"/>
          <p:cNvSpPr/>
          <p:nvPr/>
        </p:nvSpPr>
        <p:spPr>
          <a:xfrm>
            <a:off x="3619440" y="40435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TextBox 112"/>
          <p:cNvSpPr/>
          <p:nvPr/>
        </p:nvSpPr>
        <p:spPr>
          <a:xfrm>
            <a:off x="3573360" y="62712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Box 113"/>
          <p:cNvSpPr/>
          <p:nvPr/>
        </p:nvSpPr>
        <p:spPr>
          <a:xfrm>
            <a:off x="3619440" y="66996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114"/>
          <p:cNvSpPr/>
          <p:nvPr/>
        </p:nvSpPr>
        <p:spPr>
          <a:xfrm>
            <a:off x="3619440" y="14508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Box 81"/>
          <p:cNvSpPr/>
          <p:nvPr/>
        </p:nvSpPr>
        <p:spPr>
          <a:xfrm>
            <a:off x="5802480" y="132876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TextBox 81"/>
          <p:cNvSpPr/>
          <p:nvPr/>
        </p:nvSpPr>
        <p:spPr>
          <a:xfrm>
            <a:off x="5713560" y="355752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Box 42"/>
          <p:cNvSpPr/>
          <p:nvPr/>
        </p:nvSpPr>
        <p:spPr>
          <a:xfrm>
            <a:off x="139680" y="682560"/>
            <a:ext cx="220968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Use multicast address FF0X::AB37 as DA while forwarding the BIER packets. (To be allocated by IANA – reserved by this draft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ounded Rectangle 34"/>
          <p:cNvSpPr/>
          <p:nvPr/>
        </p:nvSpPr>
        <p:spPr>
          <a:xfrm>
            <a:off x="716040" y="1601640"/>
            <a:ext cx="5376960" cy="217332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Oval 35"/>
          <p:cNvSpPr/>
          <p:nvPr/>
        </p:nvSpPr>
        <p:spPr>
          <a:xfrm>
            <a:off x="65160" y="2473200"/>
            <a:ext cx="387360" cy="4017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Oval 36"/>
          <p:cNvSpPr/>
          <p:nvPr/>
        </p:nvSpPr>
        <p:spPr>
          <a:xfrm>
            <a:off x="1052640" y="2416320"/>
            <a:ext cx="556920" cy="5299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Oval 37"/>
          <p:cNvSpPr/>
          <p:nvPr/>
        </p:nvSpPr>
        <p:spPr>
          <a:xfrm>
            <a:off x="5229360" y="3025800"/>
            <a:ext cx="503280" cy="514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Oval 38"/>
          <p:cNvSpPr/>
          <p:nvPr/>
        </p:nvSpPr>
        <p:spPr>
          <a:xfrm>
            <a:off x="6381720" y="3100320"/>
            <a:ext cx="417600" cy="3650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Box 81"/>
          <p:cNvSpPr/>
          <p:nvPr/>
        </p:nvSpPr>
        <p:spPr>
          <a:xfrm>
            <a:off x="149400" y="192420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Straight Connector 82"/>
          <p:cNvSpPr/>
          <p:nvPr/>
        </p:nvSpPr>
        <p:spPr>
          <a:xfrm>
            <a:off x="452520" y="2674800"/>
            <a:ext cx="60012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traight Connector 79"/>
          <p:cNvSpPr/>
          <p:nvPr/>
        </p:nvSpPr>
        <p:spPr>
          <a:xfrm>
            <a:off x="5732640" y="3282840"/>
            <a:ext cx="64908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traight Connector 111"/>
          <p:cNvSpPr/>
          <p:nvPr/>
        </p:nvSpPr>
        <p:spPr>
          <a:xfrm>
            <a:off x="2529000" y="2687760"/>
            <a:ext cx="512640" cy="28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val 84"/>
          <p:cNvSpPr/>
          <p:nvPr/>
        </p:nvSpPr>
        <p:spPr>
          <a:xfrm>
            <a:off x="3041640" y="2409840"/>
            <a:ext cx="531720" cy="5634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文本框 23"/>
          <p:cNvSpPr/>
          <p:nvPr/>
        </p:nvSpPr>
        <p:spPr>
          <a:xfrm>
            <a:off x="374760" y="3541680"/>
            <a:ext cx="104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uter IPv6 Header with BIER Header in Destination Options extension head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traight Connector 111"/>
          <p:cNvSpPr/>
          <p:nvPr/>
        </p:nvSpPr>
        <p:spPr>
          <a:xfrm>
            <a:off x="3573360" y="2690640"/>
            <a:ext cx="1656000" cy="592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Box 112"/>
          <p:cNvSpPr/>
          <p:nvPr/>
        </p:nvSpPr>
        <p:spPr>
          <a:xfrm>
            <a:off x="1714680" y="3419640"/>
            <a:ext cx="1358640" cy="14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113"/>
          <p:cNvSpPr/>
          <p:nvPr/>
        </p:nvSpPr>
        <p:spPr>
          <a:xfrm>
            <a:off x="1760400" y="346248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B::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TextBox 114"/>
          <p:cNvSpPr/>
          <p:nvPr/>
        </p:nvSpPr>
        <p:spPr>
          <a:xfrm>
            <a:off x="1760400" y="42433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Oval 37"/>
          <p:cNvSpPr/>
          <p:nvPr/>
        </p:nvSpPr>
        <p:spPr>
          <a:xfrm>
            <a:off x="5208480" y="1811160"/>
            <a:ext cx="52416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Straight Connector 111"/>
          <p:cNvSpPr/>
          <p:nvPr/>
        </p:nvSpPr>
        <p:spPr>
          <a:xfrm flipV="1">
            <a:off x="3573360" y="2077920"/>
            <a:ext cx="1635120" cy="6127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traight Connector 79"/>
          <p:cNvSpPr/>
          <p:nvPr/>
        </p:nvSpPr>
        <p:spPr>
          <a:xfrm>
            <a:off x="5732640" y="2077920"/>
            <a:ext cx="591840" cy="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左大括号 32"/>
          <p:cNvSpPr/>
          <p:nvPr/>
        </p:nvSpPr>
        <p:spPr>
          <a:xfrm>
            <a:off x="1415880" y="4262400"/>
            <a:ext cx="223920" cy="53820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538200"/>
              <a:gd name="textAreaBottom" fmla="*/ 532440 h 538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75"/>
                  <a:pt x="10800" y="749"/>
                </a:cubicBezTo>
                <a:lnTo>
                  <a:pt x="10800" y="10051"/>
                </a:lnTo>
                <a:cubicBezTo>
                  <a:pt x="10800" y="10426"/>
                  <a:pt x="5400" y="10800"/>
                  <a:pt x="0" y="10800"/>
                </a:cubicBezTo>
                <a:cubicBezTo>
                  <a:pt x="5400" y="10800"/>
                  <a:pt x="10800" y="11175"/>
                  <a:pt x="10800" y="11549"/>
                </a:cubicBezTo>
                <a:lnTo>
                  <a:pt x="10800" y="20851"/>
                </a:lnTo>
                <a:cubicBezTo>
                  <a:pt x="10800" y="2122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文本框 33"/>
          <p:cNvSpPr/>
          <p:nvPr/>
        </p:nvSpPr>
        <p:spPr>
          <a:xfrm>
            <a:off x="549360" y="4334040"/>
            <a:ext cx="8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ner IPv4/IPv6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ulticast packe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左大括号 34"/>
          <p:cNvSpPr/>
          <p:nvPr/>
        </p:nvSpPr>
        <p:spPr>
          <a:xfrm>
            <a:off x="1417680" y="3527280"/>
            <a:ext cx="223920" cy="663840"/>
          </a:xfrm>
          <a:custGeom>
            <a:avLst/>
            <a:gdLst>
              <a:gd name="textAreaLeft" fmla="*/ 143280 w 223920"/>
              <a:gd name="textAreaRight" fmla="*/ 224280 w 223920"/>
              <a:gd name="textAreaTop" fmla="*/ 5760 h 663840"/>
              <a:gd name="textAreaBottom" fmla="*/ 658080 h 663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04"/>
                  <a:pt x="10800" y="607"/>
                </a:cubicBezTo>
                <a:lnTo>
                  <a:pt x="10800" y="10193"/>
                </a:lnTo>
                <a:cubicBezTo>
                  <a:pt x="10800" y="10497"/>
                  <a:pt x="5400" y="10800"/>
                  <a:pt x="0" y="10800"/>
                </a:cubicBezTo>
                <a:cubicBezTo>
                  <a:pt x="5400" y="10800"/>
                  <a:pt x="10800" y="11104"/>
                  <a:pt x="10800" y="11407"/>
                </a:cubicBezTo>
                <a:lnTo>
                  <a:pt x="10800" y="20993"/>
                </a:lnTo>
                <a:cubicBezTo>
                  <a:pt x="10800" y="2129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Oval 38"/>
          <p:cNvSpPr/>
          <p:nvPr/>
        </p:nvSpPr>
        <p:spPr>
          <a:xfrm>
            <a:off x="6324480" y="1878120"/>
            <a:ext cx="417600" cy="398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7" name="Straight Arrow Connector 38"/>
          <p:cNvCxnSpPr/>
          <p:nvPr/>
        </p:nvCxnSpPr>
        <p:spPr>
          <a:xfrm flipV="1">
            <a:off x="4156200" y="2139480"/>
            <a:ext cx="8640" cy="22464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98" name="Straight Arrow Connector 40"/>
          <p:cNvCxnSpPr/>
          <p:nvPr/>
        </p:nvCxnSpPr>
        <p:spPr>
          <a:xfrm>
            <a:off x="4163760" y="300312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699" name="Straight Arrow Connector 60"/>
          <p:cNvCxnSpPr/>
          <p:nvPr/>
        </p:nvCxnSpPr>
        <p:spPr>
          <a:xfrm flipV="1">
            <a:off x="571680" y="2433240"/>
            <a:ext cx="864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00" name="Straight Arrow Connector 62"/>
          <p:cNvCxnSpPr/>
          <p:nvPr/>
        </p:nvCxnSpPr>
        <p:spPr>
          <a:xfrm flipV="1">
            <a:off x="6156360" y="1833120"/>
            <a:ext cx="10080" cy="18648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cxnSp>
        <p:nvCxnSpPr>
          <p:cNvPr id="701" name="Straight Arrow Connector 63"/>
          <p:cNvCxnSpPr/>
          <p:nvPr/>
        </p:nvCxnSpPr>
        <p:spPr>
          <a:xfrm>
            <a:off x="6165360" y="3333240"/>
            <a:ext cx="1080" cy="175320"/>
          </a:xfrm>
          <a:prstGeom prst="straightConnector1">
            <a:avLst/>
          </a:prstGeom>
          <a:ln w="6480">
            <a:solidFill>
              <a:srgbClr val="5b9bd5"/>
            </a:solidFill>
            <a:miter/>
            <a:tailEnd len="med" type="triangle" w="med"/>
          </a:ln>
        </p:spPr>
      </p:cxnSp>
      <p:sp>
        <p:nvSpPr>
          <p:cNvPr id="702" name="TextBox 112"/>
          <p:cNvSpPr/>
          <p:nvPr/>
        </p:nvSpPr>
        <p:spPr>
          <a:xfrm>
            <a:off x="3573360" y="321948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Box 113"/>
          <p:cNvSpPr/>
          <p:nvPr/>
        </p:nvSpPr>
        <p:spPr>
          <a:xfrm>
            <a:off x="3619440" y="326232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Box 114"/>
          <p:cNvSpPr/>
          <p:nvPr/>
        </p:nvSpPr>
        <p:spPr>
          <a:xfrm>
            <a:off x="3619440" y="404352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Box 112"/>
          <p:cNvSpPr/>
          <p:nvPr/>
        </p:nvSpPr>
        <p:spPr>
          <a:xfrm>
            <a:off x="3573360" y="627120"/>
            <a:ext cx="1357560" cy="14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Box 113"/>
          <p:cNvSpPr/>
          <p:nvPr/>
        </p:nvSpPr>
        <p:spPr>
          <a:xfrm>
            <a:off x="3619440" y="669960"/>
            <a:ext cx="1265400" cy="72864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FF0X::AB3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800" spc="-1" strike="noStrike">
                <a:solidFill>
                  <a:srgbClr val="ff0000"/>
                </a:solidFill>
                <a:latin typeface="Arial"/>
              </a:rPr>
              <a:t>001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Box 114"/>
          <p:cNvSpPr/>
          <p:nvPr/>
        </p:nvSpPr>
        <p:spPr>
          <a:xfrm>
            <a:off x="3619440" y="1450800"/>
            <a:ext cx="1265400" cy="5900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Box 81"/>
          <p:cNvSpPr/>
          <p:nvPr/>
        </p:nvSpPr>
        <p:spPr>
          <a:xfrm>
            <a:off x="5802480" y="132876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Box 81"/>
          <p:cNvSpPr/>
          <p:nvPr/>
        </p:nvSpPr>
        <p:spPr>
          <a:xfrm>
            <a:off x="5713560" y="3557520"/>
            <a:ext cx="903240" cy="4374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Oval 36"/>
          <p:cNvSpPr/>
          <p:nvPr/>
        </p:nvSpPr>
        <p:spPr>
          <a:xfrm>
            <a:off x="1971720" y="2422440"/>
            <a:ext cx="557280" cy="530280"/>
          </a:xfrm>
          <a:prstGeom prst="ellips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Straight Connector 111"/>
          <p:cNvSpPr/>
          <p:nvPr/>
        </p:nvSpPr>
        <p:spPr>
          <a:xfrm>
            <a:off x="1609560" y="2681280"/>
            <a:ext cx="362160" cy="64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Freeform 4"/>
          <p:cNvSpPr/>
          <p:nvPr/>
        </p:nvSpPr>
        <p:spPr>
          <a:xfrm>
            <a:off x="1496880" y="2900520"/>
            <a:ext cx="1605240" cy="230040"/>
          </a:xfrm>
          <a:custGeom>
            <a:avLst/>
            <a:gdLst/>
            <a:ahLst/>
            <a:rect l="l" t="t" r="r" b="b"/>
            <a:pathLst>
              <a:path w="1604865" h="230183">
                <a:moveTo>
                  <a:pt x="0" y="12441"/>
                </a:moveTo>
                <a:cubicBezTo>
                  <a:pt x="255037" y="122334"/>
                  <a:pt x="510074" y="232228"/>
                  <a:pt x="777551" y="230155"/>
                </a:cubicBezTo>
                <a:cubicBezTo>
                  <a:pt x="1045028" y="228082"/>
                  <a:pt x="1535404" y="40433"/>
                  <a:pt x="1604865" y="0"/>
                </a:cubicBezTo>
              </a:path>
            </a:pathLst>
          </a:custGeom>
          <a:noFill/>
          <a:ln w="12600">
            <a:solidFill>
              <a:srgbClr val="0000ff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3" name="Straight Arrow Connector 44"/>
          <p:cNvCxnSpPr/>
          <p:nvPr/>
        </p:nvCxnSpPr>
        <p:spPr>
          <a:xfrm flipV="1">
            <a:off x="2247480" y="3177720"/>
            <a:ext cx="10440" cy="186480"/>
          </a:xfrm>
          <a:prstGeom prst="straightConnector1">
            <a:avLst/>
          </a:prstGeom>
          <a:ln w="648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114120" y="123840"/>
            <a:ext cx="626724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Unicast DA Case 1: To bypass non-capable node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5" name="TextBox 47"/>
          <p:cNvSpPr/>
          <p:nvPr/>
        </p:nvSpPr>
        <p:spPr>
          <a:xfrm>
            <a:off x="476280" y="623880"/>
            <a:ext cx="2108160" cy="5054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Use unicast address to bypass non bier capable nodes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( No need for special tunneling  - </a:t>
            </a:r>
            <a:r>
              <a:rPr b="0" lang="en-US" sz="900" spc="-1" strike="noStrike">
                <a:solidFill>
                  <a:srgbClr val="0000ff"/>
                </a:solidFill>
                <a:latin typeface="Wingdings"/>
                <a:ea typeface="Wingdings"/>
              </a:rPr>
              <a:t></a:t>
            </a: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74840" y="195120"/>
            <a:ext cx="5906880" cy="463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Unicast DA case-2: </a:t>
            </a:r>
            <a:endParaRPr b="0" lang="en-US" sz="2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5AC7D1A0-4F12-4D38-A809-E558BCB70426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ounded Rectangle 34"/>
          <p:cNvSpPr/>
          <p:nvPr/>
        </p:nvSpPr>
        <p:spPr>
          <a:xfrm>
            <a:off x="1743120" y="1203480"/>
            <a:ext cx="3486240" cy="1376280"/>
          </a:xfrm>
          <a:prstGeom prst="roundRect">
            <a:avLst>
              <a:gd name="adj" fmla="val 16667"/>
            </a:avLst>
          </a:prstGeom>
          <a:solidFill>
            <a:srgbClr val="deeb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Pv6 BIER Dom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Oval 35"/>
          <p:cNvSpPr/>
          <p:nvPr/>
        </p:nvSpPr>
        <p:spPr>
          <a:xfrm>
            <a:off x="404640" y="1612800"/>
            <a:ext cx="432000" cy="3794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Oval 36"/>
          <p:cNvSpPr/>
          <p:nvPr/>
        </p:nvSpPr>
        <p:spPr>
          <a:xfrm>
            <a:off x="1674720" y="1658880"/>
            <a:ext cx="557280" cy="5302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Oval 37"/>
          <p:cNvSpPr/>
          <p:nvPr/>
        </p:nvSpPr>
        <p:spPr>
          <a:xfrm>
            <a:off x="4870440" y="1889280"/>
            <a:ext cx="503280" cy="5158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Oval 38"/>
          <p:cNvSpPr/>
          <p:nvPr/>
        </p:nvSpPr>
        <p:spPr>
          <a:xfrm>
            <a:off x="6080040" y="1971720"/>
            <a:ext cx="444600" cy="3603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81"/>
          <p:cNvSpPr/>
          <p:nvPr/>
        </p:nvSpPr>
        <p:spPr>
          <a:xfrm>
            <a:off x="677880" y="2039760"/>
            <a:ext cx="1047600" cy="5292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traight Connector 82"/>
          <p:cNvSpPr/>
          <p:nvPr/>
        </p:nvSpPr>
        <p:spPr>
          <a:xfrm>
            <a:off x="836640" y="1801800"/>
            <a:ext cx="838080" cy="1224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TextBox 81"/>
          <p:cNvSpPr/>
          <p:nvPr/>
        </p:nvSpPr>
        <p:spPr>
          <a:xfrm>
            <a:off x="5270760" y="2373480"/>
            <a:ext cx="1032840" cy="52920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Straight Connector 79"/>
          <p:cNvSpPr/>
          <p:nvPr/>
        </p:nvSpPr>
        <p:spPr>
          <a:xfrm>
            <a:off x="5373720" y="2147760"/>
            <a:ext cx="706320" cy="504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traight Connector 111"/>
          <p:cNvSpPr/>
          <p:nvPr/>
        </p:nvSpPr>
        <p:spPr>
          <a:xfrm flipV="1">
            <a:off x="2249640" y="1872720"/>
            <a:ext cx="863280" cy="1620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Oval 84"/>
          <p:cNvSpPr/>
          <p:nvPr/>
        </p:nvSpPr>
        <p:spPr>
          <a:xfrm>
            <a:off x="3112920" y="1592280"/>
            <a:ext cx="532080" cy="561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traight Connector 111"/>
          <p:cNvSpPr/>
          <p:nvPr/>
        </p:nvSpPr>
        <p:spPr>
          <a:xfrm>
            <a:off x="3645000" y="1873080"/>
            <a:ext cx="1225440" cy="27468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Box 112"/>
          <p:cNvSpPr/>
          <p:nvPr/>
        </p:nvSpPr>
        <p:spPr>
          <a:xfrm>
            <a:off x="1859040" y="2692440"/>
            <a:ext cx="149868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Box 113"/>
          <p:cNvSpPr/>
          <p:nvPr/>
        </p:nvSpPr>
        <p:spPr>
          <a:xfrm>
            <a:off x="1949400" y="2778120"/>
            <a:ext cx="1335240" cy="874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B: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01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Box 114"/>
          <p:cNvSpPr/>
          <p:nvPr/>
        </p:nvSpPr>
        <p:spPr>
          <a:xfrm>
            <a:off x="1922400" y="3706920"/>
            <a:ext cx="1362240" cy="6818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Oval 37"/>
          <p:cNvSpPr/>
          <p:nvPr/>
        </p:nvSpPr>
        <p:spPr>
          <a:xfrm>
            <a:off x="4849920" y="1252440"/>
            <a:ext cx="523800" cy="5320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bfrid=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Oval 38"/>
          <p:cNvSpPr/>
          <p:nvPr/>
        </p:nvSpPr>
        <p:spPr>
          <a:xfrm>
            <a:off x="6049800" y="1324080"/>
            <a:ext cx="447840" cy="37620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E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Straight Connector 111"/>
          <p:cNvSpPr/>
          <p:nvPr/>
        </p:nvSpPr>
        <p:spPr>
          <a:xfrm flipV="1">
            <a:off x="3645000" y="1517400"/>
            <a:ext cx="1204920" cy="3553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Straight Connector 79"/>
          <p:cNvSpPr/>
          <p:nvPr/>
        </p:nvSpPr>
        <p:spPr>
          <a:xfrm flipV="1">
            <a:off x="5373720" y="1511280"/>
            <a:ext cx="676080" cy="7920"/>
          </a:xfrm>
          <a:prstGeom prst="line">
            <a:avLst/>
          </a:prstGeom>
          <a:ln w="38160">
            <a:solidFill>
              <a:srgbClr val="5b9bd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TextBox 112"/>
          <p:cNvSpPr/>
          <p:nvPr/>
        </p:nvSpPr>
        <p:spPr>
          <a:xfrm>
            <a:off x="3537000" y="2692440"/>
            <a:ext cx="1500120" cy="18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Box 113"/>
          <p:cNvSpPr/>
          <p:nvPr/>
        </p:nvSpPr>
        <p:spPr>
          <a:xfrm>
            <a:off x="3629160" y="2778120"/>
            <a:ext cx="1334880" cy="8748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6 Hdr(Out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A::1,</a:t>
            </a:r>
            <a:r>
              <a:rPr b="0" lang="en-US" sz="10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: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D::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t Opt Hdr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ER BitString: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0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Box 114"/>
          <p:cNvSpPr/>
          <p:nvPr/>
        </p:nvSpPr>
        <p:spPr>
          <a:xfrm>
            <a:off x="3602160" y="3706920"/>
            <a:ext cx="1361880" cy="681840"/>
          </a:xfrm>
          <a:prstGeom prst="rect">
            <a:avLst/>
          </a:prstGeom>
          <a:solidFill>
            <a:srgbClr val="d9d9d9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Pv4/6 Hdr(inner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A: X, DA: mc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ylo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35"/>
          <p:cNvSpPr/>
          <p:nvPr/>
        </p:nvSpPr>
        <p:spPr>
          <a:xfrm>
            <a:off x="2421000" y="1612800"/>
            <a:ext cx="457200" cy="519120"/>
          </a:xfrm>
          <a:prstGeom prst="ellipse">
            <a:avLst/>
          </a:pr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云形 1"/>
          <p:cNvSpPr/>
          <p:nvPr/>
        </p:nvSpPr>
        <p:spPr>
          <a:xfrm>
            <a:off x="4005360" y="1477800"/>
            <a:ext cx="465120" cy="78264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Box 47"/>
          <p:cNvSpPr/>
          <p:nvPr/>
        </p:nvSpPr>
        <p:spPr>
          <a:xfrm>
            <a:off x="471600" y="771480"/>
            <a:ext cx="1949400" cy="231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ff"/>
                </a:solidFill>
                <a:latin typeface="Arial"/>
              </a:rPr>
              <a:t>This is an Unicast-Unicast cas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71600" y="282600"/>
            <a:ext cx="5914800" cy="7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 Light"/>
              </a:rPr>
              <a:t>Why is the encapsulation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404280" y="915480"/>
            <a:ext cx="597564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IPv6 Destination Option Header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Defining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new IPv6 extension headers is not recommended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, unless there are no existing IPv6 extension headers that can be used by specifying a new option for that IPv6 extension header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it is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recommended that the Destination Options header is used 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o carry optional information that must be examined only by a packet's destination node(s), because they provide better handling and backward compatibility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IPv6 Destination Option Header is not only feasible, but also the recommended one in RFC8200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well-known multicast address as IPv6 DA for general case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[RFC8200] Extension headers are not processed until the packet reaches the node (or </a:t>
            </a:r>
            <a:r>
              <a:rPr b="0" lang="en-US" sz="1000" spc="-1" strike="noStrike">
                <a:solidFill>
                  <a:srgbClr val="0000ff"/>
                </a:solidFill>
                <a:latin typeface="Calibri"/>
              </a:rPr>
              <a:t>each of the set of nodes, in the case of multicast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) identified in the Destination Address field of the IPv6 header.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This can not only simplify the forwarding, but also match the general concept of Replication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y use Next Header instead of BIER Proto in IPv6 encapsulation ?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Use of Next Header to indicate the format of the payload  is more general IPv6 usag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Better backward compatibility, e.g., enable offline tools to know the payload typ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日期占位符 3"/>
          <p:cNvSpPr/>
          <p:nvPr/>
        </p:nvSpPr>
        <p:spPr>
          <a:xfrm>
            <a:off x="471600" y="4767120"/>
            <a:ext cx="1542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Page </a:t>
            </a:r>
            <a:fld id="{67D31A1C-5EF5-4B1B-B788-A83FBF5B4572}" type="slidenum">
              <a:rPr b="0" lang="de-DE" sz="600" spc="-1" strike="noStrike">
                <a:solidFill>
                  <a:srgbClr val="000000"/>
                </a:solidFill>
                <a:latin typeface="FrutigerNext LT Medium"/>
                <a:ea typeface="MS PGothic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6T07:41:12Z</dcterms:created>
  <dc:creator>Chen Ming</dc:creator>
  <dc:description/>
  <dc:language>en-US</dc:language>
  <cp:lastModifiedBy>Michael McBride</cp:lastModifiedBy>
  <dcterms:modified xsi:type="dcterms:W3CDTF">2019-03-21T15:27:11Z</dcterms:modified>
  <cp:revision>167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2015_ms_pID_725343">
    <vt:lpwstr>(3)yRmtUOVTW1DPnYzfinucMwz5r2xjTn79PlzG4kXifV61hIZWoTezn2Wbmnwir1NA62lfDZJQ
QVKi4YdNXa1+Up4WXxxKx97qeA/RFdJB9tWc5XWK7K3WSro1nm1FztvzyjpiRKZQQSTh1Q3e
8IAGmB0qd4AeNM0j4Pp7tsSzUvadutJzCuH0kW4yY80RB+EKJY0JBEsw56Lcm+XtIskJBCE2
aTBPY9i3m4sm/uw5ly</vt:lpwstr>
  </property>
  <property fmtid="{D5CDD505-2E9C-101B-9397-08002B2CF9AE}" pid="3" name="_2015_ms_pID_7253431">
    <vt:lpwstr>uKR4t+xPLEyCZFbGRatz9lLFG7dCKdacHOtBDqMFX1+hcJQQKhs3Ki
FI/1F5Gnw0rpvbOHfZbDz2u5IBaPUPgzLcwGv/IqySsPi7lgTuxCkQLKy77LaA/ZdHJKOox+
WkcLOpjs5+0tJYJABXBl9F3d48atMS/cvRuoVIGTQXtIaPwV/TV/Sj5sa614wDbSdZej+au5
z7gaEki1eYyjAXvsHOQO5jaP6Y/gxf+zKjZC</vt:lpwstr>
  </property>
  <property fmtid="{D5CDD505-2E9C-101B-9397-08002B2CF9AE}" pid="4" name="_2015_ms_pID_7253431_00">
    <vt:lpwstr>_2015_ms_pID_7253431</vt:lpwstr>
  </property>
  <property fmtid="{D5CDD505-2E9C-101B-9397-08002B2CF9AE}" pid="5" name="_2015_ms_pID_7253432">
    <vt:lpwstr>TpszxKQWmNgHUE+KA6PuU8AjxkqAAItZuPTx
RLAvshTZTppxEL8tepediMGZ6ZwBKln2g5UAREvT56/hECWziAY=</vt:lpwstr>
  </property>
  <property fmtid="{D5CDD505-2E9C-101B-9397-08002B2CF9AE}" pid="6" name="_2015_ms_pID_7253432_00">
    <vt:lpwstr>_2015_ms_pID_7253432</vt:lpwstr>
  </property>
  <property fmtid="{D5CDD505-2E9C-101B-9397-08002B2CF9AE}" pid="7" name="_2015_ms_pID_725343_00">
    <vt:lpwstr>_2015_ms_pID_725343</vt:lpwstr>
  </property>
  <property fmtid="{D5CDD505-2E9C-101B-9397-08002B2CF9AE}" pid="8" name="_change">
    <vt:lpwstr/>
  </property>
  <property fmtid="{D5CDD505-2E9C-101B-9397-08002B2CF9AE}" pid="9" name="_full-control">
    <vt:lpwstr/>
  </property>
  <property fmtid="{D5CDD505-2E9C-101B-9397-08002B2CF9AE}" pid="10" name="_ms_pID_725343">
    <vt:lpwstr>(2)nEjfLa5zkFjJ24cFH1rD/CO99/SkKnuZt+jVj3euFWHS8MDkQjkBUSuq5IKksPFWrQEBjRsK
X+9l3cxTXRvzitClRlh3DpX2uIOS2R1ylp5QzOrr9VjtVeoV/WboZE7JM5mA6wA6hPIyRfnA
B86tkkz7o8RCTCbH3lBENhFaLa430zPmj47FtwLuMS+E1k3ruXoA6lIpFD5pxcmNqojImzW4
GwtdW1BZqH632JDAWU</vt:lpwstr>
  </property>
  <property fmtid="{D5CDD505-2E9C-101B-9397-08002B2CF9AE}" pid="11" name="_ms_pID_7253431">
    <vt:lpwstr>nhH+p/c2eKA5nuNEEnrUckmJKi9mx6LklbuGnSvOwQe8mcbzaUyX8z
ivZ/xK2LwqmMFV3oMI0hQ5nIm0nwBPrb6dNV0x0ONe1veEp3g/9l3w==</vt:lpwstr>
  </property>
  <property fmtid="{D5CDD505-2E9C-101B-9397-08002B2CF9AE}" pid="12" name="_new_ms_pID_72543">
    <vt:lpwstr>(4)8pb00NXgvfolPpdOp/im+iyocGkxj/FUozmtz+z3gf+89nHNxJewsJZtSXf5VaB6o0OySm5d
8gJwl174hgqzvOKZ9ktSU80sEzQWz+ediLA3FTdnitiu6PmyptT7CdkmWgnWetjIsC0wZ8k1
W/xfL6d9Zz02BuWRLVbj60gAnn7FXSD47ByU1iFS2iBgNVPDWqptFOpG7EGg/52sr796NAe6
Y88lxiNYEsD1weV4F7</vt:lpwstr>
  </property>
  <property fmtid="{D5CDD505-2E9C-101B-9397-08002B2CF9AE}" pid="13" name="_new_ms_pID_725431">
    <vt:lpwstr>q6f4vIblOYL9YUlQw4CP+hRGkRVRz/K88xTcCqM2TwfOF7lkn3vAEC
3+jPeoxHE/A6OcWwtKbWIgLEAFTHSMCU7vs1fQ+5oJypm6dqE9pPFXxOyWxAT7U1Xsz0Gq7t
wPyuDZFIE0AtufL4sKGECU+Mguj4AvfcNMKe5Vi7WziBZWrOTV99ZFu4PkQO37as5Yqy9LvI
lAl7byCF9QET+JXyHTe8uCFR/XYVz+qCOiu+</vt:lpwstr>
  </property>
  <property fmtid="{D5CDD505-2E9C-101B-9397-08002B2CF9AE}" pid="14" name="_new_ms_pID_725431_00">
    <vt:lpwstr>_new_ms_pID_725431</vt:lpwstr>
  </property>
  <property fmtid="{D5CDD505-2E9C-101B-9397-08002B2CF9AE}" pid="15" name="_new_ms_pID_725432">
    <vt:lpwstr>z7SAloLzPkKVNgiMlG+aDfsWNnntB5eaoVEQ
3nMuZfFFwpho/aTa1IU/IkK9+arTH6FV42W2B54W7pcEwahC9jb9alrmJ/1/iMjMlhdSPZTA
eoTX1lmZ4IH1To1PhIk7P8s6DyYeV9YmksxKB0KMM4wNXUK5c1R1jgCJPrnuoaTc/erG6n77
UOCBtkcmIPYMZ6SHWKblasdnWmcydo8N42cifZ4XLeD8W/b3/qIlSr</vt:lpwstr>
  </property>
  <property fmtid="{D5CDD505-2E9C-101B-9397-08002B2CF9AE}" pid="16" name="_new_ms_pID_725432_00">
    <vt:lpwstr>_new_ms_pID_725432</vt:lpwstr>
  </property>
  <property fmtid="{D5CDD505-2E9C-101B-9397-08002B2CF9AE}" pid="17" name="_new_ms_pID_725433">
    <vt:lpwstr>loxyd/lA5K1PndCMAt
wIYmBxctIdXWQ4qfL8GKFDszyBvh+zINy4Sn9UBWwfN+apNH</vt:lpwstr>
  </property>
  <property fmtid="{D5CDD505-2E9C-101B-9397-08002B2CF9AE}" pid="18" name="_new_ms_pID_725433_00">
    <vt:lpwstr>_new_ms_pID_725433</vt:lpwstr>
  </property>
  <property fmtid="{D5CDD505-2E9C-101B-9397-08002B2CF9AE}" pid="19" name="_new_ms_pID_72543_00">
    <vt:lpwstr>_new_ms_pID_72543</vt:lpwstr>
  </property>
  <property fmtid="{D5CDD505-2E9C-101B-9397-08002B2CF9AE}" pid="20" name="_readonly">
    <vt:lpwstr/>
  </property>
  <property fmtid="{D5CDD505-2E9C-101B-9397-08002B2CF9AE}" pid="21" name="sflag">
    <vt:lpwstr>1553181983</vt:lpwstr>
  </property>
</Properties>
</file>