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txBody>
          <a:bodyPr anchor="t">
            <a:noAutofit/>
          </a:bodyPr>
          <a:p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4C9BB-6BEC-48EA-904A-2B03102CE7AB}" type="datetime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AF76-1989-4357-BF89-9820ECE0E8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457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4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1500E-334A-4853-919E-4B9D846B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094C-215A-44F7-886D-1A3BCC58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D3AA-3FEC-44F4-9CD3-D2F2560A2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0A09-5073-423A-A91C-F72CE010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8ADD-9B5C-4F30-9987-C717AF69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F60-2F50-4272-B755-8AE37284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4F1C-9110-4A6C-9F80-D5D6D08E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C45A-3F36-4C2D-AA30-B928E968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672D-C5F2-418C-9286-1C5463B43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83A2D-E682-4304-9CD8-900081779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C96D-A5AE-482B-9AE6-A11F7544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C968-EB08-4FEF-8A62-83995EAE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88888"/>
                </a:solidFill>
                <a:latin typeface="Calibri"/>
                <a:ea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FDF2-B796-450A-8626-1099426C4054}" type="slidenum">
              <a:rPr b="0" lang="en-US" sz="1200" spc="-1" strike="noStrike">
                <a:solidFill>
                  <a:srgbClr val="888888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about:blank" TargetMode="External"/><Relationship Id="rId2" Type="http://schemas.openxmlformats.org/officeDocument/2006/relationships/hyperlink" Target="about:blank" TargetMode="External"/><Relationship Id="rId3" Type="http://schemas.openxmlformats.org/officeDocument/2006/relationships/hyperlink" Target="about:blank" TargetMode="External"/><Relationship Id="rId4" Type="http://schemas.openxmlformats.org/officeDocument/2006/relationships/hyperlink" Target="about:blank" TargetMode="External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2158920" y="898560"/>
            <a:ext cx="8047080" cy="23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楷体_GB2312"/>
              </a:rPr>
              <a:t>LSR extensions for advertising BIER-ETHER encapsulation capability &amp; parame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楷体_GB2312"/>
              </a:rPr>
              <a:t>draft-dhanaraj-bier-lsr-ethernet-extensions-00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IETF104   2019-03-25 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071800" y="4108320"/>
            <a:ext cx="8048520" cy="23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Senthil Dhanara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IJsbrand Wijnan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Peter Psen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Zhaohui(Jeffrey) Zha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Jingrong X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楷体_GB2312"/>
              </a:rPr>
              <a:t>Gang Y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98440" y="182520"/>
            <a:ext cx="788688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Appendix (BIFT-id range)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652320" y="1214280"/>
            <a:ext cx="10922040" cy="51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s an example, suppose a particular BIER domain contains a SD (SD 0),  supports two BSLs (256 and 512), and contains 512 BFRs.  A BFR that is provisioned for above SD, and that supports both BSLs, would have to advertise the following set of BIFT-id's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FT-id 1: corresponding to SD 0, BSL 256, SI 0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FT-id 2: corresponding to SD 0, BSL 256, SI 1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FT-id 3: corresponding to SD 0, BSL 256, SI 2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FT-id 4: corresponding to SD 0, BSL 256, SI 3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FT-id 5: corresponding to SD 0, BSL 512, SI 0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FT-id 6: corresponding to SD 0, BSL 512, SI 1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n such case, a BFR MUST assign a contiguous range of BIFT-ids a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FT-id range [1 to 4] correspond to &lt;SD 0, BSL 256&gt;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FT-id range [5 to 6] correspond to &lt;SD 0, BSL 512&gt;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first BIFT-id in the range correspond to SI=0, the second correspond to SI=1, and so 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4320" y="149040"/>
            <a:ext cx="816912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Draft purpos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44400" y="1177560"/>
            <a:ext cx="10380960" cy="52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BIER ETHERNET (BIER-ETH) is one of the encapsulation type to deploy BIER in Non-MPLS networ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Like BIER-MPLS, processing and forwarding of BIER-ETH packets requires new software / hardwar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BFRs supporting BIER-ETH encapsulation must advertise this capability (along with the other required parameters) to the other BFRs in BIER domain (to aid building BIER Routing t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宋体"/>
              </a:rPr>
              <a:t>This draft defines the required extensions to ISIS and OSPF protocols to advertise the BIER-ETH encapsulation capability and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日期占位符 3"/>
          <p:cNvSpPr/>
          <p:nvPr/>
        </p:nvSpPr>
        <p:spPr>
          <a:xfrm>
            <a:off x="2152800" y="6356520"/>
            <a:ext cx="205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Page </a:t>
            </a:r>
            <a:fld id="{EFA32C52-67D9-46C4-8F8C-9859510B8A39}" type="slidenum">
              <a:rPr b="0" lang="de-DE" sz="800" spc="-1" strike="noStrike">
                <a:solidFill>
                  <a:srgbClr val="000000"/>
                </a:solidFill>
                <a:latin typeface="FrutigerNext LT Medium"/>
                <a:ea typeface="ＭＳ Ｐゴシック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Google Shape;91;p14"/>
          <p:cNvSpPr/>
          <p:nvPr/>
        </p:nvSpPr>
        <p:spPr>
          <a:xfrm>
            <a:off x="1463760" y="2265480"/>
            <a:ext cx="1720800" cy="45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1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th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Calibri"/>
                <a:ea typeface="Calibri"/>
              </a:rPr>
              <a:t>(EthTYpe=0xAB3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Google Shape;92;p14"/>
          <p:cNvSpPr/>
          <p:nvPr/>
        </p:nvSpPr>
        <p:spPr>
          <a:xfrm>
            <a:off x="3110040" y="2265480"/>
            <a:ext cx="2824200" cy="45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1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ER H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Google Shape;93;p14"/>
          <p:cNvSpPr/>
          <p:nvPr/>
        </p:nvSpPr>
        <p:spPr>
          <a:xfrm>
            <a:off x="5925960" y="2265480"/>
            <a:ext cx="1333800" cy="45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1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Google Shape;105;p16"/>
          <p:cNvSpPr/>
          <p:nvPr/>
        </p:nvSpPr>
        <p:spPr>
          <a:xfrm>
            <a:off x="604800" y="1595520"/>
            <a:ext cx="34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Add new sub-sub-TLV for BIER-E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Google Shape;106;p16"/>
          <p:cNvSpPr/>
          <p:nvPr/>
        </p:nvSpPr>
        <p:spPr>
          <a:xfrm>
            <a:off x="768240" y="2282760"/>
            <a:ext cx="2648160" cy="461880"/>
          </a:xfrm>
          <a:prstGeom prst="rect">
            <a:avLst/>
          </a:prstGeom>
          <a:solidFill>
            <a:srgbClr val="fbe4d4"/>
          </a:solidFill>
          <a:ln w="12600">
            <a:solidFill>
              <a:srgbClr val="31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SIS/OSPF T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Google Shape;107;p16"/>
          <p:cNvSpPr/>
          <p:nvPr/>
        </p:nvSpPr>
        <p:spPr>
          <a:xfrm>
            <a:off x="1155600" y="2735280"/>
            <a:ext cx="2589480" cy="450720"/>
          </a:xfrm>
          <a:prstGeom prst="rect">
            <a:avLst/>
          </a:prstGeom>
          <a:solidFill>
            <a:srgbClr val="fbe4d4"/>
          </a:solidFill>
          <a:ln w="12600">
            <a:solidFill>
              <a:srgbClr val="31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er sub-domain Sub T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Google Shape;108;p16"/>
          <p:cNvSpPr/>
          <p:nvPr/>
        </p:nvSpPr>
        <p:spPr>
          <a:xfrm>
            <a:off x="1552680" y="3187800"/>
            <a:ext cx="2890800" cy="450720"/>
          </a:xfrm>
          <a:prstGeom prst="rect">
            <a:avLst/>
          </a:prstGeom>
          <a:solidFill>
            <a:srgbClr val="fbe4d4"/>
          </a:solidFill>
          <a:ln w="12600">
            <a:solidFill>
              <a:srgbClr val="31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MPLS Encap sub-sub-T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Google Shape;109;p16"/>
          <p:cNvSpPr/>
          <p:nvPr/>
        </p:nvSpPr>
        <p:spPr>
          <a:xfrm>
            <a:off x="1552680" y="3630600"/>
            <a:ext cx="2890800" cy="449280"/>
          </a:xfrm>
          <a:prstGeom prst="rect">
            <a:avLst/>
          </a:prstGeom>
          <a:solidFill>
            <a:srgbClr val="e1efd8"/>
          </a:solidFill>
          <a:ln w="12600">
            <a:solidFill>
              <a:srgbClr val="31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ER-Eth Encap sub-sub-T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Google Shape;110;p16"/>
          <p:cNvSpPr/>
          <p:nvPr/>
        </p:nvSpPr>
        <p:spPr>
          <a:xfrm>
            <a:off x="260280" y="5165640"/>
            <a:ext cx="914400" cy="306360"/>
          </a:xfrm>
          <a:prstGeom prst="rect">
            <a:avLst/>
          </a:prstGeom>
          <a:solidFill>
            <a:srgbClr val="fbe4d4"/>
          </a:solidFill>
          <a:ln w="12600">
            <a:solidFill>
              <a:srgbClr val="31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Google Shape;111;p16"/>
          <p:cNvSpPr/>
          <p:nvPr/>
        </p:nvSpPr>
        <p:spPr>
          <a:xfrm>
            <a:off x="260280" y="5551560"/>
            <a:ext cx="914400" cy="306360"/>
          </a:xfrm>
          <a:prstGeom prst="rect">
            <a:avLst/>
          </a:prstGeom>
          <a:solidFill>
            <a:srgbClr val="e1efd8"/>
          </a:solidFill>
          <a:ln w="12600">
            <a:solidFill>
              <a:srgbClr val="3153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Google Shape;112;p16"/>
          <p:cNvSpPr/>
          <p:nvPr/>
        </p:nvSpPr>
        <p:spPr>
          <a:xfrm>
            <a:off x="1212840" y="5106960"/>
            <a:ext cx="16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isting T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Google Shape;113;p16"/>
          <p:cNvSpPr/>
          <p:nvPr/>
        </p:nvSpPr>
        <p:spPr>
          <a:xfrm>
            <a:off x="1212840" y="5514840"/>
            <a:ext cx="1638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ew T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Google Shape;114;p16"/>
          <p:cNvCxnSpPr/>
          <p:nvPr/>
        </p:nvCxnSpPr>
        <p:spPr>
          <a:xfrm>
            <a:off x="5554800" y="1096560"/>
            <a:ext cx="33840" cy="5357160"/>
          </a:xfrm>
          <a:prstGeom prst="straightConnector1">
            <a:avLst/>
          </a:prstGeom>
          <a:ln w="28440">
            <a:solidFill>
              <a:srgbClr val="000000"/>
            </a:solidFill>
            <a:miter/>
          </a:ln>
        </p:spPr>
      </p:cxnSp>
      <p:sp>
        <p:nvSpPr>
          <p:cNvPr id="100" name="Google Shape;115;p16"/>
          <p:cNvSpPr/>
          <p:nvPr/>
        </p:nvSpPr>
        <p:spPr>
          <a:xfrm>
            <a:off x="6216480" y="1268280"/>
            <a:ext cx="5457960" cy="48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99000"/>
          </a:bodyPr>
          <a:p>
            <a:pPr marL="282960" indent="-28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buClr>
                <a:srgbClr val="000000"/>
              </a:buClr>
              <a:buFont typeface="Noto Sans Symbols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d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a new BIER-ETH sub-sub-TLV under BIER sub-domain sub-TLV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to advertise the BIER-ETH capability and other associated parameters of the encapsul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buClr>
                <a:srgbClr val="000000"/>
              </a:buClr>
              <a:buFont typeface="Noto Sans Symbols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buClr>
                <a:srgbClr val="000000"/>
              </a:buClr>
              <a:buFont typeface="Noto Sans Symbols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 BIER sub-domain MAY support more than one BIER encapsulation type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00000"/>
              </a:lnSpc>
              <a:buClr>
                <a:srgbClr val="000000"/>
              </a:buClr>
              <a:buFont typeface="Noto Sans Symbols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different encapsulation types supported in a sub-domain shares the same BFR-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e selection of encapsulation type to be used by a BFIR or BFR for a sub-domain could be a matter of local policy and is outside the scope of this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标题 1"/>
          <p:cNvSpPr/>
          <p:nvPr/>
        </p:nvSpPr>
        <p:spPr>
          <a:xfrm>
            <a:off x="184320" y="122400"/>
            <a:ext cx="8169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How to advertise 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Google Shape;115;p16"/>
          <p:cNvSpPr/>
          <p:nvPr/>
        </p:nvSpPr>
        <p:spPr>
          <a:xfrm>
            <a:off x="1087560" y="4295880"/>
            <a:ext cx="1001556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 fontScale="81000"/>
          </a:bodyPr>
          <a:p>
            <a:pPr marL="231480" indent="-231480">
              <a:lnSpc>
                <a:spcPct val="100000"/>
              </a:lnSpc>
              <a:buClr>
                <a:srgbClr val="000000"/>
              </a:buClr>
              <a:buFont typeface="Noto Sans Symbols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it-string-length supported  (same as BS Len in BIER-MP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1480" indent="-231480">
              <a:lnSpc>
                <a:spcPct val="100000"/>
              </a:lnSpc>
              <a:buClr>
                <a:srgbClr val="000000"/>
              </a:buClr>
              <a:buFont typeface="Noto Sans Symbols"/>
              <a:buChar char="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umber of SETS supported for the bit-string-length (same as Max SI in BIER-MP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alibri"/>
                <a:ea typeface="Calibri"/>
              </a:rPr>
              <a:t>BIFT-id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for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each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SET  (BIFT-id, not MPLS Base Lab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184320" y="122400"/>
            <a:ext cx="8169120" cy="7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What to advertise 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Google Shape;105;p16"/>
          <p:cNvSpPr/>
          <p:nvPr/>
        </p:nvSpPr>
        <p:spPr>
          <a:xfrm>
            <a:off x="587520" y="1290600"/>
            <a:ext cx="394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Refer BIER-MPLS Encap sub-sub-TL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723960" y="1800360"/>
            <a:ext cx="5970600" cy="1482480"/>
          </a:xfrm>
          <a:prstGeom prst="rect">
            <a:avLst/>
          </a:prstGeom>
          <a:ln w="0">
            <a:noFill/>
          </a:ln>
        </p:spPr>
      </p:pic>
      <p:sp>
        <p:nvSpPr>
          <p:cNvPr id="106" name="Google Shape;105;p16"/>
          <p:cNvSpPr/>
          <p:nvPr/>
        </p:nvSpPr>
        <p:spPr>
          <a:xfrm>
            <a:off x="652320" y="3573360"/>
            <a:ext cx="524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What to advertise in  BIER-ETH Encap sub-sub-TLV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标题 1"/>
          <p:cNvSpPr/>
          <p:nvPr/>
        </p:nvSpPr>
        <p:spPr>
          <a:xfrm>
            <a:off x="193680" y="150840"/>
            <a:ext cx="8167680" cy="7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More about BIFT-I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193680" y="1176480"/>
            <a:ext cx="11275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[RFC8296] specifies that the BIFT-id in Non-MPLS networks is a "domain-wide-unique-value“ and is not expected to change at each hops as the BFR forwards the BIER packet.  </a:t>
            </a:r>
            <a:r>
              <a:rPr b="1" lang="en-US" sz="18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hen why advertise BIFT-id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[I-D.ietf-bier-non-mpls-bift-encoding]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escribes two possible methods for assigning and encoding the BIFT-id in Non-MPLS BIER He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ough BIFT-id is expected to be unique per BIER Sub-domain across all the BFRs, considering that t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re multiple possible options to generate/assign BIFT-id, it is advisable to advertise the BIFT-id to det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ny bad provisioning and thereby avoiding traffic black hol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Contrary to [RFC8296], BIER architecture [RFC8279] does NOT require domain-wide-unique BIFT-ids to be used (even for non-MPLS encapsulation) and is possible that a locally assigned non-unique value can be used as BIFT-i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is can be seen as other reason why we need to advertise BIFT-id along with the previous reaso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标题 1"/>
          <p:cNvSpPr/>
          <p:nvPr/>
        </p:nvSpPr>
        <p:spPr>
          <a:xfrm>
            <a:off x="193680" y="125280"/>
            <a:ext cx="816768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More about BIFT-Id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210960" y="1131840"/>
            <a:ext cx="11276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n BIER MPLS world, for an [SD, BSL] pair, contiguous labels are allocated and we advertise only th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bas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label and the label-range-size (a.k.a Max SI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his way, signaling of individual labels per SET is avoided and signaling is simplifi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hould BIFT-id in Non-MPLS networks, be contiguous, similar to MPLS Labels ?  Not necessarily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ut to make the IGP signaling simpler, we suggest to follow similar approach as BIER-MP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285840">
              <a:lnSpc>
                <a:spcPct val="100000"/>
              </a:lnSpc>
              <a:buClr>
                <a:srgbClr val="000000"/>
              </a:buClr>
              <a:buFont typeface="Noto Sans Symbols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llocate contiguous range of BIFT-Id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00240" indent="-285840">
              <a:lnSpc>
                <a:spcPct val="100000"/>
              </a:lnSpc>
              <a:buClr>
                <a:srgbClr val="000000"/>
              </a:buClr>
              <a:buFont typeface="Noto Sans Symbols"/>
              <a:buChar char="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dvertise only the Base BIFT-id and the BIFT-id range (a.k.a Max S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Google Shape;127;p18"/>
          <p:cNvSpPr/>
          <p:nvPr/>
        </p:nvSpPr>
        <p:spPr>
          <a:xfrm>
            <a:off x="395280" y="1173240"/>
            <a:ext cx="11457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t is advertised within the BIER Info sub-TLV defined in 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  <a:hlinkClick r:id="rId1"/>
              </a:rPr>
              <a:t>[RFC8401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 which in-turn is carried within the TLVs 235, 237 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  <a:hlinkClick r:id="rId2"/>
              </a:rPr>
              <a:t>[RFC5120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 or TLVs 135 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  <a:hlinkClick r:id="rId3"/>
              </a:rPr>
              <a:t>[RFC5305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, or TLV 236 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  <a:hlinkClick r:id="rId4"/>
              </a:rPr>
              <a:t>[RFC5308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Google Shape;128;p18"/>
          <p:cNvSpPr/>
          <p:nvPr/>
        </p:nvSpPr>
        <p:spPr>
          <a:xfrm>
            <a:off x="395280" y="4067280"/>
            <a:ext cx="1129032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ype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 2 (TBD – IA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ength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 4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Max S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 octet. Maximum Set Identifier (Section 1 of [RFC8279]) used in the encapsulation for this BIER subdomain for this BitString length. The first BIFT-id is for SI=0, the second BIFT-id is for SI=1, etc. If the BIFT-id associated with the Maximum Set Identifier exceeds the 20-bit range, the sub-sub-TLV MUST b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ocal BitString Length (BS Len)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4 bits. Encoded bitstring length as per [RFC8296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BIFT-id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20 bits. 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Calibri"/>
              </a:rPr>
              <a:t>First BIFT-id of the BIFT-id rang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. The usage of BIFT-id value for non-MPLS networks is as defined in [RFC8296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93680" y="125280"/>
            <a:ext cx="1126656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 fontScale="93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ISIS – Add new BIER-ETH encap sub-sub-TLV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5"/>
          <a:stretch/>
        </p:blipFill>
        <p:spPr>
          <a:xfrm>
            <a:off x="1087560" y="2054160"/>
            <a:ext cx="681804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Google Shape;127;p18"/>
          <p:cNvSpPr/>
          <p:nvPr/>
        </p:nvSpPr>
        <p:spPr>
          <a:xfrm>
            <a:off x="395280" y="1173240"/>
            <a:ext cx="11457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It is advertised within the BIER sub-TLV defined in 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[RFC8444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 which in-turn is carried within the OSPFv2 Extended Prefix TLV defined in </a:t>
            </a: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ea typeface="Calibri"/>
              </a:rPr>
              <a:t>[RFC7684]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Google Shape;128;p18"/>
          <p:cNvSpPr/>
          <p:nvPr/>
        </p:nvSpPr>
        <p:spPr>
          <a:xfrm>
            <a:off x="395280" y="4067280"/>
            <a:ext cx="1129032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Type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 11 (TBD – IA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ength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 8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Max S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1 octet. Maximum Set Identifier (Section 1 of [RFC8279]) used in the encapsulation for this BIER subdomain for this BitString length. The first BIFT-id is for SI=0, the second BIFT-id is for SI=1, etc. If the BIFT-id associated with the Maximum Set Identifier exceeds the 20-bit range, the sub-sub-TLV MUST be ignor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BIFT-id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20 bits. </a:t>
            </a:r>
            <a:r>
              <a:rPr b="0" lang="en-US" sz="1600" spc="-1" strike="noStrike">
                <a:solidFill>
                  <a:srgbClr val="0000ff"/>
                </a:solidFill>
                <a:latin typeface="Calibri"/>
                <a:ea typeface="Calibri"/>
              </a:rPr>
              <a:t>First BIFT-id of the BIFT-id rang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. The usage of BIFT-id value for non-MPLS networks is as defined in [RFC8296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Local BitString Length (BS Len):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Calibri"/>
              </a:rPr>
              <a:t> 4 bits. Encoded bitstring length as per [RFC8296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93680" y="125280"/>
            <a:ext cx="11266560" cy="7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OSPF – Add new BIER-ETH encap sub-TLV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812880" y="1944720"/>
            <a:ext cx="614844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98440" y="182520"/>
            <a:ext cx="7886880" cy="75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宋体"/>
              </a:rPr>
              <a:t>Request to the WG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905040" y="1325520"/>
            <a:ext cx="8054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342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Comments / Inp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34272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SzPct val="56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doption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enthil Dhanaraj</dc:creator>
  <dc:description/>
  <dc:language>en-US</dc:language>
  <cp:lastModifiedBy>Senthil Dhanaraj</cp:lastModifiedBy>
  <dcterms:modified xsi:type="dcterms:W3CDTF">2019-03-22T09:19:06Z</dcterms:modified>
  <cp:revision>17</cp:revision>
  <dc:subject/>
  <dc:title>Advertising BIER encapsulation capabilities for Non-MPLS networks using ISIS exten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2)HN0kcVLYF4tTpUPq0lDn2UdsBPpehA05PFSF322eRks4saxDryF2Ch3NVnhgm0T4B3re5eRO
UzFeFFfeuNhdSQqJM3IHno/+Po49qA7ntVOg8q8wQ2tdtZ/n/RWDVB02qR379+ujebsa93e5
dhsB/RThLYXjlkCZdGL5i4XG9348V4nGg8bffUgSwBSq0m1E6azMs7ffzf77QWoXgcgjxpxu
T+kPhsuQ8jP8esIPTD</vt:lpwstr>
  </property>
  <property fmtid="{D5CDD505-2E9C-101B-9397-08002B2CF9AE}" pid="3" name="_2015_ms_pID_7253431">
    <vt:lpwstr>JavJ63IzoxPJgvCTZG1oNUgEwPd+h/+yqD0N+Al2gCclUTc2JH576k
7xff9k55d863q0gwL7ivEmVqQE/e4wf2YfYQ+i19aLy7kKeJhB2ycyVZo0epzShaUW4MM7XH
itNp3/lvi98yBpjk64vFhIC3jKKBfIpAFA0bYBBFpNzTq9guOQbwhfU1po4iNjlpuTQ=</vt:lpwstr>
  </property>
  <property fmtid="{D5CDD505-2E9C-101B-9397-08002B2CF9AE}" pid="4" name="_change">
    <vt:lpwstr/>
  </property>
  <property fmtid="{D5CDD505-2E9C-101B-9397-08002B2CF9AE}" pid="5" name="_full-control">
    <vt:lpwstr/>
  </property>
  <property fmtid="{D5CDD505-2E9C-101B-9397-08002B2CF9AE}" pid="6" name="_readonly">
    <vt:lpwstr/>
  </property>
  <property fmtid="{D5CDD505-2E9C-101B-9397-08002B2CF9AE}" pid="7" name="sflag">
    <vt:lpwstr>1551350675</vt:lpwstr>
  </property>
</Properties>
</file>