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80FB-F256-47E0-AC9A-1C8AC2B2EA93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EEFA-065F-4131-889E-FDF07A2103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2BD-DF82-4604-A338-DA80169C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003-540F-448A-A94A-3051465B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C0E-117B-4182-A820-47BE42E2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6E5-0404-4304-86EF-6A05EC0F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08C-5676-4B3C-B7A1-ABDDCB2F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D20-CF9D-4050-8C27-9F96A843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77C-C414-4C8D-90B3-6B458FA0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CF5-8BD8-4EA5-AEBD-F36458D9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34F-6A3B-49B8-997E-C6991633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501-F302-497D-BA48-0CF6069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0DD-4346-45F5-B529-BFF6D733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F74-1A26-45CA-8557-BC73CD0C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28F9-F2E3-4A98-981C-61C0FBA718A4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about:blank" TargetMode="External"/><Relationship Id="rId2" Type="http://schemas.openxmlformats.org/officeDocument/2006/relationships/hyperlink" Target="about:blank" TargetMode="External"/><Relationship Id="rId3" Type="http://schemas.openxmlformats.org/officeDocument/2006/relationships/hyperlink" Target="about:blank" TargetMode="External"/><Relationship Id="rId4" Type="http://schemas.openxmlformats.org/officeDocument/2006/relationships/hyperlink" Target="about:blank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158920" y="898560"/>
            <a:ext cx="80470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LSR extensions for advertising BIER-ETHER encapsulation capability &amp;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draft-dhanaraj-bier-lsr-ethernet-extensions-0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IETF104   2019-03-25 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071800" y="4108320"/>
            <a:ext cx="804852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Senthil Dhana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IJsbrand Wijn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Peter Psen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Zhaohui(Jeffrey) Zh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Gang Y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8440" y="182520"/>
            <a:ext cx="78868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Appendix (BIFT-id range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652320" y="1214280"/>
            <a:ext cx="109220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s an example, suppose a particular BIER domain contains a SD (SD 0),  supports two BSLs (256 and 512), and contains 512 BFRs.  A BFR that is provisioned for above SD, and that supports both BSLs, would have to advertise the following set of BIFT-id'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1: corresponding to SD 0, BSL 256, SI 0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2: corresponding to SD 0, BSL 256, SI 1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3: corresponding to SD 0, BSL 256, SI 2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4: corresponding to SD 0, BSL 256, SI 3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5: corresponding to SD 0, BSL 512, SI 0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6: corresponding to SD 0, BSL 512, SI 1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 such case, a BFR MUST assign a contiguous range of BIFT-ids a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range [1 to 4] correspond to &lt;SD 0, BSL 256&gt;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range [5 to 6] correspond to &lt;SD 0, BSL 512&gt;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first BIFT-id in the range correspond to SI=0, the second correspond to SI=1,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4320" y="149040"/>
            <a:ext cx="8169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Draft purpo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44400" y="1177560"/>
            <a:ext cx="1038096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BIER ETHERNET (BIER-ETH) is one of the encapsulation type to deploy BIER in Non-MPLS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Like BIER-MPLS, processing and forwarding of BIER-ETH packets requires new software / hard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BFRs supporting BIER-ETH encapsulation must advertise this capability (along with the other required parameters) to the other BFRs in BIER domain (to aid building BIER Routing t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is draft defines the required extensions to ISIS and OSPF protocols to advertise the BIER-ETH encapsulation capability and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日期占位符 3"/>
          <p:cNvSpPr/>
          <p:nvPr/>
        </p:nvSpPr>
        <p:spPr>
          <a:xfrm>
            <a:off x="21528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28DF8A18-15F2-48A3-8764-862C8DD2CD21}" type="slidenum">
              <a:rPr b="0" lang="de-DE" sz="8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oogle Shape;91;p14"/>
          <p:cNvSpPr/>
          <p:nvPr/>
        </p:nvSpPr>
        <p:spPr>
          <a:xfrm>
            <a:off x="1463760" y="2265480"/>
            <a:ext cx="1720800" cy="45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th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Calibri"/>
              </a:rPr>
              <a:t>(EthTYpe=0xAB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oogle Shape;92;p14"/>
          <p:cNvSpPr/>
          <p:nvPr/>
        </p:nvSpPr>
        <p:spPr>
          <a:xfrm>
            <a:off x="3110040" y="2265480"/>
            <a:ext cx="2824200" cy="45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ER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oogle Shape;93;p14"/>
          <p:cNvSpPr/>
          <p:nvPr/>
        </p:nvSpPr>
        <p:spPr>
          <a:xfrm>
            <a:off x="5925960" y="2265480"/>
            <a:ext cx="1333800" cy="45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Google Shape;105;p16"/>
          <p:cNvSpPr/>
          <p:nvPr/>
        </p:nvSpPr>
        <p:spPr>
          <a:xfrm>
            <a:off x="604800" y="1595520"/>
            <a:ext cx="34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dd new sub-sub-TLV for BIER-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Google Shape;106;p16"/>
          <p:cNvSpPr/>
          <p:nvPr/>
        </p:nvSpPr>
        <p:spPr>
          <a:xfrm>
            <a:off x="768240" y="2282760"/>
            <a:ext cx="2648160" cy="461880"/>
          </a:xfrm>
          <a:prstGeom prst="rect">
            <a:avLst/>
          </a:prstGeom>
          <a:solidFill>
            <a:srgbClr val="fbe4d4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SIS/OSPF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oogle Shape;107;p16"/>
          <p:cNvSpPr/>
          <p:nvPr/>
        </p:nvSpPr>
        <p:spPr>
          <a:xfrm>
            <a:off x="1155600" y="2735280"/>
            <a:ext cx="2589480" cy="450720"/>
          </a:xfrm>
          <a:prstGeom prst="rect">
            <a:avLst/>
          </a:prstGeom>
          <a:solidFill>
            <a:srgbClr val="fbe4d4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er sub-domain Sub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oogle Shape;108;p16"/>
          <p:cNvSpPr/>
          <p:nvPr/>
        </p:nvSpPr>
        <p:spPr>
          <a:xfrm>
            <a:off x="1552680" y="3187800"/>
            <a:ext cx="2890800" cy="450720"/>
          </a:xfrm>
          <a:prstGeom prst="rect">
            <a:avLst/>
          </a:prstGeom>
          <a:solidFill>
            <a:srgbClr val="fbe4d4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PLS Encap sub-sub-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oogle Shape;109;p16"/>
          <p:cNvSpPr/>
          <p:nvPr/>
        </p:nvSpPr>
        <p:spPr>
          <a:xfrm>
            <a:off x="1552680" y="3630600"/>
            <a:ext cx="2890800" cy="449280"/>
          </a:xfrm>
          <a:prstGeom prst="rect">
            <a:avLst/>
          </a:prstGeom>
          <a:solidFill>
            <a:srgbClr val="e1efd8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ER-Eth Encap sub-sub-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oogle Shape;110;p16"/>
          <p:cNvSpPr/>
          <p:nvPr/>
        </p:nvSpPr>
        <p:spPr>
          <a:xfrm>
            <a:off x="260280" y="5165640"/>
            <a:ext cx="914400" cy="306360"/>
          </a:xfrm>
          <a:prstGeom prst="rect">
            <a:avLst/>
          </a:prstGeom>
          <a:solidFill>
            <a:srgbClr val="fbe4d4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oogle Shape;111;p16"/>
          <p:cNvSpPr/>
          <p:nvPr/>
        </p:nvSpPr>
        <p:spPr>
          <a:xfrm>
            <a:off x="260280" y="5551560"/>
            <a:ext cx="914400" cy="306360"/>
          </a:xfrm>
          <a:prstGeom prst="rect">
            <a:avLst/>
          </a:prstGeom>
          <a:solidFill>
            <a:srgbClr val="e1efd8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oogle Shape;112;p16"/>
          <p:cNvSpPr/>
          <p:nvPr/>
        </p:nvSpPr>
        <p:spPr>
          <a:xfrm>
            <a:off x="1212840" y="510696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isting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oogle Shape;113;p16"/>
          <p:cNvSpPr/>
          <p:nvPr/>
        </p:nvSpPr>
        <p:spPr>
          <a:xfrm>
            <a:off x="1212840" y="5514840"/>
            <a:ext cx="163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ew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Google Shape;114;p16"/>
          <p:cNvCxnSpPr/>
          <p:nvPr/>
        </p:nvCxnSpPr>
        <p:spPr>
          <a:xfrm>
            <a:off x="5554800" y="1096560"/>
            <a:ext cx="33840" cy="5357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Google Shape;115;p16"/>
          <p:cNvSpPr/>
          <p:nvPr/>
        </p:nvSpPr>
        <p:spPr>
          <a:xfrm>
            <a:off x="6216480" y="1268280"/>
            <a:ext cx="545796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282960" indent="-28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a new BIER-ETH sub-sub-TLV under BIER sub-domain sub-TL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to advertise the BIER-ETH capability and other associated parameters of the encaps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 BIER sub-domain MAY support more than one BIER encapsulation typ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different encapsulation types supported in a sub-domain shares the same BFR-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selection of encapsulation type to be used by a BFIR or BFR for a sub-domain could be a matter of local policy and is outside the scope of thi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标题 1"/>
          <p:cNvSpPr/>
          <p:nvPr/>
        </p:nvSpPr>
        <p:spPr>
          <a:xfrm>
            <a:off x="184320" y="122400"/>
            <a:ext cx="8169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How to advertise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Google Shape;115;p16"/>
          <p:cNvSpPr/>
          <p:nvPr/>
        </p:nvSpPr>
        <p:spPr>
          <a:xfrm>
            <a:off x="1087560" y="4295880"/>
            <a:ext cx="1001556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231480" indent="-23148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t-string-length supported  (same as BS Len in BIER-MP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umber of SETS supported for the bit-string-length (same as Max SI in BIER-MP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BIFT-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a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SET  (BIFT-id, not MPLS Base Lab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84320" y="122400"/>
            <a:ext cx="8169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What to advertise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Google Shape;105;p16"/>
          <p:cNvSpPr/>
          <p:nvPr/>
        </p:nvSpPr>
        <p:spPr>
          <a:xfrm>
            <a:off x="587520" y="1290600"/>
            <a:ext cx="39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fer BIER-MPLS Encap sub-sub-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23960" y="1800360"/>
            <a:ext cx="5970600" cy="1482480"/>
          </a:xfrm>
          <a:prstGeom prst="rect">
            <a:avLst/>
          </a:prstGeom>
          <a:ln w="0">
            <a:noFill/>
          </a:ln>
        </p:spPr>
      </p:pic>
      <p:sp>
        <p:nvSpPr>
          <p:cNvPr id="106" name="Google Shape;105;p16"/>
          <p:cNvSpPr/>
          <p:nvPr/>
        </p:nvSpPr>
        <p:spPr>
          <a:xfrm>
            <a:off x="652320" y="3573360"/>
            <a:ext cx="52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What to advertise in  BIER-ETH Encap sub-sub-TLV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标题 1"/>
          <p:cNvSpPr/>
          <p:nvPr/>
        </p:nvSpPr>
        <p:spPr>
          <a:xfrm>
            <a:off x="193680" y="150840"/>
            <a:ext cx="81676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More about BIFT-I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193680" y="1176480"/>
            <a:ext cx="1127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[RFC8296] specifies that the BIFT-id in Non-MPLS networks is a "domain-wide-unique-value“ and is not expected to change at each hops as the BFR forwards the BIER packet.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hen why advertise BIFT-i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[I-D.ietf-bier-non-mpls-bift-encoding]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bes two possible methods for assigning and encoding the BIFT-id in Non-MPLS BIER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ough BIFT-id is expected to be unique per BIER Sub-domain across all the BFRs, considering that t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re multiple possible options to generate/assign BIFT-id, it is advisable to advertise the BIFT-id to det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y bad provisioning and thereby avoiding traffic black ho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trary to [RFC8296], BIER architecture [RFC8279] does NOT require domain-wide-unique BIFT-ids to be used (even for non-MPLS encapsulation) and is possible that a locally assigned non-unique value can be used as BIFT-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can be seen as other reason why we need to advertise BIFT-id along with the previous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标题 1"/>
          <p:cNvSpPr/>
          <p:nvPr/>
        </p:nvSpPr>
        <p:spPr>
          <a:xfrm>
            <a:off x="193680" y="125280"/>
            <a:ext cx="81676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More about BIFT-I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0960" y="1131840"/>
            <a:ext cx="11276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 BIER MPLS world, for an [SD, BSL] pair, contiguous labels are allocated and we advertise only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label and the label-range-size (a.k.a Max S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way, signaling of individual labels per SET is avoided and signaling is simpl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hould BIFT-id in Non-MPLS networks, be contiguous, similar to MPLS Labels ?  Not necessarily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ut to make the IGP signaling simpler, we suggest to follow similar approach as BIER-MP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llocate contiguous range of BIFT-Id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vertise only the Base BIFT-id and the BIFT-id range (a.k.a Max 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Google Shape;127;p18"/>
          <p:cNvSpPr/>
          <p:nvPr/>
        </p:nvSpPr>
        <p:spPr>
          <a:xfrm>
            <a:off x="395280" y="1173240"/>
            <a:ext cx="1145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t is advertised within the BIER Info sub-TLV defined in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1"/>
              </a:rPr>
              <a:t>[RFC8401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which in-turn is carried within the TLVs 235, 237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2"/>
              </a:rPr>
              <a:t>[RFC5120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or TLVs 135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3"/>
              </a:rPr>
              <a:t>[RFC5305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, or TLV 236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4"/>
              </a:rPr>
              <a:t>[RFC5308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Google Shape;128;p18"/>
          <p:cNvSpPr/>
          <p:nvPr/>
        </p:nvSpPr>
        <p:spPr>
          <a:xfrm>
            <a:off x="395280" y="4067280"/>
            <a:ext cx="1129032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yp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 2 (TBD – I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ength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 4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ax S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 octet. Maximum Set Identifier (Section 1 of [RFC8279]) used in the encapsulation for this BIER subdomain for this BitString length. The first BIFT-id is for SI=0, the second BIFT-id is for SI=1, etc. If the BIFT-id associated with the Maximum Set Identifier exceeds the 20-bit range, the sub-sub-TLV MUST b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cal BitString Length (BS Len)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4 bits. Encoded bitstring length as per [RFC8296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IFT-i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20 bits. 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Calibri"/>
              </a:rPr>
              <a:t>First BIFT-id of the BIFT-id rang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The usage of BIFT-id value for non-MPLS networks is as defined in [RFC8296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93680" y="125280"/>
            <a:ext cx="112665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9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ISIS – Add new BIER-ETH encap sub-sub-TL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5"/>
          <a:stretch/>
        </p:blipFill>
        <p:spPr>
          <a:xfrm>
            <a:off x="1087560" y="2054160"/>
            <a:ext cx="68180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Google Shape;127;p18"/>
          <p:cNvSpPr/>
          <p:nvPr/>
        </p:nvSpPr>
        <p:spPr>
          <a:xfrm>
            <a:off x="395280" y="1173240"/>
            <a:ext cx="1145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t is advertised within the BIER sub-TLV defined in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[RFC8444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which in-turn is carried within the OSPFv2 Extended Prefix TLV defined in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[RFC7684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Google Shape;128;p18"/>
          <p:cNvSpPr/>
          <p:nvPr/>
        </p:nvSpPr>
        <p:spPr>
          <a:xfrm>
            <a:off x="395280" y="4067280"/>
            <a:ext cx="1129032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yp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 11 (TBD – I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ength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 8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ax S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 octet. Maximum Set Identifier (Section 1 of [RFC8279]) used in the encapsulation for this BIER subdomain for this BitString length. The first BIFT-id is for SI=0, the second BIFT-id is for SI=1, etc. If the BIFT-id associated with the Maximum Set Identifier exceeds the 20-bit range, the sub-sub-TLV MUST b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IFT-i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20 bits. 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Calibri"/>
              </a:rPr>
              <a:t>First BIFT-id of the BIFT-id rang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The usage of BIFT-id value for non-MPLS networks is as defined in [RFC8296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cal BitString Length (BS Len)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4 bits. Encoded bitstring length as per [RFC8296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93680" y="125280"/>
            <a:ext cx="112665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OSPF – Add new BIER-ETH encap sub-TL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12880" y="1944720"/>
            <a:ext cx="61484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8440" y="182520"/>
            <a:ext cx="78868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Request to the W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5040" y="1325520"/>
            <a:ext cx="8054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ments /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nthil Dhanaraj</dc:creator>
  <dc:description/>
  <dc:language>en-US</dc:language>
  <cp:lastModifiedBy>Senthil Dhanaraj</cp:lastModifiedBy>
  <dcterms:modified xsi:type="dcterms:W3CDTF">2019-03-22T09:19:06Z</dcterms:modified>
  <cp:revision>17</cp:revision>
  <dc:subject/>
  <dc:title>Advertising BIER encapsulation capabilities for Non-MPLS networks using ISIS exten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2)HN0kcVLYF4tTpUPq0lDn2UdsBPpehA05PFSF322eRks4saxDryF2Ch3NVnhgm0T4B3re5eRO
UzFeFFfeuNhdSQqJM3IHno/+Po49qA7ntVOg8q8wQ2tdtZ/n/RWDVB02qR379+ujebsa93e5
dhsB/RThLYXjlkCZdGL5i4XG9348V4nGg8bffUgSwBSq0m1E6azMs7ffzf77QWoXgcgjxpxu
T+kPhsuQ8jP8esIPTD</vt:lpwstr>
  </property>
  <property fmtid="{D5CDD505-2E9C-101B-9397-08002B2CF9AE}" pid="3" name="_2015_ms_pID_7253431">
    <vt:lpwstr>JavJ63IzoxPJgvCTZG1oNUgEwPd+h/+yqD0N+Al2gCclUTc2JH576k
7xff9k55d863q0gwL7ivEmVqQE/e4wf2YfYQ+i19aLy7kKeJhB2ycyVZo0epzShaUW4MM7XH
itNp3/lvi98yBpjk64vFhIC3jKKBfIpAFA0bYBBFpNzTq9guOQbwhfU1po4iNjlpuTQ=</vt:lpwstr>
  </property>
  <property fmtid="{D5CDD505-2E9C-101B-9397-08002B2CF9AE}" pid="4" name="_change">
    <vt:lpwstr/>
  </property>
  <property fmtid="{D5CDD505-2E9C-101B-9397-08002B2CF9AE}" pid="5" name="_full-control">
    <vt:lpwstr/>
  </property>
  <property fmtid="{D5CDD505-2E9C-101B-9397-08002B2CF9AE}" pid="6" name="_readonly">
    <vt:lpwstr/>
  </property>
  <property fmtid="{D5CDD505-2E9C-101B-9397-08002B2CF9AE}" pid="7" name="sflag">
    <vt:lpwstr>1551350675</vt:lpwstr>
  </property>
</Properties>
</file>