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EE39-7C54-41A8-A26C-9C8C0357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0759-BD45-49C2-83BC-8E4DCC4AA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DEB2-4A5F-4F8C-96FE-2770720D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A1FE-C282-4039-A88B-91D248E97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46B8-B6AB-4B2B-961B-DDF2D388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2DC-6626-4ECA-9AD5-B205ABD3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F7A5-8039-4C5C-ACD5-39DF63BF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835B-77FF-405E-9094-02578E4B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02A-E187-4657-97C7-D991E68FD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5A99-4B0C-4473-83FC-7E2D26D8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5014-85F9-4154-8EBD-D748A84D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4E30-2CCA-4D08-AB9B-89109D42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ETF-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CF434-9DC1-49EF-BF86-8E93261E2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 Comments on performance measurement with the marking method in BIER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ft-ietf-bier-pmmm-o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81080" y="52578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IETF-105  July 2019, Montre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ed on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umber of Alvaro’s comments lead to updates to the draft. The WG should discuss these comments and the related chang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ed RFC 8321 to the Normative References l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rminology: use “marking method” vs. PNPM (Packet Network Performance Monito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ally managing Monitoring Points in BIER – adding/remov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ed Operational Consideration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 we recommend specific values for the duration of a colored block (time or packet number)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worked Security Considerations 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ity protectio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en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k: Experimental, Informational, or Standar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FC 8321 is Experimental. Alvaro has pointed that “given that rfc8321 is not mature enough, what should be the Status of this document: Experimental or Informational?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to draft-ietf-bier-oam-requirem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ed reference is the right step but not enou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WG is resolute to publish draft-ietf-bier-oam-requirements, it should progress at least in-step with this draf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ing the OAM field for Marking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ld there be other interpretations and use of the OAM field of BIER header or only for the Alt.Marking metho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interpretation of the OAM field is only as defined in this draft, then it must be marked as update of RFC 829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any case, IANA Considerations section doesn’t make sense - remo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ing flag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oss)/D(elay) vs. S(ingle)/D(oub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, de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ress com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 LC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6T01:32:35Z</dcterms:created>
  <dc:creator>egremir</dc:creator>
  <dc:description/>
  <dc:language>en-US</dc:language>
  <cp:lastModifiedBy>Greg Mirsky</cp:lastModifiedBy>
  <dcterms:modified xsi:type="dcterms:W3CDTF">2019-07-18T20:46:41Z</dcterms:modified>
  <cp:revision>68</cp:revision>
  <dc:subject/>
  <dc:title>MPLS-TP CV Advertisement in PW VCCV draft-mirsky-mpls-tp-cv-adv-0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UpdateProcess">
    <vt:lpwstr>End</vt:lpwstr>
  </property>
</Properties>
</file>