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D0A-A58B-4DEB-A848-FF8651E1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51B-5B13-4D6D-A398-AE97F70A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808-01D9-44E5-86F6-89B69DBC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489-43EA-47A8-8E6C-1E6B38EC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671-4CF5-415C-9831-1095C2F6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951-6858-4368-B77B-CE81BD6F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596-BA52-4E7F-B1C0-A2E6ED18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5C1-AE7A-4960-9A19-935A4CE3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836-6E67-4BD2-9DC6-49D6BB1C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BB0-F690-4BB5-8489-D0CB441A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C95-536A-4C49-B443-332E0D7C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719-36E0-42C1-ABA6-37D8CF5A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053F-907E-45B8-9D3C-8366C8806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 Comments on performance measurement with the marking method in BIER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bier-pmmm-o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1080" y="52578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-105  July 2019, Mont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ed on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Alvaro’s comments lead to updates to the draft. The WG should discuss these comments and the related chan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d RFC 8321 to the Normative References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ology: use “marking method” vs. PNPM (Packet Network Performance Monito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managing Monitoring Points in BIER – adding/rem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Operational Consideration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we recommend specific values for the duration of a colored block (time or packet number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worked Security Consideration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ity protec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: Experimental, Informational, or Stand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FC 8321 is Experimental. Alvaro has pointed that “given that rfc8321 is not mature enough, what should be the Status of this document: Experimental or Informational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to draft-ietf-bier-oam-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reference is the right step but not en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WG is resolute to publish draft-ietf-bier-oam-requirements, it should progress at least in-step with this d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OAM field for Marking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there be other interpretations and use of the OAM field of BIER header or only for the Alt.Marking metho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interpretation of the OAM field is only as defined in this draft, then it must be marked as update of RFC 829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ny case, IANA Considerations section doesn’t make sense - 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ing flag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oss)/D(elay) vs. S(ingle)/D(ou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,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 LC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1:32:35Z</dcterms:created>
  <dc:creator>egremir</dc:creator>
  <dc:description/>
  <dc:language>en-US</dc:language>
  <cp:lastModifiedBy>Greg Mirsky</cp:lastModifiedBy>
  <dcterms:modified xsi:type="dcterms:W3CDTF">2019-07-18T20:46:41Z</dcterms:modified>
  <cp:revision>68</cp:revision>
  <dc:subject/>
  <dc:title>MPLS-TP CV Advertisement in PW VCCV draft-mirsky-mpls-tp-cv-adv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UpdateProcess">
    <vt:lpwstr>End</vt:lpwstr>
  </property>
</Properties>
</file>