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Lst>
  <p:sldSz cx="6858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3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7D64E-46A4-4CD7-A743-BB1ADB27A487}" type="datetime">
              <a:rPr b="0" lang="zh-CN" sz="1200" spc="-1" strike="noStrike">
                <a:solidFill>
                  <a:srgbClr val="000000"/>
                </a:solidFill>
                <a:latin typeface="Times New Roman"/>
              </a:rPr>
              <a:t>26/7/28</a:t>
            </a:fld>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1" name="PlaceHolder 5"/>
          <p:cNvSpPr>
            <a:spLocks noGrp="1"/>
          </p:cNvSpPr>
          <p:nvPr>
            <p:ph type="ftr" idx="3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91949-18E4-438D-8B35-9DA1A71133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F15E2-8AFE-4FA5-9DDF-BEA16E60A7F8}" type="datetime">
              <a:rPr b="0" lang="zh-CN" sz="1200" spc="-1" strike="noStrike">
                <a:solidFill>
                  <a:srgbClr val="000000"/>
                </a:solidFill>
                <a:latin typeface="Arial"/>
              </a:rPr>
              <a:t>26/7/28</a:t>
            </a:fld>
            <a:endParaRPr b="0" lang="en-US" sz="1200" spc="-1" strike="noStrike">
              <a:solidFill>
                <a:srgbClr val="000000"/>
              </a:solidFill>
              <a:latin typeface="Arial"/>
            </a:endParaRPr>
          </a:p>
        </p:txBody>
      </p:sp>
      <p:sp>
        <p:nvSpPr>
          <p:cNvPr id="6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DBCBB-B620-4063-B05C-C2E85C9020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A89A972-A134-4517-9A18-0B7C5592F5C1}"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676B3EF-5774-4038-BB6F-57C19E11556E}"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227673B-4558-45F0-A227-E174447D5AF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F057200-773A-4BAD-8046-1717484866F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907F6BB-2F61-48ED-B2D6-C49CE5572E7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0BC728C-95FB-4478-ADF4-3CDCA56B5E3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19F1C8E2-0834-4CC4-814A-CD2C4F7CC7BD}"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9B0A1F8-C56A-4CA7-AA51-2D302462109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7"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0"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30C93C4F-B459-47FF-B434-7DCB22FFF3DE}"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780F69C6-6C86-4E40-ACAD-DE1DEF260935}"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26D2B06B-25BD-40E5-BB16-0D300ED3030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3E1CF23-E1A1-4949-AA59-6842D1DDA79E}"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23453A23-3E1C-4737-987F-9F7B9C1BBD6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1625005-8427-4794-B8DE-4BEEAEE27CD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F0449DF-B9C3-4215-9CB5-7A39EF70E6D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19C241E-BC2B-48F7-9542-FCDAAA4E428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DB6A7FC-77AD-4D89-9EA0-2790641133A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DC2D5385-7FE1-46CC-8AC0-CFA8ED0231C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69630C78-738E-4801-80F1-AABEC72FE59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84FF6FEF-D5D2-411D-B39D-1A2557C903A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30699769-20A6-4702-9793-ACE510C4351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D0CF764F-A114-498E-BB3A-CF7B24CAB0F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0E497E4-BC71-4C41-968A-4887B4A76E9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695D7E8-E581-426C-BDA3-598901B0F1C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286E972D-D6F9-4A53-9A4A-C036FA8EC9E3}"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8E1B03E7-BF8E-4AEA-8848-35A1649C7BE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AE04A50-027B-42FE-9028-4B0456E26C58}"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BC017ED-C18B-4966-8D6E-E2ABDEA8E0F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29CAB91-87D9-47A5-B0A3-EDDCC1024B1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CC260052-9A19-4447-9C09-CC918443038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4AB8613-CFCC-40B2-8CCB-28F81AD490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559E27B-1977-44AA-A2C8-DBFA4DEE82B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6D871AE-5F4C-4FB5-9AE3-5244C25EE69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B5CC168-5F10-4D55-87A9-2E331BC8B72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1F999C05-32B2-442B-A6B0-4E2E12883BD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1"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A658DF14-B800-40AF-86C6-2887D6CE9EF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3"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022CB3BB-A383-4879-BD3B-725CB34C6B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3BEFAAE7-75A6-4211-9819-1586138693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30ED809F-7E35-47FE-A424-0FB30BB7133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B71A2060-35E8-4BA3-A223-A9F82CE995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86AA16CA-92AB-4149-A9BA-4357C50369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CC77129-CFA6-49DC-908A-C26A337090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9183179-8387-4788-8FBE-2DCB05DEFE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9DEE752E-B664-44D4-BEC9-1A67A8A934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2"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7EA0A0B3-6430-439D-B9B1-7E60FD22539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6AB5F492-7887-4A32-9CD1-F25B793129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0"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3"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C2CD9D31-268C-407E-8CEA-214709C6953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54391C27-17FE-4559-8B52-ED11BA64DC1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2"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40AD958-2193-4777-85B0-4C50197B07E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4"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6A8AB1BF-3980-45C4-ADEE-8E3823C3B7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BF2409B-6B32-4C67-863E-3D8DDEDD9C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8566F3A-588E-4581-8F6D-12ABCF4E64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E45FE35-9632-4607-B4D2-DD670D155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654EFB9-AE5B-4324-865B-7091B4E770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EDA74D0-0DF1-4AA0-B6B2-5D666CC933D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7"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27CC7E7-577C-405E-B8A1-81530A256D1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1"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34539CCD-F284-4542-8BC9-3DF90306DA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3"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4"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3BD0F9B4-5084-442A-8CCE-C4B6343947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D5D15581-152B-4F37-8BFD-2C2C9DBB134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1"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2"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3"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6"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B3008CDB-A903-4C9C-AD16-58C46B3A5A0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5E7B1619-5EE9-43CD-B8FD-AB56884C9CA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3"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83135C46-7C24-4C14-BA62-4C1F197B36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5"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AB151C26-5A83-4D56-9E37-4E56872E9B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0FC1B09-4A4F-4F09-B83A-C549DD9F4A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F1380CEB-0879-4DF5-B02F-AD3AC90862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6C45EA41-3FE4-47D1-960D-71B315613D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69E98D1-CF72-4692-BADA-AA8B2BDAAC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F54EFA8C-A7C2-4BFD-AE45-7AC4F754A3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67FB4255-FB0F-4455-BDC6-6672E4EE08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2"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C68BC923-6D90-48E6-BFEB-C3B9104346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4"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5"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9A943A6C-ED12-4ABE-8B57-06CB81F3FB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4AF8456E-990A-4F7F-972E-BDEDD1193D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2"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3"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4"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5"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6"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7"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AFA5BE60-44AC-49C7-B790-402B2B361C2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432953D-4520-4A92-BD8D-15C59AEC20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1"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3"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6"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2"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3"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4C15879-8B88-4A37-8C34-5E30CA616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0"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1"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2"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3"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4"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5"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E461F9F-D7FE-4F42-8605-BB8777E8B4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587C441-5970-40AA-AA5A-E951BC6D62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732E6D-279A-4FD0-82EA-353E9AED7A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56C42C8-97C8-4B9B-8435-38E3EF8050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8215D4D-8403-47E0-A87E-A4F6D766D6F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390192CC-D5C4-4B84-A2F5-1B1ED24CC77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37EE1EDA-DEA6-4820-B10D-5E19BDD22C6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39F2EF9-21A8-4E1E-A0D9-509D22FC1A7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E02407E-E315-4BB7-9BF7-4C79C58E6C4F}"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BE123D7-27F4-469E-B33D-D0818C866E8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2B5ED27-1D43-4E7C-84E4-AA6DDB2404E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1BE6B5C-6DB3-48BD-9DE8-24BDF6228FA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50AD7C77-6331-4DAC-B5E0-01B8B72A3B9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5A4C088-85DC-4DE9-9325-22715D408AB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0A828D0-AF50-4A7A-A402-3F72639AA09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E822F173-C4D0-4E9F-BCC2-348BD9DFBCA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76BBEEA-87B9-4889-9F84-BC88E244430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B1626C4C-B0E6-47E4-B6A4-652DCA193188}"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E54B0B8C-4B87-4623-A621-3415023DAF3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20367FD-A76B-4DD7-A43B-C8C80172940B}"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8F73C4B6-1B2F-4F8C-A631-FA20078B486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2611358-715A-438E-8884-A52CCADC623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F1EB583-3C00-4E87-AFB6-52A05BF787A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C021482-455C-405E-A3C0-95298891EB0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0054EDD-3807-40E3-9F2F-592570B2667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DF31EDE-6C2E-4D06-89A9-54B34E14E55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E0C656D0-4CB9-4A2F-8E54-A37CD199985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98A7177-4A6E-4441-A843-295818326AE6}"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8DEC651-7DE7-45A8-915B-D455D39CA287}"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FBDCB56-88EE-4927-944D-D8225C7BA848}"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F8AB2EB-B886-4092-AEFC-9D1C1437754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8D3BAD2D-415E-425B-86C4-CCDF33B963A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7339430-65CB-448D-B937-FDD619CB48D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A148702A-F497-4311-80BD-7C207D319C5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BE525E8-4F1B-44DF-80DF-15CB1F0D14E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95204A5-57A2-4040-B3F4-2867EFA3BA3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BD6E73E-7887-400B-AF4F-2F06149ADFA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B128E67-2D78-4BF7-B60C-6E95AEB50F9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4A675004-6A13-45DB-A321-E0D4DAFC178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98508C8-0DFA-4EB2-9468-D28DBDAB33B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482EB29B-6D9F-4750-A08A-CD92C67ADB20}"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A5BDA838-766E-4A08-94CC-5195B83F11C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B68F1DF2-D8FE-47A3-8A2A-3EBCEC1E030E}"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95FEFDF-5750-4828-8E9D-82C57E8CBBA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09247DA8-38EA-403D-8775-0C6F9AA7D57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F0F249C-1C53-41B1-A77A-831310A1546F}"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D4A62F10-5FE3-4C12-A2D5-64E3D995611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D5B52B5-78DF-4021-B7D4-F5407003C154}"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65D9FC7-BECE-4F8A-9F54-A0AF1E1693E5}"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2E36C74-668A-447A-95F5-67BE491BB07D}"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CF94CD7-C2F1-4069-B615-039E0B44FE66}"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758FADF-FB71-4C6D-BB90-30FAF837A6B5}"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7B4C9DAC-B63C-498F-A6EB-3F1075CB4BB6}"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90D0F036-9FD2-49B8-A3C9-EE80B13A40E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5E2A8D4F-C993-484B-B66E-1FE2DB852499}"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B53B4D4-3ED6-4549-B6A0-4DE363274D3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9"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DE9C6661-C7CD-49B1-805E-19F648891EF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ACF7169-2B46-4C6F-BB81-0B7BA7D642E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07F5B58-3C10-4A60-8390-91540C944635}"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0AB185E1-8E6B-4F4A-B1AE-EE88E5DAE66C}"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D01213F-82ED-4251-9C37-0C958331C13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E632795-A207-44F7-9D9F-BBB52D9B1CB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2672F3D0-9CBC-433F-8276-51154D5727E9}"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ACB4860-437E-4FE9-AEE8-C69E3EF1C5E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5BE648C1-0781-4FA3-8176-6FCC8DEF681E}"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6"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5D569D64-8909-4145-9583-1BF395622E5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3C8FBB45-BCAA-42B9-AEA2-3762A968BED7}"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8"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45C674EA-966D-4C71-8E5D-DE854460CCDB}"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0"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BFC002D-C700-4A9E-BB01-7F260ED8D12B}"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560" y="87480"/>
            <a:ext cx="6048720" cy="474480"/>
          </a:xfrm>
          <a:prstGeom prst="rect">
            <a:avLst/>
          </a:prstGeom>
          <a:noFill/>
          <a:ln w="0">
            <a:noFill/>
          </a:ln>
        </p:spPr>
        <p:txBody>
          <a:bodyPr lIns="78120" rIns="78120" tIns="39240" bIns="39240" anchor="ctr">
            <a:noAutofit/>
          </a:bodyPr>
          <a:p>
            <a:pPr indent="0">
              <a:buNone/>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700" spc="-1" strike="noStrike">
                <a:solidFill>
                  <a:srgbClr val="990000"/>
                </a:solidFill>
                <a:latin typeface="Arial"/>
              </a:rPr>
              <a:t>Click to edit the title text format</a:t>
            </a:r>
            <a:endParaRPr b="1" lang="en-US" sz="1700" spc="-1" strike="noStrike">
              <a:solidFill>
                <a:srgbClr val="990000"/>
              </a:solidFill>
              <a:latin typeface="Arial"/>
            </a:endParaRPr>
          </a:p>
        </p:txBody>
      </p:sp>
      <p:sp>
        <p:nvSpPr>
          <p:cNvPr id="1" name="PlaceHolder 2"/>
          <p:cNvSpPr>
            <a:spLocks noGrp="1"/>
          </p:cNvSpPr>
          <p:nvPr>
            <p:ph type="body"/>
          </p:nvPr>
        </p:nvSpPr>
        <p:spPr>
          <a:xfrm>
            <a:off x="243000" y="681120"/>
            <a:ext cx="6372000" cy="3913200"/>
          </a:xfrm>
          <a:prstGeom prst="rect">
            <a:avLst/>
          </a:prstGeom>
          <a:noFill/>
          <a:ln w="0">
            <a:noFill/>
          </a:ln>
        </p:spPr>
        <p:txBody>
          <a:bodyPr lIns="78120" rIns="78120" tIns="39240" bIns="39240" anchor="t">
            <a:normAutofit/>
          </a:bodyPr>
          <a:p>
            <a:pPr marL="158760" indent="-158760">
              <a:lnSpc>
                <a:spcPct val="140000"/>
              </a:lnSpc>
              <a:buClr>
                <a:srgbClr val="000000"/>
              </a:buClr>
              <a:buFont typeface="Wingdings" charset="2"/>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Click to edit the outline text format</a:t>
            </a:r>
            <a:endParaRPr b="1" lang="en-US" sz="1000" spc="-1" strike="noStrike">
              <a:solidFill>
                <a:srgbClr val="000000"/>
              </a:solidFill>
              <a:latin typeface="Arial"/>
            </a:endParaRPr>
          </a:p>
          <a:p>
            <a:pPr lvl="1" marL="345960" indent="-131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cond Outline Level</a:t>
            </a:r>
            <a:endParaRPr b="1" lang="en-US" sz="1000" spc="-1" strike="noStrike">
              <a:solidFill>
                <a:srgbClr val="000000"/>
              </a:solidFill>
              <a:latin typeface="Arial"/>
            </a:endParaRPr>
          </a:p>
          <a:p>
            <a:pPr lvl="2" marL="53172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Third Outline Level</a:t>
            </a:r>
            <a:endParaRPr b="1" lang="en-US" sz="1000" spc="-1" strike="noStrike">
              <a:solidFill>
                <a:srgbClr val="000000"/>
              </a:solidFill>
              <a:latin typeface="Arial"/>
            </a:endParaRPr>
          </a:p>
          <a:p>
            <a:pPr lvl="3" marL="74448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ourth Outline Level</a:t>
            </a:r>
            <a:endParaRPr b="1" lang="en-US" sz="1000" spc="-1" strike="noStrike">
              <a:solidFill>
                <a:srgbClr val="000000"/>
              </a:solidFill>
              <a:latin typeface="Arial"/>
            </a:endParaRPr>
          </a:p>
          <a:p>
            <a:pPr lvl="4"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ifth Outline Level</a:t>
            </a:r>
            <a:endParaRPr b="1" lang="en-US" sz="1000" spc="-1" strike="noStrike">
              <a:solidFill>
                <a:srgbClr val="000000"/>
              </a:solidFill>
              <a:latin typeface="Arial"/>
            </a:endParaRPr>
          </a:p>
          <a:p>
            <a:pPr lvl="5"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ixth Outline Level</a:t>
            </a:r>
            <a:endParaRPr b="1" lang="en-US" sz="1000" spc="-1" strike="noStrike">
              <a:solidFill>
                <a:srgbClr val="000000"/>
              </a:solidFill>
              <a:latin typeface="Arial"/>
            </a:endParaRPr>
          </a:p>
          <a:p>
            <a:pPr lvl="6"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venth Outline Level</a:t>
            </a:r>
            <a:endParaRPr b="1" lang="en-US" sz="1000" spc="-1" strike="noStrike">
              <a:solidFill>
                <a:srgbClr val="000000"/>
              </a:solidFill>
              <a:latin typeface="Arial"/>
            </a:endParaRPr>
          </a:p>
        </p:txBody>
      </p:sp>
      <p:pic>
        <p:nvPicPr>
          <p:cNvPr id="2" name="Picture 4" descr="7"/>
          <p:cNvPicPr/>
          <p:nvPr/>
        </p:nvPicPr>
        <p:blipFill>
          <a:blip r:embed="rId2"/>
          <a:stretch/>
        </p:blipFill>
        <p:spPr>
          <a:xfrm>
            <a:off x="0" y="4665600"/>
            <a:ext cx="6856560" cy="478080"/>
          </a:xfrm>
          <a:prstGeom prst="rect">
            <a:avLst/>
          </a:prstGeom>
          <a:ln w="0">
            <a:noFill/>
          </a:ln>
        </p:spPr>
      </p:pic>
      <p:sp>
        <p:nvSpPr>
          <p:cNvPr id="3" name="Text Box 5"/>
          <p:cNvSpPr/>
          <p:nvPr/>
        </p:nvSpPr>
        <p:spPr>
          <a:xfrm>
            <a:off x="532080" y="4826160"/>
            <a:ext cx="1113480" cy="1566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700" spc="-1" strike="noStrike">
                <a:solidFill>
                  <a:srgbClr val="000000"/>
                </a:solidFill>
                <a:latin typeface="FrutigerNext LT Bold"/>
                <a:ea typeface="MS PGothic"/>
              </a:rPr>
              <a:t>HUAWEI </a:t>
            </a:r>
            <a:r>
              <a:rPr b="0" lang="en-US" sz="700" spc="-1" strike="noStrike">
                <a:solidFill>
                  <a:srgbClr val="990000"/>
                </a:solidFill>
                <a:latin typeface="FrutigerNext LT Bold"/>
                <a:ea typeface="MS PGothic"/>
              </a:rPr>
              <a:t>CONFIDENTIAL</a:t>
            </a:r>
            <a:endParaRPr b="0" lang="en-US" sz="700" spc="-1" strike="noStrike">
              <a:solidFill>
                <a:srgbClr val="000000"/>
              </a:solidFill>
              <a:latin typeface="Arial"/>
            </a:endParaRPr>
          </a:p>
        </p:txBody>
      </p:sp>
      <p:sp>
        <p:nvSpPr>
          <p:cNvPr id="4" name="PlaceHolder 3"/>
          <p:cNvSpPr>
            <a:spLocks noGrp="1"/>
          </p:cNvSpPr>
          <p:nvPr>
            <p:ph type="dt" idx="1"/>
          </p:nvPr>
        </p:nvSpPr>
        <p:spPr>
          <a:xfrm>
            <a:off x="4446720" y="4800240"/>
            <a:ext cx="793440" cy="826920"/>
          </a:xfrm>
          <a:prstGeom prst="rect">
            <a:avLst/>
          </a:prstGeom>
          <a:noFill/>
          <a:ln w="0">
            <a:noFill/>
          </a:ln>
        </p:spPr>
        <p:txBody>
          <a:bodyPr lIns="0" rIns="0" tIns="0" bIns="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600" spc="-1" strike="noStrike">
                <a:solidFill>
                  <a:srgbClr val="000000"/>
                </a:solidFill>
                <a:latin typeface="FrutigerNext LT Medium"/>
                <a:ea typeface="MS PGothic"/>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9478D9AA-0D9B-46A8-B752-C03B5E24E955}"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Times New Roman"/>
            </a:endParaRPr>
          </a:p>
        </p:txBody>
      </p:sp>
      <p:pic>
        <p:nvPicPr>
          <p:cNvPr id="5" name="Picture 7" descr="8"/>
          <p:cNvPicPr/>
          <p:nvPr/>
        </p:nvPicPr>
        <p:blipFill>
          <a:blip r:embed="rId3"/>
          <a:stretch/>
        </p:blipFill>
        <p:spPr>
          <a:xfrm>
            <a:off x="5630760" y="4807080"/>
            <a:ext cx="982800" cy="233280"/>
          </a:xfrm>
          <a:prstGeom prst="rect">
            <a:avLst/>
          </a:prstGeom>
          <a:ln w="0">
            <a:noFill/>
          </a:ln>
        </p:spPr>
      </p:pic>
      <p:sp>
        <p:nvSpPr>
          <p:cNvPr id="6" name="Text Box 8"/>
          <p:cNvSpPr/>
          <p:nvPr/>
        </p:nvSpPr>
        <p:spPr>
          <a:xfrm>
            <a:off x="2087640" y="4805280"/>
            <a:ext cx="2082600" cy="187200"/>
          </a:xfrm>
          <a:prstGeom prst="rect">
            <a:avLst/>
          </a:prstGeom>
          <a:noFill/>
          <a:ln w="0">
            <a:noFill/>
          </a:ln>
        </p:spPr>
        <p:style>
          <a:lnRef idx="0"/>
          <a:fillRef idx="0"/>
          <a:effectRef idx="0"/>
          <a:fontRef idx="minor"/>
        </p:style>
        <p:txBody>
          <a:bodyPr lIns="49680" rIns="49680" tIns="24840" bIns="24840" anchor="t">
            <a:spAutoFit/>
          </a:bodyPr>
          <a:p>
            <a:pPr algn="ctr">
              <a:spcBef>
                <a:spcPts val="56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900" spc="-1" strike="noStrike">
                <a:solidFill>
                  <a:srgbClr val="000000"/>
                </a:solidFill>
                <a:latin typeface="Arial"/>
                <a:ea typeface="楷体_GB2312"/>
              </a:rPr>
              <a:t>内部资料 注意保密</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5" name="PlaceHolder 3"/>
          <p:cNvSpPr>
            <a:spLocks noGrp="1"/>
          </p:cNvSpPr>
          <p:nvPr>
            <p:ph type="dt" idx="23"/>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33FB0AC0-D117-4366-AF64-0A3B0B47BCE4}"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376" name="PlaceHolder 4"/>
          <p:cNvSpPr>
            <a:spLocks noGrp="1"/>
          </p:cNvSpPr>
          <p:nvPr>
            <p:ph type="ftr" idx="24"/>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5"/>
          <p:cNvSpPr>
            <a:spLocks noGrp="1"/>
          </p:cNvSpPr>
          <p:nvPr>
            <p:ph type="sldNum" idx="25"/>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5D40A-3FA5-41C0-9ECA-2DF3396A3ACB}"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6" name="PlaceHolder 3"/>
          <p:cNvSpPr>
            <a:spLocks noGrp="1"/>
          </p:cNvSpPr>
          <p:nvPr>
            <p:ph type="dt" idx="26"/>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BCE9CC5F-3D18-4C92-9C68-27A484177A71}"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17" name="PlaceHolder 4"/>
          <p:cNvSpPr>
            <a:spLocks noGrp="1"/>
          </p:cNvSpPr>
          <p:nvPr>
            <p:ph type="ftr" idx="27"/>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5"/>
          <p:cNvSpPr>
            <a:spLocks noGrp="1"/>
          </p:cNvSpPr>
          <p:nvPr>
            <p:ph type="sldNum" idx="28"/>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313B-36D1-49D8-AB6B-FA1B48CBF707}"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6"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7" name="PlaceHolder 3"/>
          <p:cNvSpPr>
            <a:spLocks noGrp="1"/>
          </p:cNvSpPr>
          <p:nvPr>
            <p:ph type="dt" idx="29"/>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74C745EE-C2EB-4772-A356-49198400307D}"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58" name="PlaceHolder 4"/>
          <p:cNvSpPr>
            <a:spLocks noGrp="1"/>
          </p:cNvSpPr>
          <p:nvPr>
            <p:ph type="ftr" idx="30"/>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5"/>
          <p:cNvSpPr>
            <a:spLocks noGrp="1"/>
          </p:cNvSpPr>
          <p:nvPr>
            <p:ph type="sldNum" idx="31"/>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1A6D2-0B6C-4708-B98C-39E64E166607}"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97"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98" name="PlaceHolder 3"/>
          <p:cNvSpPr>
            <a:spLocks noGrp="1"/>
          </p:cNvSpPr>
          <p:nvPr>
            <p:ph type="dt" idx="32"/>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EBA6FB76-4173-4BE5-A1A2-239C729A9F28}"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99" name="PlaceHolder 4"/>
          <p:cNvSpPr>
            <a:spLocks noGrp="1"/>
          </p:cNvSpPr>
          <p:nvPr>
            <p:ph type="ftr" idx="33"/>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5"/>
          <p:cNvSpPr>
            <a:spLocks noGrp="1"/>
          </p:cNvSpPr>
          <p:nvPr>
            <p:ph type="sldNum" idx="34"/>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94CC8-C934-4ABC-8100-06A0144D05C1}"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38"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39" name="PlaceHolder 3"/>
          <p:cNvSpPr>
            <a:spLocks noGrp="1"/>
          </p:cNvSpPr>
          <p:nvPr>
            <p:ph type="dt" idx="35"/>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D132E5F3-073A-45D2-B79A-5F2BF69DED10}"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540" name="PlaceHolder 4"/>
          <p:cNvSpPr>
            <a:spLocks noGrp="1"/>
          </p:cNvSpPr>
          <p:nvPr>
            <p:ph type="ftr" idx="36"/>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5"/>
          <p:cNvSpPr>
            <a:spLocks noGrp="1"/>
          </p:cNvSpPr>
          <p:nvPr>
            <p:ph type="sldNum" idx="37"/>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F364B-4D46-4333-936C-9E51C5D6568B}"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7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 name="PlaceHolder 3"/>
          <p:cNvSpPr>
            <a:spLocks noGrp="1"/>
          </p:cNvSpPr>
          <p:nvPr>
            <p:ph type="dt" idx="2"/>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9B70F13F-628E-4013-B8D6-E6C12BB07CD5}"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6" name="PlaceHolder 4"/>
          <p:cNvSpPr>
            <a:spLocks noGrp="1"/>
          </p:cNvSpPr>
          <p:nvPr>
            <p:ph type="ftr" idx="3"/>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4"/>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7D0D8-8526-4059-B29B-22CE54663FDC}"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Logo"/>
          <p:cNvPicPr/>
          <p:nvPr/>
        </p:nvPicPr>
        <p:blipFill>
          <a:blip r:embed="rId2"/>
          <a:stretch/>
        </p:blipFill>
        <p:spPr>
          <a:xfrm>
            <a:off x="5630760" y="4184640"/>
            <a:ext cx="615960" cy="615960"/>
          </a:xfrm>
          <a:prstGeom prst="rect">
            <a:avLst/>
          </a:prstGeom>
          <a:ln w="0">
            <a:noFill/>
          </a:ln>
        </p:spPr>
      </p:pic>
      <p:pic>
        <p:nvPicPr>
          <p:cNvPr id="85" name="Picture 3" descr="2"/>
          <p:cNvPicPr/>
          <p:nvPr/>
        </p:nvPicPr>
        <p:blipFill>
          <a:blip r:embed="rId3"/>
          <a:stretch/>
        </p:blipFill>
        <p:spPr>
          <a:xfrm>
            <a:off x="1440" y="588960"/>
            <a:ext cx="6856560" cy="2857680"/>
          </a:xfrm>
          <a:prstGeom prst="rect">
            <a:avLst/>
          </a:prstGeom>
          <a:ln w="0">
            <a:noFill/>
          </a:ln>
        </p:spPr>
      </p:pic>
      <p:sp>
        <p:nvSpPr>
          <p:cNvPr id="86" name="Text Box 4"/>
          <p:cNvSpPr/>
          <p:nvPr/>
        </p:nvSpPr>
        <p:spPr>
          <a:xfrm>
            <a:off x="523080" y="246240"/>
            <a:ext cx="802800" cy="1872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666666"/>
                </a:solidFill>
                <a:latin typeface="FrutigerNext LT Regular"/>
                <a:ea typeface="MS PGothic"/>
              </a:rPr>
              <a:t>06.April 2006</a:t>
            </a:r>
            <a:endParaRPr b="0" lang="en-US" sz="900" spc="-1" strike="noStrike">
              <a:solidFill>
                <a:srgbClr val="000000"/>
              </a:solidFill>
              <a:latin typeface="Arial"/>
            </a:endParaRPr>
          </a:p>
        </p:txBody>
      </p:sp>
      <p:sp>
        <p:nvSpPr>
          <p:cNvPr id="87" name="Text Box 5"/>
          <p:cNvSpPr/>
          <p:nvPr/>
        </p:nvSpPr>
        <p:spPr>
          <a:xfrm>
            <a:off x="505800" y="4654440"/>
            <a:ext cx="1647000" cy="1566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700" spc="-1" strike="noStrike">
                <a:solidFill>
                  <a:srgbClr val="000000"/>
                </a:solidFill>
                <a:latin typeface="FrutigerNext LT Bold"/>
                <a:ea typeface="MS PGothic"/>
              </a:rPr>
              <a:t>HUAWEI TECHNOLOGIES CO., LTD.</a:t>
            </a:r>
            <a:endParaRPr b="0" lang="en-US" sz="700" spc="-1" strike="noStrike">
              <a:solidFill>
                <a:srgbClr val="000000"/>
              </a:solidFill>
              <a:latin typeface="Arial"/>
            </a:endParaRPr>
          </a:p>
        </p:txBody>
      </p:sp>
      <p:sp>
        <p:nvSpPr>
          <p:cNvPr id="88" name="Text Box 6"/>
          <p:cNvSpPr/>
          <p:nvPr/>
        </p:nvSpPr>
        <p:spPr>
          <a:xfrm>
            <a:off x="5433840" y="2989440"/>
            <a:ext cx="1128960" cy="242640"/>
          </a:xfrm>
          <a:prstGeom prst="rect">
            <a:avLst/>
          </a:prstGeom>
          <a:noFill/>
          <a:ln w="0">
            <a:noFill/>
          </a:ln>
        </p:spPr>
        <p:style>
          <a:lnRef idx="0"/>
          <a:fillRef idx="0"/>
          <a:effectRef idx="0"/>
          <a:fontRef idx="minor"/>
        </p:style>
        <p:txBody>
          <a:bodyPr lIns="57960" rIns="5796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ww.huawei.com</a:t>
            </a:r>
            <a:endParaRPr b="0" lang="en-US" sz="1100" spc="-1" strike="noStrike">
              <a:solidFill>
                <a:srgbClr val="000000"/>
              </a:solidFill>
              <a:latin typeface="Arial"/>
            </a:endParaRPr>
          </a:p>
        </p:txBody>
      </p:sp>
      <p:sp>
        <p:nvSpPr>
          <p:cNvPr id="89" name="PlaceHolder 1"/>
          <p:cNvSpPr>
            <a:spLocks noGrp="1"/>
          </p:cNvSpPr>
          <p:nvPr>
            <p:ph type="title"/>
          </p:nvPr>
        </p:nvSpPr>
        <p:spPr>
          <a:xfrm>
            <a:off x="466560" y="87480"/>
            <a:ext cx="6048720" cy="474480"/>
          </a:xfrm>
          <a:prstGeom prst="rect">
            <a:avLst/>
          </a:prstGeom>
          <a:noFill/>
          <a:ln w="0">
            <a:noFill/>
          </a:ln>
        </p:spPr>
        <p:txBody>
          <a:bodyPr lIns="78120" rIns="78120" tIns="39240" bIns="39240" anchor="ctr">
            <a:noAutofit/>
          </a:bodyPr>
          <a:p>
            <a:pPr indent="0">
              <a:buNone/>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700" spc="-1" strike="noStrike">
                <a:solidFill>
                  <a:srgbClr val="990000"/>
                </a:solidFill>
                <a:latin typeface="Arial"/>
              </a:rPr>
              <a:t>Click to edit the title text format</a:t>
            </a:r>
            <a:endParaRPr b="1" lang="en-US" sz="1700" spc="-1" strike="noStrike">
              <a:solidFill>
                <a:srgbClr val="990000"/>
              </a:solidFill>
              <a:latin typeface="Arial"/>
            </a:endParaRPr>
          </a:p>
        </p:txBody>
      </p:sp>
      <p:sp>
        <p:nvSpPr>
          <p:cNvPr id="90" name="PlaceHolder 2"/>
          <p:cNvSpPr>
            <a:spLocks noGrp="1"/>
          </p:cNvSpPr>
          <p:nvPr>
            <p:ph type="body"/>
          </p:nvPr>
        </p:nvSpPr>
        <p:spPr>
          <a:xfrm>
            <a:off x="243000" y="681120"/>
            <a:ext cx="6372000" cy="3913200"/>
          </a:xfrm>
          <a:prstGeom prst="rect">
            <a:avLst/>
          </a:prstGeom>
          <a:noFill/>
          <a:ln w="0">
            <a:noFill/>
          </a:ln>
        </p:spPr>
        <p:txBody>
          <a:bodyPr lIns="78120" rIns="78120" tIns="39240" bIns="39240" anchor="t">
            <a:normAutofit/>
          </a:bodyPr>
          <a:p>
            <a:pPr marL="158760" indent="-158760">
              <a:lnSpc>
                <a:spcPct val="140000"/>
              </a:lnSpc>
              <a:buClr>
                <a:srgbClr val="000000"/>
              </a:buClr>
              <a:buFont typeface="Wingdings" charset="2"/>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Click to edit the outline text format</a:t>
            </a:r>
            <a:endParaRPr b="1" lang="en-US" sz="1000" spc="-1" strike="noStrike">
              <a:solidFill>
                <a:srgbClr val="000000"/>
              </a:solidFill>
              <a:latin typeface="Arial"/>
            </a:endParaRPr>
          </a:p>
          <a:p>
            <a:pPr lvl="1" marL="345960" indent="-131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cond Outline Level</a:t>
            </a:r>
            <a:endParaRPr b="1" lang="en-US" sz="1000" spc="-1" strike="noStrike">
              <a:solidFill>
                <a:srgbClr val="000000"/>
              </a:solidFill>
              <a:latin typeface="Arial"/>
            </a:endParaRPr>
          </a:p>
          <a:p>
            <a:pPr lvl="2" marL="53172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Third Outline Level</a:t>
            </a:r>
            <a:endParaRPr b="1" lang="en-US" sz="1000" spc="-1" strike="noStrike">
              <a:solidFill>
                <a:srgbClr val="000000"/>
              </a:solidFill>
              <a:latin typeface="Arial"/>
            </a:endParaRPr>
          </a:p>
          <a:p>
            <a:pPr lvl="3" marL="74448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ourth Outline Level</a:t>
            </a:r>
            <a:endParaRPr b="1" lang="en-US" sz="1000" spc="-1" strike="noStrike">
              <a:solidFill>
                <a:srgbClr val="000000"/>
              </a:solidFill>
              <a:latin typeface="Arial"/>
            </a:endParaRPr>
          </a:p>
          <a:p>
            <a:pPr lvl="4"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ifth Outline Level</a:t>
            </a:r>
            <a:endParaRPr b="1" lang="en-US" sz="1000" spc="-1" strike="noStrike">
              <a:solidFill>
                <a:srgbClr val="000000"/>
              </a:solidFill>
              <a:latin typeface="Arial"/>
            </a:endParaRPr>
          </a:p>
          <a:p>
            <a:pPr lvl="5"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ixth Outline Level</a:t>
            </a:r>
            <a:endParaRPr b="1" lang="en-US" sz="1000" spc="-1" strike="noStrike">
              <a:solidFill>
                <a:srgbClr val="000000"/>
              </a:solidFill>
              <a:latin typeface="Arial"/>
            </a:endParaRPr>
          </a:p>
          <a:p>
            <a:pPr lvl="6"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venth Outline Level</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5"/>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B2A42C5C-B14D-456B-9DE6-8AA234943C6F}"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130" name="PlaceHolder 4"/>
          <p:cNvSpPr>
            <a:spLocks noGrp="1"/>
          </p:cNvSpPr>
          <p:nvPr>
            <p:ph type="ftr" idx="6"/>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type="sldNum" idx="7"/>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F729E-62EA-4D67-87E5-5965AE6DC181}"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0" name="PlaceHolder 3"/>
          <p:cNvSpPr>
            <a:spLocks noGrp="1"/>
          </p:cNvSpPr>
          <p:nvPr>
            <p:ph type="dt" idx="8"/>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DEDB546C-E411-42D4-B284-D0DC72F29BD4}"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171" name="PlaceHolder 4"/>
          <p:cNvSpPr>
            <a:spLocks noGrp="1"/>
          </p:cNvSpPr>
          <p:nvPr>
            <p:ph type="ftr" idx="9"/>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5"/>
          <p:cNvSpPr>
            <a:spLocks noGrp="1"/>
          </p:cNvSpPr>
          <p:nvPr>
            <p:ph type="sldNum" idx="10"/>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8B50F-7502-484D-999C-E0309B7D8600}"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1" name="PlaceHolder 3"/>
          <p:cNvSpPr>
            <a:spLocks noGrp="1"/>
          </p:cNvSpPr>
          <p:nvPr>
            <p:ph type="dt" idx="1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25D8EFA9-99B5-4B18-864F-21EB471B6BCF}"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12" name="PlaceHolder 4"/>
          <p:cNvSpPr>
            <a:spLocks noGrp="1"/>
          </p:cNvSpPr>
          <p:nvPr>
            <p:ph type="ftr" idx="1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5"/>
          <p:cNvSpPr>
            <a:spLocks noGrp="1"/>
          </p:cNvSpPr>
          <p:nvPr>
            <p:ph type="sldNum" idx="1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2D941-969C-414D-A545-18ED493C85A8}"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2" name="PlaceHolder 3"/>
          <p:cNvSpPr>
            <a:spLocks noGrp="1"/>
          </p:cNvSpPr>
          <p:nvPr>
            <p:ph type="dt" idx="1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601682DE-D0C9-4EFD-ABEA-39FE09B4C8A6}"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53" name="PlaceHolder 4"/>
          <p:cNvSpPr>
            <a:spLocks noGrp="1"/>
          </p:cNvSpPr>
          <p:nvPr>
            <p:ph type="ftr" idx="1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5"/>
          <p:cNvSpPr>
            <a:spLocks noGrp="1"/>
          </p:cNvSpPr>
          <p:nvPr>
            <p:ph type="sldNum" idx="1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C62E6-21E1-45BE-A542-C51AC32E45A8}"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2"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3" name="PlaceHolder 3"/>
          <p:cNvSpPr>
            <a:spLocks noGrp="1"/>
          </p:cNvSpPr>
          <p:nvPr>
            <p:ph type="dt" idx="1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97632589-9261-44F8-8A43-F377BE34665E}"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94" name="PlaceHolder 4"/>
          <p:cNvSpPr>
            <a:spLocks noGrp="1"/>
          </p:cNvSpPr>
          <p:nvPr>
            <p:ph type="ftr" idx="1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5"/>
          <p:cNvSpPr>
            <a:spLocks noGrp="1"/>
          </p:cNvSpPr>
          <p:nvPr>
            <p:ph type="sldNum" idx="1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25869-46B7-4CFD-ABB1-A0FB054EF7B2}"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3"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4" name="PlaceHolder 3"/>
          <p:cNvSpPr>
            <a:spLocks noGrp="1"/>
          </p:cNvSpPr>
          <p:nvPr>
            <p:ph type="dt" idx="20"/>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8B2FF92C-3C32-43C5-B554-79C028BD086C}"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335" name="PlaceHolder 4"/>
          <p:cNvSpPr>
            <a:spLocks noGrp="1"/>
          </p:cNvSpPr>
          <p:nvPr>
            <p:ph type="ftr" idx="2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5"/>
          <p:cNvSpPr>
            <a:spLocks noGrp="1"/>
          </p:cNvSpPr>
          <p:nvPr>
            <p:ph type="sldNum" idx="22"/>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3DB2C-CB23-4DD9-9761-CBB37D3357E3}"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s://tools.ietf.org/html/rfc8296" TargetMode="External"/><Relationship Id="rId3"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6"/>
          <p:cNvSpPr/>
          <p:nvPr/>
        </p:nvSpPr>
        <p:spPr>
          <a:xfrm>
            <a:off x="411120" y="1079640"/>
            <a:ext cx="6035760" cy="1089720"/>
          </a:xfrm>
          <a:prstGeom prst="rect">
            <a:avLst/>
          </a:prstGeom>
          <a:noFill/>
          <a:ln w="0">
            <a:noFill/>
          </a:ln>
        </p:spPr>
        <p:style>
          <a:lnRef idx="0"/>
          <a:fillRef idx="0"/>
          <a:effectRef idx="0"/>
          <a:fontRef idx="minor"/>
        </p:style>
        <p:txBody>
          <a:bodyPr lIns="52560" rIns="52560" tIns="26280" bIns="26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楷体_GB2312"/>
              </a:rPr>
              <a:t>BIER IPv6 Requirements</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楷体_GB2312"/>
              </a:rPr>
              <a:t>draft-ietf-bier-ipv6-requirements-01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楷体_GB2312"/>
              </a:rPr>
              <a:t>IETF105   2019-07-24  Montreal</a:t>
            </a:r>
            <a:endParaRPr b="0" lang="en-US" sz="1700" spc="-1" strike="noStrike">
              <a:solidFill>
                <a:srgbClr val="000000"/>
              </a:solidFill>
              <a:latin typeface="Arial"/>
            </a:endParaRPr>
          </a:p>
        </p:txBody>
      </p:sp>
      <p:sp>
        <p:nvSpPr>
          <p:cNvPr id="624" name="Rectangle 6"/>
          <p:cNvSpPr/>
          <p:nvPr/>
        </p:nvSpPr>
        <p:spPr>
          <a:xfrm>
            <a:off x="411120" y="2859120"/>
            <a:ext cx="6035760" cy="965520"/>
          </a:xfrm>
          <a:prstGeom prst="rect">
            <a:avLst/>
          </a:prstGeom>
          <a:noFill/>
          <a:ln w="0">
            <a:noFill/>
          </a:ln>
        </p:spPr>
        <p:style>
          <a:lnRef idx="0"/>
          <a:fillRef idx="0"/>
          <a:effectRef idx="0"/>
          <a:fontRef idx="minor"/>
        </p:style>
        <p:txBody>
          <a:bodyPr lIns="52560" rIns="52560" tIns="26280" bIns="26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楷体_GB2312"/>
              </a:rPr>
              <a:t>Mike McBride @Futurew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楷体_GB2312"/>
              </a:rPr>
              <a:t>Rajiv Asati @Cisc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楷体_GB2312"/>
              </a:rPr>
              <a:t>Jingrong Xie @Huaw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楷体_GB2312"/>
              </a:rPr>
              <a:t>Senthil Dhanaraj @Huaw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72800" y="267840"/>
            <a:ext cx="66243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Transport BIER as IPv6 payload</a:t>
            </a:r>
            <a:endParaRPr b="0" lang="en-US" sz="3200" spc="-1" strike="noStrike">
              <a:solidFill>
                <a:srgbClr val="000000"/>
              </a:solidFill>
              <a:latin typeface="Calibri Light"/>
            </a:endParaRPr>
          </a:p>
        </p:txBody>
      </p:sp>
      <p:sp>
        <p:nvSpPr>
          <p:cNvPr id="645" name="Rectangle 3"/>
          <p:cNvSpPr/>
          <p:nvPr/>
        </p:nvSpPr>
        <p:spPr>
          <a:xfrm>
            <a:off x="173160" y="3057120"/>
            <a:ext cx="6424560" cy="17038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is a proposal for a transport-independent BIER encapsulation header which is applicable regardless of the underlying transport technology.  As described in [I-D.xu-bier-encapsulation] and [I-D.</a:t>
            </a:r>
            <a:r>
              <a:rPr b="1" lang="en-US" sz="1600" spc="-1" strike="noStrike">
                <a:solidFill>
                  <a:srgbClr val="000000"/>
                </a:solidFill>
                <a:latin typeface="Calibri"/>
              </a:rPr>
              <a:t>zhang-bier-bierin6</a:t>
            </a:r>
            <a:r>
              <a:rPr b="0" lang="en-US" sz="1600" spc="-1" strike="noStrike">
                <a:solidFill>
                  <a:srgbClr val="000000"/>
                </a:solidFill>
                <a:latin typeface="Calibri"/>
              </a:rPr>
              <a:t>], the BIER header, and the payload following it, can be combined as an IPv6 payload, and be indicated by a new Upper-layer IPv6 Next-Header value.  A unicast IPv6 destination address is used for the replication and changes when replicating a packet out to a neighbor.</a:t>
            </a:r>
            <a:endParaRPr b="0" lang="en-US" sz="1600" spc="-1" strike="noStrike">
              <a:solidFill>
                <a:srgbClr val="000000"/>
              </a:solidFill>
              <a:latin typeface="Arial"/>
            </a:endParaRPr>
          </a:p>
        </p:txBody>
      </p:sp>
      <p:pic>
        <p:nvPicPr>
          <p:cNvPr id="646" name="Picture 1" descr=""/>
          <p:cNvPicPr/>
          <p:nvPr/>
        </p:nvPicPr>
        <p:blipFill>
          <a:blip r:embed="rId1"/>
          <a:stretch/>
        </p:blipFill>
        <p:spPr>
          <a:xfrm>
            <a:off x="0" y="1117440"/>
            <a:ext cx="6858000" cy="152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72800" y="267840"/>
            <a:ext cx="66243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Tunneling BIER in a IPv6 tunnel</a:t>
            </a:r>
            <a:endParaRPr b="0" lang="en-US" sz="3200" spc="-1" strike="noStrike">
              <a:solidFill>
                <a:srgbClr val="000000"/>
              </a:solidFill>
              <a:latin typeface="Calibri Light"/>
            </a:endParaRPr>
          </a:p>
        </p:txBody>
      </p:sp>
      <p:sp>
        <p:nvSpPr>
          <p:cNvPr id="648" name="Rectangle 3"/>
          <p:cNvSpPr/>
          <p:nvPr/>
        </p:nvSpPr>
        <p:spPr>
          <a:xfrm>
            <a:off x="168120" y="2651760"/>
            <a:ext cx="6424920" cy="146052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generic IPv6 Tunnel could be used to encapsulate the bier packet within an IPv6 domain. GRE is a mechanism by which any ethernet payload can be carried by an IP GRE tunnel due to the 16-bits 'Protocol Type' field.  Both IPv4 and IPv6 can be used to carry GRE.  The Ethernet type codepoint 0xAB37, defined for BIER, can be used in a GRE header to indicate the subsequent BIER header and payload in an IPv6 network.</a:t>
            </a:r>
            <a:endParaRPr b="0" lang="en-US" sz="1600" spc="-1" strike="noStrike">
              <a:solidFill>
                <a:srgbClr val="000000"/>
              </a:solidFill>
              <a:latin typeface="Arial"/>
            </a:endParaRPr>
          </a:p>
        </p:txBody>
      </p:sp>
      <p:pic>
        <p:nvPicPr>
          <p:cNvPr id="649" name="Picture 2" descr=""/>
          <p:cNvPicPr/>
          <p:nvPr/>
        </p:nvPicPr>
        <p:blipFill>
          <a:blip r:embed="rId1"/>
          <a:stretch/>
        </p:blipFill>
        <p:spPr>
          <a:xfrm>
            <a:off x="0" y="987480"/>
            <a:ext cx="6858000" cy="131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10760" y="410760"/>
            <a:ext cx="5915160" cy="4158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Since last ietf</a:t>
            </a:r>
            <a:endParaRPr b="0" lang="en-US" sz="3000" spc="-1" strike="noStrike">
              <a:solidFill>
                <a:srgbClr val="000000"/>
              </a:solidFill>
              <a:latin typeface="Calibri Light"/>
            </a:endParaRPr>
          </a:p>
        </p:txBody>
      </p:sp>
      <p:sp>
        <p:nvSpPr>
          <p:cNvPr id="626" name=""/>
          <p:cNvSpPr txBox="1"/>
          <p:nvPr/>
        </p:nvSpPr>
        <p:spPr>
          <a:xfrm>
            <a:off x="333360" y="1058400"/>
            <a:ext cx="6408720" cy="35737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ransitioned from problem statement to requiremen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Move requirements section up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Added co-author</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WG Adopti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New rev mainly developing requirements section</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259920" y="267840"/>
            <a:ext cx="59151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Draft Purpose</a:t>
            </a:r>
            <a:endParaRPr b="0" lang="en-US" sz="3200" spc="-1" strike="noStrike">
              <a:solidFill>
                <a:srgbClr val="000000"/>
              </a:solidFill>
              <a:latin typeface="Calibri Light"/>
            </a:endParaRPr>
          </a:p>
        </p:txBody>
      </p:sp>
      <p:sp>
        <p:nvSpPr>
          <p:cNvPr id="628" name=""/>
          <p:cNvSpPr txBox="1"/>
          <p:nvPr/>
        </p:nvSpPr>
        <p:spPr>
          <a:xfrm>
            <a:off x="115560" y="987480"/>
            <a:ext cx="6553080" cy="3168720"/>
          </a:xfrm>
          <a:prstGeom prst="rect">
            <a:avLst/>
          </a:prstGeom>
          <a:noFill/>
          <a:ln w="0">
            <a:noFill/>
          </a:ln>
        </p:spPr>
        <p:txBody>
          <a:bodyPr anchor="t">
            <a:normAutofit/>
          </a:bodyPr>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pecify the requirements for transporting packets, with bier headers, in an IPv6 environment. </a:t>
            </a:r>
            <a:endParaRPr b="0" lang="en-US" sz="2100" spc="-1" strike="noStrike">
              <a:solidFill>
                <a:srgbClr val="000000"/>
              </a:solidFill>
              <a:latin typeface="Calibri"/>
            </a:endParaRPr>
          </a:p>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Describe proposed solutions. List the pros/cons of each.</a:t>
            </a:r>
            <a:endParaRPr b="0" lang="en-US" sz="2100" spc="-1" strike="noStrike">
              <a:solidFill>
                <a:srgbClr val="000000"/>
              </a:solidFill>
              <a:latin typeface="Calibri"/>
            </a:endParaRPr>
          </a:p>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Help the BIER WG come to a conclusion on which solution(s) to rally behind and further specify.</a:t>
            </a:r>
            <a:endParaRPr b="0" lang="en-US" sz="2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89000" y="26784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Requirements</a:t>
            </a:r>
            <a:endParaRPr b="0" lang="en-US" sz="3200" spc="-1" strike="noStrike">
              <a:solidFill>
                <a:srgbClr val="000000"/>
              </a:solidFill>
              <a:latin typeface="Calibri Light"/>
            </a:endParaRPr>
          </a:p>
        </p:txBody>
      </p:sp>
      <p:sp>
        <p:nvSpPr>
          <p:cNvPr id="630" name=""/>
          <p:cNvSpPr txBox="1"/>
          <p:nvPr/>
        </p:nvSpPr>
        <p:spPr>
          <a:xfrm>
            <a:off x="115560" y="987480"/>
            <a:ext cx="6697800" cy="3672000"/>
          </a:xfrm>
          <a:prstGeom prst="rect">
            <a:avLst/>
          </a:prstGeom>
          <a:noFill/>
          <a:ln w="0">
            <a:noFill/>
          </a:ln>
        </p:spPr>
        <p:txBody>
          <a:bodyPr anchor="t">
            <a:normAutofit/>
          </a:bodyPr>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hould be L2 Agnostic</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Shouldn't require hop-by-hop modification of the IP DA field. SA field?</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houldn't require the BFRs to inspect, or require changes to, L4 </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houldn't allow a multicast address to be put in the IP SA field </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Shouldn't assume that bits never get set incorrectly</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houldn't require changes in SA filtering procedures </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Should be possible to use it to support the entire BIER architecture</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Should avoid having different encapsulation types or complex tunneling</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600" spc="-1" strike="noStrike">
                <a:solidFill>
                  <a:srgbClr val="000000"/>
                </a:solidFill>
                <a:latin typeface="Calibri"/>
              </a:rPr>
              <a:t>Should support hardware fast path</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
          <p:cNvSpPr txBox="1"/>
          <p:nvPr/>
        </p:nvSpPr>
        <p:spPr>
          <a:xfrm>
            <a:off x="115560" y="987480"/>
            <a:ext cx="6697800" cy="3672000"/>
          </a:xfrm>
          <a:prstGeom prst="rect">
            <a:avLst/>
          </a:prstGeom>
          <a:noFill/>
          <a:ln w="0">
            <a:noFill/>
          </a:ln>
        </p:spPr>
        <p:txBody>
          <a:bodyPr anchor="t">
            <a:normAutofit/>
          </a:bodyPr>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Proposed encapsulation must confirm to the IPv6 specification and guidelines as described in RFC8200. Should not require any new modifications to the IPv6 specification.</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Proposed encapsulation must support fragmentation. Shouldn't require fragmentation and re-assembly at each hops.</a:t>
            </a:r>
            <a:endParaRPr b="0" lang="en-US" sz="1600" spc="-1" strike="noStrike">
              <a:solidFill>
                <a:srgbClr val="000000"/>
              </a:solidFill>
              <a:latin typeface="Calibri"/>
            </a:endParaRPr>
          </a:p>
          <a:p>
            <a:pPr lvl="1" marL="112680" indent="-11268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000000"/>
                </a:solidFill>
                <a:latin typeface="Calibri"/>
              </a:rPr>
              <a:t>Support IPv6 security - AH/ESP extension headers. Shouldn't require hop-by-hop encryption/decryption.</a:t>
            </a:r>
            <a:endParaRPr b="0" lang="en-US" sz="1600" spc="-1" strike="noStrike">
              <a:solidFill>
                <a:srgbClr val="000000"/>
              </a:solidFill>
              <a:latin typeface="Calibri"/>
            </a:endParaRPr>
          </a:p>
        </p:txBody>
      </p:sp>
      <p:sp>
        <p:nvSpPr>
          <p:cNvPr id="632" name="PlaceHolder 1"/>
          <p:cNvSpPr>
            <a:spLocks noGrp="1"/>
          </p:cNvSpPr>
          <p:nvPr>
            <p:ph type="title"/>
          </p:nvPr>
        </p:nvSpPr>
        <p:spPr>
          <a:xfrm>
            <a:off x="189000" y="26784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Requirements</a:t>
            </a:r>
            <a:endParaRPr b="0" lang="en-US" sz="32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71600" y="27432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Request to the WG</a:t>
            </a:r>
            <a:endParaRPr b="0" lang="en-US" sz="3200" spc="-1" strike="noStrike">
              <a:solidFill>
                <a:srgbClr val="000000"/>
              </a:solidFill>
              <a:latin typeface="Calibri Light"/>
            </a:endParaRPr>
          </a:p>
        </p:txBody>
      </p:sp>
      <p:sp>
        <p:nvSpPr>
          <p:cNvPr id="634" name=""/>
          <p:cNvSpPr txBox="1"/>
          <p:nvPr/>
        </p:nvSpPr>
        <p:spPr>
          <a:xfrm>
            <a:off x="345600" y="987480"/>
            <a:ext cx="6040440" cy="3672000"/>
          </a:xfrm>
          <a:prstGeom prst="rect">
            <a:avLst/>
          </a:prstGeom>
          <a:noFill/>
          <a:ln w="0">
            <a:noFill/>
          </a:ln>
        </p:spPr>
        <p:txBody>
          <a:bodyPr anchor="t">
            <a:normAutofit/>
          </a:bodyPr>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If your solution is in the document, please provide pros/cons. Else authors will.</a:t>
            </a:r>
            <a:endParaRPr b="0" lang="en-US" sz="2400" spc="-1" strike="noStrike">
              <a:solidFill>
                <a:srgbClr val="000000"/>
              </a:solidFill>
              <a:latin typeface="Calibri"/>
            </a:endParaRPr>
          </a:p>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Be nice </a:t>
            </a:r>
            <a:r>
              <a:rPr b="0" lang="en-US" sz="2400" spc="-1" strike="noStrike">
                <a:solidFill>
                  <a:srgbClr val="000000"/>
                </a:solidFill>
                <a:latin typeface="Wingdings"/>
                <a:ea typeface="Wingdings"/>
              </a:rPr>
              <a:t></a:t>
            </a:r>
            <a:r>
              <a:rPr b="0" lang="en-US" sz="2400" spc="-1" strike="noStrike">
                <a:solidFill>
                  <a:srgbClr val="000000"/>
                </a:solidFill>
                <a:latin typeface="Calibri"/>
              </a:rPr>
              <a:t>. And impartial.</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71600" y="27432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BIER-ETH encapsulation in IPv6</a:t>
            </a:r>
            <a:endParaRPr b="0" lang="en-US" sz="3200" spc="-1" strike="noStrike">
              <a:solidFill>
                <a:srgbClr val="000000"/>
              </a:solidFill>
              <a:latin typeface="Calibri Light"/>
            </a:endParaRPr>
          </a:p>
        </p:txBody>
      </p:sp>
      <p:pic>
        <p:nvPicPr>
          <p:cNvPr id="636" name="Picture 3" descr=""/>
          <p:cNvPicPr/>
          <p:nvPr/>
        </p:nvPicPr>
        <p:blipFill>
          <a:blip r:embed="rId1"/>
          <a:stretch/>
        </p:blipFill>
        <p:spPr>
          <a:xfrm>
            <a:off x="0" y="1203480"/>
            <a:ext cx="6858000" cy="1474560"/>
          </a:xfrm>
          <a:prstGeom prst="rect">
            <a:avLst/>
          </a:prstGeom>
          <a:ln w="0">
            <a:noFill/>
          </a:ln>
        </p:spPr>
      </p:pic>
      <p:sp>
        <p:nvSpPr>
          <p:cNvPr id="637" name="Rectangle 3"/>
          <p:cNvSpPr/>
          <p:nvPr/>
        </p:nvSpPr>
        <p:spPr>
          <a:xfrm>
            <a:off x="46440" y="3226680"/>
            <a:ext cx="6875640" cy="121716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IER-ETH encap (BIER header for Non-MPLS networks as defined in [</a:t>
            </a:r>
            <a:r>
              <a:rPr b="0" lang="en-US" sz="1600" spc="-1" strike="noStrike" u="sng">
                <a:solidFill>
                  <a:srgbClr val="0563c1"/>
                </a:solidFill>
                <a:uFillTx/>
                <a:latin typeface="Calibri"/>
                <a:hlinkClick r:id="rId2"/>
              </a:rPr>
              <a:t>RFC8296</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n be used to transport the multicast data in the IPv6 network by encapsulat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multicast user data payload within the BIER-ETH header. Howev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ing BIER-ETH in IPv6 networks is not considered to be a native IPv6 solu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ich utilizes the IPv6 header to forward the packe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172800" y="267840"/>
            <a:ext cx="66243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Encode Bitstring in IPv6 DA address</a:t>
            </a:r>
            <a:endParaRPr b="0" lang="en-US" sz="3200" spc="-1" strike="noStrike">
              <a:solidFill>
                <a:srgbClr val="000000"/>
              </a:solidFill>
              <a:latin typeface="Calibri Light"/>
            </a:endParaRPr>
          </a:p>
        </p:txBody>
      </p:sp>
      <p:sp>
        <p:nvSpPr>
          <p:cNvPr id="639" name="Rectangle 3"/>
          <p:cNvSpPr/>
          <p:nvPr/>
        </p:nvSpPr>
        <p:spPr>
          <a:xfrm>
            <a:off x="258840" y="3125520"/>
            <a:ext cx="5978520" cy="164304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scribed in [I-D.</a:t>
            </a:r>
            <a:r>
              <a:rPr b="1" lang="en-US" sz="1200" spc="-1" strike="noStrike">
                <a:solidFill>
                  <a:srgbClr val="000000"/>
                </a:solidFill>
                <a:latin typeface="Calibri"/>
              </a:rPr>
              <a:t>pfister-bier-over-ipv6</a:t>
            </a:r>
            <a:r>
              <a:rPr b="0" lang="en-US" sz="1200" spc="-1" strike="noStrike">
                <a:solidFill>
                  <a:srgbClr val="000000"/>
                </a:solidFill>
                <a:latin typeface="Calibri"/>
              </a:rPr>
              <a:t>], the information required by BIER is stored in the destination IPv6 address.  The BIER BitString is encoded in the low-order bits of the IPv6 destination address of each packet.  The high-order bits of the IPv6 destination address are used by intermediate routers for unicast forwarding, deciding whether a packet is a BIER packet, and if so, to identify the BIER Sub-Domain, Set Identifier and BitString length.  No additional extension or encapsulation header is required.  Instead of encapsulating the packet in IPv6, the payload is attached to the BIER IPv6 header and the IPv6 protocol number is set to the type of the payload.  If the payload is UDP, the UDP checksum needs to change when the BitString in the IPv6 destination address changes.</a:t>
            </a:r>
            <a:endParaRPr b="0" lang="en-US" sz="1200" spc="-1" strike="noStrike">
              <a:solidFill>
                <a:srgbClr val="000000"/>
              </a:solidFill>
              <a:latin typeface="Arial"/>
            </a:endParaRPr>
          </a:p>
        </p:txBody>
      </p:sp>
      <p:pic>
        <p:nvPicPr>
          <p:cNvPr id="640" name="Picture 1" descr=""/>
          <p:cNvPicPr/>
          <p:nvPr/>
        </p:nvPicPr>
        <p:blipFill>
          <a:blip r:embed="rId1"/>
          <a:stretch/>
        </p:blipFill>
        <p:spPr>
          <a:xfrm>
            <a:off x="260280" y="1252440"/>
            <a:ext cx="5329440" cy="174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72800" y="267840"/>
            <a:ext cx="66243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Add BIER header into IPv6 Extension Header</a:t>
            </a:r>
            <a:endParaRPr b="0" lang="en-US" sz="3200" spc="-1" strike="noStrike">
              <a:solidFill>
                <a:srgbClr val="000000"/>
              </a:solidFill>
              <a:latin typeface="Calibri Light"/>
            </a:endParaRPr>
          </a:p>
        </p:txBody>
      </p:sp>
      <p:sp>
        <p:nvSpPr>
          <p:cNvPr id="642" name="Rectangle 3"/>
          <p:cNvSpPr/>
          <p:nvPr/>
        </p:nvSpPr>
        <p:spPr>
          <a:xfrm>
            <a:off x="173160" y="2936880"/>
            <a:ext cx="6424560" cy="219060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I-D.</a:t>
            </a:r>
            <a:r>
              <a:rPr b="1" lang="en-US" sz="1600" spc="-1" strike="noStrike">
                <a:solidFill>
                  <a:srgbClr val="000000"/>
                </a:solidFill>
                <a:latin typeface="Calibri"/>
              </a:rPr>
              <a:t>xie-bier-ipv6-encapsulation</a:t>
            </a:r>
            <a:r>
              <a:rPr b="0" lang="en-US" sz="1600" spc="-1" strike="noStrike">
                <a:solidFill>
                  <a:srgbClr val="000000"/>
                </a:solidFill>
                <a:latin typeface="Calibri"/>
              </a:rPr>
              <a:t>] an IPv6 BIER Destination Option is carried by the IPv6 Destination Option Header (indicated by a Next Header value 60).  It is initialized in a packet sent by an IPv6 BFIR router to inform the following BFR routers in an IPv6 BIER domain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licate to destination BFER routers hop-by-hop.  BIER is generally a hop-by-hop and one-to-many architecture and it is required for a BIER IPv6 encapsulation to include the BIER Header ([RFC8296]) as an IPv6 Extension Header, to pilot the hop-by-hop BIER repli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3" name="Picture 2" descr=""/>
          <p:cNvPicPr/>
          <p:nvPr/>
        </p:nvPicPr>
        <p:blipFill>
          <a:blip r:embed="rId1"/>
          <a:stretch/>
        </p:blipFill>
        <p:spPr>
          <a:xfrm>
            <a:off x="0" y="1131840"/>
            <a:ext cx="6858000" cy="1558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07:41:12Z</dcterms:created>
  <dc:creator>Chen Ming</dc:creator>
  <dc:description/>
  <dc:language>en-US</dc:language>
  <cp:lastModifiedBy>Michael McBride</cp:lastModifiedBy>
  <dcterms:modified xsi:type="dcterms:W3CDTF">2019-07-23T18:37:36Z</dcterms:modified>
  <cp:revision>165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3)d2cViwQcD5+2LLtggTQx9IHp7MRPajN5BxQzzQ+P6soBw06F5kaMG+ZYv7Nu0BsfmI2ixn5y
i9G42BPZwn9I1y3gAerqpsv9badvOCNPSNv69PouwW2ssVZ8IgQ4CNsrUq/1J6X9K/nv9EKx
rQ3vYK5Vc9bdI7p7dvq2xcF5htmns3kVpZpv8jS8/FCzGWwHlTvLscT+x1GUWmMhnpOoFMZV
INhB7TIcAQG93mEt+j</vt:lpwstr>
  </property>
  <property fmtid="{D5CDD505-2E9C-101B-9397-08002B2CF9AE}" pid="3" name="_2015_ms_pID_7253431">
    <vt:lpwstr>dMyxehvXnB5MVLGJtDDWVmKvAbxtRlaXarGez2waoaxGB4tvyaskZD
lcnRebyuElUBIAbgV92yi+CnzW5dsdivZ55x/ObRWB3yABetrg+KfEB/hz6Z3eLhvi14O/PO
I2R85RjPSUzfafTMfO+p4MVe/YXn0o3IEGwAnTRTUwCDpS2sO9bwEpj1HbeNaqi9oSLh5IYg
zaKyILKD3KbabAAo6TBxOM0f+dzZpyeaJGdL</vt:lpwstr>
  </property>
  <property fmtid="{D5CDD505-2E9C-101B-9397-08002B2CF9AE}" pid="4" name="_2015_ms_pID_7253431_00">
    <vt:lpwstr>_2015_ms_pID_7253431</vt:lpwstr>
  </property>
  <property fmtid="{D5CDD505-2E9C-101B-9397-08002B2CF9AE}" pid="5" name="_2015_ms_pID_7253432">
    <vt:lpwstr>jAZzqO/MiOuc/29UBdXaoB/OCVPlM60tGd+D
Ugs70wofcA32f5qFyqmFQPc7ACgG8EgeuBk/ADszfkkhkbAinP4=</vt:lpwstr>
  </property>
  <property fmtid="{D5CDD505-2E9C-101B-9397-08002B2CF9AE}" pid="6" name="_2015_ms_pID_7253432_00">
    <vt:lpwstr>_2015_ms_pID_7253432</vt:lpwstr>
  </property>
  <property fmtid="{D5CDD505-2E9C-101B-9397-08002B2CF9AE}" pid="7" name="_2015_ms_pID_725343_00">
    <vt:lpwstr>_2015_ms_pID_725343</vt:lpwstr>
  </property>
  <property fmtid="{D5CDD505-2E9C-101B-9397-08002B2CF9AE}" pid="8" name="_change">
    <vt:lpwstr/>
  </property>
  <property fmtid="{D5CDD505-2E9C-101B-9397-08002B2CF9AE}" pid="9" name="_full-control">
    <vt:lpwstr/>
  </property>
  <property fmtid="{D5CDD505-2E9C-101B-9397-08002B2CF9AE}" pid="10" name="_ms_pID_725343">
    <vt:lpwstr>(2)nEjfLa5zkFjJ24cFH1rD/CO99/SkKnuZt+jVj3euFWHS8MDkQjkBUSuq5IKksPFWrQEBjRsK
X+9l3cxTXRvzitClRlh3DpX2uIOS2R1ylp5QzOrr9VjtVeoV/WboZE7JM5mA6wA6hPIyRfnA
B86tkkz7o8RCTCbH3lBENhFaLa430zPmj47FtwLuMS+E1k3ruXoA6lIpFD5pxcmNqojImzW4
GwtdW1BZqH632JDAWU</vt:lpwstr>
  </property>
  <property fmtid="{D5CDD505-2E9C-101B-9397-08002B2CF9AE}" pid="11" name="_ms_pID_7253431">
    <vt:lpwstr>nhH+p/c2eKA5nuNEEnrUckmJKi9mx6LklbuGnSvOwQe8mcbzaUyX8z
ivZ/xK2LwqmMFV3oMI0hQ5nIm0nwBPrb6dNV0x0ONe1veEp3g/9l3w==</vt:lpwstr>
  </property>
  <property fmtid="{D5CDD505-2E9C-101B-9397-08002B2CF9AE}" pid="12" name="_new_ms_pID_72543">
    <vt:lpwstr>(4)8pb00NXgvfolPpdOp/im+iyocGkxj/FUozmtz+z3gf+89nHNxJewsJZtSXf5VaB6o0OySm5d
8gJwl174hgqzvOKZ9ktSU80sEzQWz+ediLA3FTdnitiu6PmyptT7CdkmWgnWetjIsC0wZ8k1
W/xfL6d9Zz02BuWRLVbj60gAnn7FXSD47ByU1iFS2iBgNVPDWqptFOpG7EGg/52sr796NAe6
Y88lxiNYEsD1weV4F7</vt:lpwstr>
  </property>
  <property fmtid="{D5CDD505-2E9C-101B-9397-08002B2CF9AE}" pid="13" name="_new_ms_pID_725431">
    <vt:lpwstr>q6f4vIblOYL9YUlQw4CP+hRGkRVRz/K88xTcCqM2TwfOF7lkn3vAEC
3+jPeoxHE/A6OcWwtKbWIgLEAFTHSMCU7vs1fQ+5oJypm6dqE9pPFXxOyWxAT7U1Xsz0Gq7t
wPyuDZFIE0AtufL4sKGECU+Mguj4AvfcNMKe5Vi7WziBZWrOTV99ZFu4PkQO37as5Yqy9LvI
lAl7byCF9QET+JXyHTe8uCFR/XYVz+qCOiu+</vt:lpwstr>
  </property>
  <property fmtid="{D5CDD505-2E9C-101B-9397-08002B2CF9AE}" pid="14" name="_new_ms_pID_725431_00">
    <vt:lpwstr>_new_ms_pID_725431</vt:lpwstr>
  </property>
  <property fmtid="{D5CDD505-2E9C-101B-9397-08002B2CF9AE}" pid="15" name="_new_ms_pID_725432">
    <vt:lpwstr>z7SAloLzPkKVNgiMlG+aDfsWNnntB5eaoVEQ
3nMuZfFFwpho/aTa1IU/IkK9+arTH6FV42W2B54W7pcEwahC9jb9alrmJ/1/iMjMlhdSPZTA
eoTX1lmZ4IH1To1PhIk7P8s6DyYeV9YmksxKB0KMM4wNXUK5c1R1jgCJPrnuoaTc/erG6n77
UOCBtkcmIPYMZ6SHWKblasdnWmcydo8N42cifZ4XLeD8W/b3/qIlSr</vt:lpwstr>
  </property>
  <property fmtid="{D5CDD505-2E9C-101B-9397-08002B2CF9AE}" pid="16" name="_new_ms_pID_725432_00">
    <vt:lpwstr>_new_ms_pID_725432</vt:lpwstr>
  </property>
  <property fmtid="{D5CDD505-2E9C-101B-9397-08002B2CF9AE}" pid="17" name="_new_ms_pID_725433">
    <vt:lpwstr>loxyd/lA5K1PndCMAt
wIYmBxctIdXWQ4qfL8GKFDszyBvh+zINy4Sn9UBWwfN+apNH</vt:lpwstr>
  </property>
  <property fmtid="{D5CDD505-2E9C-101B-9397-08002B2CF9AE}" pid="18" name="_new_ms_pID_725433_00">
    <vt:lpwstr>_new_ms_pID_725433</vt:lpwstr>
  </property>
  <property fmtid="{D5CDD505-2E9C-101B-9397-08002B2CF9AE}" pid="19" name="_new_ms_pID_72543_00">
    <vt:lpwstr>_new_ms_pID_72543</vt:lpwstr>
  </property>
  <property fmtid="{D5CDD505-2E9C-101B-9397-08002B2CF9AE}" pid="20" name="_readonly">
    <vt:lpwstr/>
  </property>
  <property fmtid="{D5CDD505-2E9C-101B-9397-08002B2CF9AE}" pid="21" name="sflag">
    <vt:lpwstr>1563840200</vt:lpwstr>
  </property>
</Properties>
</file>