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C43-E07A-44CB-9AA6-025E1A086C9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D755-5E34-42CB-8EA7-06876A6C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A78C-3DBC-4018-A7F2-2C3B5562AF8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95EB-F7BB-43C4-BEA3-5CF5EB97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D96A-93A9-4C6F-999B-17C8A839C0F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353-46CF-49E1-B097-857BF23F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5D12E2-EFA7-46CC-A231-543D33FB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F9B4DA-15AE-4AAE-8171-7D6513F7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3816EA-45A1-4D4B-97DC-1638599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8A0F1-6BDE-491B-B1EA-691F2DD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49E34C-71CC-4E5A-89FB-5A456A1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BFC1C-E643-45EF-A903-B0F15EA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B8AC24-D84D-4D2B-953D-794388A0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674B41-1740-4654-844B-72A0AA07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D9549-D6B2-4251-A0E1-8B5E3993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A0941-79FB-4836-9F3C-FB33980F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60E64-01BF-464B-9F4C-D0E9FA3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F8CC8-ADDC-4EF3-8A4A-B2FFF46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65AB6-B6E4-4057-942A-5BC82200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2CB5E-F1C4-4CF2-ACE4-A5FB759F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35C32-B033-415E-ADB2-EAF5D8A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C4827-EAF6-4B62-A947-9789C75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7C5B4-F72D-4406-9F14-36F733A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834F0-1A91-49D6-AC90-5F35CF4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A6E72-ACA8-4D61-A769-A2C26D6A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E3FDC-078C-470D-BCEC-395C5237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55111-52DF-4930-BE6E-98E20796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34C72-40F8-471E-833C-5D585151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7EB25-D522-4286-83BC-8683A0EB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7C050-D862-4805-8942-7358CA3D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5CBDB-2544-4AD1-A621-6E1DDB8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8D0BA-8973-49CB-BBE1-B919E9A5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D2ED7-3387-4E13-B5BF-F0B38C9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417B7-8F86-4BE7-8B0E-9DE0101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F37FD-A923-4644-899F-B617160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E07EF-CFD4-4233-96D4-9CD9D2B4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989E0-F8C7-47D3-A5B2-51A5B89D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D64F4-950D-4610-8F00-0972038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EE46C-A9D3-4F0E-A492-5727A3BF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5615C-1785-4618-B0B8-545A58E4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DF2ADC-A7F5-4B2B-B842-5F643C80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4C38F3-CF1E-4EFF-9F0F-1671AE9B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B4BDAD-4FB2-4694-90D7-D2E2EF4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3F6659-E7D0-45CE-95A8-0126B357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C03EE6-8A80-4658-9B44-3A0F1FB1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99CF25-FD44-4993-83D8-51AF995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CAD225-D007-4B0C-8DBF-D9DF743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DF2FA-AB49-44E2-A794-FED0121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D60DB9-4886-4338-BDF5-6A070226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48F04E-DF5D-40C9-81F8-78B5CF7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2AA97F-3D5C-4504-A27F-1847358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2D0D9B-4342-49AC-8B2C-EA74F992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7B4E37-D02C-4597-A0AF-CEA49F5C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2E9EA-B77A-4FDC-A8C0-D9DC6594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C6039-EDE4-46F0-AC01-08A2A4A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C92D4-3CF6-45CE-AC61-88005AE8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83957-3CE3-4788-AEBD-1FE6E9E4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04F71-5989-4CEE-9D48-F56AAA4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6D287-37A6-4D6F-A90F-BBB596BC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455CB-EC12-4C6B-9F61-8C9D958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E32E2-7F09-4D1D-AAD9-E0C822A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C0676-3C71-4017-A5D8-2A284AA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31946-F13D-4D94-A289-0329A2C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7C1FE-3D78-455C-87C7-590D9B13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D33CE-9080-4E45-8E3C-55A55F20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060DD-310B-48DA-A3E5-16055DAF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AF399E-1303-4C92-877C-B23DCCCF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4A8141-733B-4A95-A8C5-8B5FDB4D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003E09-C71A-4C06-A24B-C74B6DF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FEF3E-253B-48C6-A19E-106716F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31581D-E574-4D87-8202-02682F4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DFBE53-EB89-44D0-B1DD-FB4068CE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458F77-51EA-4C49-B757-154950FA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D598FC-72B0-4088-A1B0-A1A019B6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DECFD5-12A9-42AA-AD69-212F2E9B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DD8D3D-5ADC-45FA-BCE0-7E07F78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8D0C06-1C8F-4A8F-979D-E6BBA7B4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444E95-2B7E-4A97-B329-E3786F87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66632B-5F40-4C52-81A6-659C5C88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704C3-1171-450D-92AF-F6BD8B2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66195-FA5C-43DC-92DB-90DEC611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E4C1C-6B48-4880-9F0E-CC1F227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1A3D3-5881-4EFB-A129-E481A46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51F32-79FA-43E1-960B-F8C8E355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04CEE-6A60-4697-BA12-DFE152E3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1ACFA-BAEE-490A-B788-ACD3246E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B1E7D-EE51-41D3-8CD2-0024551F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659AE-5990-4EB4-9E6F-0907675B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44C0A-E0F3-4FED-89A4-9B37E98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57A89-4EDB-422C-8019-C2C3EAD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C9976-AF52-4C9A-8107-9FC831A6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A9817-2077-4C2E-B087-F2355494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CEDA3-64B0-4368-9503-B4277F8E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D9045-3D45-4F17-95F4-D4C7B07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92396-162D-48F8-A87A-65655804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69828-3137-434E-BD58-ABDAEAF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643BD-9332-4754-B2E8-6B38EBFF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73F01-7CEA-4000-AF71-7E84D24B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6782F-C59A-40D1-B2C8-516B557B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F0069-0BC6-4567-8ADE-35846C85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5181C-BAD9-46B4-9127-F11CE903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7995B-B8C4-4F15-8C47-23851C6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A72EC-6033-44F0-809A-7FFD1014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B2CDB-4A9C-4B94-90D9-C280C46B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E4665-81C0-4B80-A0E9-DDAD9AE9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C161E-F3EC-4EDE-8542-DADAEC5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A3DC9-54B0-4041-932B-F29953D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6A543-9FED-4BD6-8532-97247CB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A68AC-8515-4566-86EA-DEBE0B36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FD07A-9605-4ED0-A896-FDBE704F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773DF-5D07-48A9-9A9A-CC619B06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F33E3-95D7-4AAB-8072-43A394E2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201156-8AEE-48AD-8960-9B8CB2D9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8BC87-C7AD-4A31-BCAA-F1D417D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9F23DD-8237-4826-9502-F86A94CD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67502D-730A-450B-9FEC-F4890631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9282D-B0B1-4D72-8F86-B8FE0AE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7309D-150E-47F7-ACB2-B88682B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0FF550-D849-439B-AF4E-3D2FC08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291BE-D7D8-4667-A2F2-E6489B0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BAD8D-5DFD-40B3-95E8-F30B889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519D7F-5328-408D-BE5A-FB93C06E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3AD4B-14FA-4AF1-8ED8-798C50CA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D1A6A-7FD4-463D-9DEF-2F41512E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37A17-1B01-414D-8020-70C1609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E66CA-C9F1-4CF1-B4AF-983A060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D6644-9409-4E4F-B3EB-C6527E2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F646F-E4D7-4013-A4B9-E89C5AD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60352F-D8F3-4CD9-BE45-0ADF69A7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F9314-72DE-4AD9-BF26-121F6A6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5EE0A3-CB82-4ADF-90F8-34A70C4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646FF-6D53-474E-8035-57CE8E4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51D1F-2588-4CB8-B915-80C4E7E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BDF7B-3478-471F-B68E-BF9CF52B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7648F-402F-44BB-9480-B18D327F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94776-EEA9-4919-8F30-189D9D1C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D7D1C9-A39E-4224-BACF-7396A23E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F83701-2D46-4EB7-9839-862AF22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766059-81A5-4FD4-8ADE-3F03179E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9DC22-67DC-449C-AA4B-FA43123F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19085-8534-4493-998C-FC1B2EC1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0C818B-C850-42C7-9F6A-379E7FAE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E5AD79-5159-4B3A-BEF0-519CF4A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A3854-F83B-48FA-B9AB-36000D5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1FF9F-D49A-410D-8695-8074B9D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4985D0-CEAF-4EB0-8E66-35AC8765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941FE3-C4EE-44BA-905C-84852013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A6EDD-DCC8-4DF7-A7E5-565628A1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A7C29F-C7CD-49F3-ADEF-B4D962E3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35484-7B0F-4B6A-8085-732A2991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A8246693-9571-4940-93B2-6145F27C5206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9C94DCF-4282-4206-99AE-8612CCA8119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CE8-0CDF-4A81-A023-86BAF5806E4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F6E09CA-A6C8-40B9-8D4B-D18494F8C79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9F86-8DB2-45AE-94F2-3493DD87EDD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6C4CE3B-3240-43AC-9580-131A1291494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CD2-AB34-475A-AF61-631409C761C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56065E84-2FF8-4B21-A729-1B5976F31F5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52D-AA5E-43AE-8EBF-F0C4AD0BA91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43E0469C-DC54-4667-BEAD-AD9AB3BD4FD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56F-AB7B-4C2E-8B85-F40A77E87C0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AB7ED2F-A4F6-408E-A0E4-BC0BBC0F980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727-05CD-4245-A041-64CE51FCE30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3F29C57-D255-49C1-BDB9-B2070A97349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AEED-4D99-4F50-912F-D8D6D1D6A1E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8052D69-8C77-4847-85CB-891DDB7DBDF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3637-8BD7-43C0-AAC3-93D5198F0BC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C78888D-991F-405D-8474-B903F225A5A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D3E-1464-42AE-839A-685E733FF64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D3E66AF-652D-4AFA-9F41-C15A34C641E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76EA-B8A1-4C95-86F4-75DBA73FC60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5C7D5E5-8C99-41ED-8E4B-73F10C01DFF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7B1-3547-46F1-9251-8BCF553F05F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FC92D86-55A1-486D-AC6A-BA2C7336039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14BE-6236-4C32-89AC-61CC9B088A5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04640" y="843120"/>
            <a:ext cx="597708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nter-domain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using BIER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geng-bier-ipv6-inter-domain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Presenter: Jingrong X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IETF105   2019-07-24  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’s the uniqueness of IPv6 her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 found it difficult to construct the inter-domain BIFTs since the BIER-MPLS label is dynamic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RGB is a thing I could thought of to use for static-configuratio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 of a static SRGB label as BIER-MPLS of a BR(border router) is wasteful, while use the SRGB for the entire domain seems not welcome in ietf102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s document assume the 'SD-BSL-SI' auto-generation of BIFT-ID is used consistently in all BFRs, makes inter-domain BIERv6 deployment eas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1) inter-domain BIERv6 configuration is eas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2) inter-domain BIERv6 can skip non-BFRs completel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3) inter-domain BFRs use only the BIERv6 encapsulation without any additio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"/>
          <p:cNvSpPr/>
          <p:nvPr/>
        </p:nvSpPr>
        <p:spPr>
          <a:xfrm>
            <a:off x="774720" y="24336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标题 1"/>
          <p:cNvSpPr/>
          <p:nvPr/>
        </p:nvSpPr>
        <p:spPr>
          <a:xfrm>
            <a:off x="765000" y="523800"/>
            <a:ext cx="4829400" cy="488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Reque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"/>
          <p:cNvSpPr/>
          <p:nvPr/>
        </p:nvSpPr>
        <p:spPr>
          <a:xfrm>
            <a:off x="615960" y="1316160"/>
            <a:ext cx="55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/questions/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cenario: Hierarchial Multicas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5" name="图片 2" descr=""/>
          <p:cNvPicPr/>
          <p:nvPr/>
        </p:nvPicPr>
        <p:blipFill>
          <a:blip r:embed="rId1"/>
          <a:stretch/>
        </p:blipFill>
        <p:spPr>
          <a:xfrm>
            <a:off x="566640" y="700200"/>
            <a:ext cx="57596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04280" y="195120"/>
            <a:ext cx="5915160" cy="416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: Static-bift for BIERv6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0520" y="626760"/>
            <a:ext cx="5784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sub-domain 6 ipv6-underlay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 ##configuration for B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prefix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id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apsulation ipv6 bsl 256 max-si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2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37 bfr-id 1 to 256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##Not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257 to 512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##Not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sub-domain 6 ipv6-underlay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##configuration for PE1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prefix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id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apsulation ipv6 bsl 256 max-si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1 to 512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##Not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1: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Use the BSL-SD-SI BIFT-id encoding method  described in [I-D.ietf-bier-non-mpls-bift-encoding] as auto-generation metho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0760" y="19512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cenario: Peering Multicas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555480" y="650880"/>
            <a:ext cx="5626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04280" y="19512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: auto-IR to each domain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59920" y="626760"/>
            <a:ext cx="637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PE1x routing underlay layer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sub-domain 6 ipv6-und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prefix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i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apsulation ipv6 bsl 256 max-si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lor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otocol i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lor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-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1 to 5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lor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-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1 to 2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lists the BIFTs that will be constructed on PE1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0&gt; for color 1 ;;Ref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0&gt; for color 2 ;;Ref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1&gt; for color 2 ;;Ref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0&gt; for color 3 ;;Ref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04280" y="19512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: auto-IR to each domain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59920" y="844560"/>
            <a:ext cx="6372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ay Multicast Flow steering to (Color, SD/BSL/SI, BitString) tuple on Ingress 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VRF&lt;X&gt;, S&lt;S1&gt;, G&lt;G1&gt;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1&gt;, SD&lt;6&gt;, BSL&lt;256&gt;, SI&lt;0&gt;, BitString&lt;0001&gt;) ;;Ref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2&gt;, SD&lt;6&gt;, BSL&lt;256&gt;, SI&lt;0&gt;, BitString&lt;0001&gt;) ;;Ref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2&gt;, SD&lt;6&gt;, BSL&lt;256&gt;, SI&lt;1&gt;, BitString&lt;0001&gt;) ;;Ref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3&gt;, SD&lt;6&gt;, BSL&lt;256&gt;, SI&lt;0&gt;, BitString&lt;0001&gt;) ;;Ref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Extended Community carried in Leaf-AD route from Egress 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 A-D rou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LRI: RD, S, G, OrigIP, Leaf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MSI: Sub-domain, bfr-prefix, bfr-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Extended Community: Color=1/2/3 (PE1y/PE2x/PE3x carry Color 1/2/3 resp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 (1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the “peering multicast”, how many BIER sub-domain do you hav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n't evaluate that so f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nitiate this idea when I found a recent rfc8313 and thought of the tenant spanning multiple D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 assume the multicast as a service draft for this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ument assume a single BIER sub-domain (through multiple AS) for multicast deploy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 (2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’s the real difference between “hierarchical multicast” and “peering multicast”, once you take away the color and MVPN aspects that I believe are orthogonal her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hierarchical one is a P2MP case like IPTV in service provide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peering one is an MP2MP case where the multicast source may be more unpredictabl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BIER point of view, there is still some differenc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current BIER Architecture, BIFT is constructed per the tuple of &lt;SD/BSL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the above Color case, BIFT is constructed per the tuple of &lt;Color/SD/BSL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re may be some consideration of supporting multiple encapsulation in one &lt;SD/BSL&gt;, then the BIFT may be constructed per the tuple of &lt;SD/BSL/Encap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 the multicast overlay need to steering a flow to &lt;Color/SD/BSL/SI&gt; instead of &lt;SD/BSL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 (3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’s the significance of “inter-domain” here, that requires this new draf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atic-configuration is not desired in intra-domain case since there is so automated IGP deploymen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 Inter-domain case (mainly about inter-AS case as this document examples), static-configuration can be used, and I am used to understand things clearly by using static-configuration firs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 will try to learn and understand how the dynamic protocol as proposed on the WG can be used for inter-domai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/>
  <dc:description/>
  <dc:language>en-US</dc:language>
  <cp:lastModifiedBy>Xiejingrong</cp:lastModifiedBy>
  <dcterms:modified xsi:type="dcterms:W3CDTF">2019-07-23T15:05:37Z</dcterms:modified>
  <cp:revision>20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BDcPmdjJidwXdSAmteMzF75E9zDu75u4fxmKSKK3UTXPYLuifwVqLFFiXzt1DaTlxHQ5OQDj
A1W9UpxLsdrQ3IaTvvb4T1V/c1GW8iYOXTeZhPL8lS7WtuTRTv6wDf5XWl6xDV2tTGBExrvy
wUvMKc3fhm2Dkr5M3ALWjCZOoreuHi4JqtRYDuKKtBp6J+z4W4q7nqAICqm4nzUcAG3sqdkj
NktHnkI5IXoFYCXa0n</vt:lpwstr>
  </property>
  <property fmtid="{D5CDD505-2E9C-101B-9397-08002B2CF9AE}" pid="3" name="_2015_ms_pID_7253431">
    <vt:lpwstr>Nox6dpe82XVIpienwm3X6Tw233xE5CCVPwxmdbwVqHQ9UpaCY3/1wI
l3OA1y6S6SbiyQ8G7z4gw55ZAj3GPn57XDE/8SlJtxuRIaIytc8lo+YjIjFGMAaLhc4JyJuo
lJrtjpKzex6oKHc6NjZa+iFNZe/spNp55PrAzUGr8mOSqqzBmql9CTy9Tkoug7H5wnRPkCxV
FZJwEFEJTCN3u4dWy8kTpNYamUbyh7QIhL3g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pS16lwEb9IyxIGG2COKLXOD1mYU4vUywEaXR
tmxwQKkm7vpN+cBoddatfZecSCTayvao9YMXsfSkAZ4W4TflP2c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