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3CE1-462C-4C03-B91D-D556D6CE4CA7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A298B-F0DB-4320-A309-7CEC3BB615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55E0-09CC-4284-85B0-B6033ECC2B1D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3371C-D569-48B4-A856-1889915ACE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34BD5-3D76-40A4-BA75-17A5D3676C14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CC054-ADA7-45F5-B563-10EC3AE192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5F8739-E380-4A24-9DBA-E214F0A2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16FF831-D5A4-4F6A-A464-6C39D767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B69312E-F7FD-492B-9533-00952313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E26F39E-E61E-437E-AFC3-F81EE224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B718A9-1594-403D-8E9B-410359EC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68844A6-B6B4-472F-BB09-D20E7E7C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BCD03F-0739-4253-AB28-40D77C7D2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97CC5A-93A4-41FE-B8FF-BD7365D85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84D720D-EBF6-4EDF-A2E3-CAA4C1C7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4A4168-29EC-4F4F-B2A8-E8D992D9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6B2337-6723-4EE2-A68D-6CD5550A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9FC1B1-F458-4FD5-9F85-1D89D153F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4E5528-90EE-4356-8DBD-CD4016D8E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C73C98-B52B-4094-A34C-D6AD45B0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5950BE-FD6D-4806-AFD9-24B5BD1AF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314E49-9DBF-4623-91A5-153BF64A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488ED9-2FF3-4308-8E3A-44217C06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6802F3-8D07-42F8-8F83-D759AD0D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D193A-ECE1-4DD3-9925-25B596FD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BACDA8-6B2B-4BCA-8D13-2DEABBCD3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C2DCC6-40B2-4B3D-B121-60C4C7255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5ABB84-1066-4074-B92C-D1BB7DDBD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E62E63-693A-4D1D-A533-27D0CBBD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50F27-969C-4A0F-BBC6-A14B9BC7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88DA2B-92DA-47F7-AE2A-6ABEADA3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5342A9-A6D8-452A-9638-2A8338B1B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432D97-B70A-44C3-8379-96CEBF45B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815F1-D6E3-42BB-A1E0-17FF84EDB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178E821-FE91-4F35-ACDF-44E9EBB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3E0BEB-DD38-4FEE-8FBE-586A4CE7F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DC6862-AC93-4BB5-945A-2EFD09579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87F61B-3D94-4438-A589-2A7794D1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4235A7-8C7B-48B0-8C4A-189145F16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AEB33E-41D6-42A2-9900-3C5F8EC3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FF4D8E-2F3F-44A9-A21C-70AAD4C1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C311A9C-3F4D-4C90-B9CF-584D39104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1E380F-738C-496D-9034-DB5362AAB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C6646B-900B-4D70-AFB3-E621EFF6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A9C208-6973-4EB5-8588-84A72431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B37FD5-D606-43E8-8EB9-F50DC1A34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E0CCB66-21BD-4E6D-8E77-5CD5E62BF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651376-1479-4327-846A-008BC920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111B19B-5B01-4848-BE12-3ACDCDB6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353BAD-98F8-458D-B998-30F21286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BBCAB6-F436-44C9-9F3D-3CB8DB06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B1330A8-A309-493D-9C77-AD11EF63B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58F562-E4C6-45FC-BF1C-0CBB0C3AC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DDAF02-F3E2-4DDB-85C0-5896848AF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9DE3E0-B970-417F-BCDD-CD8169BE2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BBCF2B-06F2-4CBD-BB97-3840F044A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7E5D84-49F8-49A4-ACBA-134EBE7DA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53BC9-4695-42F4-9B90-8AF241F7E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9A7DF0-6C23-466D-835D-C363A0216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78D619-D974-440A-8106-71A9E989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6AF3D-F511-4869-9CE6-230F7C6E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A07DFB-7515-406B-A6CE-5B17EEFE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D0575A-3654-4173-AC54-5FB791DD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62CB5-4B60-4CF6-939E-C8054408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B6165C-16D9-428B-999F-4CA8399EF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FA93A-4B0A-43BF-BD67-3894A9DC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5B2DB1-8431-4B2E-816E-D10AB737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770FCD-A33E-4B3F-BCFF-3C07B9C1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00F42AB-D63F-457D-9FDB-6A54A3D06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1AF71-ED5C-424E-8B72-3448FD8C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3EECB44-56FF-4B2E-909C-E3C0BDD36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F9FEEFD-A2F2-417A-9571-DBDE554C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24C3A80-6307-4B25-AFA1-B43B02B91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FBDE264-EF52-453C-866D-CCBB3EFBD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7166CDE-B9D1-423E-BEE9-08ED6BFA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822580E-C257-4096-8469-4A9D1057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EE7A508-DE86-4FC9-977F-51F51E65D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C270A7C-AA19-40E2-AAC1-09251D98E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A7C35E-3F7C-46C4-AD7C-97713B835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7E876-A991-487E-B86F-30816438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00304-1127-44AB-BD3A-9A337C2B1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A90FCB-67B1-47B9-A0FB-3C36A25A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8225F-B3A9-4501-830F-C70ABD5A5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2EF67-0C51-48A6-90A9-CB360681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AAC309-E0C7-4E72-95F1-146D9928A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046FDE-19CD-4021-BF4D-05FEF0B0D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B7513C-5090-496B-B7C8-4713EE21D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1F7B46-9C08-458B-8886-28688B66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CB196C-8E10-4289-BA16-23F76490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B4BE682-27B5-4758-9B55-E649E602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894979-A44F-47D8-BA08-FF2022EBB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23A4EA-4E90-46AF-A050-E5BCE1F8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D24AA3-1CA2-4E97-8234-E6B4251B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34FBF2-0448-455B-8286-3100F11C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628455-CBAE-45BA-A31A-E0DAF94C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F7E37B-721A-4DA3-A9DB-03A04A8E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48EF7D-42D8-48D4-BC87-FF1062028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719A63-2939-4152-8FBA-19B09B77B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2D6270-5B5E-4292-8E83-C5DB1372A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C6050D-11A0-4D9A-9414-66F5C623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28EDE7-3156-4CB0-924B-0DC9F3EB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7E4414-2E51-423A-A78C-2E836C87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2F90D3-B6BC-441C-BB03-5AE93CFB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5E44C9-AD72-4633-B47C-57E10F70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39997E-696E-49CC-97E7-99F191A93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5187E3-CF24-4CEA-A5A8-B71AD126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31EB69-91A0-43CC-9EC0-9FCBEF34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EB45B2-BA3F-48E8-8875-8C56AE05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B66C99-791B-48A5-8147-2C901D1B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1CA63-1737-4626-BB5B-0B3D57E5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CF4A50-D573-494A-840D-70CD02730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61A5E5-D68B-4383-BB5F-58619DF7E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39A6A76-575B-4F1D-8E51-F9904B82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0A78354-3F0F-4929-969E-B2603833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983BD2-208F-46A3-854C-D32D06207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A949A2-4981-4755-929D-C8B62788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CB6841-9FB8-4ED2-8FC8-258ADD99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685ECB-A54E-4FB1-8CEC-C8F0535B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1C0F11A-1D32-403A-945E-238A2E58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0DDB4A-06A7-4DC4-AF3A-54EE5C3D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A27DAC-27D3-40D9-8814-6D596CD6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D00A3E7-EE6F-4833-8D0E-9126EAA3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D49B5FB-0164-45F8-9ACD-49BF992E1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87EAC1-431C-4D1E-9583-AB60F5754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B5FDBD-D35E-4163-AFF8-65BF4E1C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87FC2F-E0A0-4591-9CA5-53F5082D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666372-3BF8-42E2-88B0-5E28BA20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77FAF7-0679-4834-B6AC-7AAE5C55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6D4FCC-4D4D-4E23-90BB-ABF26393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4A57CB-367D-4F19-9D9F-AA872D383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2F7E01-BF30-455D-83DA-735141D1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E716A0-758D-48CC-91FF-C9AD5207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BC2E16-8B1A-42A7-AF45-CD6C0CC1F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68F480-CD63-4778-88EB-CC336F747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27324E-956F-4594-820B-24879665D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6B1E6C-CFAA-4697-B8EC-0BD64C68E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1D171C-0B61-49D4-A739-33084840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DE374B-12D7-4A2F-B680-41E80F021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515C0E9-4A21-4620-9150-71BEA92E4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AD525D-DE77-408F-AC0E-9CE8EC69B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BC79EC9-6A24-4BE8-AA8D-5B77C0FE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67D4D2-5A00-42E4-8F9B-632B0100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64A666-F998-4CF1-995E-B5CAB6A9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AE9E3D-E482-4211-93DD-1FBD8055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B9C6EF-7AD4-42AF-AD8F-F6341C23B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DF2627-7F7B-4F73-95EA-21F9FDEBD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B83148-23BE-476B-AA28-0A26D650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B63578-6E8B-43AA-9363-427161BEE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25ED4CA-AD53-4F6B-A4E1-F5126F64C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5BD6970-39FB-4030-A477-1ACA29975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FD6D7813-471B-42C4-BF0E-B97C38C2856B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9B8927E-169D-4A0D-9FEE-9E62C8896CD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CA47-2F9A-4B40-909B-2E7446EF6E9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00B6EC05-0432-4DF9-AF0C-E1E5C574EC7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96ABA-A00D-4F41-8DF6-E781C0ADC86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011DB56C-3CE6-4B0D-9865-958278D59D71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1BFC8-94DB-449E-896B-49F4CC840BE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B500DF2-20A5-4CA0-809C-83FE09FE27FD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3E38-99E8-42E6-AB59-CACC3CFA830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441861D8-81DA-4ED5-8A9A-151C6A3DC37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0A740-15BD-430B-924B-0A6A3442DD7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133467DE-BCF5-4F14-91DD-906BDBC0031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4D20-E6E2-4363-BF14-F5BA2EE06652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9AD83B4-552C-446C-8141-53B26B0A72F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46800-3C47-4A3C-9553-BBA3951A1ED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F5B407A-FD95-459E-BA95-FFDBA972EAD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A1C8-E639-45CB-9B77-DF7BA9534D1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BFFEC91-1EBD-43C8-8344-7367325221F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4A5A-C2E7-4DE3-93D1-541CA200A64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1BD26E4-D828-486D-B887-D6D5284E752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23C8-3973-485D-8E7F-B8E9B27241B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81F1381-6C62-4039-8131-9158C10E6338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AB83E-431B-4C4B-98D1-B5E53F321E1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36DCA4F-0A44-4062-9CDB-F45A31E9A01D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66E58-D8EE-41C8-A6D9-F08EA228546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04640" y="843120"/>
            <a:ext cx="5977080" cy="232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Inter-domain Multic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using BIERv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draft-geng-bier-ipv6-inter-domain-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Presenter: Jingrong Xi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楷体_GB2312"/>
              </a:rPr>
              <a:t>IETF105   2019-07-24  Montre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Comments on the list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’s the uniqueness of IPv6 her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 found it difficult to construct the inter-domain BIFTs since the BIER-MPLS label is dynamic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RGB is a thing I could thought of to use for static-configuratio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 of a static SRGB label as BIER-MPLS of a BR(border router) is wasteful, while use the SRGB for the entire domain seems not welcome in ietf102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s document assume the 'SD-BSL-SI' auto-generation of BIFT-ID is used consistently in all BFRs, makes inter-domain BIERv6 deployment eas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1) inter-domain BIERv6 configuration is easy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2) inter-domain BIERv6 can skip non-BFRs completel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(3) inter-domain BFRs use only the BIERv6 encapsulation without any additio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1"/>
          <p:cNvSpPr/>
          <p:nvPr/>
        </p:nvSpPr>
        <p:spPr>
          <a:xfrm>
            <a:off x="774720" y="243360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标题 1"/>
          <p:cNvSpPr/>
          <p:nvPr/>
        </p:nvSpPr>
        <p:spPr>
          <a:xfrm>
            <a:off x="765000" y="523800"/>
            <a:ext cx="4829400" cy="48888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Request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文本框 3"/>
          <p:cNvSpPr/>
          <p:nvPr/>
        </p:nvSpPr>
        <p:spPr>
          <a:xfrm>
            <a:off x="615960" y="1316160"/>
            <a:ext cx="554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nts/questions/discus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10760" y="268200"/>
            <a:ext cx="5915160" cy="4161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cenario: Hierarchial Multicast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5" name="图片 2" descr=""/>
          <p:cNvPicPr/>
          <p:nvPr/>
        </p:nvPicPr>
        <p:blipFill>
          <a:blip r:embed="rId1"/>
          <a:stretch/>
        </p:blipFill>
        <p:spPr>
          <a:xfrm>
            <a:off x="566640" y="700200"/>
            <a:ext cx="575964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04280" y="195120"/>
            <a:ext cx="5915160" cy="41616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olution: Static-bift for BIERv6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80520" y="626760"/>
            <a:ext cx="5784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er sub-domain 6 ipv6-underlay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 ##configuration for BR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prefix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id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apsulation ipv6 bsl 256 max-si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-b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hop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2: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37 bfr-id 1 to 256       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##Note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hop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 bfr-id 257 to 512   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##Note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er sub-domain 6 ipv6-underlay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 ##configuration for PE1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prefix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id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apsulation ipv6 bsl 256 max-si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ic-b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hop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 bfr-id 1 to 512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##Note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Note1: 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</a:rPr>
              <a:t>Use the BSL-SD-SI BIFT-id encoding method  described in [I-D.ietf-bier-non-mpls-bift-encoding] as auto-generation metho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10760" y="195120"/>
            <a:ext cx="5915160" cy="4161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cenario: Peering Multicast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29" name="图片 1" descr=""/>
          <p:cNvPicPr/>
          <p:nvPr/>
        </p:nvPicPr>
        <p:blipFill>
          <a:blip r:embed="rId1"/>
          <a:stretch/>
        </p:blipFill>
        <p:spPr>
          <a:xfrm>
            <a:off x="555480" y="650880"/>
            <a:ext cx="562608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04280" y="195120"/>
            <a:ext cx="5915160" cy="4161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olution: auto-IR to each domain 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259920" y="626760"/>
            <a:ext cx="637236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 PE1x routing underlay layer configu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er sub-domain 6 ipv6-underl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prefix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E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fr-id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apsulation ipv6 bsl 256 max-si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color 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protocol i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color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tatic-b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-hop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 bfr-id 1 to 5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color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tatic-bi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-hop 2001:DB8::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:AB37 bfr-id 1 to 25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lists the BIFTs that will be constructed on PE1x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FT corresponding  to SD&lt;6&gt;/BSL&lt;256&gt;/SI&lt;0&gt; for color 1 ;;Ref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FT corresponding  to SD&lt;6&gt;/BSL&lt;256&gt;/SI&lt;0&gt; for color 2 ;;Ref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FT corresponding  to SD&lt;6&gt;/BSL&lt;256&gt;/SI&lt;1&gt; for color 2 ;;Ref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FT corresponding  to SD&lt;6&gt;/BSL&lt;256&gt;/SI&lt;0&gt; for color 3 ;;Ref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04280" y="195120"/>
            <a:ext cx="5915160" cy="41616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olution: auto-IR to each domain 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259920" y="844560"/>
            <a:ext cx="637236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lay Multicast Flow steering to (Color, SD/BSL/SI, BitString) tuple on Ingress 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VRF&lt;X&gt;, S&lt;S1&gt;, G&lt;G1&gt;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lor&lt;1&gt;, SD&lt;6&gt;, BSL&lt;256&gt;, SI&lt;0&gt;, BitString&lt;0001&gt;) ;;Ref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lor&lt;2&gt;, SD&lt;6&gt;, BSL&lt;256&gt;, SI&lt;0&gt;, BitString&lt;0001&gt;) ;;Ref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lor&lt;2&gt;, SD&lt;6&gt;, BSL&lt;256&gt;, SI&lt;1&gt;, BitString&lt;0001&gt;) ;;Ref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Color&lt;3&gt;, SD&lt;6&gt;, BSL&lt;256&gt;, SI&lt;0&gt;, BitString&lt;0001&gt;) ;;Ref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Extended Community carried in Leaf-AD route from Egress 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f A-D rout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LRI: RD, S, G, OrigIP, Leaf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MSI: Sub-domain, bfr-prefix, bfr-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or Extended Community: Color=1/2/3 (PE1y/PE2x/PE3x carry Color 1/2/3 resp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Comments on the list (1)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r the “peering multicast”, how many BIER sub-domain do you hav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n't evaluate that so f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 initiate this idea when I found a recent rfc8313 and thought of the tenant spanning multiple DC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 I assume the multicast as a service draft for this c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ocument assume a single BIER sub-domain (through multiple AS) for multicast deploym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Comments on the list (2)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’s the real difference between “hierarchical multicast” and “peering multicast”, once you take away the color and MVPN aspects that I believe are orthogonal here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hierarchical one is a P2MP case like IPTV in service provider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peering one is an MP2MP case where the multicast source may be more unpredictabl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om BIER point of view, there is still some difference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 current BIER Architecture, BIFT is constructed per the tuple of &lt;SD/BSL/SI&gt;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 the above Color case, BIFT is constructed per the tuple of &lt;Color/SD/BSL/SI&gt;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re may be some consideration of supporting multiple encapsulation in one &lt;SD/BSL&gt;, then the BIFT may be constructed per the tuple of &lt;SD/BSL/Encap/SI&gt;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Note the multicast overlay need to steering a flow to &lt;Color/SD/BSL/SI&gt; instead of &lt;SD/BSL/SI&gt;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solidFill>
            <a:srgbClr val="ffe699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Comments on the list (3)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at’s the significance of “inter-domain” here, that requires this new draft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atic-configuration is not desired in intra-domain case since there is so automated IGP deployment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 Inter-domain case (mainly about inter-AS case as this document examples), static-configuration can be used, and I am used to understand things clearly by using static-configuration first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 will try to learn and understand how the dynamic protocol as proposed on the WG can be used for inter-domain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/>
  <dc:description/>
  <dc:language>en-US</dc:language>
  <cp:lastModifiedBy>Xiejingrong</cp:lastModifiedBy>
  <dcterms:modified xsi:type="dcterms:W3CDTF">2019-07-23T15:05:37Z</dcterms:modified>
  <cp:revision>20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BDcPmdjJidwXdSAmteMzF75E9zDu75u4fxmKSKK3UTXPYLuifwVqLFFiXzt1DaTlxHQ5OQDj
A1W9UpxLsdrQ3IaTvvb4T1V/c1GW8iYOXTeZhPL8lS7WtuTRTv6wDf5XWl6xDV2tTGBExrvy
wUvMKc3fhm2Dkr5M3ALWjCZOoreuHi4JqtRYDuKKtBp6J+z4W4q7nqAICqm4nzUcAG3sqdkj
NktHnkI5IXoFYCXa0n</vt:lpwstr>
  </property>
  <property fmtid="{D5CDD505-2E9C-101B-9397-08002B2CF9AE}" pid="3" name="_2015_ms_pID_7253431">
    <vt:lpwstr>Nox6dpe82XVIpienwm3X6Tw233xE5CCVPwxmdbwVqHQ9UpaCY3/1wI
l3OA1y6S6SbiyQ8G7z4gw55ZAj3GPn57XDE/8SlJtxuRIaIytc8lo+YjIjFGMAaLhc4JyJuo
lJrtjpKzex6oKHc6NjZa+iFNZe/spNp55PrAzUGr8mOSqqzBmql9CTy9Tkoug7H5wnRPkCxV
FZJwEFEJTCN3u4dWy8kTpNYamUbyh7QIhL3g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pS16lwEb9IyxIGG2COKLXOD1mYU4vUywEaXR
tmxwQKkm7vpN+cBoddatfZecSCTayvao9YMXsfSkAZ4W4TflP2c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51350675</vt:lpwstr>
  </property>
</Properties>
</file>