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836CE-DF7B-403D-BD37-C449D4EF6EE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C11C-2960-4FF7-A8C2-86C5E976EB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EB6-55CC-4681-B227-2EF3684BFA1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204AE-A320-4A76-9D52-2A79C1E13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C776B-B242-47BF-9671-93BCC4BD3F2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E9DF-6C86-421F-83DD-BEAD94C4E2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E700D-6499-4ADC-823C-F0988A9A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3C3124-D8AE-4BAD-90C3-7513F21AE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100597-70E9-44D8-9C19-94ADD8AE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B9F533-A1F4-4F4D-B359-57F185588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8C1DB3-5C66-4D16-8377-ED6CE63B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4A9FD2-CA56-466C-B5C5-15EF2AD3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3B04D6-35D9-4A0B-B983-4B555F7D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FD3D3E8-2974-4210-85F2-2BBC7045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25D2D0-BD1F-482D-AE0B-D07BE310D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D71EEA-16EC-4234-8108-6D9B9E156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9C927-2213-4085-AB71-2996097A7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201A3E-0BAB-4BC6-A417-E9839556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1EF2D0-C9D1-4D2D-9BAA-32174DB9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2A2BB-725C-4585-B8F9-79623F47D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A02E4-B00C-499C-BAC7-789B504EA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00F71E-A0C5-48BC-A1A2-0C129795F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A86987-F4EE-4E48-B0AF-0406CC6D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E80CDB-739E-4524-8704-FF52B835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2F425A-9A03-4C12-B54A-32DC443C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B507D7-65F4-418A-95DF-5B70176F2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9A7A7-AF82-4D01-B721-F2FC17D9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1E363B-141A-4CA0-865F-DC3C2D771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B7651-BB26-40C3-84B6-0AD4B1CB0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728E81-6514-4CF2-8A6D-C5591FA4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0FDAC0-3ECA-4D6B-9EC6-EB006E8F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9CCEF-5AE8-4F82-B040-FEF7D3E06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B4645B-E33E-45CC-9F36-2B8AB8231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6A3944-648F-4FDD-A698-7E4DD4F6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4E7D1C-F910-4268-8CA8-2E456443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139EF4-2589-478C-BD61-B6A55D02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C447C-20B0-4C90-9E41-687470FA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F87486-4ABC-4B1A-A9FB-2B6EBE75F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713625-6635-4822-AC59-FFF23233C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E3574B3-6F38-40C1-A9C6-AE5D444F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CB65E05-D2E2-4B12-81AB-E9FD61DB0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594D48-EAA5-4827-B5B8-4FA3696D2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F3E055-B36C-4B52-B607-A6DCCC11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7BD9369-A648-46E4-BFF5-8CBBD78E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8ACEB95-0C3E-472C-A3F8-2BAC63AB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66BCB8-69F8-4CFE-ADFC-688EE5A64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07C1E4-2579-41B1-9022-5203186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228E7C-606B-493F-9961-1CB708E6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2D5A950-7869-484A-951F-EFF085F86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31962FB-FFBD-4CAD-A634-A62C842EE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136E1D1-4BD2-433D-83A8-22296E15D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E525B73-0C02-49D6-BDCD-DFB5D19B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1D9979-CC13-4C1A-936E-EF91E4C9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0EF837-F966-45A3-9820-658507BC7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C72E5-FDEF-4BC7-B598-74781241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0945A8-B441-49E6-8359-87E45E4E9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9BD292-0D46-4011-BC2F-CEBA50938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693ED9-7DBB-4D26-A1EE-CE77F7AC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615510-1A4C-4A0A-9698-6DF694AA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301375-095B-4E78-AEEF-BB626BDD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586EB6-1565-4EAF-B479-F29372B0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39C693-A746-4B4F-87E7-CD20F22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C4194D-4CA2-4CF9-AF6B-18D747B0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F0B28D-9BAF-4235-97A7-8A931667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43BE9E-E03D-4A52-B66F-D77DEBC5C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5449E1-2D83-466E-A95C-03C976F8F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F0B423C-038A-4E5E-A529-CD2ECEA03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368737A-1822-4C4B-A6D8-35C34034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2BE925C-4BF7-40B0-9798-3ED4575F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BFE4F-7262-4705-856E-267ECD874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0D74AD-E8E2-4312-88B5-23A52E8F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9674D4-8C87-4ABD-848A-473922BCC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FA8AF5-8CB3-4BF5-B4D6-9959659A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22C8474-4342-4FD9-BA2C-8AC7363C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62A91EA-76B9-45B2-BF3D-EFD564D6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EA1D26-CD8C-44AD-AAB6-F5FE1448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BF5D4A6-669A-4102-96A9-5DC77E014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E9A97C-8505-4E1A-8722-C6DBE5AB8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063749-C1AC-414A-A29E-0C32E6043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F72E5-96C7-4031-AC40-EBE51CFE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574FE-AFB2-456B-A0C1-15FCD7D6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209B0-D038-4BC7-AE67-3940887D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1B4A3-2054-4492-92B6-2AD98F64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DC2113-C3FD-40B1-B640-FB08ADC2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5EB864-4DB2-4AB4-9E88-6FEA3A0C0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065452-9540-4A15-A93C-13EFFE6F1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964D5-5A89-4A5B-ABB2-C6106EFF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FC3D9-A29B-4D30-B7A6-03FB8DEDF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72F4B2E-EFF1-442B-BAC3-FD7851D6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2B411-241D-48F1-9FAE-6C06A4986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0D3AD8-21A0-42BA-A9F9-7645DBA2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BA8187-3DC0-4C3A-8559-64F4D6EA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D18433-36C8-4879-8FE5-D67F6F39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DE2898-95EE-4873-A02C-31BDD874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50DC19-D18D-4506-A4BB-343BA277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B021A-6596-4392-9632-58EB41A3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0240D-C81D-48B2-81D1-BEF6BE522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13C47-683B-452A-BFBA-72B4CF54A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C3DF81B-90FD-4974-BE1E-832F860DB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7AD6C7E-D4A3-40C8-A95D-F11D4CB2E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3B5251-70AF-49A6-8B17-C4233ABC3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FC1DA6-BEBA-4AEC-8CC9-E53E88BA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2B4ACA-172F-4ACF-8F61-88AFEA37B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81F3E-3E42-470F-832B-CA37AC9DE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73048C-A2DB-4745-9C22-F8F550E2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600D0-43B8-417E-9104-1E0E234C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C6372-6970-4625-85AE-77AA2EE94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E32A53-D196-4310-90AA-A3641113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A3E10A-8D23-4688-AA9E-D1D2ECF07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F1D9E9C-1F81-4FB2-982A-E5994F6A6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2A504D-42E1-4E9E-9FDB-85E9B227D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984E97-71A3-4E94-8557-2ABFCD0E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B21303-F767-4207-AE5B-B59CC11C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33AB6-4220-4EDF-8B65-6A3664DD0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4A2B64-08A9-4BE7-A173-3D10976B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A5BD84-CB7C-4105-B8D6-EBA533F7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80DEC3-E1F3-439B-AEE2-D08A6592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9DF14D-951D-464B-B21D-2015F4BF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2DA30A-4A55-4EBC-86E7-A6D2456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57995D0-FCC4-4E97-BDEA-FD2D27CFC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1C926F-9101-41FC-A3C7-5D6540E44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E35603-D5A5-4052-9756-C212CB93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1BA3D2-5447-415E-AEE7-D69E4D9EB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EA324-7414-4CE8-907B-12810E823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9FF12-5073-426D-B694-199EAE60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68ACB4-5742-41C6-95E0-C0B0E9AD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2EA894-A2AF-4863-B320-27384952F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ED2A3E-C8D0-453F-B487-43CA8FAA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9AAA71-4CA2-47F2-8DCB-384AA9EA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43E84B-0182-490A-8A47-DD486509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9D307-C73C-4F05-A02D-4E9E6F1E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821B9B4-F3F8-49C6-91DD-D704C10D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9CB2AD-4EC0-4614-AF4E-4A5D7230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475FD4A-7F75-489C-B186-5084E6AD8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8898CC-E4E2-4C48-93ED-766D4396D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7D190B-C2B5-4FBE-90DB-D2DCEF1F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5CA381-0B22-463E-9EDA-EB909172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112935-00A8-4F54-B7EB-D42B0A52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4EC06A-E19C-4EBF-A1DD-9C7E92A4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2B9DDD-E811-4CE3-B3A2-D1CAB8F9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7F474D9-AD5D-4797-A3AE-7A6A01194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5F8D17-43FD-4389-9421-314E7320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4412C8-7A51-41CB-88D4-1487AC5D0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54C1824-020D-4B94-8AEB-BDDBA6DE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088E8E-EBF5-4126-B6BB-41C1282F6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F074ED-9682-438B-9E73-E5C5E87AF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32F9F8-4CB9-4B15-ADCE-A35C11E3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A325C2-0462-4329-B3CD-3571F631D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41340E-AF12-4AB2-A132-A0F84002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938DA-49CE-4029-8D1F-05B4A845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2AF72907-BD5F-4956-95DC-F4D8609373B0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F127DEA-F6D1-4A32-9104-E57F4EA03F4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9DDD-985D-4F4C-9B08-E6D3765E4FE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635EAD4-6C39-4108-9159-7746FC7B23C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B479-6DA1-461E-AF45-E1801A9A083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821AA5C-AE5B-4E77-89A3-CDB52CC09F8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242C7-51C8-46EA-A1E3-ADC05E6F53F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A3BC877-2459-4C8E-A433-56E88F1C1B2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0093-CE83-4EB9-922F-68A05052AB7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55DCB67-586F-45A6-9CD5-F38A9B694CB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07AA-7A3D-4CFD-93CD-6CB7BC15F46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0EB0673-29E6-417E-8C5D-A74FEE207C6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3920-CBDD-4499-AF22-1D0963F182D7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C9FF496-F097-4ED1-AFCE-A8ABB904E02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E2D9-A8CC-4E26-8993-CB94DC7998E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78645DB-D0E1-4DC4-9127-C2224375AC8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4D8DD-67EC-4A40-B7E6-91036BEB974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0925559-D128-4B6B-96F3-B0447EE2324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3B8A4-8B1F-4425-8BBA-A93E6756DA8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C55CA1A-EB1A-46BB-B427-3805EA77A44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88FF-A76D-4DE6-B882-0136E6CDF36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2BCF2A2-BA77-4EC7-B326-92FE2F12F683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26EB-D22F-48C0-994E-F9B9C6DFBE5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0FE4186-0FA8-44A4-8E5B-4D59A75A2B2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467B2-6D20-495F-9D36-78A9A23E592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04640" y="843120"/>
            <a:ext cx="5977080" cy="18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BIERv6 via IS-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isis-extension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Presenter: Jingrong X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IETF105   2019-07-24  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unction Specific IPv6 Addr: End.BIER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figure exam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Config a BIER specific IPv6 address with 128-bit mask on loopback0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nterface loopback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pv6 address 2019::AB37 128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End.BI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# Config the BIER-specific IPv6 address on loopback0 as BFR Prefix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er sub-domain 6 ipv6-underla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fr-prefix interface loopback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IS-IS TLV 236/237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矩形 2"/>
          <p:cNvSpPr/>
          <p:nvPr/>
        </p:nvSpPr>
        <p:spPr>
          <a:xfrm>
            <a:off x="909720" y="987480"/>
            <a:ext cx="3166920" cy="3538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LV 236/237 (IPv6 Prefi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5"/>
          <p:cNvSpPr/>
          <p:nvPr/>
        </p:nvSpPr>
        <p:spPr>
          <a:xfrm>
            <a:off x="1628640" y="1708200"/>
            <a:ext cx="316872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BIER Sub-TLV (type 32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矩形 6"/>
          <p:cNvSpPr/>
          <p:nvPr/>
        </p:nvSpPr>
        <p:spPr>
          <a:xfrm>
            <a:off x="2144880" y="2179800"/>
            <a:ext cx="330012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caps sub-sub-TL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type TBD)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BSL X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矩形 7"/>
          <p:cNvSpPr/>
          <p:nvPr/>
        </p:nvSpPr>
        <p:spPr>
          <a:xfrm>
            <a:off x="2144880" y="2639880"/>
            <a:ext cx="3300120" cy="3589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Encaps sub-sub-TL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type TBD)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: BSL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矩形 8"/>
          <p:cNvSpPr/>
          <p:nvPr/>
        </p:nvSpPr>
        <p:spPr>
          <a:xfrm>
            <a:off x="1628640" y="3219480"/>
            <a:ext cx="3168720" cy="6174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unction Sub-TLV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(type TB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he only one Function End.BI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矩形 10"/>
          <p:cNvSpPr/>
          <p:nvPr/>
        </p:nvSpPr>
        <p:spPr>
          <a:xfrm>
            <a:off x="1628640" y="3992400"/>
            <a:ext cx="316872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Prefix Attrs Flag Sub-TLV (type 4)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直接连接符 4"/>
          <p:cNvSpPr/>
          <p:nvPr/>
        </p:nvSpPr>
        <p:spPr>
          <a:xfrm>
            <a:off x="1125360" y="1374840"/>
            <a:ext cx="0" cy="279720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直接连接符 12"/>
          <p:cNvSpPr/>
          <p:nvPr/>
        </p:nvSpPr>
        <p:spPr>
          <a:xfrm>
            <a:off x="1125360" y="1887480"/>
            <a:ext cx="50328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直接连接符 14"/>
          <p:cNvSpPr/>
          <p:nvPr/>
        </p:nvSpPr>
        <p:spPr>
          <a:xfrm>
            <a:off x="1125360" y="3525840"/>
            <a:ext cx="503280" cy="14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直接连接符 16"/>
          <p:cNvSpPr/>
          <p:nvPr/>
        </p:nvSpPr>
        <p:spPr>
          <a:xfrm>
            <a:off x="1125360" y="4172040"/>
            <a:ext cx="50328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直接连接符 18"/>
          <p:cNvSpPr/>
          <p:nvPr/>
        </p:nvSpPr>
        <p:spPr>
          <a:xfrm>
            <a:off x="1844640" y="2068560"/>
            <a:ext cx="0" cy="7509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直接连接符 20"/>
          <p:cNvSpPr/>
          <p:nvPr/>
        </p:nvSpPr>
        <p:spPr>
          <a:xfrm>
            <a:off x="1844640" y="2359080"/>
            <a:ext cx="3002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25"/>
          <p:cNvSpPr/>
          <p:nvPr/>
        </p:nvSpPr>
        <p:spPr>
          <a:xfrm>
            <a:off x="1844640" y="2819520"/>
            <a:ext cx="300240" cy="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文本框 1"/>
          <p:cNvSpPr/>
          <p:nvPr/>
        </p:nvSpPr>
        <p:spPr>
          <a:xfrm>
            <a:off x="1052640" y="32194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标题 1"/>
          <p:cNvSpPr/>
          <p:nvPr/>
        </p:nvSpPr>
        <p:spPr>
          <a:xfrm>
            <a:off x="765000" y="915840"/>
            <a:ext cx="4829400" cy="48924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Reques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"/>
          <p:cNvSpPr/>
          <p:nvPr/>
        </p:nvSpPr>
        <p:spPr>
          <a:xfrm>
            <a:off x="615960" y="1708200"/>
            <a:ext cx="55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/questions/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/>
  <dc:description/>
  <dc:language>en-US</dc:language>
  <cp:lastModifiedBy>Xiejingrong</cp:lastModifiedBy>
  <dcterms:modified xsi:type="dcterms:W3CDTF">2019-07-23T13:48:46Z</dcterms:modified>
  <cp:revision>19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BDcPmdjJidwXdSAmteMzF75E9zDu75u4fxmKSKK3UTXPYLuifwVqLFFiXzt1DaTlxHQ5OQDj
A1W9UpxLsdrQ3IaTvvb4T1V/c1GW8iYOXTeZhPL8lS7WtuTRTv6wDf5XWl6xDV2tTGBExrvy
wUvMKc3fhm2Dkr5M3ALWjCZOoreuHi4JqtRYDuKKtBp6J+z4W4q7nqAICqm4nzUcAG3sqdkj
NktHnkI5IXoFYCXa0n</vt:lpwstr>
  </property>
  <property fmtid="{D5CDD505-2E9C-101B-9397-08002B2CF9AE}" pid="3" name="_2015_ms_pID_7253431">
    <vt:lpwstr>Nox6dpe82XVIpienwm3X6Tw233xE5CCVPwxmdbwVqHQ9UpaCY3/1wI
l3OA1y6S6SbiyQ8G7z4gw55ZAj3GPn57XDE/8SlJtxuRIaIytc8lo+YjIjFGMAaLhc4JyJuo
lJrtjpKzex6oKHc6NjZa+iFNZe/spNp55PrAzUGr8mOSqqzBmql9CTy9Tkoug7H5wnRPkCxV
FZJwEFEJTCN3u4dWy8kTpNYamUbyh7QIhL3g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pS16lwEb9IyxIGG2COKLXOD1mYU4vUywEaXR
tmxwQKkm7vpN+cBoddatfZecSCTayvao9YMXsfSkAZ4W4TflP2c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