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</p:sldIdLst>
  <p:sldSz cx="6858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A49C-9F4A-4D0E-8968-5F35673A9C15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05E8-E469-4050-8308-18D3B3F7A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CB90-CF7B-4A69-BF6A-C195C6E964F7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787B-7790-4BF4-A6EC-BCDF5EE1D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8F80-1A10-47B3-9051-22D8B4A8B88B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E65B-7E2D-4C05-BF92-3B9AA93D5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C255BD-1422-46D0-BCBE-D6A8B98D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489509-5932-47FD-9CE3-F998CAC4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427043-2E18-4DC0-AE22-34F08DC5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3A7554-3A6D-4AEA-90B3-FB4CBCED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ED1FF3-183D-41F3-9FAF-9EFEF033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0A4BDE-15BB-4AEE-98AE-F7CBF5C4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A9DEE3-E3AF-469D-AE8B-9F74A32D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E4932F-AE99-45EF-855A-72109752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314D37-F5B1-4972-B851-5A9362CC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1D9DC-38E9-42C6-9528-288F9777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227EE-D521-4EBF-904D-3A112525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CBF36-C564-4855-B0C3-72F00E2A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FFA9B-1052-4AAA-AD0B-AA471E76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E8C9D-024B-4124-BBEB-548FCB9F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112B6-A20D-4F80-8554-6A18C77D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BB05D4-2B63-4095-ACD7-A368F25D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CC46F-1689-472D-944F-1A282B5A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F4F05-B0F8-4F05-B14B-EB0BB5FA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C361B-A4FA-4E07-89F3-745CD9F9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DA3316-C0E9-49AB-A0A7-F5EBC992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82492-98F4-4EC9-979B-F46F03B2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06F69F-6A9A-49E2-B7CA-CE977E66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8697BD-95F0-44E9-836D-DECB6229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F29DF-AE95-4E87-9A9A-6C6519AC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6BB46-AFB7-45B9-BE48-3A437486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100E3-62DF-4320-8C0E-DC60EB51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81D6DC-A6EF-4749-A3E7-099A3A67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1D18F-68DF-4FDF-9CC9-C1BF79A1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80D658-3428-4C42-9980-E53A8AB3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39676-B847-4CBD-BF83-48BF16CA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27720-8007-4EE2-A468-50B712C0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182B93-672C-44AE-A5DD-9CF9047B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D81C25-21DB-47A9-95F2-3E00A90F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29BF8-56CA-4A01-9234-F7A4F35C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962298-F771-416B-81D3-A8245942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0C455F-1A03-4AC1-9CB6-75F477C6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1F1BBF-638F-40AA-8902-73BF0222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5C00F1-406D-4A24-8577-D828ABAD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CFA956-A3B4-47E8-8B06-9A90A362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DFF281-7E8B-4873-94AA-477DDD5C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696F44-BB92-4A2E-95F4-4CDD1782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04A2D-9FA7-471E-8D12-1B95657E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EA3658-9935-410A-A84D-5CF36013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A18CCF-5511-4088-AFB2-CB3DF80E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008908-0AD9-464F-9C15-65C3DDE1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BF93BD-96BF-4954-BCF7-6D3D7AA3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6319D2-4A20-4CA3-9111-01B78F3F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58D9C8-CF71-4CC1-9518-63F811A2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5C14EC-1B3E-471D-8362-41D1A107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021A77-36C7-4EC3-8990-00AC9223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139CDA-44CC-448C-B0C1-FA913EC9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C1E7E2-F70C-43A2-BC24-8B264BBF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ACA79-041D-4952-9A07-09C84787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A0BB6-E193-437C-B5BA-40909BAD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A7F0B-5E2A-455F-B879-31F3FDB4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41D1B-EA21-4DAE-9B35-7A31203D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F5DAEC-F046-48B8-B427-32C3CC89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19173-6056-4526-8BC0-50E56680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5F92E-2602-4859-88E6-516BAAA8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1658AA-8960-492B-A2D8-F9DC0B44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5ADC2D-51B8-4296-9FAD-7339851D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5B2FD9-E5DF-41D5-A4A4-EBB59C23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4391DA-4F70-44EF-9F4C-21BD07E8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CFDCB-710B-42EA-9B43-CC773050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5E35D6-6B35-4524-8403-5E5AB3C0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5F99609-EC76-46CC-AB6E-2955433A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56D04D-94BD-47D3-868C-2660347F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C0DAD0-5AD5-47CF-A5A6-8F49DB66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99C2D6-EC3E-41EC-B59E-4CA642B0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C55F5E-DE51-4BA3-B70C-8B13799E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FA7AF9-7469-4F79-AA7B-88462D7A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38087C-BC16-475D-B9A5-7B036FB5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51D473-5AE2-4C42-A180-35D1866F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856A4-96CD-4D8C-B9C5-837E9449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1CF92-0C3A-4BB7-AEC5-51C3CEA7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F3467-028D-4F12-9CAB-F6342103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F36B1-5337-4424-9EA7-A0BF0AAF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3F80E-B1F9-4E22-B386-939F0A17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005A8-AF8A-47CF-949B-FF2A970C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771B2-E2A6-4A3E-B0A9-A97EB9ED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C7851-7B52-4F3F-9C78-2313596D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8E1EB9-ADE4-4783-8CA0-CC66BBDD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D4F681-A0CF-48D2-AF1F-8BD7DEEE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2FBDB1-0A93-473D-B5F7-A5B1A721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091E60-9544-4885-90FE-8F0FA851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3DDE69-8A82-4427-BB75-0D740E22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7D06CC-776D-415A-BF76-4C93B174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0CF5C7-A672-4480-BA38-4DC6EEAF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E17762-2AA7-455D-B183-B7BCA8E6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332BFD-5447-472F-B3A4-76543150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3E705A-B911-46E3-A3FF-8C15BB67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21B4D6-B08F-4106-8237-646DA052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3329AB-AC22-42D7-B2AE-CB14FE83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BA6996-C5AC-41CB-8E0F-4A1993C5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129FD2-2C6F-47EB-AEAB-F94DFA53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595735-53E6-4E09-8C2D-401D0710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BB0980-9B46-4EED-A89D-3798EA3B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7CBFD6-0C0E-4725-85AD-BC242953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98A158-EA13-406B-B29D-8064F99C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E9E18C-12F3-421E-8C13-6F4ECBA6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983796-48F5-4C78-A208-678BBA71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440BD2-EA94-42A1-A65B-190E240A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77D8C5-7358-4DBD-93FA-A578A6E4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4CE966-A62F-4500-AE4E-4AEFCF31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BB4140-DC23-4BD0-86E8-5831860A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2C525B-163B-40A4-B663-B1463AE9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3514F8-23BE-420C-90D7-117C80C9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2E9DA6-776D-4CE8-B259-4EA8E935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EC3DFC-0DAF-4BFE-8BA4-F1FCC674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663F6E-9199-4959-BCE8-AF26AAB5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13B9EF-3DF3-43FB-A724-F8883D30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E8BF3F-772F-4499-8208-D4BD6659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FA8CBC-EF86-47D4-8C55-CFA46568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E98EF3-CD82-4C69-9D7E-DC7830F7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EEEF6E-1AD0-46FF-ACC4-9FA3DC04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4890B3-7F6B-4D94-90BD-3B9DB3DB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0A0F8B-FB8E-4FA3-9F96-D79FC92E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906482-195A-48E9-9509-588CA1A9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E9C7D2-4416-495F-9FF8-3D35FBCE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9EE25A-97AC-45C2-9731-527BD6DD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C450FD-6BC7-4E20-9E9B-825B5401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5C8807-02A4-44BA-87CA-0124501C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99F89B-E2F8-4CE1-98C8-0C5495DA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948503-1D5D-40F6-8DB8-C0C5C7E0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C59E81-977B-4F4F-A363-61D2CBEB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C09027-FE42-438B-A118-8801BF18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7AA4E3-10E2-492D-BAB8-A2C7DEA5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9D391D-D8F4-4D3F-AC26-983DE44A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46CC52-D0B9-4B11-91FA-ADEC92AC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D5D3BF-8D2D-4345-B7DE-81D0680D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62CD0C-E14F-404D-A473-DF64658E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15AE1B-A618-4053-84E4-65153E9A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679D51-55F6-49CA-8F55-5387271E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97CDDB-945C-4FB1-A1B2-B03CBB4B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812E40-ECBF-4377-B3CF-FF40919D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A226C8-4829-4CEC-874C-4022E163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44DED6-A61B-42C6-B336-885C988F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EB4EF1-2E67-423C-9664-87C191B9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975068-DD1B-4680-A73C-4BEE0864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8627A8-0CB6-41B6-A435-7C4C83B9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00D930-4434-4D57-8F71-7A599810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CD4DD4-6A89-4BBA-9292-FEBEEEA8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2A3AF3-CE5B-4EC8-9172-F394B5E8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1B5DC5-9704-4CC3-B196-B98245CD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7"/>
          <p:cNvPicPr/>
          <p:nvPr/>
        </p:nvPicPr>
        <p:blipFill>
          <a:blip r:embed="rId2"/>
          <a:stretch/>
        </p:blipFill>
        <p:spPr>
          <a:xfrm>
            <a:off x="0" y="4665600"/>
            <a:ext cx="685656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532080" y="4826160"/>
            <a:ext cx="111348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</a:t>
            </a:r>
            <a:r>
              <a:rPr b="0" lang="en-US" sz="700" spc="-1" strike="noStrike">
                <a:solidFill>
                  <a:srgbClr val="990000"/>
                </a:solidFill>
                <a:latin typeface="FrutigerNext LT Bold"/>
                <a:ea typeface="MS PGothic"/>
              </a:rPr>
              <a:t>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446720" y="4800240"/>
            <a:ext cx="793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EE0B0ACF-A16B-439B-8FCA-675D816BFDE4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8"/>
          <p:cNvPicPr/>
          <p:nvPr/>
        </p:nvPicPr>
        <p:blipFill>
          <a:blip r:embed="rId3"/>
          <a:stretch/>
        </p:blipFill>
        <p:spPr>
          <a:xfrm>
            <a:off x="5630760" y="4807080"/>
            <a:ext cx="982800" cy="2332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2087640" y="4805280"/>
            <a:ext cx="2082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楷体_GB2312"/>
              </a:rPr>
              <a:t>内部资料 注意保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3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656AA186-2EB1-4D23-9CCE-5A7CDBB676BF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4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5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9944-28A5-4EBB-830B-DB4C2498BF0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6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603D71B3-5724-42EE-BCB8-52A874ABEE02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7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8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9AAA-3F14-4861-AEA6-3D0137F2F2A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B8F9FBA2-C621-4158-8662-56DF807CE42A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D997-3182-49F6-935D-E7C614C516E2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9645CFF-AAA8-4364-8FCE-973C5C136C74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72E2-459D-4B8E-B966-761CBE6BDA92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A190BCA0-B30D-4A8B-8F36-9AD6BC9B0DDC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9139-8301-4FDA-A885-421233F623E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ABA1BD3-E0DC-4BF6-A02F-4A155F300C22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BF25-1AFF-4740-A0BC-B4F82816BD68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ogo"/>
          <p:cNvPicPr/>
          <p:nvPr/>
        </p:nvPicPr>
        <p:blipFill>
          <a:blip r:embed="rId2"/>
          <a:stretch/>
        </p:blipFill>
        <p:spPr>
          <a:xfrm>
            <a:off x="5630760" y="41846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2"/>
          <p:cNvPicPr/>
          <p:nvPr/>
        </p:nvPicPr>
        <p:blipFill>
          <a:blip r:embed="rId3"/>
          <a:stretch/>
        </p:blipFill>
        <p:spPr>
          <a:xfrm>
            <a:off x="1440" y="588960"/>
            <a:ext cx="685656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23080" y="246240"/>
            <a:ext cx="8028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06.April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05800" y="4654440"/>
            <a:ext cx="164700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433840" y="2989440"/>
            <a:ext cx="1128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huawei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796AE4C-E631-47CD-91BA-C4F8F3F0E7B4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15DB-52A2-4EB7-9ECF-44A8A221E26E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8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6794E72A-D4AE-4C97-A7E1-F9369BD552BE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0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8CF9-A209-491A-B36D-982BF612B4B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DFE8DA6E-46F6-4964-BF17-EF0F11B21D12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2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3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F902-EEC7-4496-B8E5-B85C509F501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626ABE5E-A6B7-4CAA-84D5-5F331B3FA7CF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3E71-C482-416A-96D3-D1B623296A4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7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935F286-C131-4147-8399-AB234C72A60F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9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3AE4-9D2A-42B7-86A5-6CC9CEC3F39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0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4F8452ED-609A-4E1D-A793-95C4A566880E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1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2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F1C4-C784-42EC-958C-41571A9A61CE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404640" y="843120"/>
            <a:ext cx="5977080" cy="18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IERv6 via IS-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draft-xie-bier-ipv6-isis-extension-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楷体_GB2312"/>
              </a:rPr>
              <a:t>Presenter: Jingrong X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楷体_GB2312"/>
              </a:rPr>
              <a:t>IETF105   2019-07-24  Montre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10760" y="410760"/>
            <a:ext cx="5915160" cy="4158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Function Specific IPv6 Addr: End.BIER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259920" y="987120"/>
            <a:ext cx="6372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figure exam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# Config a BIER specific IPv6 address with 128-bit mask on loopback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face loopback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pv6 address 2019::AB37 128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nd.BI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# Config the BIER-specific IPv6 address on loopback0 as BFR Prefix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er sub-domain 6 ipv6-underl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fr-prefix interface loopback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0760" y="410760"/>
            <a:ext cx="5915160" cy="4158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IS-IS TLV 236/237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矩形 2"/>
          <p:cNvSpPr/>
          <p:nvPr/>
        </p:nvSpPr>
        <p:spPr>
          <a:xfrm>
            <a:off x="909720" y="987480"/>
            <a:ext cx="3166920" cy="3538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LV 236/237 (IPv6 Prefi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5"/>
          <p:cNvSpPr/>
          <p:nvPr/>
        </p:nvSpPr>
        <p:spPr>
          <a:xfrm>
            <a:off x="1628640" y="1708200"/>
            <a:ext cx="3168720" cy="360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IER Sub-TLV (type 3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6"/>
          <p:cNvSpPr/>
          <p:nvPr/>
        </p:nvSpPr>
        <p:spPr>
          <a:xfrm>
            <a:off x="2144880" y="2179800"/>
            <a:ext cx="3300120" cy="360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ncaps sub-sub-TLV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(type TBD)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: BSL 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7"/>
          <p:cNvSpPr/>
          <p:nvPr/>
        </p:nvSpPr>
        <p:spPr>
          <a:xfrm>
            <a:off x="2144880" y="2639880"/>
            <a:ext cx="3300120" cy="3589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ncaps sub-sub-TLV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(type TBD)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: BSL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8"/>
          <p:cNvSpPr/>
          <p:nvPr/>
        </p:nvSpPr>
        <p:spPr>
          <a:xfrm>
            <a:off x="1628640" y="3219480"/>
            <a:ext cx="3168720" cy="6174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unction Sub-TLV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(type TB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he only one Function End.BI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0"/>
          <p:cNvSpPr/>
          <p:nvPr/>
        </p:nvSpPr>
        <p:spPr>
          <a:xfrm>
            <a:off x="1628640" y="3992400"/>
            <a:ext cx="3168720" cy="360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Prefix Attrs Flag Sub-TLV (type 4)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直接连接符 4"/>
          <p:cNvSpPr/>
          <p:nvPr/>
        </p:nvSpPr>
        <p:spPr>
          <a:xfrm>
            <a:off x="1125360" y="1374840"/>
            <a:ext cx="0" cy="279720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12"/>
          <p:cNvSpPr/>
          <p:nvPr/>
        </p:nvSpPr>
        <p:spPr>
          <a:xfrm>
            <a:off x="1125360" y="1887480"/>
            <a:ext cx="50328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接连接符 14"/>
          <p:cNvSpPr/>
          <p:nvPr/>
        </p:nvSpPr>
        <p:spPr>
          <a:xfrm>
            <a:off x="1125360" y="3525840"/>
            <a:ext cx="503280" cy="14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直接连接符 16"/>
          <p:cNvSpPr/>
          <p:nvPr/>
        </p:nvSpPr>
        <p:spPr>
          <a:xfrm>
            <a:off x="1125360" y="4172040"/>
            <a:ext cx="50328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18"/>
          <p:cNvSpPr/>
          <p:nvPr/>
        </p:nvSpPr>
        <p:spPr>
          <a:xfrm>
            <a:off x="1844640" y="2068560"/>
            <a:ext cx="0" cy="75096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接连接符 20"/>
          <p:cNvSpPr/>
          <p:nvPr/>
        </p:nvSpPr>
        <p:spPr>
          <a:xfrm>
            <a:off x="1844640" y="2359080"/>
            <a:ext cx="30024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接连接符 25"/>
          <p:cNvSpPr/>
          <p:nvPr/>
        </p:nvSpPr>
        <p:spPr>
          <a:xfrm>
            <a:off x="1844640" y="2819520"/>
            <a:ext cx="30024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3"/>
          <p:cNvSpPr/>
          <p:nvPr/>
        </p:nvSpPr>
        <p:spPr>
          <a:xfrm>
            <a:off x="2414880" y="1954080"/>
            <a:ext cx="166824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1"/>
          <p:cNvSpPr/>
          <p:nvPr/>
        </p:nvSpPr>
        <p:spPr>
          <a:xfrm>
            <a:off x="1052640" y="321948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标题 1"/>
          <p:cNvSpPr/>
          <p:nvPr/>
        </p:nvSpPr>
        <p:spPr>
          <a:xfrm>
            <a:off x="765000" y="915840"/>
            <a:ext cx="4829400" cy="48924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Request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3"/>
          <p:cNvSpPr/>
          <p:nvPr/>
        </p:nvSpPr>
        <p:spPr>
          <a:xfrm>
            <a:off x="615960" y="1708200"/>
            <a:ext cx="554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nts/questions/discu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7:41:12Z</dcterms:created>
  <dc:creator/>
  <dc:description/>
  <dc:language>en-US</dc:language>
  <cp:lastModifiedBy>Xiejingrong</cp:lastModifiedBy>
  <dcterms:modified xsi:type="dcterms:W3CDTF">2019-07-23T13:48:46Z</dcterms:modified>
  <cp:revision>19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3)BDcPmdjJidwXdSAmteMzF75E9zDu75u4fxmKSKK3UTXPYLuifwVqLFFiXzt1DaTlxHQ5OQDj
A1W9UpxLsdrQ3IaTvvb4T1V/c1GW8iYOXTeZhPL8lS7WtuTRTv6wDf5XWl6xDV2tTGBExrvy
wUvMKc3fhm2Dkr5M3ALWjCZOoreuHi4JqtRYDuKKtBp6J+z4W4q7nqAICqm4nzUcAG3sqdkj
NktHnkI5IXoFYCXa0n</vt:lpwstr>
  </property>
  <property fmtid="{D5CDD505-2E9C-101B-9397-08002B2CF9AE}" pid="3" name="_2015_ms_pID_7253431">
    <vt:lpwstr>Nox6dpe82XVIpienwm3X6Tw233xE5CCVPwxmdbwVqHQ9UpaCY3/1wI
l3OA1y6S6SbiyQ8G7z4gw55ZAj3GPn57XDE/8SlJtxuRIaIytc8lo+YjIjFGMAaLhc4JyJuo
lJrtjpKzex6oKHc6NjZa+iFNZe/spNp55PrAzUGr8mOSqqzBmql9CTy9Tkoug7H5wnRPkCxV
FZJwEFEJTCN3u4dWy8kTpNYamUbyh7QIhL3g</vt:lpwstr>
  </property>
  <property fmtid="{D5CDD505-2E9C-101B-9397-08002B2CF9AE}" pid="4" name="_2015_ms_pID_7253431_00">
    <vt:lpwstr>_2015_ms_pID_7253431</vt:lpwstr>
  </property>
  <property fmtid="{D5CDD505-2E9C-101B-9397-08002B2CF9AE}" pid="5" name="_2015_ms_pID_7253432">
    <vt:lpwstr>pS16lwEb9IyxIGG2COKLXOD1mYU4vUywEaXR
tmxwQKkm7vpN+cBoddatfZecSCTayvao9YMXsfSkAZ4W4TflP2c=</vt:lpwstr>
  </property>
  <property fmtid="{D5CDD505-2E9C-101B-9397-08002B2CF9AE}" pid="6" name="_2015_ms_pID_7253432_00">
    <vt:lpwstr>_2015_ms_pID_7253432</vt:lpwstr>
  </property>
  <property fmtid="{D5CDD505-2E9C-101B-9397-08002B2CF9AE}" pid="7" name="_2015_ms_pID_725343_00">
    <vt:lpwstr>_2015_ms_pID_725343</vt:lpwstr>
  </property>
  <property fmtid="{D5CDD505-2E9C-101B-9397-08002B2CF9AE}" pid="8" name="_change">
    <vt:lpwstr/>
  </property>
  <property fmtid="{D5CDD505-2E9C-101B-9397-08002B2CF9AE}" pid="9" name="_full-control">
    <vt:lpwstr/>
  </property>
  <property fmtid="{D5CDD505-2E9C-101B-9397-08002B2CF9AE}" pid="10" name="_ms_pID_725343">
    <vt:lpwstr>(2)nEjfLa5zkFjJ24cFH1rD/CO99/SkKnuZt+jVj3euFWHS8MDkQjkBUSuq5IKksPFWrQEBjRsK
X+9l3cxTXRvzitClRlh3DpX2uIOS2R1ylp5QzOrr9VjtVeoV/WboZE7JM5mA6wA6hPIyRfnA
B86tkkz7o8RCTCbH3lBENhFaLa430zPmj47FtwLuMS+E1k3ruXoA6lIpFD5pxcmNqojImzW4
GwtdW1BZqH632JDAWU</vt:lpwstr>
  </property>
  <property fmtid="{D5CDD505-2E9C-101B-9397-08002B2CF9AE}" pid="11" name="_ms_pID_7253431">
    <vt:lpwstr>nhH+p/c2eKA5nuNEEnrUckmJKi9mx6LklbuGnSvOwQe8mcbzaUyX8z
ivZ/xK2LwqmMFV3oMI0hQ5nIm0nwBPrb6dNV0x0ONe1veEp3g/9l3w==</vt:lpwstr>
  </property>
  <property fmtid="{D5CDD505-2E9C-101B-9397-08002B2CF9AE}" pid="12" name="_new_ms_pID_72543">
    <vt:lpwstr>(4)8pb00NXgvfolPpdOp/im+iyocGkxj/FUozmtz+z3gf+89nHNxJewsJZtSXf5VaB6o0OySm5d
8gJwl174hgqzvOKZ9ktSU80sEzQWz+ediLA3FTdnitiu6PmyptT7CdkmWgnWetjIsC0wZ8k1
W/xfL6d9Zz02BuWRLVbj60gAnn7FXSD47ByU1iFS2iBgNVPDWqptFOpG7EGg/52sr796NAe6
Y88lxiNYEsD1weV4F7</vt:lpwstr>
  </property>
  <property fmtid="{D5CDD505-2E9C-101B-9397-08002B2CF9AE}" pid="13" name="_new_ms_pID_725431">
    <vt:lpwstr>q6f4vIblOYL9YUlQw4CP+hRGkRVRz/K88xTcCqM2TwfOF7lkn3vAEC
3+jPeoxHE/A6OcWwtKbWIgLEAFTHSMCU7vs1fQ+5oJypm6dqE9pPFXxOyWxAT7U1Xsz0Gq7t
wPyuDZFIE0AtufL4sKGECU+Mguj4AvfcNMKe5Vi7WziBZWrOTV99ZFu4PkQO37as5Yqy9LvI
lAl7byCF9QET+JXyHTe8uCFR/XYVz+qCOiu+</vt:lpwstr>
  </property>
  <property fmtid="{D5CDD505-2E9C-101B-9397-08002B2CF9AE}" pid="14" name="_new_ms_pID_725431_00">
    <vt:lpwstr>_new_ms_pID_725431</vt:lpwstr>
  </property>
  <property fmtid="{D5CDD505-2E9C-101B-9397-08002B2CF9AE}" pid="15" name="_new_ms_pID_725432">
    <vt:lpwstr>z7SAloLzPkKVNgiMlG+aDfsWNnntB5eaoVEQ
3nMuZfFFwpho/aTa1IU/IkK9+arTH6FV42W2B54W7pcEwahC9jb9alrmJ/1/iMjMlhdSPZTA
eoTX1lmZ4IH1To1PhIk7P8s6DyYeV9YmksxKB0KMM4wNXUK5c1R1jgCJPrnuoaTc/erG6n77
UOCBtkcmIPYMZ6SHWKblasdnWmcydo8N42cifZ4XLeD8W/b3/qIlSr</vt:lpwstr>
  </property>
  <property fmtid="{D5CDD505-2E9C-101B-9397-08002B2CF9AE}" pid="16" name="_new_ms_pID_725432_00">
    <vt:lpwstr>_new_ms_pID_725432</vt:lpwstr>
  </property>
  <property fmtid="{D5CDD505-2E9C-101B-9397-08002B2CF9AE}" pid="17" name="_new_ms_pID_725433">
    <vt:lpwstr>loxyd/lA5K1PndCMAt
wIYmBxctIdXWQ4qfL8GKFDszyBvh+zINy4Sn9UBWwfN+apNH</vt:lpwstr>
  </property>
  <property fmtid="{D5CDD505-2E9C-101B-9397-08002B2CF9AE}" pid="18" name="_new_ms_pID_725433_00">
    <vt:lpwstr>_new_ms_pID_725433</vt:lpwstr>
  </property>
  <property fmtid="{D5CDD505-2E9C-101B-9397-08002B2CF9AE}" pid="19" name="_new_ms_pID_72543_00">
    <vt:lpwstr>_new_ms_pID_72543</vt:lpwstr>
  </property>
  <property fmtid="{D5CDD505-2E9C-101B-9397-08002B2CF9AE}" pid="20" name="_readonly">
    <vt:lpwstr/>
  </property>
  <property fmtid="{D5CDD505-2E9C-101B-9397-08002B2CF9AE}" pid="21" name="sflag">
    <vt:lpwstr>1551350675</vt:lpwstr>
  </property>
</Properties>
</file>