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125F-F33A-4CE2-B199-3714E3DEF5C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8EBE-29ED-4B00-9138-409644D1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16FF-3CC1-4743-A95E-CDBC3574739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DDE-8C7A-4D8B-A129-DF5BDC70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C65-3356-4793-ADD1-B6ADB6ACDC8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7CB-1DC7-4964-A913-8DED2B24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DE3F20-E3A4-4C35-8545-8253D06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BDDE9A-051D-4695-A946-65C41FE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146536-86E0-4EDE-8188-B48F988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624AD9-C335-424D-A6D7-1FC489C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8CE95-871C-4817-B1F1-6CFA4F7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ADAC9-CB8A-4D37-8337-E2FF03F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6089D-A90C-41B1-B2E9-D9C251A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A5CDD-0C48-484E-8110-76B0F255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C63B5-8303-420A-80D6-04C802C5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AFF52-12C9-4EAE-A558-EABDE636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ECE6F-6AF1-4D6B-9421-FF816B8F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0381D-8021-48AC-B13C-A92596BE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5B6F8-86EB-4526-8B96-52E8913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4A002-F3E9-4600-A518-85D37BB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830EA-39DF-426F-838F-B76A6D5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89EB5-3917-44C1-84DC-9366346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30EE2-073F-4A41-BCD3-C8E9176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2A477-75DC-4B61-B560-EE4EF44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98A65-8207-4B4A-B485-F0DA71A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4E628-BEFD-4969-B022-70DDDD7E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569F7-439B-4208-BC01-A1EEAFA4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0D6AF-87CC-4C4F-91DF-0CEBF93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AE068-5039-4555-9F3D-C1E9D432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9D4A7-56C9-4469-9102-66F77CF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00C59-FA43-469A-9D6B-41E042E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4E7C4-2890-467B-9824-EE88F67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0F637-39F1-485A-A8E5-937AD18D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8CA79-A8B8-4ED7-8406-E30C5A5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FEA81-606C-489E-BC7C-6D01BDC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0C434-0C27-49C3-B283-FF70FEE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1C566-7843-4773-AE1A-DBEDDA35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71485-3DFB-4518-B71A-6943D5A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EB8AE-8124-4318-9735-47105AAA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10460-07AD-4767-B15C-E122E460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4BB633-33E8-4887-AD32-95D9C29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1038F-724F-486C-B527-C51A37C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39DD33-0935-4661-88B1-E5F2C066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F1585-F13B-41FD-BAB0-ED085107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7F255-83C0-4944-B8A9-1610C1E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6C1330-0B4D-40AA-BB7A-45FFA11C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AA1EA2-2B59-41B0-BCA9-22337CBC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EBDF-BDE2-45A3-B84C-62CFAB6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042862-3A6A-40D4-A933-85D24611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D2181B-B0DE-4D98-9BC8-8FE7120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B71FC8-91F9-4205-AEF6-E8D12F65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608535-0260-4B53-9B7C-2B4B6D23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132AA2-5081-4BA8-B779-85958787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73991-68F2-4E1C-B372-03274A90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77E1D-1CAC-4A8E-B011-99E7E99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DDC64-2728-45DB-AB50-8F18D53B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6709F-78D3-4F00-83CA-DBF6C3A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75285-9204-42F1-B145-534A0828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7137-65FB-4214-B45C-C9B4E5B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E1558-E4D2-4296-B950-564FC36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82339-30BF-4D0F-8586-3114F53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EB189-0951-433B-9256-0788A64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D802D-5826-445B-8E8F-D37570A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DE10A-0A31-4192-87C6-A96163F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853BC-9EE4-4BE6-8D1B-00153AEA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D539E-46F6-4CB1-9A98-9F5EBD6B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C0C4B2-6B42-403B-927E-A5318DF5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E723B4-9D96-4F28-B191-E6CB686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22AC23-D3C9-4A8B-AA35-49137E74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32D06-F588-44BD-9CD1-67E23525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660C7D-9928-4D3B-A9F4-0552C86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FFC82F-35DA-4D40-84B9-9184A62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955475-24EC-481D-87FF-48F7F74F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E26E3B-28FC-4C2E-BD60-02623B5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EA9760-AD3D-43FD-B1B7-8BCC104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FF6BFE-B0C5-44AE-9E78-6AD8D6E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AB0E1C-FEC9-4991-BF8B-1DBA705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5A5A37-55E0-4EF6-94F9-42D67BA9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4A85C3-C8D7-4BE6-8D46-667F2C7D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63DAE-84D7-44A8-A078-AF88DE26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1F61-24D6-43A8-8A3D-1286F5E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8C85D-0E9D-404B-BD9D-CEB6E44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B2190-7466-469E-B7C9-49F7BA3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4EAE1-941B-41B8-B798-00AD6BA6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4A00-C62A-48EA-9DAF-286DC074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8BE8-BE78-488E-B538-1EE8B3CF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C6644-5BC3-45D3-824A-71C1DDDD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A8890-61D0-452A-A4D5-2F2576EC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19FCC-0190-4D2D-9FAB-40AB4BF8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EDAC4-F9DC-4DC0-A850-7E3DEF3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679D7-AD4F-4971-B3F3-E498C0FF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0860F-4319-4FA0-8F62-326D7F41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82166-4AE0-4F77-9F4D-F3F2CB5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23CC1-ADA4-4E1E-A723-7BFF34C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11C1B-1823-494D-BE86-2580BA6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94B55-3FE2-4E5D-94C5-9844DB5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FC816-103E-4FFE-BB35-265EB7A4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ADCD8-5EA3-4127-9F8D-9B52B5F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28B19-A032-4F75-9B41-C3B50CAB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42424-3560-42FE-A870-02640BCC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8E5FD-40B2-4620-BFCC-C98EE90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68C10-C44D-4F07-A477-9B043B42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6E224-3990-4343-834D-0D596B2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7FE33-565B-4093-83A7-638FE622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DFA6C-BC95-4A70-A97A-043E0914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588C8-8367-4B36-BE0F-B966C18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34F25-8C91-4C0E-A6CA-4224502C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75338-9637-4309-8064-F3B285A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979DC-A9EF-4DD1-A939-1EBDBCA6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81172-E048-4C5B-957C-D4F8A1F2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8BCC8-F1A7-44EA-802E-5FC29BA1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45693-4C4B-42CC-9A78-E28D3E26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735A1-EB9C-497C-9C34-9CC74879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D2D2F-C427-4AB4-9A64-BBA2020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2C4917-665C-4822-84C4-055E834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DF77C-9411-43AB-8DB1-28BA3F62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F7652-2522-4843-A6FC-5D20437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811D9C-0D48-4CBD-9C34-B6132C1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4E824-0B2C-46C8-BEF6-1B29C35C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D2709-1D33-4831-BFC4-7CF8F6A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6CF6B8-B53B-414B-AD88-A2CFD9BA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753E5-3762-4E4F-84CA-60954601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65C63-5240-4E51-8268-496A2DE7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CDDCD-E727-42AA-A98C-134CC72C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D3204-7BF4-4653-98A1-07B094F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AEEA6-76ED-4E23-B76E-AF522D9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C7FE9-98E3-4BB1-B795-120D11A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21F46-B3A2-4F38-B221-2180386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63C83-CD8C-4153-BE82-CCF2D545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88285-36F0-4730-9AAD-D2D30DD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02DAB-2A35-4BB3-818C-D653BA8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937FB-2046-4BF8-BEA5-D074BDE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B9DEAD-78FB-4481-AD0F-CF26B1B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341F1-6DE1-4220-B2BD-7A2BAC7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377CA-F647-4F16-95BA-35CA1382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F7079-9602-46DA-850A-FF9053F8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098835-0C56-40AD-BBC0-2239A31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06AB7-5ADA-495B-B39F-9B78762C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A5F5F-1D7E-423A-81F2-CDA8AE6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A39441-0EFC-4484-86F2-A95F6C3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7DA08E-0F21-46DF-A1DB-36EA36D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330DE-0160-437C-9BD2-3827127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9F62A-074B-452B-8045-E808CF7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25834-70FF-4DD3-95E2-F31938B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77088-5D7F-4997-B580-237673AF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57FBE-5333-44B1-A002-D6620A02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13D545-0D41-4207-91C2-D29167F5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5BDB5E-51B1-4078-B0DA-590266C8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1ACF5-2FE5-40F0-A7CA-5080CAFD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A527A-BCBE-4A59-BAEA-37FA982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D2BFAA9E-288C-48E2-A37F-B7CFA01958C6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868F393-DA9D-4C3A-8ED7-F676D9D9F02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5C2-2C24-4545-B6AD-DF56F47CAC1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2D9A9DA-347A-4140-AE04-56804D40B89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25A-CAC0-4CE3-80FA-6B054D2C3BA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287F350-DE06-4EB3-9565-046154E770A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90E-0E2F-4A0C-98AC-EE4511833C8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D8E0E01-601D-434D-99AC-DE3E65B3641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DF9-6034-40C7-AB18-1B1C2CB8682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D852D16-3FE1-4F37-8FCC-50F17C78E43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5EBE-7DC8-414D-BF3D-03F2D4995E4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23BE967-428C-4C75-83B2-FF6ABC26B31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A71-796D-40D5-A2DA-79DCDF65798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3C76AD5-FAEB-48F4-867E-F3CCA8C7BA0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341C-4787-482F-A22B-54188ADC7ED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D29D074-DAFF-4333-907B-A9D96B7DC92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83CD-5D25-48D2-9D34-419BE450D3A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BC2EE10-9740-4CDD-BB21-EE7695DD76D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3AE-470F-4DAA-82C2-30E99C4D4EC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8A68AA5-1203-424F-A26C-F3388291C3B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D0D8-3359-4C72-83CA-45DF201CB79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5B379B65-DA74-455B-8C89-E2CE727554F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C36C-68BA-465C-A400-FD190BDD4C5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5021B2C-7BC9-48DB-8640-C3249558D85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5BF-87CF-4570-918D-4E388CBFCBC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VPN using BIER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mvpn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Src.DT4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0520" y="1347480"/>
            <a:ext cx="63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IPv6 address used as SA of BIERv6 packet, to identify an MVPN instance instead of the upstream-assigned VpnLab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IPv6 address used as DA of ICMPv6 packet, to support ICMP error reported to this addr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MVPN using BIERv6 Procedure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矩形 1"/>
          <p:cNvSpPr/>
          <p:nvPr/>
        </p:nvSpPr>
        <p:spPr>
          <a:xfrm>
            <a:off x="692280" y="1058760"/>
            <a:ext cx="158436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gres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4653000" y="1058760"/>
            <a:ext cx="1584360" cy="3826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gres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13"/>
          <p:cNvSpPr/>
          <p:nvPr/>
        </p:nvSpPr>
        <p:spPr>
          <a:xfrm>
            <a:off x="1484280" y="1419120"/>
            <a:ext cx="0" cy="2808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19"/>
          <p:cNvSpPr/>
          <p:nvPr/>
        </p:nvSpPr>
        <p:spPr>
          <a:xfrm>
            <a:off x="5445000" y="1441440"/>
            <a:ext cx="0" cy="27860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直接箭头连接符 22"/>
          <p:cNvCxnSpPr/>
          <p:nvPr/>
        </p:nvCxnSpPr>
        <p:spPr>
          <a:xfrm>
            <a:off x="1484280" y="2355480"/>
            <a:ext cx="396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32" name="文本框 23"/>
          <p:cNvSpPr/>
          <p:nvPr/>
        </p:nvSpPr>
        <p:spPr>
          <a:xfrm>
            <a:off x="1700280" y="1492200"/>
            <a:ext cx="34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PMSI A-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LRI: (RD,S,G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ig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SI: (Sd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fr-pf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fr-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ixSID: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rc.DT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直接箭头连接符 26"/>
          <p:cNvCxnSpPr/>
          <p:nvPr/>
        </p:nvCxnSpPr>
        <p:spPr>
          <a:xfrm flipH="1">
            <a:off x="1484280" y="4084200"/>
            <a:ext cx="396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34" name="文本框 29"/>
          <p:cNvSpPr/>
          <p:nvPr/>
        </p:nvSpPr>
        <p:spPr>
          <a:xfrm>
            <a:off x="1639800" y="3436920"/>
            <a:ext cx="34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A-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LRI: (RD,S,G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igIP, Leaf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SI: (Sd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fr-pf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fr-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3"/>
          <p:cNvSpPr/>
          <p:nvPr/>
        </p:nvSpPr>
        <p:spPr>
          <a:xfrm>
            <a:off x="411120" y="2463840"/>
            <a:ext cx="2873520" cy="5047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castOverlay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Vrf,S,G,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rc.DT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, Sd,BSL,SI, BitSt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34"/>
          <p:cNvSpPr/>
          <p:nvPr/>
        </p:nvSpPr>
        <p:spPr>
          <a:xfrm>
            <a:off x="4732200" y="2459160"/>
            <a:ext cx="1505160" cy="506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castOverlay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rc.DT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, Vr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Src.DT4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75920" y="1203120"/>
            <a:ext cx="5761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this address used as IPv6 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IF NH = ICMPv6   ;;Ref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  Send to CP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EL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   Drop the packe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"/>
          <p:cNvSpPr/>
          <p:nvPr/>
        </p:nvSpPr>
        <p:spPr>
          <a:xfrm>
            <a:off x="1197000" y="27874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标题 1"/>
          <p:cNvSpPr/>
          <p:nvPr/>
        </p:nvSpPr>
        <p:spPr>
          <a:xfrm>
            <a:off x="765000" y="987480"/>
            <a:ext cx="4829400" cy="4888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3"/>
          <p:cNvSpPr/>
          <p:nvPr/>
        </p:nvSpPr>
        <p:spPr>
          <a:xfrm>
            <a:off x="615960" y="177948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3:47:31Z</dcterms:modified>
  <cp:revision>19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