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BB93-CE2A-4009-96DB-354B3DE4C7F3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F8CA-4D35-4ACA-AEA4-EF1CF1A7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63C9B-76F8-48D3-B3D0-E79D44815300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6E2F-21C8-4062-BE5B-F74D8CEDC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D5EAE-D971-41FC-88BF-D0216778832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8BFD-5D36-4220-8F3B-FD671E9F3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5D30EF-124F-4726-B51A-145348E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2FE435-3852-4817-B885-D6ACE717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96EC979-F9C0-4636-AE40-F5597DC6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405919-B173-4B5C-8592-4DF25B0A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DF6D8B-C72A-404C-9655-979C6C4E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1270EB-B2A4-4F6B-9133-FDCA97A6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DCDA280-CAB0-4C4C-9E18-089915D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438AE9-99CA-4D8B-B149-35718EDCD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C71359-054F-4A02-A4A1-D60033D1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701899-768F-4927-B1DB-FDFFA91DF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C186DF-A717-416B-8B5C-ECB37A08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94B977-0795-4D3F-AF49-41CB95F22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880CE-6565-4027-B9EE-C372A01F1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FF9621-05A9-4F55-9016-E72578A3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83192-0B67-4B8C-BB3C-774EB7B90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255475-7D35-44EF-B130-079E3521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4F7E54-F908-4DD0-9C28-10E59EDD6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890B17-6C15-49BA-AD72-F34C97EB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41ECFA-2322-4C91-921D-A2C6B88C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6DFD17-F7F4-4719-8CD9-1D8F674D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092509-9573-40BF-BC3A-366705EFC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33BF18-EF92-42F3-83BC-4CF378B6A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B525F44-C8C5-411C-B307-489E6E885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30C246-8775-475B-A470-FCF6965FB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C6E231-702B-496F-A739-B69C876E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CCF767-55CD-4EA2-A331-DA5E342ED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A1B69C2-A3F4-47AA-8975-9A5EFF1D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D40AA9F-EB29-437D-B636-35304F37B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D465A-9BB1-46F2-BCA2-A8DB0410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B22248-8F21-43B7-8545-C3E280C1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4EF501-3802-4113-A0DD-3828BD2D2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F0D9B3C-726B-4E6D-BA74-395B5C8F8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4446BD-8439-41D6-8EB8-0572DDF57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9E42D1-621D-445F-912C-6941F3C8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7D3CA86-2D7B-4E07-95E1-33FF8264C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067DD2-07D2-4A53-B452-F22CDE52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8A44550-7FB2-4DF5-BC01-91B2579B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210D30F-7CA6-42B1-9F72-43D5CD82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EA94001-C434-4BDB-BCBF-1D0B3EDEB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2B9A31-B045-4C9A-8DE2-4614ED78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A60A1FE-1115-4723-ADA2-9D25D6B1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17C79-2873-412F-B95A-8FBD7DEB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3AC7C5-4635-444F-A012-A3E32570D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29B7F8E-028D-4AC1-8C94-771D975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0E6DBE0-0904-4E8D-A2EB-8305A68A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8FFE823-2ECA-41B0-B57C-C3DDB23D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91BFCBA-0B96-43F4-BB4F-BC93AEF2F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D575757-A3A9-45A7-AAAB-4A5279AC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E0EBC82-3FBB-48FE-BCB8-9E60057DC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2D3FFE-8EB6-41FE-9692-1D3376813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CDBA83-6300-4CD3-95E7-A26E116A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0542F0-D9AA-49FD-8D4E-07843FD53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C7E6F-2D35-42F8-816F-6E59F48B6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29A548-69C6-401C-9370-316D098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68A6A8-D26E-4844-AE82-10BBA771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60107-9CC1-483E-BAA5-8ABD39A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6AD9D7-27B2-44E7-A89F-66F77530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D52F47-4FBE-4661-A278-5076C8404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F88011-630E-47D9-916E-B5156A6F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B4A2D-52B2-4F17-AEFE-06EB8599F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3C941B0-820B-4454-B1A8-DE5D6A0D9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B0B796-76BF-4BF3-81DE-9DEA5430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AE002C8-103E-4C88-938D-50885B13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13BA06-73EE-48DA-BC05-23125462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5735A4-9EB5-4D16-8B23-53371BFEB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38F309E-9042-40B1-8594-9E8EA5092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2FA7C0-E73C-4188-9AA0-5F7D9735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0FB9C1-E3A0-41ED-8E40-19DB1787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79F54E-E4C7-4113-87C5-152C35D9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2EFD60C-999F-4F43-B68A-29655D939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EAC7CA7-F9BD-4DC8-99F8-5A22A2CDF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E4F0A82-3089-40DF-8D93-43F5C467E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D1F3D52-965D-4058-A45A-6F857059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C0782A-393B-4BCB-A9B9-13E7DFC5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91ED1-8FF7-48EF-97AB-76B895D45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35E10-0662-4AF2-B3C4-A63A6C6B4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75430-9478-429F-8DE5-1A762CFB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C73A2-D501-4ACB-A398-31A4822B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6F8EFF-F429-4075-B057-336FCE3B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A964F4-2A0A-40B3-8EF1-9EDF14FD8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078F8-94C4-45CB-B963-CA8C162F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DEC41C-F9CD-4194-B6B8-FFF0692E4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832B1F-D73C-4109-AB70-1E8ABE71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E61441-9B14-44BD-8DC2-812670421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81D002-7905-4448-ABA0-E7CA0F8F0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D929DB-0251-4D52-8971-54282F11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43B79F-2B5A-4E03-B54A-583AE96B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C9DD8-7AF8-44AF-B05B-DA40237B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2D6FE-B06F-4D14-B93A-860E3476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091F26-5354-48CB-A974-7F6834406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F12D15-92E4-4E40-9032-8FB9AD19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370206-8553-4EA8-81C5-6DD87C0B1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9BB7F7-C134-4BC0-8A03-62AEEEEE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7926E1-491D-4C90-A031-35A71CD1D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DB9424-B432-4C94-8FB2-B9D3782FF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DCBD64-15E8-4068-AECF-44C7BA1B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66198E-B387-49A3-8F09-EBF3196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6DA95-4478-49D6-92FF-8BB6F602E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CBCCD2-C3F4-4B29-AA07-DBB1747BB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309647-6239-48A5-8376-5362D3BD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4EEFE5-A88E-4C8E-8A3A-FC62491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A0EE0-4AF5-4D8B-AC7C-D61FB33B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21FB7C-C476-4943-99E2-5F226A96D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72A7A-8B92-4700-A699-6BE7CA81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2AFF9-46D6-4AF0-9223-82B72E2E7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3DAF3D-E6E3-4796-AC59-40FB612CD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4DA04F-4A93-4E74-8F82-E02C98DDA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92984F-2DDA-4C79-9093-9211E10E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4FE136-C5A5-4379-BEAF-521FC11B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A239C-8123-4D71-ABEC-02BB98B6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3B9D49-815B-4957-8E03-4BBA5E81C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2295B9-A737-401D-A0CA-B991DB7D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59ADF6-AEEF-440C-AA01-7B375C2D0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CB4E21-DD36-4E1D-B348-1074F23A6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743085-044E-4D2C-9099-FCB949BF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27B571-66E6-42B8-A9EC-EBE0E02F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A844BA-CD23-4DE1-9611-EDF3CEAC8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973600-9558-4CCB-91E1-50C1C6388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DF0B31-2F9E-406E-A76D-B754BEBA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BDFBA6-DD69-4FD7-8513-FCD830C12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FEB021-6646-4FAC-88BB-5BF91B633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D595FA6-22D1-42E3-B206-94345FFF7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ADE9FC-6B43-4387-8A9B-799DD3DB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D1131CE-0396-4E92-A024-56A8FF8C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DC5F78-F17C-4A00-8B17-947F4F99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04B1DBA-9554-4951-9E9A-A791564A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652CC3-F0E0-423A-B5E1-3017BEBC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F0FC6D7-28F1-47DB-82C9-75DD77FAA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99E114-CC47-41D2-A742-A815D9DD3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8A6BF62-3524-438A-844D-E3470B765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11BDB0-D1BA-48CD-9044-590555A8A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8DD082-7CB3-4403-A51A-3ABC1C2D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9E315FA-DA57-45BD-BCB6-463A9E37D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F284CB-6A2D-4F5E-8B99-8D014878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CF0A77-BED7-4014-89B5-2274154E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C44A84-E562-435D-919E-4EB81E6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BF9DEEB-ABF7-4373-91AD-2E6E4B5A0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59E8A4-81F0-403F-9B36-3E72F5095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06D1E5-D358-46E6-9152-4CD841F5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DFE6A1-5EB0-48AC-B1CB-58865D918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15C892-6FF3-4F27-A6EA-1A941C78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EE317-411B-4E57-851A-2E4B2884E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9B51AD5-E955-4A99-A025-D0606226E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F174F50-57C2-40D6-9CB5-56AFB66E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39374EF1-ECE4-49F7-BF69-50B8DED9EEEA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852F004-FE1E-48D8-A231-A98CC605BCB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4E1-35A3-40B9-8F5F-93C0316EDE2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16CF339-E0BD-4E4C-AD82-E04F3FBC6F2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5AA3-8D38-4C28-92E1-3B5BB59B59D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0BFD9F8-63AA-403E-9FE2-EAE88330FEC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81946-3F62-405C-BCA2-E6820624A76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914E675-BF26-4446-9FB0-5CAC7758897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BAF3-2D4D-4EBE-9537-3563072730F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7E35089-D672-46CB-B565-F12759A49CA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E0497-5540-48DF-AF10-EC4F1F4257C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9C3BB79-31F8-444B-989E-2E724A0C1B7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1A49-DAB5-428C-A461-8242C3AD842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D585A34-F526-451F-BA14-6BE2A52EAD4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2BD3-AA89-4D92-9671-46D584030EA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2E0AB66-5145-46CC-850B-93566696B45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83B0-3219-400E-B30A-D5A4103C3C1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765E1D9-7B96-40C3-94A9-132ABAB5A1A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83A50-7012-4B7F-BE22-0A1B3E418E2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E558561-9E9E-409B-B67F-D4DE0924E7B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22DD-4C2B-4C5F-90B2-2054FA860B3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40A0550-6BE8-44F6-8C3B-DE6E6E35BB6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31C6-6E75-4118-91AF-C966E850611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8288BD6-A9AD-4689-89FA-78F7C710CFF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F0EE-A5A3-4042-88F6-86B16597526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189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MVPN using BIER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mvpn-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Src.DT4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80520" y="1347480"/>
            <a:ext cx="637236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IPv6 address used as SA of BIERv6 packet, to identify an MVPN instance instead of the upstream-assigned VpnLabel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 IPv6 address used as DA of ICMPv6 packet, to support ICMP error reported to this addres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MVPN using BIERv6 Procedure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矩形 1"/>
          <p:cNvSpPr/>
          <p:nvPr/>
        </p:nvSpPr>
        <p:spPr>
          <a:xfrm>
            <a:off x="692280" y="1058760"/>
            <a:ext cx="1584360" cy="3603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Ingres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矩形 17"/>
          <p:cNvSpPr/>
          <p:nvPr/>
        </p:nvSpPr>
        <p:spPr>
          <a:xfrm>
            <a:off x="4653000" y="1058760"/>
            <a:ext cx="1584360" cy="38268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Egress 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直接连接符 13"/>
          <p:cNvSpPr/>
          <p:nvPr/>
        </p:nvSpPr>
        <p:spPr>
          <a:xfrm>
            <a:off x="1484280" y="1419120"/>
            <a:ext cx="0" cy="280836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直接连接符 19"/>
          <p:cNvSpPr/>
          <p:nvPr/>
        </p:nvSpPr>
        <p:spPr>
          <a:xfrm>
            <a:off x="5445000" y="1441440"/>
            <a:ext cx="0" cy="278604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1" name="直接箭头连接符 22"/>
          <p:cNvCxnSpPr/>
          <p:nvPr/>
        </p:nvCxnSpPr>
        <p:spPr>
          <a:xfrm>
            <a:off x="1484280" y="2355480"/>
            <a:ext cx="396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32" name="文本框 23"/>
          <p:cNvSpPr/>
          <p:nvPr/>
        </p:nvSpPr>
        <p:spPr>
          <a:xfrm>
            <a:off x="1700280" y="1492200"/>
            <a:ext cx="34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PMSI A-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LRI: (RD,S,G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ig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SI: (Sd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fr-pf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fr-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fixSID: (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rc.DT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直接箭头连接符 26"/>
          <p:cNvCxnSpPr/>
          <p:nvPr/>
        </p:nvCxnSpPr>
        <p:spPr>
          <a:xfrm flipH="1">
            <a:off x="1484280" y="4084200"/>
            <a:ext cx="3961080" cy="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34" name="文本框 29"/>
          <p:cNvSpPr/>
          <p:nvPr/>
        </p:nvSpPr>
        <p:spPr>
          <a:xfrm>
            <a:off x="1639800" y="3436920"/>
            <a:ext cx="345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f A-D ro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LRI: (RD,S,G,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OrigIP, LeafI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MSI: (Sd,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fr-pf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bfr-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矩形 33"/>
          <p:cNvSpPr/>
          <p:nvPr/>
        </p:nvSpPr>
        <p:spPr>
          <a:xfrm>
            <a:off x="411120" y="2463840"/>
            <a:ext cx="2873520" cy="50472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castOverlay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Vrf,S,G, 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rc.DT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, Sd,BSL,SI, BitStrin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矩形 34"/>
          <p:cNvSpPr/>
          <p:nvPr/>
        </p:nvSpPr>
        <p:spPr>
          <a:xfrm>
            <a:off x="4732200" y="2459160"/>
            <a:ext cx="1505160" cy="506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castOverlayInf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0" lang="en-US" sz="1400" spc="-1" strike="noStrike">
                <a:solidFill>
                  <a:srgbClr val="ff0000"/>
                </a:solidFill>
                <a:latin typeface="Calibri"/>
              </a:rPr>
              <a:t>Src.DT4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, Vr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unction Specific IPv6 Addr: Src.DT4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475920" y="1203120"/>
            <a:ext cx="57610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this address used as IPv6 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. IF NH = ICMPv6   ;;Ref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.   Send to CPU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. ELS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.   Drop the packet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文本框 1"/>
          <p:cNvSpPr/>
          <p:nvPr/>
        </p:nvSpPr>
        <p:spPr>
          <a:xfrm>
            <a:off x="1197000" y="278748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标题 1"/>
          <p:cNvSpPr/>
          <p:nvPr/>
        </p:nvSpPr>
        <p:spPr>
          <a:xfrm>
            <a:off x="765000" y="987480"/>
            <a:ext cx="4829400" cy="48888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文本框 3"/>
          <p:cNvSpPr/>
          <p:nvPr/>
        </p:nvSpPr>
        <p:spPr>
          <a:xfrm>
            <a:off x="615960" y="177948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3:47:31Z</dcterms:modified>
  <cp:revision>19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