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32B1-D86F-4E07-B722-3A320690FF7D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2F9-6D58-4C98-82D5-8C1BE76F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9C4C-A25C-4F3C-A951-2FA0EF94D1C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6F34-991C-4530-9F32-76EA285F4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FCE97-4503-43A6-AE84-C3EB456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370BD5-92A8-49FB-BFE8-4CDE608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9A0D1-F905-40B9-8E91-0EC3F225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72B8C1-6BB2-46A5-BD6C-ED72ACF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B61B73-F670-494A-9B83-EAC7CCA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FE1A4-9D13-4158-96A0-077D111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C1AE5-84A9-48CF-A02A-30C9D088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31034-E412-4838-972E-A4CD2B3C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DC531-F10F-4928-9178-06B5F36A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2E07E-FB0B-4BE7-AEDC-CA7F6FE2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AEE69-A62A-4ECB-8A9D-B32FBA6F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0B5A6-5D3B-4431-A887-033C05F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B08B6-8669-4AC6-B26B-CE06857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1A479-344D-4D71-9AAE-53E3A3C2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DB84B-B9F0-4267-81FC-53A98EB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8A340-37C7-461A-AE96-9BE1C47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796EF-C0D4-4B21-A4A7-9074C81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FC43C-E592-4118-B224-0618EBF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00B52-2A55-40DD-810D-D8EC648C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1718C-DE9F-47C4-BE7D-B4A3A062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5855F-DCF7-46F4-A4B5-B462DD56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54A9A-BDBF-4408-865E-6B339062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373D3-1F9D-4EC9-9C15-95A477AD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59A9D-DC1C-4E0F-9737-2120E1F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3E787-AFFA-442A-AD6C-93CC858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AF0E2-5F77-48C2-A293-FC511433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BCF63-E32D-4075-A2C7-EB18DFB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7026E-0DBB-4F58-909B-779F948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84CD5-794C-4FBF-9F6E-E1BFFD36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AF539-8C88-4170-BDC2-F27229C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3E5A-8AE2-4BDB-91C7-969766AF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56A36-9696-4901-9651-20BB8B2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088B9-47C9-4FED-9148-004DD5F5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1E6CF-6AB0-48F9-BFEF-B1C0957C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6803E5-ED7F-4C48-B677-6BDE7E97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F9FBAA-1ADC-43AD-BBEE-8447697C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C3F18D-DF0E-4EF3-9F73-EDF7BC1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6CE232-CC47-4550-93C4-8FF22BD5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7A40B2-897A-41D0-9C62-98A13F02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88846D-AB0C-48BE-BACE-42E5E86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B73E10-0FAA-46E3-A544-9A3673E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07BB4-4A55-4184-82B7-392B0125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2D33B1-0733-49AB-BB18-2A87B839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4070B6-4784-46F9-8A5D-1C420C26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6E0211-EB3A-4EB1-ACA8-CCA6824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6C3694-FABD-45D9-96EA-8B312AED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04D497-14F9-4B02-A5ED-FF60BA86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12E60-9DA0-4D2C-980D-4EE16972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61064-AEF2-4087-8B9E-C0077F46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E84CC-8458-411E-ABFF-388A036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35679-46D6-4846-B55A-29BE949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5C619-42C5-4912-8F00-660FE0E7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330A0-FB98-4FCD-BA1B-15BB8D3C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0A6E7-D54E-4BBC-8F82-177BAE54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902FF-97B4-4CF5-B041-0274F2B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E9D6D-12F3-4308-AF2C-1FCE4C6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95824-4834-4C9E-8D8F-DD50623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FA30D-7714-4DEB-BDF8-7C831334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74A13-E8DA-4ACD-B587-18D005E3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C5C22-1E14-427E-8388-53641183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5D0265-B6B9-4506-ACA2-C9A86C5C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28FA4D-4159-4C26-B586-E354F209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C5ECDF-A99E-40AD-BE29-798844E2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B0DAD-C040-4678-8BE8-B18BF32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D46EA9-1170-4914-96DF-2F3F30C2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610436-3DD4-4DB9-8743-565D4003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80780E-0389-4A3A-9259-AC7CE3F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E25345-DF3D-4763-A2D0-D1D233C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5F72F3-6F22-47C6-BF3E-F1AC2E9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4EC087-5093-4066-9342-3FBB5A2C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74A31F-D522-4124-842F-F9C74DB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E9F14D-8016-4571-8C8F-846B413E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446B80-C98E-4377-BD88-3FB7E1A8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0083-8B53-471C-989C-E52795F4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B0502-4CD2-497D-AFC5-A61E126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0050A-4627-4A27-93FC-71A605B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553A-10BD-4E7E-8570-926D4FC6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84F50-57BA-41C0-833A-3185701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F7AEF-85FA-4412-BD40-AB840782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0856E-E8A7-4045-B6ED-5825EAF9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E078C-DB05-477A-8D26-99036D68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2C9B8-6CF8-48FB-BCBF-0BF4D634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E5384-DBCD-4804-B1B9-9AD7108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C0495-F356-4398-9DC8-2D3822A9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31B5B-E4E1-43FB-93B8-B403668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9BEFB-E5DB-4A07-AB31-FA77D270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55510-7415-46B5-ACF8-E8F83B1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9BB6F-F64C-426E-9D69-8D91FFF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9894B-FAEB-4927-BBB7-ACD3F8C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EB3ED-913A-4C72-8484-EBD7DF1A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33A23-0076-4E57-9410-02A6A42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77539-E934-48AD-ABDF-00C99432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77D3A8-905E-4D9D-A70F-D68BD227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FB160-00E1-42FA-BE4D-0578986C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10B78-37C8-4DFC-9785-8DE510D8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76FB9-DA8E-46D4-86D8-865F43A5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EA85A-B068-4E64-A5F4-5921675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84237-6EA5-4762-B5DC-B2B92381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FED34-9B4C-4747-A639-79B3DC0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DCD56-3184-4205-94E1-5504323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59982-7432-44B0-82DD-9C849AC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8E589-8E3F-41B4-AD60-B7377E8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4880A-D4C8-4BF0-A512-E31220A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F4D52-04A7-4F60-8225-FAA60793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53601-3C09-4202-977D-BDBE2ABA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6C5ED-F957-4062-9966-E2C3DB01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F8DAF-8299-45D3-B73F-207A560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A95F5-4EBE-495D-BA68-6C467059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8611B-F8F6-4285-91F5-416F273E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16BB4-F762-4946-B798-65694D0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FB02B-8638-42F5-AD9E-A70AF3A1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B9EEF8-10AE-4F4F-BDC3-00040DA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82A2A-5D5B-4B0B-81AF-2953E2E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C01980-5519-476B-8EFC-C7B6F57C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A6EFF-529E-42F7-97AD-383D2E98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89F2E-3BD1-4FB9-8F04-BE352707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C9821-96B0-4A24-8CA0-FB2CA12E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A7EDE-4456-4C6C-A3F8-54308168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8623A9-EF10-43B5-90AD-43A10A82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62447-57CB-4234-A5EC-C4B79C60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85426-954E-4271-917B-E76460C9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EC458-4654-4078-9AE8-B4037130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93E57-72AA-4194-B82C-76A12099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6617A-2279-4E59-BDCD-9826617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5BBB6-0B80-43AC-98E0-E6E132A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420317-FB6D-4929-A5E3-8917BAA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E423F7-9368-4974-AD39-2C9E82B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B9420B-A098-4D31-A24B-744CBEE2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42D30-6FE8-464B-AA49-7D319452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03BDA-B2F9-4EC7-B0F1-3E6E15FD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5F880-2EEB-402C-B69B-ED4CF9FC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FB6390-397A-48EA-A131-FD8EE23C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C0841E-ABFE-4F09-87B6-95D86054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52D2B6-6E03-45F5-850D-AB5A024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29A4AF-82DF-4648-9DC8-DA4DF497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C240AD-7CC4-4720-85FB-AD2B9C7F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AB38C-212D-4AB6-AF43-C9D0014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FEA3E-D289-430D-B923-A5688D1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7E8F4B-69AF-4280-98AE-6040B17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FADA77-297C-40DF-9815-13D7B12C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8A20D-1E49-4407-BFC0-282FAC39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970E38-CC35-4F03-805F-AAF60E3A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F4841F-DA80-460E-84C3-2864FAF6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A729C-D094-4F8D-AD86-84D8AC37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7DCB85F9-E146-46BC-A860-06D7BC9E0A71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38BDA84-99AA-4A32-9F2B-1163511113B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1A0B-7FB4-4620-8F1C-EF914426262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6765D45-0B72-471B-94AF-38080A839F6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F3D9-9A5E-4383-A9A4-00ED53FC5BE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6134B9D-3DD5-4155-B893-BC3C0ED4C8D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E6C-1531-4F04-9272-2B8673747E2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EA2289A-8717-4D4D-9683-373C92095D4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E68A-3F36-4E06-B6C1-C30E4861D7B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E9D8A4C-006C-4CDA-B066-29308BECBA2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D36B-8828-49EB-9934-67C49B27388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8EDCE75-5D8C-4F62-BB3C-EA84E82A1F2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7BF-44AD-4CB7-A7F1-DE55794ACF1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CC5C4AD-7A47-45A8-83F5-A739CBC95E0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B1AE-6BFD-481D-A04F-D720041389A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9B43340-A711-4A03-92ED-36043B5B529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59D-1FD1-49CB-A8B9-AE253F91DAF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824350C-AD19-4FF9-85C1-A4BA78BE723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B834-BADF-4264-98AA-551514F3E2B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07809BA-468E-45BB-BBB7-78E791E96EC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079C-98CD-4E77-ABDE-265DFBD75EA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2329AB9-4807-4AC0-8036-17368C3132E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DD6-33D0-416C-9FB0-B4D5D70D2A5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3C5CE96-E7CC-4BFC-83E3-BD276982D10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DCE7-F59E-4E68-886D-A19E238D3B4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76280" y="771480"/>
            <a:ext cx="6048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BIER IPv6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encapsulation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IETF106  BIER WG,  2019-11  Singa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 (Huaw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Liang Geng (China Mob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(Futurew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Rajiv Asati (Cis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 (Huaw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Speaker: Liang Ge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ounded Rectangle 34"/>
          <p:cNvSpPr/>
          <p:nvPr/>
        </p:nvSpPr>
        <p:spPr>
          <a:xfrm>
            <a:off x="1284120" y="698400"/>
            <a:ext cx="4160880" cy="136044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v6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12"/>
          <p:cNvSpPr/>
          <p:nvPr/>
        </p:nvSpPr>
        <p:spPr>
          <a:xfrm>
            <a:off x="1506600" y="2193840"/>
            <a:ext cx="158580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35"/>
          <p:cNvSpPr/>
          <p:nvPr/>
        </p:nvSpPr>
        <p:spPr>
          <a:xfrm>
            <a:off x="65160" y="1320840"/>
            <a:ext cx="387360" cy="314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36"/>
          <p:cNvSpPr/>
          <p:nvPr/>
        </p:nvSpPr>
        <p:spPr>
          <a:xfrm>
            <a:off x="1125360" y="1263600"/>
            <a:ext cx="398520" cy="442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37"/>
          <p:cNvSpPr/>
          <p:nvPr/>
        </p:nvSpPr>
        <p:spPr>
          <a:xfrm>
            <a:off x="5229360" y="1635120"/>
            <a:ext cx="503280" cy="3938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38"/>
          <p:cNvSpPr/>
          <p:nvPr/>
        </p:nvSpPr>
        <p:spPr>
          <a:xfrm>
            <a:off x="6381720" y="1635120"/>
            <a:ext cx="417600" cy="289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1"/>
          <p:cNvSpPr/>
          <p:nvPr/>
        </p:nvSpPr>
        <p:spPr>
          <a:xfrm>
            <a:off x="380880" y="1625760"/>
            <a:ext cx="76356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82"/>
          <p:cNvSpPr/>
          <p:nvPr/>
        </p:nvSpPr>
        <p:spPr>
          <a:xfrm>
            <a:off x="452520" y="1477800"/>
            <a:ext cx="672840" cy="82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79"/>
          <p:cNvSpPr/>
          <p:nvPr/>
        </p:nvSpPr>
        <p:spPr>
          <a:xfrm flipV="1">
            <a:off x="5732640" y="1779480"/>
            <a:ext cx="649080" cy="5256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11"/>
          <p:cNvSpPr/>
          <p:nvPr/>
        </p:nvSpPr>
        <p:spPr>
          <a:xfrm>
            <a:off x="2498760" y="1484280"/>
            <a:ext cx="498600" cy="1584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4"/>
          <p:cNvSpPr/>
          <p:nvPr/>
        </p:nvSpPr>
        <p:spPr>
          <a:xfrm>
            <a:off x="2997360" y="1274760"/>
            <a:ext cx="431640" cy="450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23"/>
          <p:cNvSpPr/>
          <p:nvPr/>
        </p:nvSpPr>
        <p:spPr>
          <a:xfrm>
            <a:off x="189000" y="2409840"/>
            <a:ext cx="11192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er IPv6 Header 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Header in D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11"/>
          <p:cNvSpPr/>
          <p:nvPr/>
        </p:nvSpPr>
        <p:spPr>
          <a:xfrm>
            <a:off x="3429000" y="1500120"/>
            <a:ext cx="1800360" cy="3319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13"/>
          <p:cNvSpPr/>
          <p:nvPr/>
        </p:nvSpPr>
        <p:spPr>
          <a:xfrm>
            <a:off x="1549440" y="2227320"/>
            <a:ext cx="145584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A::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: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 (BIER Hdr in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FTid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BitString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14"/>
          <p:cNvSpPr/>
          <p:nvPr/>
        </p:nvSpPr>
        <p:spPr>
          <a:xfrm>
            <a:off x="1549440" y="3008160"/>
            <a:ext cx="145584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37"/>
          <p:cNvSpPr/>
          <p:nvPr/>
        </p:nvSpPr>
        <p:spPr>
          <a:xfrm>
            <a:off x="5013360" y="722160"/>
            <a:ext cx="576360" cy="4096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11"/>
          <p:cNvSpPr/>
          <p:nvPr/>
        </p:nvSpPr>
        <p:spPr>
          <a:xfrm flipV="1">
            <a:off x="3429000" y="927000"/>
            <a:ext cx="1584360" cy="5731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79"/>
          <p:cNvSpPr/>
          <p:nvPr/>
        </p:nvSpPr>
        <p:spPr>
          <a:xfrm flipV="1">
            <a:off x="5589720" y="837720"/>
            <a:ext cx="792000" cy="889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左大括号 32"/>
          <p:cNvSpPr/>
          <p:nvPr/>
        </p:nvSpPr>
        <p:spPr>
          <a:xfrm>
            <a:off x="1284120" y="3019320"/>
            <a:ext cx="223920" cy="5382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538200"/>
              <a:gd name="textAreaBottom" fmla="*/ 532440 h 5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3"/>
          <p:cNvSpPr/>
          <p:nvPr/>
        </p:nvSpPr>
        <p:spPr>
          <a:xfrm>
            <a:off x="417600" y="3090960"/>
            <a:ext cx="8524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er IPv4/IPv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cast pa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左大括号 34"/>
          <p:cNvSpPr/>
          <p:nvPr/>
        </p:nvSpPr>
        <p:spPr>
          <a:xfrm>
            <a:off x="1285920" y="2265480"/>
            <a:ext cx="223920" cy="663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663480"/>
              <a:gd name="textAreaBottom" fmla="*/ 65772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4"/>
                  <a:pt x="10800" y="607"/>
                </a:cubicBezTo>
                <a:lnTo>
                  <a:pt x="10800" y="10193"/>
                </a:lnTo>
                <a:cubicBezTo>
                  <a:pt x="10800" y="10497"/>
                  <a:pt x="5400" y="10800"/>
                  <a:pt x="0" y="10800"/>
                </a:cubicBezTo>
                <a:cubicBezTo>
                  <a:pt x="5400" y="10800"/>
                  <a:pt x="10800" y="11104"/>
                  <a:pt x="10800" y="11407"/>
                </a:cubicBezTo>
                <a:lnTo>
                  <a:pt x="10800" y="20993"/>
                </a:lnTo>
                <a:cubicBezTo>
                  <a:pt x="10800" y="212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>
            <a:off x="6381720" y="698400"/>
            <a:ext cx="417600" cy="277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12"/>
          <p:cNvSpPr/>
          <p:nvPr/>
        </p:nvSpPr>
        <p:spPr>
          <a:xfrm>
            <a:off x="3440160" y="2176560"/>
            <a:ext cx="157320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13"/>
          <p:cNvSpPr/>
          <p:nvPr/>
        </p:nvSpPr>
        <p:spPr>
          <a:xfrm>
            <a:off x="3481560" y="2211480"/>
            <a:ext cx="146844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A::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1" lang="en-US" sz="800" spc="-1" strike="noStrike">
                <a:solidFill>
                  <a:srgbClr val="7030a0"/>
                </a:solidFill>
                <a:latin typeface="Arial"/>
              </a:rPr>
              <a:t>D::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 (BIER Hdr in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FTid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BitString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4"/>
          <p:cNvSpPr/>
          <p:nvPr/>
        </p:nvSpPr>
        <p:spPr>
          <a:xfrm>
            <a:off x="3481560" y="2992320"/>
            <a:ext cx="146844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1"/>
          <p:cNvSpPr/>
          <p:nvPr/>
        </p:nvSpPr>
        <p:spPr>
          <a:xfrm>
            <a:off x="5589720" y="992160"/>
            <a:ext cx="80460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1"/>
          <p:cNvSpPr/>
          <p:nvPr/>
        </p:nvSpPr>
        <p:spPr>
          <a:xfrm>
            <a:off x="5715000" y="1954080"/>
            <a:ext cx="76500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36"/>
          <p:cNvSpPr/>
          <p:nvPr/>
        </p:nvSpPr>
        <p:spPr>
          <a:xfrm>
            <a:off x="1916280" y="1262160"/>
            <a:ext cx="582480" cy="44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non-b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11"/>
          <p:cNvSpPr/>
          <p:nvPr/>
        </p:nvSpPr>
        <p:spPr>
          <a:xfrm flipV="1">
            <a:off x="1523880" y="1483920"/>
            <a:ext cx="392400" cy="18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2"/>
          <p:cNvSpPr/>
          <p:nvPr/>
        </p:nvSpPr>
        <p:spPr>
          <a:xfrm>
            <a:off x="468360" y="3795840"/>
            <a:ext cx="6048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 BIER Header in IPv6 Destination Options Hea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cast Address of BFIR in IPv6 Source Address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cast Address of Neighbor BFR in IPv6 Destination Address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 gets an End.BIER indication by FIB lookup, and process the BIER header in DOH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3"/>
          <p:cNvSpPr/>
          <p:nvPr/>
        </p:nvSpPr>
        <p:spPr>
          <a:xfrm>
            <a:off x="681120" y="22716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BIER IPv6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1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9920" y="987120"/>
            <a:ext cx="648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7. BIER architecture support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Sub-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Sets for scal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BSLs (64,128,256,…,40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BIFTs for EC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passing non-BIER routers or bypassing Layer-2 swit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architecture support comes from the fact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ndard BIER Header encoding does not change (per the past IETF 102-105 meeting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ndard BIER Header encapsulated in existing IPv6 EH (Dest Options Heade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2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60280" y="987480"/>
            <a:ext cx="6407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3. L4 Inspection not required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11. Support Fragmentation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12. Support IPv6 Security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forwarding and BitString modifying by Layer-3 h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onflict with other Layer-3 func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agmentation and Assembly on BFIR and BFERs on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SEC Confidentiality or Integrity on BFIR and BFERs on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3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60280" y="987120"/>
            <a:ext cx="633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2 Hop by hop SA or DA modification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A modification by each BFR to its NBR-BF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ing unicast DA for many benefits (per the past IETF 102-105 meeting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passing Layer-3 Non-BFR router(s) or Layer-2 switch(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encapsulation/forwarding method for one-hop and multi-hop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SA modification by each BFR to its NBR-BF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nce the IPv6 Source Address is set by BFI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ing notices on the BFIR for functions of PING, TRACE and M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SA filtering and data origin authent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A change helps reducing cost when forwarding pa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4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33360" y="771480"/>
            <a:ext cx="6121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1.  L2 Agnostic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sed on IPv6 unicast, and can run on various link typ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4. Multicast address in SA field not allowed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lticast address in SA field not used or requir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5.  Incorrect bits handling 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itString update per 8279 prevents duplica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6.  SA filtering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changed IPv6 address of BFIR as SA helps SA filtering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8.  Simple Encapsulation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e encapsulation for one-hop and multi-hop replica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9.  Hardware fast path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warding based on IPv6 DA lookup and BIER Heade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10. Conform to existing IPv6 Spec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isting IPv6 Extension Header with option TLV extens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13"/>
          <p:cNvSpPr/>
          <p:nvPr/>
        </p:nvSpPr>
        <p:spPr>
          <a:xfrm>
            <a:off x="333360" y="844560"/>
            <a:ext cx="6191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revision post in April 2018, based on a lot of earlier work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earlier V6 drafts and requirements since 2016 (ietf97 to ietf1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working group charter V2 in early 2018 (ietf1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been stable since rev-03, based on a lot of improvements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discussions since its first post (ietf102 to ietf1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discussions on the requirements draft (ietf104 to ietf10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’s mature, and we’d like to ask for working group ado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82760" y="268200"/>
            <a:ext cx="56829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Liang Geng</cp:lastModifiedBy>
  <dcterms:modified xsi:type="dcterms:W3CDTF">2019-11-20T17:00:40Z</dcterms:modified>
  <cp:revision>2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rODW2bQnr7hlg99lH9hR3hhpnfvIYnlG3IyVCk6RY08vCNVqtZYjT4TcGlsMjeYBMSO5FXyB
zh/qGCSm5mwCGSqb8M+rkxiTmyKYo1QBBwd4Bv8Q7WyLRZgB65jS9H9phrmTvvfutPNMNzGl
oOotEoEEFOLkrIawTwTNRAuaoMQoiGgnKCwr5sFlT5fiClib9Zhu/JmgrC0bZR/r13DmBgqt
UlG9GgK/d3CF0rEkMu</vt:lpwstr>
  </property>
  <property fmtid="{D5CDD505-2E9C-101B-9397-08002B2CF9AE}" pid="3" name="_2015_ms_pID_7253431">
    <vt:lpwstr>BZl+WzRAcSkpLktJg/L52rJSfi2BSWkL+x4MqtSnthBz9lKcnrlP1A
NqbXQfnBd/nLCowtBc/1JeYn7c/Iy8tYTtmwijn6GcA3so8F69B7/t9aLSx7smoCWuhfOAqZ
nwoE56108VwECnYdAzgqRIZGFCiw/qAdPgNQOcaj20nGnwQ+SuQ2nrdmz+Hm4WBVqzazunMq
ue8Ej6Ez6eWmOQnXDcBTH9z2gDl7U+F8Ha1t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qPQjuDBt4wQGSpnX5opvYEKjs9uxG1QGTJNr
aAUxIiL9eZcT1UXU1CCobV51inNklVZzRhIY8uomevVDXBvSGsw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