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5525-618F-483C-94E4-833ACB6F761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6C13C-82D6-4F85-BEE2-072275A67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710D-7831-4E41-B01E-64AF69DC179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115A7-1507-4AEE-AAE4-CCAE1DA66A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5AD92E-03A8-4B91-B1A3-BCF3C273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3D4825-5286-4FE7-A4C4-A86E1596B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CDE8DB-AD3C-44B6-803A-C38594A9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B62C23-8CEB-418B-8CD2-09869CBA6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4A470C-448E-40DE-9261-ECA6AAAA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63C549E-6BDD-4470-B802-6ACFDE9B3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F1C82DD-DC0C-4A7B-AECF-8281F230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4440C5E-B52A-42D4-97F9-9D6DF8707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E53BBFB-B152-475D-A9C7-308D0032F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FBCB27-59A7-4CF6-8232-32285703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CAEA0B-63DF-466F-A6C9-4FF2B79D4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65770F-357F-4954-9D62-5CBBC2872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C06A64-5324-4B86-AEFB-1DF6FCF7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02195C-1D6E-481D-A0A2-81990659E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EEB5A2-3853-4D93-9C49-32B3823BE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97D6AC-823B-44C8-9E9B-07D3EE82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2B72D7-E054-4D79-9978-B06E05BEC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0D993D-F089-43BB-BE7F-1D6380261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1F22F7-609E-4AEA-AC12-8A8F3AD29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4B3925-1C2D-4EC3-8736-A9DF4F95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63669-EEAC-4509-A7EC-889465713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F5E8DB-E2C9-42D0-A5B3-C34AD1D6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1735D7-0BA0-4C5E-9946-E052FFD4F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754CC-8E26-4C32-AB99-7E4C58BF2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8E622B-171F-4BB0-BE32-78C19C77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D67AEE-34AE-40AC-B033-40D480FBD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BFDBE-CCC6-4830-8378-4B162E4E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CF556E-9F73-4391-BF9D-98DDF8D5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C62003-1764-4379-A549-6D6399D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D3BD9-A92D-4578-B710-5BC9520D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1E3AF5-8030-4A5D-9A07-C16E862B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9AE8B0-2B62-442A-B5AB-AE9BD6D9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D5DC40D-8066-45F3-ACF9-C8E2B788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2CE75A-85F6-41C3-89B3-66A26A60A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E7FA21-483D-4D2D-A075-E70E82310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E518B2A-8261-43DA-9CD7-CBFDBF10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D94796B-EC3E-49EF-887D-3B52D9E4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951A6C0-EBFC-4B54-A0FC-595FA92FF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194F941-9E77-4234-8BB9-5593352B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13CB16-0665-4761-B216-E9392B31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B734CA-8F4E-47CC-A9D4-FCF7C416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3E4138-93EA-43C5-835A-8E6BDC57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ACA97D-9129-4E04-9E12-13495123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65C02CF-556C-480F-A08F-367AAB10F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9DA7E9-0D67-4019-A9A1-D24628EF3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5BE3F33-1F5A-4CB0-85CE-35F2207B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3EBAD8-511C-4115-BB27-9E12E8D7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8DAFA3-E656-4BB0-8E3B-6D889CF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EEC9D5-487C-4308-8E27-F4EC1B40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AE8E65-7694-40DD-84A9-C2ACA4B5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98E496-8205-4FE1-B2B8-DBB1001B8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D3B35B-7F9A-4A04-931C-C90DE4E3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25AAA-35DF-41E9-819B-9FE50169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F4212F-D645-4D4F-A4FC-3A71C4F49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6E4FDC-1656-4E92-8DFE-CE281C50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96A559-6444-416A-A04B-C3350F439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DAF3B7-A60F-4854-BA2F-73B7D74FA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32D88A-45BE-4A24-8C44-03DAE066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ED3AE2-9C9E-42B8-86B4-E4EAC131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419D48-AA6A-4C52-9C10-A53BF1BD4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D07A1A1-F0F8-4FEA-8FE8-CEB1D56D1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C33EF0-2DB3-4768-AD29-90487952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0DFEF8-2DCE-4F86-8146-5CFACE783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28A8DA-7184-4890-987A-C8116DECA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182C03E-0171-424A-B7A4-645876155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35AB2F-ADF3-4BC6-B34C-6B119DE0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EB23C89-8245-4557-A478-4C3DB587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C445A99-4F75-4862-97E0-922272B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9F63DE-0FB4-4C0B-A439-83114088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9F1C27-E571-4405-83BA-70D8723E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F5DA84-5A07-4A44-954A-DA6C1671D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B96524-050B-4A4A-B901-8AF5F286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467DA48-AD86-4C26-9D95-3A897F791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366C1-3C8E-43E1-A887-2508C5408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1354D-3A7C-4C58-BE89-FEBF3DD8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8FE765-B5A5-4680-9E0E-779232BC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E9C92A-D392-4724-8727-2DCCB359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8AF57C-32D7-4307-B91D-14C42412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43339-E06D-4715-8C69-1B999C294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459FB1-80A1-48BA-83A2-E386AB119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1F0A0-0C38-4665-883E-C51D0C19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41198-9EAE-491F-AA88-84526233F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0813D8-B8DF-429D-A147-B086B9D2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5B8CD-4608-46F3-9AB2-8C37DD3F1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6AECF8-1B9F-4A14-8542-94E2C6FC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F346E9-47E1-439D-B6BA-3CDC1B30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737114-157B-4ED6-B52D-377CD1E4F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A7F08C-E6E1-4FCF-91AC-9DE803F3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FBA88-ABE1-4D9A-9529-CE46C8E8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2AF74-057B-4650-AA34-ED8A59D0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852A0-E351-4282-B006-D1C2E9C00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352DCD-FBFE-4F7C-9DD4-8039BA589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89FCA-122A-4F28-B004-9B8D1291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B208C9-8D1F-41F2-B613-E43B1F6C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C57C23-46E3-417C-8150-486D451D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B8DC7C-C360-4B60-B63D-FD48240D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1C9620-F7B5-4661-A65E-4BCA8283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9426E-9DB4-49A5-8178-45A6C63A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AE9123-612B-4192-9A54-6E61433E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C60228-E3A1-4EA5-A153-8C247924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A7189E-9413-405D-B97B-DDFA06CD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270E36-41D8-454D-BA44-06317F10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C1BD0D-6E7A-4D77-8307-6C8446BB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D15F2-92E0-4D37-9D6A-2B4D2D774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A96BBC-1291-41E1-8089-C3C110DC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FB01A2-0DF0-482B-B6D2-CFB7C32F9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4C6A9-C74E-43D1-B32A-930365D85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256F5A4-BEA9-4432-9DC4-53E858418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AAD7A6-9907-4F26-95D0-8550CD01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76DAE0-1CC9-43D6-AA81-2BAECDD4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32B196-D40F-4BA9-B58D-568D6D8DE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47BC19-7AD4-4DB3-ABCF-EE95A475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AC7422-3F06-4A93-B04F-AA4553148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30E101-009E-4B20-9516-978A1710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4E26F0-C1C1-4F07-9121-B46C6D7B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3EA774-3C40-4102-B82F-4BD76F50F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259700A-5A6E-46C5-A863-A71DD27EC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B6BE891-9354-4600-BF36-D7B2F372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2D3198-E7CB-47FF-B0E7-46C1FEEE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675B8B-4203-49CF-8204-38D7623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B4CA55-CA20-4689-8413-C16EF41A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BC309A-90B9-4702-AB62-219F34A3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333A8F-8EA6-4144-A3ED-DEFA522FF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75A5BAD-4726-4095-8C52-DE0AD232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D553C1-177F-4BC8-A0D6-31754E092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E6D2B5-77C0-416C-8E4B-76FAE81F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261E396-BEC9-405A-9D1D-3DAF016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2DFDEB-C777-4A9C-86EE-02F708145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39A8F9-BE0D-46A2-9ABF-6F65CA3F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AD4CD-B184-43DD-8668-78C600034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1A1E26-B05C-4AD4-9417-9F5F1069E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DD610D2-BD37-491A-BDCB-720753E0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9E44B4-53F0-4ADD-8BB7-A7F04339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8DA12BE-04B1-451E-B253-1D7A0B37C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FC009C-D762-4DFA-A8F9-218A166F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8F52A3-C1BF-4B7F-8CB0-4C5B6ECB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A14F4D-C812-4F68-ADD1-C645F4DC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4AB202-F8C8-4F12-9BFA-AD648099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CAEAC8-C578-4716-B0CA-DF0073D8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45F5808-BA8C-4267-BAAE-610857B0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AF0B370-9091-4B83-8835-40D346D7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F0AE9D9-9A3E-4D1F-97BA-E635EFD89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AA29A95-5A69-41F2-A31E-A0ED20A6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365E26-49A6-427F-9C78-701D65EA2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8F79950E-F655-4290-BD9C-3457AA8B42F4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1BAEEAC-C1F7-494B-9F0D-CA3A86AE31C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9937A-9E78-4F22-862E-F89386EBD63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7930420-6C1F-4ACD-B725-5F622FBFB5B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B9631-EF80-4AC6-98B8-D72D204F51D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E91CF19-1CEA-4856-AC21-B2F23D683721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01128-459B-4601-98B0-085826327BB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E6B65D6-F8D4-4621-B037-05DE55477FD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513A-A07A-4ECF-859C-5EF7D73BD70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EF1E5A0-C9F3-4764-A4AF-D681BD3EC6E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5854-C5D8-4AFA-AB28-A8583B40B2A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E2DCCC6-D61B-4922-B91C-9CFB1495B68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296F-24BE-46B8-AFFC-51430B61B86E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5A63C2A-0E43-47CF-84D3-B8BF212CFDA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AEFF-E9DA-40F6-B66F-9CAEC226AE9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C08A1D6-FE7A-448E-BEA9-2FF0F04CF2F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D96A0-EFA6-4539-B6F4-B366C7CA89A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001B25B-844D-4B53-8BCD-01009205535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3D10-6866-4F00-9EF5-A141E1BC9E8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4A78B8A-5382-4F68-BB7F-CAD817ECC8B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D6C0B-92BC-48E2-B05D-CF726F6DE9A3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702003C-D6A0-42E1-9EF9-7A8B06C85CA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FC53-4877-440F-B13E-EC461EA1C71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2FC09D1-9E5C-4629-BF31-BE8E418D7C8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9A42-76CD-4422-94B8-B6EC6F4F71C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76280" y="771480"/>
            <a:ext cx="60483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Encaps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encapsulation-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IETF106  BIER WG,  2019-11  Singap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(Hua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 (China Mobi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(Future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(Cis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 (Huawe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楷体_GB2312"/>
              </a:rPr>
              <a:t>Speaker: Liang Ge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ounded Rectangle 34"/>
          <p:cNvSpPr/>
          <p:nvPr/>
        </p:nvSpPr>
        <p:spPr>
          <a:xfrm>
            <a:off x="1284120" y="698400"/>
            <a:ext cx="4160880" cy="136044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v6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112"/>
          <p:cNvSpPr/>
          <p:nvPr/>
        </p:nvSpPr>
        <p:spPr>
          <a:xfrm>
            <a:off x="1506600" y="2193840"/>
            <a:ext cx="158580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35"/>
          <p:cNvSpPr/>
          <p:nvPr/>
        </p:nvSpPr>
        <p:spPr>
          <a:xfrm>
            <a:off x="65160" y="1320840"/>
            <a:ext cx="387360" cy="314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36"/>
          <p:cNvSpPr/>
          <p:nvPr/>
        </p:nvSpPr>
        <p:spPr>
          <a:xfrm>
            <a:off x="1125360" y="1263600"/>
            <a:ext cx="398520" cy="442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37"/>
          <p:cNvSpPr/>
          <p:nvPr/>
        </p:nvSpPr>
        <p:spPr>
          <a:xfrm>
            <a:off x="5229360" y="1635120"/>
            <a:ext cx="503280" cy="3938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38"/>
          <p:cNvSpPr/>
          <p:nvPr/>
        </p:nvSpPr>
        <p:spPr>
          <a:xfrm>
            <a:off x="6381720" y="1635120"/>
            <a:ext cx="417600" cy="289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81"/>
          <p:cNvSpPr/>
          <p:nvPr/>
        </p:nvSpPr>
        <p:spPr>
          <a:xfrm>
            <a:off x="380880" y="1625760"/>
            <a:ext cx="76356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82"/>
          <p:cNvSpPr/>
          <p:nvPr/>
        </p:nvSpPr>
        <p:spPr>
          <a:xfrm>
            <a:off x="452520" y="1477800"/>
            <a:ext cx="672840" cy="82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79"/>
          <p:cNvSpPr/>
          <p:nvPr/>
        </p:nvSpPr>
        <p:spPr>
          <a:xfrm flipV="1">
            <a:off x="5732640" y="1779480"/>
            <a:ext cx="649080" cy="5256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111"/>
          <p:cNvSpPr/>
          <p:nvPr/>
        </p:nvSpPr>
        <p:spPr>
          <a:xfrm>
            <a:off x="2498760" y="1484280"/>
            <a:ext cx="498600" cy="1584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84"/>
          <p:cNvSpPr/>
          <p:nvPr/>
        </p:nvSpPr>
        <p:spPr>
          <a:xfrm>
            <a:off x="2997360" y="1274760"/>
            <a:ext cx="431640" cy="450720"/>
          </a:xfrm>
          <a:prstGeom prst="ellipse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文本框 23"/>
          <p:cNvSpPr/>
          <p:nvPr/>
        </p:nvSpPr>
        <p:spPr>
          <a:xfrm>
            <a:off x="189000" y="2409840"/>
            <a:ext cx="111924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 &amp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Header in DO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111"/>
          <p:cNvSpPr/>
          <p:nvPr/>
        </p:nvSpPr>
        <p:spPr>
          <a:xfrm>
            <a:off x="3429000" y="1500120"/>
            <a:ext cx="1800360" cy="331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3"/>
          <p:cNvSpPr/>
          <p:nvPr/>
        </p:nvSpPr>
        <p:spPr>
          <a:xfrm>
            <a:off x="1549440" y="2227320"/>
            <a:ext cx="145584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::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1" lang="en-US" sz="800" spc="-1" strike="noStrike">
                <a:solidFill>
                  <a:srgbClr val="0000ff"/>
                </a:solidFill>
                <a:latin typeface="Arial"/>
              </a:rPr>
              <a:t>B::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 (BIER Hdr i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FTid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itString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Box 114"/>
          <p:cNvSpPr/>
          <p:nvPr/>
        </p:nvSpPr>
        <p:spPr>
          <a:xfrm>
            <a:off x="1549440" y="3008160"/>
            <a:ext cx="145584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7"/>
          <p:cNvSpPr/>
          <p:nvPr/>
        </p:nvSpPr>
        <p:spPr>
          <a:xfrm>
            <a:off x="5013360" y="722160"/>
            <a:ext cx="576360" cy="40968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11"/>
          <p:cNvSpPr/>
          <p:nvPr/>
        </p:nvSpPr>
        <p:spPr>
          <a:xfrm flipV="1">
            <a:off x="3429000" y="927000"/>
            <a:ext cx="1584360" cy="5731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79"/>
          <p:cNvSpPr/>
          <p:nvPr/>
        </p:nvSpPr>
        <p:spPr>
          <a:xfrm flipV="1">
            <a:off x="5589720" y="837720"/>
            <a:ext cx="792000" cy="88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左大括号 32"/>
          <p:cNvSpPr/>
          <p:nvPr/>
        </p:nvSpPr>
        <p:spPr>
          <a:xfrm>
            <a:off x="1284120" y="301932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文本框 33"/>
          <p:cNvSpPr/>
          <p:nvPr/>
        </p:nvSpPr>
        <p:spPr>
          <a:xfrm>
            <a:off x="417600" y="3090960"/>
            <a:ext cx="8524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左大括号 34"/>
          <p:cNvSpPr/>
          <p:nvPr/>
        </p:nvSpPr>
        <p:spPr>
          <a:xfrm>
            <a:off x="1285920" y="2265480"/>
            <a:ext cx="223920" cy="66348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3480"/>
              <a:gd name="textAreaBottom" fmla="*/ 657720 h 663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4"/>
                  <a:pt x="10800" y="607"/>
                </a:cubicBezTo>
                <a:lnTo>
                  <a:pt x="10800" y="10193"/>
                </a:lnTo>
                <a:cubicBezTo>
                  <a:pt x="10800" y="10497"/>
                  <a:pt x="5400" y="10800"/>
                  <a:pt x="0" y="10800"/>
                </a:cubicBezTo>
                <a:cubicBezTo>
                  <a:pt x="5400" y="10800"/>
                  <a:pt x="10800" y="11104"/>
                  <a:pt x="10800" y="11407"/>
                </a:cubicBezTo>
                <a:lnTo>
                  <a:pt x="10800" y="20993"/>
                </a:lnTo>
                <a:cubicBezTo>
                  <a:pt x="10800" y="212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38"/>
          <p:cNvSpPr/>
          <p:nvPr/>
        </p:nvSpPr>
        <p:spPr>
          <a:xfrm>
            <a:off x="6381720" y="698400"/>
            <a:ext cx="417600" cy="277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12"/>
          <p:cNvSpPr/>
          <p:nvPr/>
        </p:nvSpPr>
        <p:spPr>
          <a:xfrm>
            <a:off x="3440160" y="2176560"/>
            <a:ext cx="157320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113"/>
          <p:cNvSpPr/>
          <p:nvPr/>
        </p:nvSpPr>
        <p:spPr>
          <a:xfrm>
            <a:off x="3481560" y="2211480"/>
            <a:ext cx="146844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</a:t>
            </a:r>
            <a:r>
              <a:rPr b="1" lang="en-US" sz="800" spc="-1" strike="noStrike">
                <a:solidFill>
                  <a:srgbClr val="ff0000"/>
                </a:solidFill>
                <a:latin typeface="Arial"/>
              </a:rPr>
              <a:t>A::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1" lang="en-US" sz="800" spc="-1" strike="noStrike">
                <a:solidFill>
                  <a:srgbClr val="7030a0"/>
                </a:solidFill>
                <a:latin typeface="Arial"/>
              </a:rPr>
              <a:t>D::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 (BIER Hdr in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FTid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xx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BitString: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114"/>
          <p:cNvSpPr/>
          <p:nvPr/>
        </p:nvSpPr>
        <p:spPr>
          <a:xfrm>
            <a:off x="3481560" y="2992320"/>
            <a:ext cx="146844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81"/>
          <p:cNvSpPr/>
          <p:nvPr/>
        </p:nvSpPr>
        <p:spPr>
          <a:xfrm>
            <a:off x="5589720" y="992160"/>
            <a:ext cx="80460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1"/>
          <p:cNvSpPr/>
          <p:nvPr/>
        </p:nvSpPr>
        <p:spPr>
          <a:xfrm>
            <a:off x="5715000" y="1954080"/>
            <a:ext cx="76500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Cambria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36"/>
          <p:cNvSpPr/>
          <p:nvPr/>
        </p:nvSpPr>
        <p:spPr>
          <a:xfrm>
            <a:off x="1916280" y="1262160"/>
            <a:ext cx="582480" cy="44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non-b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11"/>
          <p:cNvSpPr/>
          <p:nvPr/>
        </p:nvSpPr>
        <p:spPr>
          <a:xfrm flipV="1">
            <a:off x="1523880" y="1483920"/>
            <a:ext cx="392400" cy="18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文本框 2"/>
          <p:cNvSpPr/>
          <p:nvPr/>
        </p:nvSpPr>
        <p:spPr>
          <a:xfrm>
            <a:off x="468360" y="3795840"/>
            <a:ext cx="604836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in IPv6 Destination Options H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cast Address of BFIR in IPv6 Source Address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nicast Address of Neighbor BFR in IPv6 Destination Address fiel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 gets an End.BIER indication by FIB lookup, and process the BIER header in DOH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文本框 3"/>
          <p:cNvSpPr/>
          <p:nvPr/>
        </p:nvSpPr>
        <p:spPr>
          <a:xfrm>
            <a:off x="681120" y="227160"/>
            <a:ext cx="555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posed BIER IPv6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0428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1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259920" y="987120"/>
            <a:ext cx="64803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7. BIER architecture support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Sub-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Sets for scalabi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BSLs (64,128,256,…,409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e BIFTs for EC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passing non-BIER routers or bypassing Layer-2 swit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architecture support comes from the fact th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ndard BIER Header encoding does not change (per the past IETF 102-105 meetings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andard BIER Header encapsulated in existing IPv6 EH (Dest Options Header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2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260280" y="987480"/>
            <a:ext cx="64072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3. L4 Inspection not required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11. Support Fragmentation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12. Support IPv6 Security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ER forwarding and BitString modifying by Layer-3 head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Conflict with other Layer-3 function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agmentation and Assembly on BFIR and BFERs on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PSEC Confidentiality or Integrity on BFIR and BFERs on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3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260280" y="987120"/>
            <a:ext cx="6337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q 4.2 Hop by hop SA or DA modification ----Yes/Compl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A modification by each BFR to its NBR-BF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ing unicast DA for many benefits (per the past IETF 102-105 meeting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passing Layer-3 Non-BFR router(s) or Layer-2 switch(e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encapsulation/forwarding method for one-hop and multi-hop 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SA modification by each BFR to its NBR-BF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nce the IPv6 Source Address is set by BFIR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iving notices on the BFIR for functions of PING, TRACE and M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better SA filtering and data origin authent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SA change helps reducing cost when forwarding pac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Comply with the BIERv6 requirements (4)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33360" y="771480"/>
            <a:ext cx="6121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1.  L2 Agnostic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sed on IPv6 unicast, and can run on various link types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4. Multicast address in SA field not allowed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lticast address in SA field not used or required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5.  Incorrect bits handling 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itString update per 8279 prevents duplic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6.  SA filtering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changed IPv6 address of BFIR as SA helps SA filtering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8.  Simple Encapsulation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e encapsulation for one-hop and multi-hop replicat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9.  Hardware fast path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warding based on IPv6 DA lookup and BIER Header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q 4.10. Conform to existing IPv6 Spec ----Yes/Compl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xisting IPv6 Extension Header with option TLV extension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TextBox 113"/>
          <p:cNvSpPr/>
          <p:nvPr/>
        </p:nvSpPr>
        <p:spPr>
          <a:xfrm>
            <a:off x="333360" y="844560"/>
            <a:ext cx="619128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rst revision post in April 2018, based on a lot of earlier work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earlier V6 drafts and requirements since 2016 (ietf97 to ietf10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working group charter V2 in early 2018 (ietf101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 been stable since rev-03, based on a lot of improvements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discussions since its first post (ietf102 to ietf103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ased on discussions on the requirements draft (ietf104 to ietf105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’s mature, and we’d like to ask for working group adop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82760" y="268200"/>
            <a:ext cx="56829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Next Step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Liang Geng</cp:lastModifiedBy>
  <dcterms:modified xsi:type="dcterms:W3CDTF">2019-11-20T17:00:40Z</dcterms:modified>
  <cp:revision>211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rODW2bQnr7hlg99lH9hR3hhpnfvIYnlG3IyVCk6RY08vCNVqtZYjT4TcGlsMjeYBMSO5FXyB
zh/qGCSm5mwCGSqb8M+rkxiTmyKYo1QBBwd4Bv8Q7WyLRZgB65jS9H9phrmTvvfutPNMNzGl
oOotEoEEFOLkrIawTwTNRAuaoMQoiGgnKCwr5sFlT5fiClib9Zhu/JmgrC0bZR/r13DmBgqt
UlG9GgK/d3CF0rEkMu</vt:lpwstr>
  </property>
  <property fmtid="{D5CDD505-2E9C-101B-9397-08002B2CF9AE}" pid="3" name="_2015_ms_pID_7253431">
    <vt:lpwstr>BZl+WzRAcSkpLktJg/L52rJSfi2BSWkL+x4MqtSnthBz9lKcnrlP1A
NqbXQfnBd/nLCowtBc/1JeYn7c/Iy8tYTtmwijn6GcA3so8F69B7/t9aLSx7smoCWuhfOAqZ
nwoE56108VwECnYdAzgqRIZGFCiw/qAdPgNQOcaj20nGnwQ+SuQ2nrdmz+Hm4WBVqzazunMq
ue8Ej6Ez6eWmOQnXDcBTH9z2gDl7U+F8Ha1t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qPQjuDBt4wQGSpnX5opvYEKjs9uxG1QGTJNr
aAUxIiL9eZcT1UXU1CCobV51inNklVZzRhIY8uomevVDXBvSGsw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1350675</vt:lpwstr>
  </property>
</Properties>
</file>