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</p:sldIdLst>
  <p:sldSz cx="6858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D8A0-DF16-4CAF-A002-39EE4B14CBF6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6912-F7D3-4283-BA96-1B0AD30A0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3B56-4CCC-48D2-8C4E-5AE7A56FE9CC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78C6-4F48-4475-B8F6-EFBE252F8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AF9218-884F-48AD-ACED-49AE3ABE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A63275-9B16-4DC1-8FD7-8E734416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9AA762-9A1A-4E48-8D6B-DC74612D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38EC21-666E-4AD2-9235-209BDC08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BBC9C6-42CC-48D0-9326-96C7A680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540A6A-0341-4213-82F2-5281499D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E8FA62-DD9E-4F8B-8EEE-AB427761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ACDA50-944F-44E0-8678-4BD374B1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B7D56A-86A2-401F-9E08-5C4B5328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2C3220-4007-47A5-BD0A-EDA6BAEB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73AC25-B1E2-424E-B74D-207383FC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8320F8-5B38-44C1-B574-DCB8162D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30E9D8-F80D-430B-B669-F3BDABF4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CC6090-6BD9-4ABB-B78E-765DC07B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69C106-EF3A-457D-8F2B-E8D50AC5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A5D34C-E32B-4ACA-B81F-6FD11FA5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3C0D89-B765-4E34-A1A0-ABA5B597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092F8C-EA72-4494-972C-16C05A2F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92883A-EBF1-4D4E-A04F-E56BEC8C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5B8210-77EA-4051-A6D9-42E6FC3C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92BD9-249C-4F0D-B1B0-30CBDE20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24146C-A495-4591-9617-2CE42D0F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6583D5-8AE1-4799-84DE-C31F834A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27D64F-B575-46FA-AA4E-51D15D61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2DDB14-1468-4DFD-8607-55B0BA34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7599B3-6935-43C7-952C-8C152650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9C2B63-E190-49A0-90DF-B58C95EF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1EDA53-16C8-4FA1-8B9F-F57FF996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2064C7-BBB9-44B9-9B28-FC7C99D8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6D5FA5-C18B-4AF2-9651-17551D97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10090-5A38-4A0F-AF3D-8B641938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4CC61F-CDB8-4E8F-86DD-ABBB37D4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E5DBA8-2A1C-4A4D-8BBD-AAF8474E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CDC366-334C-4FEF-8131-9141A6A5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E17D46-F955-4360-A659-4AF1C273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B25431-F9DA-4B0E-A0CD-9D1DCD84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20E400-15D5-4D7F-8061-2A7F9E05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CBD3E8-19CD-4084-9967-7DA68020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C04AF3-5849-4532-A528-87455689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67D9E8-6EF9-4252-AB8B-974F36FA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D9C98E-F53F-433D-AA86-FDEFE23D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B1342-C391-4ACB-8272-B4709854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7D04A8-AF08-4205-9832-5434BDE7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CF3FBE-DBC7-4361-BA5B-5809FFAF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D1D736-09CB-45F8-9946-5876EC1F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C9E0CF-38F1-4E9D-8F4B-756193FE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31E582-66A5-43B9-A761-E9D23105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1D64FA-93D4-42FD-9993-662EAA47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28407D-7E3D-46A4-904E-1436E41A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320B58-86D6-469F-A98A-E3956793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BBE2A0-3A50-4AC9-85C4-BD5045CC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AA495B-90BD-449F-B1E4-370DB4F1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478E1-99F4-4D61-9049-9BFCEB8D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27C620-3DEE-4BB2-BDBD-BB64BED4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5E5EE3-5FDE-4DDC-810C-A02724A2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836E12-888F-43FA-9BBB-A5A24EE8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751135-7FD0-4FB3-A1AA-F9DD7143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38357D-3088-4208-A058-C7C07CF4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1B61D4-846A-4DAB-9DEB-AA0C9019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4F910-079D-44BD-8E53-8457FB1B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142997-A652-42C0-AA54-6196F0F5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8AAAB26-1B81-40C9-9C97-CADEF94B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442854-9F9C-43F5-9B8C-0CD3ED73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6D815-E83D-409A-9F30-FF1EB7D0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580364E-DB8C-4B88-9008-631DDAE9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286A18D-980A-40E6-991F-D17CC39C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624B1D-E6B2-4FE7-9491-04B783D7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EA510D-5F3A-4F57-80E4-1E380F63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057739-1FD6-45FE-A23F-2B4A37C2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E088EC3-E86F-4C5C-B1DD-48521FF9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833FE2B-7D3E-4F6B-B6FF-DBB9F898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9C6C7D6-4A3D-4445-95E4-389ECFEA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E6F3C57-A4AB-444F-AC91-D78A75EE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F64CF-BBA2-4A26-889D-14724BEF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DC24F-BA0A-424F-BD0F-71E48F42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8BBDD-F7BD-4947-B674-E6456C28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4B43C-9AFC-4672-B86C-D1A34714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6838C-4898-4C70-B5E9-BD809A20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5DD18-DE15-472E-A8E0-5A7FF42D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43D30-4C1B-494E-8B9D-55F1E1B6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B330E-E4CD-4656-B1FF-2C84488B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BF76A4-42BF-4111-827C-72E23D02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8BC492-FF69-4888-A823-89267527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83187A-E20E-4450-9940-5F37C4EB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75B7C3-1C93-4CE3-A8EF-5E722D70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3282FD-7D68-4062-860C-4638ECC6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EA3D18-C552-4770-968A-A03FEE6B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891CFB-79BA-4367-9A09-7E89A43D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E336ED-2428-4B02-983E-E814EF92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7AB339-4011-4B2C-863D-5D96D536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95E49B-FED1-4B35-BAD3-461F0556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261F8C-7485-421E-843B-4AADDEC9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084928-C378-4DE5-B461-DCF243F0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84A2D3-CF1A-46B7-8CF3-5E1FBE6D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7B7E34-4F02-47F2-A650-81A9229A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079C9D-4CF8-4C78-9FF5-6DA04432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AC51A2-A971-4402-A86C-FA7EAA51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94F227-492D-4A6A-ACAF-E9D58900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2C97AA-B940-4255-817A-50BC9865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CD770A-A158-45F0-A266-AEB0E4B3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58871A-847F-4CA2-8A79-64F54C4E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135313-24DD-4566-9D19-7BA382F5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E1BEBF-76BA-4D4B-AC6C-E6DA2FDC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9180C4-EE34-4FC7-9248-C59E9F61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20D77C-4A59-4B7E-8A62-BAAE88C3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3B2129-BFD0-4477-B497-D387BD68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ADFBFC-A0BA-4144-9AFF-D71B2491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29492A-9060-4B16-8DD9-522BE5F3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AC9DC6-8DED-4126-A8B4-513ADC44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CD38E3-062F-40A6-865F-CFD32B4D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24A978-8C6B-472A-BABF-047FF0BE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84062D-BB1A-446C-A9B5-A7076D62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3EB56F-9B85-4A28-B543-A1488B3A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417D5E-2D66-4837-8D40-733C68A5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66F468-DD76-405F-B7FD-E9DBF200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2D84EF-C047-4BCC-8B31-D40FC91E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E9CC0B-D22F-4741-A754-1A3CBA11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F133F6-4732-414E-A720-FB4C2FEA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64F985-BB48-42A7-94F6-36C98E9E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3DAF99-9509-4233-9C08-DE3B0A63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507064-C164-495B-A289-F4A6555A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E30B5D-84C7-451D-A114-B1DA05F2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F23FD6-DDAE-4AC7-8161-AD20680C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53E1F8-CA7D-4F27-9BE0-DC439878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66EFEB-6CE8-4CE3-9202-9EE8608D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26151A-A6A9-4A97-85D0-B6461A20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353220-F6E4-492E-AF6A-E4010CE3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68C85D-8499-47D6-A08C-42873542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2082D8-B91A-4CC3-9B62-C457F143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DCE876-EC42-448C-9A5D-6C87BD5C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AD69F9-D9D7-499D-8B67-40A9F1CE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57D1A7-EEC2-4106-9B07-7ADF8080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EF2CCF-9C4D-4B6D-BFE0-ECCB9B85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ECFA31-06C7-4C85-B7D7-25B0F962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166EAA-6455-41BC-9C5A-C0B7517D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22F28E-BD3E-416E-8BBC-E13A1606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5D4FDE-ED08-48B5-971A-4C576F34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4F36D5-E79A-47ED-8BA4-7C6396ED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9BA61D-462D-4365-9482-226782C5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82ED32-A092-4A2B-BF98-D7D71AEB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CB7943-8BF1-4EE0-B96A-AB8A1677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2825C0-F2B9-4632-B332-0FA95C3A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341A7A-26AA-4326-86B1-B35AFC0C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CD31A0-6C68-4AA9-93F0-6AC2C32E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7"/>
          <p:cNvPicPr/>
          <p:nvPr/>
        </p:nvPicPr>
        <p:blipFill>
          <a:blip r:embed="rId2"/>
          <a:stretch/>
        </p:blipFill>
        <p:spPr>
          <a:xfrm>
            <a:off x="0" y="4665600"/>
            <a:ext cx="685656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532080" y="4826160"/>
            <a:ext cx="111348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</a:t>
            </a:r>
            <a:r>
              <a:rPr b="0" lang="en-US" sz="700" spc="-1" strike="noStrike">
                <a:solidFill>
                  <a:srgbClr val="990000"/>
                </a:solidFill>
                <a:latin typeface="FrutigerNext LT Bold"/>
                <a:ea typeface="MS PGothic"/>
              </a:rPr>
              <a:t>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446720" y="4800240"/>
            <a:ext cx="7934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C672FB52-BB49-494B-AC32-8618845D9135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8"/>
          <p:cNvPicPr/>
          <p:nvPr/>
        </p:nvPicPr>
        <p:blipFill>
          <a:blip r:embed="rId3"/>
          <a:stretch/>
        </p:blipFill>
        <p:spPr>
          <a:xfrm>
            <a:off x="5630760" y="4807080"/>
            <a:ext cx="982800" cy="2332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2087640" y="4805280"/>
            <a:ext cx="2082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楷体_GB2312"/>
              </a:rPr>
              <a:t>内部资料 注意保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3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C370DA2C-7384-49C1-8D14-B95B56ACD200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4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5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DBB9-F1B1-4070-AD3E-E82A065614CC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6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FBFC3100-073D-45E1-8E68-99B0ACFB9604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7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8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7B93-91DA-468F-9C7B-4E9982EF8D17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9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A67F1C95-8E3E-41EE-8AD7-195175C6EAE0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0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1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D72E-A6A7-4C18-AD9E-41C6D1F69AC7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942586C8-DC30-4CAA-A5E9-A55E130C39B2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BDB6-72B1-41AD-BA2D-A2D42A13867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6B82DFAE-DCD4-407C-8497-382FF542468B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7FE1-CF9F-4F0C-AF7B-FD4AABD0B087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6E617D25-5CFC-4B38-9BDE-6082E19AAF8E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2D2E-0D5A-433F-B253-1DE095E5A023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ogo"/>
          <p:cNvPicPr/>
          <p:nvPr/>
        </p:nvPicPr>
        <p:blipFill>
          <a:blip r:embed="rId2"/>
          <a:stretch/>
        </p:blipFill>
        <p:spPr>
          <a:xfrm>
            <a:off x="5630760" y="41846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2"/>
          <p:cNvPicPr/>
          <p:nvPr/>
        </p:nvPicPr>
        <p:blipFill>
          <a:blip r:embed="rId3"/>
          <a:stretch/>
        </p:blipFill>
        <p:spPr>
          <a:xfrm>
            <a:off x="1440" y="588960"/>
            <a:ext cx="6856560" cy="2857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23080" y="246240"/>
            <a:ext cx="8028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06.April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05800" y="4654440"/>
            <a:ext cx="164700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433840" y="2989440"/>
            <a:ext cx="11289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huawei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6929F8B9-E30D-4F01-BB40-B2E86C51FB40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10CC-0B19-4874-AB2D-F7680BC3A3D7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8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FC699388-6787-4725-83E0-59EB38CCAF61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9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0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4637-4320-495C-B1F6-BC8EC440EAFD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1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E352F19-8F33-4B93-B0EE-3781E4FF133B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2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3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E5DA-C386-43EB-93BE-097802E4F4B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4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FD3209F1-C6A7-46E5-9092-A8F51809126E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5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6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AC7A-B2F9-46D5-A918-E4677983CCA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7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F229FD51-87D5-423E-A558-07E7BB9A1505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8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9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FBDA-6EB3-489D-A346-02A7ED736DE9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0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612C631A-E6E7-449F-B750-C9BE9806DC81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1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2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2284-F908-469E-A93F-9F0E1C8D0DB3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6"/>
          <p:cNvSpPr/>
          <p:nvPr/>
        </p:nvSpPr>
        <p:spPr>
          <a:xfrm>
            <a:off x="411120" y="1079640"/>
            <a:ext cx="60357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BIER IPv6 Requir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draft-ietf-bier-ipv6-requirements-03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IETF106   2019-11-20  Singapo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411120" y="2859120"/>
            <a:ext cx="603576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Mike McBride @Futurew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Rajiv Asati @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Jingrong Xie @Huaw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Senthil Dhanaraj @Huaw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10760" y="410760"/>
            <a:ext cx="591516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Since last ietf: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39200" y="1058400"/>
            <a:ext cx="6409080" cy="35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tinued developing the requirements sectio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ttps://github.com/mmcbride7/bier-v6-require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moved solutions pro’s/con’s wording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For next rev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move all reverences to SRv6 - Ton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ove solutions summaries to appendix – Rajiv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odify req’s per feedback from toda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59920" y="267840"/>
            <a:ext cx="591516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Draft Purpose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15560" y="987480"/>
            <a:ext cx="6553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pecify the requirements for transporting packets, with bier headers, in an IPv6 environment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ummarize solutions (in appendix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lp the BIER WG come to a conclusion, outside the draft, on which solution(s) to rally behind and adop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89000" y="267840"/>
            <a:ext cx="591480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15560" y="987480"/>
            <a:ext cx="6697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.1. Agnostic to the underlying L2 data link typ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.2. Should not require hop-by-hop modification of the IP SA field. Should use an IPv6 unicast address in the 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.3. Should not require the BFRs to inspect or change layer 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.4. Should not allow a multicast address to be put in the IP SA fie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.5. Should not assume that bits never get set incorrect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.6. Should not require changes in SA filtering proced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.7. Should be possible to support the entire BIER architec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.8. Should avoid requiring different encapsulation typ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.9. Should process and forward BIER packets in hardware fast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.10. Must conform to the IPv6 specification as described in RFC82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.11. Must support fragmen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.12. Should support IPv6 security including AH/ESP extension hea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71600" y="274320"/>
            <a:ext cx="591480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45600" y="987480"/>
            <a:ext cx="6040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quite ready for wglc, will be by 1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continue commenting on the dra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7:41:12Z</dcterms:created>
  <dc:creator>Chen Ming</dc:creator>
  <dc:description/>
  <dc:language>en-US</dc:language>
  <cp:lastModifiedBy>Michael McBride</cp:lastModifiedBy>
  <dcterms:modified xsi:type="dcterms:W3CDTF">2019-11-20T03:38:00Z</dcterms:modified>
  <cp:revision>16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2015_ms_pID_725343">
    <vt:lpwstr>(3)d2cViwQcD5+2LLtggTQx9IHp7MRPajN5BxQzzQ+P6soBw06F5kaMG+ZYv7Nu0BsfmI2ixn5y
i9G42BPZwn9I1y3gAerqpsv9badvOCNPSNv69PouwW2ssVZ8IgQ4CNsrUq/1J6X9K/nv9EKx
rQ3vYK5Vc9bdI7p7dvq2xcF5htmns3kVpZpv8jS8/FCzGWwHlTvLscT+x1GUWmMhnpOoFMZV
INhB7TIcAQG93mEt+j</vt:lpwstr>
  </property>
  <property fmtid="{D5CDD505-2E9C-101B-9397-08002B2CF9AE}" pid="3" name="_2015_ms_pID_7253431">
    <vt:lpwstr>dMyxehvXnB5MVLGJtDDWVmKvAbxtRlaXarGez2waoaxGB4tvyaskZD
lcnRebyuElUBIAbgV92yi+CnzW5dsdivZ55x/ObRWB3yABetrg+KfEB/hz6Z3eLhvi14O/PO
I2R85RjPSUzfafTMfO+p4MVe/YXn0o3IEGwAnTRTUwCDpS2sO9bwEpj1HbeNaqi9oSLh5IYg
zaKyILKD3KbabAAo6TBxOM0f+dzZpyeaJGdL</vt:lpwstr>
  </property>
  <property fmtid="{D5CDD505-2E9C-101B-9397-08002B2CF9AE}" pid="4" name="_2015_ms_pID_7253431_00">
    <vt:lpwstr>_2015_ms_pID_7253431</vt:lpwstr>
  </property>
  <property fmtid="{D5CDD505-2E9C-101B-9397-08002B2CF9AE}" pid="5" name="_2015_ms_pID_7253432">
    <vt:lpwstr>jAZzqO/MiOuc/29UBdXaoB/OCVPlM60tGd+D
Ugs70wofcA32f5qFyqmFQPc7ACgG8EgeuBk/ADszfkkhkbAinP4=</vt:lpwstr>
  </property>
  <property fmtid="{D5CDD505-2E9C-101B-9397-08002B2CF9AE}" pid="6" name="_2015_ms_pID_7253432_00">
    <vt:lpwstr>_2015_ms_pID_7253432</vt:lpwstr>
  </property>
  <property fmtid="{D5CDD505-2E9C-101B-9397-08002B2CF9AE}" pid="7" name="_2015_ms_pID_725343_00">
    <vt:lpwstr>_2015_ms_pID_725343</vt:lpwstr>
  </property>
  <property fmtid="{D5CDD505-2E9C-101B-9397-08002B2CF9AE}" pid="8" name="_change">
    <vt:lpwstr/>
  </property>
  <property fmtid="{D5CDD505-2E9C-101B-9397-08002B2CF9AE}" pid="9" name="_full-control">
    <vt:lpwstr/>
  </property>
  <property fmtid="{D5CDD505-2E9C-101B-9397-08002B2CF9AE}" pid="10" name="_ms_pID_725343">
    <vt:lpwstr>(2)nEjfLa5zkFjJ24cFH1rD/CO99/SkKnuZt+jVj3euFWHS8MDkQjkBUSuq5IKksPFWrQEBjRsK
X+9l3cxTXRvzitClRlh3DpX2uIOS2R1ylp5QzOrr9VjtVeoV/WboZE7JM5mA6wA6hPIyRfnA
B86tkkz7o8RCTCbH3lBENhFaLa430zPmj47FtwLuMS+E1k3ruXoA6lIpFD5pxcmNqojImzW4
GwtdW1BZqH632JDAWU</vt:lpwstr>
  </property>
  <property fmtid="{D5CDD505-2E9C-101B-9397-08002B2CF9AE}" pid="11" name="_ms_pID_7253431">
    <vt:lpwstr>nhH+p/c2eKA5nuNEEnrUckmJKi9mx6LklbuGnSvOwQe8mcbzaUyX8z
ivZ/xK2LwqmMFV3oMI0hQ5nIm0nwBPrb6dNV0x0ONe1veEp3g/9l3w==</vt:lpwstr>
  </property>
  <property fmtid="{D5CDD505-2E9C-101B-9397-08002B2CF9AE}" pid="12" name="_new_ms_pID_72543">
    <vt:lpwstr>(4)8pb00NXgvfolPpdOp/im+iyocGkxj/FUozmtz+z3gf+89nHNxJewsJZtSXf5VaB6o0OySm5d
8gJwl174hgqzvOKZ9ktSU80sEzQWz+ediLA3FTdnitiu6PmyptT7CdkmWgnWetjIsC0wZ8k1
W/xfL6d9Zz02BuWRLVbj60gAnn7FXSD47ByU1iFS2iBgNVPDWqptFOpG7EGg/52sr796NAe6
Y88lxiNYEsD1weV4F7</vt:lpwstr>
  </property>
  <property fmtid="{D5CDD505-2E9C-101B-9397-08002B2CF9AE}" pid="13" name="_new_ms_pID_725431">
    <vt:lpwstr>q6f4vIblOYL9YUlQw4CP+hRGkRVRz/K88xTcCqM2TwfOF7lkn3vAEC
3+jPeoxHE/A6OcWwtKbWIgLEAFTHSMCU7vs1fQ+5oJypm6dqE9pPFXxOyWxAT7U1Xsz0Gq7t
wPyuDZFIE0AtufL4sKGECU+Mguj4AvfcNMKe5Vi7WziBZWrOTV99ZFu4PkQO37as5Yqy9LvI
lAl7byCF9QET+JXyHTe8uCFR/XYVz+qCOiu+</vt:lpwstr>
  </property>
  <property fmtid="{D5CDD505-2E9C-101B-9397-08002B2CF9AE}" pid="14" name="_new_ms_pID_725431_00">
    <vt:lpwstr>_new_ms_pID_725431</vt:lpwstr>
  </property>
  <property fmtid="{D5CDD505-2E9C-101B-9397-08002B2CF9AE}" pid="15" name="_new_ms_pID_725432">
    <vt:lpwstr>z7SAloLzPkKVNgiMlG+aDfsWNnntB5eaoVEQ
3nMuZfFFwpho/aTa1IU/IkK9+arTH6FV42W2B54W7pcEwahC9jb9alrmJ/1/iMjMlhdSPZTA
eoTX1lmZ4IH1To1PhIk7P8s6DyYeV9YmksxKB0KMM4wNXUK5c1R1jgCJPrnuoaTc/erG6n77
UOCBtkcmIPYMZ6SHWKblasdnWmcydo8N42cifZ4XLeD8W/b3/qIlSr</vt:lpwstr>
  </property>
  <property fmtid="{D5CDD505-2E9C-101B-9397-08002B2CF9AE}" pid="16" name="_new_ms_pID_725432_00">
    <vt:lpwstr>_new_ms_pID_725432</vt:lpwstr>
  </property>
  <property fmtid="{D5CDD505-2E9C-101B-9397-08002B2CF9AE}" pid="17" name="_new_ms_pID_725433">
    <vt:lpwstr>loxyd/lA5K1PndCMAt
wIYmBxctIdXWQ4qfL8GKFDszyBvh+zINy4Sn9UBWwfN+apNH</vt:lpwstr>
  </property>
  <property fmtid="{D5CDD505-2E9C-101B-9397-08002B2CF9AE}" pid="18" name="_new_ms_pID_725433_00">
    <vt:lpwstr>_new_ms_pID_725433</vt:lpwstr>
  </property>
  <property fmtid="{D5CDD505-2E9C-101B-9397-08002B2CF9AE}" pid="19" name="_new_ms_pID_72543_00">
    <vt:lpwstr>_new_ms_pID_72543</vt:lpwstr>
  </property>
  <property fmtid="{D5CDD505-2E9C-101B-9397-08002B2CF9AE}" pid="20" name="_readonly">
    <vt:lpwstr/>
  </property>
  <property fmtid="{D5CDD505-2E9C-101B-9397-08002B2CF9AE}" pid="21" name="sflag">
    <vt:lpwstr>1574045458</vt:lpwstr>
  </property>
</Properties>
</file>