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3927-F686-4162-AB6E-797CC570BB89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C9336-FE5D-4590-B3B4-33491F6D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C48-5E7C-4571-8A00-895AE74D7F7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52B6-5D46-4A00-ADAF-5A03597066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31DD62-F1F0-48FB-B92A-AF119749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1DF967-9093-4248-A936-81DFCAC90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47840EE-76C4-4857-8F27-5F16A229E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C0FB1E-500C-4575-8017-5A517EB9C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8DB0B-F9EF-4A74-AFDB-571CE2FC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4915C5-F909-4C2E-9C79-E7EB1CCF4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60CEF3-5286-40AD-A23A-FB99D500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795DD-6379-45E2-A4E6-18E61DEFA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8F18B8-DA26-47CF-BBD4-E4F01A1EA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241CEB-0A5B-4F75-B9B5-A16AF3380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108D41-0B6E-4078-B14A-0990980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E84F3EC-110F-4B70-A009-636FE0836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375817-E8E0-4B86-87C3-F1B7949A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31DCF8-A5BE-443F-BCBC-DDBA51253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4EFCE5-9B98-40CE-9635-93AA6B85A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5F109F-F55F-4ACF-BB1A-D747420F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DB357E-9D1D-428F-B05C-72C74541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86DC1B-DD71-45D7-830B-12C4B3CF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F7CBA5-5684-4F85-BCDA-7C6819782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E2622A-5F52-4986-ABF3-4B48C1A6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5360D75-8E45-4F3E-B6A2-4B8BEC4EF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A1519B-291F-4AE3-8335-608EF0575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0D8B4C-0474-486A-9C58-136576BE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EDB59B-9B75-4EB0-A8C9-960739DA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D9CD3-5D5E-4CD0-9220-AE51A1247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7370D1-C86E-48A2-832D-A9225B26F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6B7A74-0D44-4385-9CA9-2867DE55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446161-AE3F-47F9-AF93-36DB396E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B873A7-EED8-4CC2-8CC1-9A1F53A9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F0C10-F103-4379-8F9D-74562AC3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AD984-E086-4D0E-AF54-9BB8E6529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CAA77C2-5AE1-4687-8A73-79E160FE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5965F1-0007-49C7-93DD-7334CE8E0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D1765D-2C13-4AF6-A0EC-3E7DA983A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A88BDF5-252A-4BC2-BBCE-90B415352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9DE686-C1B9-4B81-8425-80C3F0BC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7E6267-7793-4EE3-8C58-6953A3F4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7F2DFCE-B9AD-4395-873F-079507124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D362A0E-4884-4291-8F2E-C5334BB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F403CB-FC9F-4035-BE7A-3AC302CAB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F6E604-CDB8-48BF-B01C-E3C679899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0CDF5-8593-4344-83EE-F0E28CF2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DE3F4D3-9B64-4C6A-A009-A19EE1F98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78463EF-A409-4A55-9ACD-2B927A357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DB64CF-9F1B-4A12-B423-CA418E1E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B80B40A-E29C-4418-A7EF-80983BF53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F8261BE-C05A-4E7F-B753-BD3ABC9A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8DAE37-9BF4-487A-85E8-5696CF7ED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050227E-2706-4F7D-A1F1-674F3719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2608DC-BEAD-4C65-855F-F7E844BF3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45200-07B9-4851-8E83-1EBC5167F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32B733-C4F6-4E74-A0D4-5F7A919E3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6BE42-0DFD-4472-A552-C9717C2A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787005-3B5F-4E2B-AD01-8DEBE4BCC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810670-8A96-4359-8E12-719953BA4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C3A79A-296B-48CA-B9BB-ABFE674C5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FA1A6-3B8E-4C03-B54A-126405E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1C46D5-E034-419D-B183-F90AF137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A87BD0-D325-455D-AA22-4259CE09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CA33C7-BF4E-46E4-A6B3-0BC3803F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A36128A-909B-4614-9F4D-77AB175D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F7FA823-75C4-42B7-8CBE-9FAF38E2E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14770CF-1B9F-4920-AC78-97BD53BE4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4C7A7-29C5-4FC4-9673-8FEAF91D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62F8A4B-8776-4051-A58E-36CA5792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1389EF-31AB-481B-8F71-36C3C5FB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C26EE29-3DB4-4675-9953-C9FD5E63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331E3F-C0A6-484E-AAEA-BA9E19634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246B5B-D610-4C90-8CA9-261C42B4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A944C9D-25B3-4D1F-80AB-097187C9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DDA93F4-3A02-4048-B5B4-62F98EDD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42CB5E0-169D-4218-B2BE-88AB5DC3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0273069-FDDC-419F-8434-112511F4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7E81F-3520-41AF-ACFF-4F718E88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E69F0D-DBCB-4E3F-840F-95BC55EC0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5AB2CD-DA98-4957-89BD-B293A8CA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C98288-A8B7-4274-813C-52558C6BA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3836D-B416-42D2-B500-53666E2C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6FE86C-BD93-47EA-8047-E5C7D7C9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83D270-F16A-471B-B0FA-CFAEEC153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3E19FD-D0C2-419F-971D-3898B55D7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21E9DB0-C883-41E3-824E-C4B587EDC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3A1561-C021-42B2-B0D4-8974B1DA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FE94C-97BE-4B6D-9264-D2010517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AC7A95-79B0-43B0-AF71-2E0D66D8F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900C9C1-B3CD-4244-A280-7322C88AD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CAD6F9-1B4B-4344-91B9-5E6F6C81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AEB7458-1931-4632-BEF3-EE06382FD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438536-DE69-4DDA-BD82-8A522F54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A83FB6-A2F1-4586-A0F5-FEDFF92F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FCA57F-66A6-41D5-9B13-0DE9B3DE2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0454FB-CC14-419F-9072-A15598B0C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77838-8C01-4CD6-9602-3F020B730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484B4B-C166-462A-A3BF-3EEC95A2C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62F6EF-A581-4427-A750-956B44350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36D2AD-B6BE-4895-BA0D-0F023B85D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46B23D-BE30-49EF-B8CC-FDC397E2B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40C63-B898-43F1-B100-E633D5AB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4EF558-AD49-44D4-9529-CC23CEBE2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D694ED-EDD7-4257-82E5-67D347EB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E841E8-BFB3-43B3-8A0A-44FB80F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15D553-B9CB-4785-B6EA-2D72298A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F83DC6-6F4E-4339-9FE7-4BD7C884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7E8987-9DC7-426B-9F9F-5975F00B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39A3D-5C69-4F34-AADF-B42C7E9B6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B61E94-0C3A-4DD9-BD60-228E0CADA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3A0A74-4FBF-4F02-85C3-608B388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E7CFA7-95D6-45C1-A5DB-963DCAA2E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FDC9428-AC3E-4AEB-99FD-E3D69CA1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11F1F4C-05B9-42E8-8683-C7567C15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CED946F-374A-4CEF-BDFF-20B65CF58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9ED119-703C-4A80-93F0-556BA7EE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970E66-9169-44CE-85C9-E7E281CB2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6DB662-C7C2-43C6-92F8-334E0435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1E5CA4E-8454-472F-A8E0-615F06F8B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31ADFE-41A8-44C4-834D-202FEAD75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74FBA-C366-478F-A642-0FC2B927E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C36227-4C41-4EC4-9847-A36DAC2F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1E6DAE-5B2E-4406-B65A-337C1159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5C8041-51F5-4B27-8F61-8CE7ADCD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957B225-67B0-4D2E-AE2D-00DB94D0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E79D53-2A06-4FD6-9B5A-4C0BF6509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71FEFD-00E9-4751-BFE1-C807222A7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2A6EEA-5509-4B7F-AF6A-0C977F6B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C9AE530-BA23-4A15-9F17-F335D3BAE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565B92-B442-4559-BC30-06C8807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ECE04-9AC7-4A95-9861-50241BA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9C0B59-E4ED-4E7A-9CBA-E9DBF706A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FD6E4F-E249-4543-8EDB-0FB73877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7E71D4-7E9E-4535-99D4-812683B4B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5A2F17-B53F-4D0C-8999-BA5B5154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138187-47A2-4D97-9A86-96871AC6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B1B8ABF-A4F5-48DD-9DF1-C33A4E18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9EA5E13-B9BB-43AF-8A68-F2F15C084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E071BA-2C5A-4F54-8A49-7A3ED152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05B32B-2FCF-4D93-9A3E-0E63F656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8C0125-8DE8-4E3E-A7CE-9E742602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61B288-8137-4421-B12D-3FDABED9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B2E6D51-D9FB-43BE-AEF7-29FBF3673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840CDD-BFBE-424C-9835-692D1CFFF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AAFDF4-A189-423B-B740-EE2A473A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06B7A7-812D-4C0F-954D-F33D69B54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15C2A9-8234-40FF-ADCD-5C361844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CBA21A-7629-45E7-A566-745A543F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EED4E0FA-5478-4FAE-8E4B-2EAE34069433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9FD0EB0-7F97-45BC-88BF-AC370B6B50B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9D461-2574-4322-87F1-6B794064983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C3572B5-FD17-4925-A5D5-F626FA691F0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B34F-CF38-4516-9709-B6B44BFC9DB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13DE4CB-590D-425E-A539-32F6B51E188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6A2DE-72C3-4A63-ABD8-BC0B4E19AC4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2840FE8-704E-4AFE-AAB3-68ABEEF1BBD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071-74E7-4E7D-9CDB-922A4F59DC4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80000AD-0F2D-414C-8088-6A74FDEA16C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BE8F-EF47-46FB-B0D3-A13714A9E99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A9F8DB9-2BAE-4A5D-8B56-ABED7DC51AD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BA76E-80D6-4808-8C7F-F854E6D5876A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2C2433B-AF3D-4419-B57E-E4E96EC5141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EC1E4-9E20-4156-ADE8-FE05216831A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19F991E-04CC-417E-865F-C91D73A813F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496E-554F-481F-941F-195478FB9CB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875050A-81BF-4D82-8F48-6254B466476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FF4A6-A98C-4C04-ABC0-8B1F8B36692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3567556-0066-44B3-8892-322FF36CA1B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FEC80-FF77-4A33-95D0-EB34FF2C933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75A63C7-246E-4EE4-8937-2B5390557EE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72B4B-BA61-45D7-B57C-EC471C2AFB8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EACA149-0415-4BC2-A58F-114CA0817ED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D948-88BC-4A82-B8C2-3167392F923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ietf-bier-ipv6-requirements-03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6   2019-11-20  Singapo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@Future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@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ince last ietf: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39200" y="1058400"/>
            <a:ext cx="6409080" cy="35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ontinued developing the requirements se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ttps://github.com/mmcbride7/bier-v6-requirements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moved solutions pro’s/con’s wording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For next rev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Remove all reverences to SRv6 - Ton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ve solutions summaries to appendix – Raji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Modify req’s per feedback from today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59920" y="267840"/>
            <a:ext cx="591516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raft Purpos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15560" y="98748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 the requirements for transporting packets, with bier headers, in an IPv6 environme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ummarize solutions (in appendix)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 the BIER WG come to a conclusion, outside the draft, on which solution(s) to rally behind and adop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115560" y="987480"/>
            <a:ext cx="669780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. Agnostic to the underlying L2 data link typ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2. Should not require hop-by-hop modification of the IP SA field. Should use an IPv6 unicast address in the 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3. Should not require the BFRs to inspect or change layer 4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4. Should not allow a multicast address to be put in the IP SA fie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5. Should not assume that bits never get set incorrect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6. Should not require changes in SA filtering procedur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7. Should be possible to support the entire BIER architectu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8. Should avoid requiring different encapsulation typ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9. Should process and forward BIER packets in hardware fast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0. Must conform to the IPv6 specification as described in RFC82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1. Must support fragmentatio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4.12. Should support IPv6 security including AH/ESP extension head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45600" y="98748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 quite ready for wglc, will be by 10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continue commenting on the dra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9-11-20T03:38:00Z</dcterms:modified>
  <cp:revision>167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d2cViwQcD5+2LLtggTQx9IHp7MRPajN5BxQzzQ+P6soBw06F5kaMG+ZYv7Nu0BsfmI2ixn5y
i9G42BPZwn9I1y3gAerqpsv9badvOCNPSNv69PouwW2ssVZ8IgQ4CNsrUq/1J6X9K/nv9EKx
rQ3vYK5Vc9bdI7p7dvq2xcF5htmns3kVpZpv8jS8/FCzGWwHlTvLscT+x1GUWmMhnpOoFMZV
INhB7TIcAQG93mEt+j</vt:lpwstr>
  </property>
  <property fmtid="{D5CDD505-2E9C-101B-9397-08002B2CF9AE}" pid="3" name="_2015_ms_pID_7253431">
    <vt:lpwstr>dMyxehvXnB5MVLGJtDDWVmKvAbxtRlaXarGez2waoaxGB4tvyaskZD
lcnRebyuElUBIAbgV92yi+CnzW5dsdivZ55x/ObRWB3yABetrg+KfEB/hz6Z3eLhvi14O/PO
I2R85RjPSUzfafTMfO+p4MVe/YXn0o3IEGwAnTRTUwCDpS2sO9bwEpj1HbeNaqi9oSLh5IYg
zaKyILKD3KbabAAo6TBxOM0f+dzZpyeaJGdL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jAZzqO/MiOuc/29UBdXaoB/OCVPlM60tGd+D
Ugs70wofcA32f5qFyqmFQPc7ACgG8EgeuBk/ADszfkkhkbAinP4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74045458</vt:lpwstr>
  </property>
</Properties>
</file>