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6858000" cy="5145088"/>
  <p:notesSz cx="6858000" cy="9144000"/>
</p:presentation>
</file>

<file path=ppt/commentAuthors.xml><?xml version="1.0" encoding="utf-8"?>
<p:cmAuthorLst xmlns:p="http://schemas.openxmlformats.org/presentationml/2006/main">
  <p:cmAuthor id="0" name="Gyan Mishra" initials="G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20-11-13T18:45:08.542000000" idx="1">
    <p:pos x="3416" y="1700"/>
    <p:text>Moved from Body to Appendix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FD42-BC48-4CEF-9BBF-6AA7CA1229D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C77-D253-4A45-B412-36CB3973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4A35-C599-4970-A9A9-C36DCDD9D30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AB0-B15D-44C0-A025-886FA4AB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646280" y="696960"/>
            <a:ext cx="3565440" cy="26748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AC17A-1275-4D0B-914B-0BAF96C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24DC30-3C52-4D66-B882-D0F8489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2A147-7FE1-4473-96C6-01C8657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32D65-FDB1-4CCC-886F-4532194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E936D-BB0B-43C5-A812-756C3048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0BF16-D5F2-4B51-8E4C-2A98D52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A1527D-0F9B-4367-877E-7F557774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B78AED-AFE7-4050-843E-BBDB075C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B0D8A6-EDE8-47C7-AC1F-90E7757C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EB11A-E079-46C0-B6BA-E86267DF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6EB54-8032-4FF9-AD29-42DC5A9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6DA68-4CEC-431A-AA93-B9EB40D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E5EDC-109A-4555-A7B0-8FF002E0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388B8-85BA-4F2E-B85D-ABAF3E9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734FA-B07E-478F-8805-51C8DC8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7512D-AB1E-493C-88C9-086118B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73630-4FAA-406F-822B-EA392A33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51E46-D605-4607-A992-624B2A5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4D1B3-19FD-4402-950F-2FCE352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6B6C3-064A-41CB-9B7C-AA88AFE4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2C743-7B99-44C3-A6A6-9E4EE52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09CCA-EC5E-4581-A1E4-1C14169A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81B7F-B75F-4B0B-854C-72D65FF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5C63C-850D-4DDC-81C7-B682E58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2F71D-8076-453C-A8EC-71366E4B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8272A-1664-4C1F-B790-AB38A7FE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2D8CC-5341-420E-AE20-D6B5826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A0BD0-8D71-473C-ABD6-2EE2056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15BFB-D713-4D5E-8324-977534F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B516B-E257-4337-B863-C82946F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1DCE-27FF-4329-9E69-81F7C4C1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1C3A8-B20C-45A9-BB7F-8A20BA85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41F21-9148-411D-92E9-894DC9B8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2BE8A-2C0A-4B72-8390-CC061050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F51FFB-4B23-40AB-86B4-03B4B9B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7E8C02-5E21-429E-A9CC-AD4121DB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6A25EA-4978-4DAB-BE6A-49AC0A0D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E214FA-CC02-4355-8510-72B967A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A3CEFC-7CB3-4776-9C5F-FB19CA6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D4355C-D533-434C-AB19-9E54F834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33B293-5B5F-47D4-8606-28E1D47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05B7F-6A87-43DA-BA02-AC284E1E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9429C6-F583-4AA1-A4BF-08B2A10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1BA4A-DD80-4426-94E2-7153C01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A103F1-166C-44BB-8E01-594D3FC5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1C15EF-9110-42EA-9AD9-595828A3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B7BE7D-C1E7-4F35-A793-CFFC270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2300F-723B-4A23-AACF-EF8BD5F7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75D3A-E731-44CE-B269-07B63C8B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B8E23-1192-4BAD-A9AD-5C16E107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E8A6E-AAB5-4CAD-BC9F-3AFAC09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A5A2B-1CF2-439F-91C0-2BA4835C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5F7A-B4D0-4659-B3B0-4386407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26E92-C1AA-4454-83AD-A853F71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31AAE-D72E-4803-B4AF-D3DDE9A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7BB2D-279A-44C3-B37C-1ED891F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2E81D-25D1-4700-AFD3-4ECF3A2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35C72-596E-4481-AF68-9BD3577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0FF88-2F68-47F1-99C2-34C4D013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661EE-5FB6-4A34-AB29-4B2E7779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D87E4A-0CF2-4C87-AADC-8EBD3998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C91099-A9FE-4CBF-9776-109E8FB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86B5F4-A06E-42A1-A4DA-42E75E2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E4F97-0753-47B7-8FF4-5E05178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C95F3F-3E15-4C7F-9133-E97822A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84FDF7-ABAE-4AEA-A2F6-F4D3F40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EFA7CA-B1CA-4705-8C46-B02A01E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18AFD2-06F9-4CFB-9102-3E423B7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F45575-EC64-471E-8FD8-9FFF91B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C2818F-DBBB-49AC-B778-C9CEEB2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F35FDB-6A79-408A-B198-6869952D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356215-0925-43BA-BCCF-B3E159EF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7D9F9B-2BA6-4B7D-997A-B426BF29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3EE15-36E3-463C-808C-3636792F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FD83C-63D6-4B5C-B2CC-D1B4BFC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121AB-00F3-4958-8A46-2942B19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61D6-2B3B-4C93-9414-8CA49997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B62C0-43AE-4294-BB4F-7D4CCB08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F4F6-FDF9-4594-889A-C0D8FD8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3FF2-E056-40BE-88D6-2AC60F0C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701D3-3CC5-49AF-9D14-5CB2B514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DDDAD-E061-4CE2-B665-4A148486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56248-5ED8-47BF-B158-DB568D1B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CEEAF-CD7C-4FC8-BB23-D8544452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A030D-422C-48FF-92C9-2C60618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2A498-9FE1-49D5-9C7B-71D6F30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8E4B2-9885-4D43-8974-5BA3E4D0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8923E-8F4F-4EC2-9B47-212691A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79819-41E3-48CA-8D00-DB39047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AB1F9-1DBE-41B2-B1B2-431CAD7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28529-4AB1-44E9-ACA7-1788D5E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BF997-5A2D-40EF-8539-678D6C46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648F6-26C1-4C8B-935F-62741C25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E9DBC-6AC0-46EF-9A47-BACD51B0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5C429-5EF2-4AC8-BE6A-CA3AAADE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E27FC-9A69-457A-9E24-AC8E000A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D8665-98B5-4415-B7A7-0979F5E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D3DFE-6D3C-4ADC-B226-7F9E3AE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97A2B-9B57-4135-9DB3-2CCCD1B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EAAD9-1AC6-4F71-9FBF-D413F79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9D796-D130-4FF2-ADCB-494B66B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DA52C-63D8-4F8D-8720-84ED884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91EC7-35FF-44EA-AE4C-ADCB3F0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DE493-7473-458E-B91A-C1EA9E1D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DC845-E8C8-4FDA-9DCB-D30A80A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4E3DC-D5E8-419E-8AE5-CB229CB7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161F22-DD98-43F4-B9D3-9DBB4CC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742D2-E3C6-4F3E-8ED4-79D996E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12BAF-6727-46FC-B7C6-E656073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C6A5F-CB0D-4ABB-8FF1-1A19D3EA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435EA-1613-42CD-B1C7-5D985C8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02A68-C0BA-4BC5-AA6B-914F3B8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13FB3-EA06-4F21-9F5F-91B04B1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1B9C08-9B70-4107-9A53-13D795D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1D90B-1B4E-4056-83F5-E2BEBB76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AA8EB-3FBC-4C79-8552-533319E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7A9FA-AB24-45C7-AC66-0ECE5766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D7A16-8BD4-427A-BAE9-B4F46FAF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95661-E4BF-48F3-B9BB-D297747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DE5FA-7E48-4010-A62B-A451D44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9DB77-2A6E-4546-B131-664B3F6A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81AEC4-33A4-4DA6-9492-B93770B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08722-9BCB-4D6C-816D-3572480A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A7327-2348-4BEE-AFF7-EAE0950C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5FEB5-9E7E-43EB-8CCB-152DDB2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2A4C0-63EA-4766-9CA3-7A92930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F56961-3327-41D8-A78D-4EE9F27A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61D2D-43C9-4DD8-99C5-0D10639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88503-C657-426F-A142-BE0256D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49BC5-87C8-4C01-A096-D4D28BE6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88358-DBA3-4930-BFA0-2FC68328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7CD5F5-5637-4FAE-82BF-C2583B51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122B9-C80D-47E9-BA8F-A22BF863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775B8-5F2C-4960-A6D3-4F7EC2E7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1EA31-6FE1-428D-842F-6728272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E80D04-B0F4-49FA-BC7C-697D0DD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3C02A-6510-45E7-8CF9-5DBFA44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B8126-288E-40FA-A563-D0508A1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7E199-494B-473A-8D82-2A5C15A4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BCF108-9A92-4A25-BE46-47D53EC6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CFEA91-09AA-4227-9A77-20E440FF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FBC48-1BF9-4842-99BC-04DD8024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627F4-AFBD-4D69-978F-C0D69D8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BA5C9-A9E6-40A8-8E3A-EE5B15A0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BD83E4D5-84FD-49F2-8CD8-A45FC1892B22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586C9B6-B25A-469D-8EC9-2415677B511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A35-8003-46BC-8336-F9D51EAA968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39C575B-D645-42C9-AAB0-B9411F4A0A4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EF42-99A3-48B0-83B7-67CA343F835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8343E87-4CD7-47EF-9333-F3C35442BB4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6DA-6DD9-481E-82EF-30193060F19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296012D-7FB2-4D1B-B850-185502BB415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5068-9983-4FD1-A62F-413A37E2A88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2EB1D3A-A42B-451F-AAA6-FB33887F534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1B5-A61A-49FE-9E15-1DBCA7D0BAB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A1DEE57-61BD-4A6A-8F43-B7E34F593BA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7850-4A6F-4A67-9A8B-C1EDC4883C6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8DD5A46-8670-4B06-9770-408550C3C86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612-D2B3-45F6-8498-B73DA74A173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1E5D655-21A3-4A73-96FE-E30BF8E6AF4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F5C-094A-4D91-B587-A7C5BE20CCB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E1CC6AF-675C-4D57-95B1-337E54A0045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120-A0CB-4AE3-A80D-FD85B50D9EC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81F3881-95FD-4E0D-A20B-53213A148C2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0C5-DCAB-439D-A956-64116D37E9D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26B45B5-A9B9-43B5-816F-D73416B52C7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69D-0D9E-4863-8720-A1B07B5AE40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A925EAD-93F2-4600-8B2A-8E47DB9344E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756-18F4-41F4-A270-29FF90458C6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411120" y="1079640"/>
            <a:ext cx="6035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ietf-bier-ipv6-requirements-06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9   2020-11-16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411120" y="2859120"/>
            <a:ext cx="60357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- Future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- 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, Senthil D - 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yan Mishra - Ve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ongqing Zhu - China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effrey Zhang - Juni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915840"/>
            <a:ext cx="6858000" cy="3168720"/>
          </a:xfrm>
          <a:prstGeom prst="rect">
            <a:avLst/>
          </a:prstGeom>
          <a:ln w="0">
            <a:noFill/>
          </a:ln>
        </p:spPr>
      </p:pic>
      <p:sp>
        <p:nvSpPr>
          <p:cNvPr id="683" name="TextBox 3"/>
          <p:cNvSpPr/>
          <p:nvPr/>
        </p:nvSpPr>
        <p:spPr>
          <a:xfrm>
            <a:off x="349920" y="19512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1 Independent Model – Continu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0" y="185760"/>
            <a:ext cx="6858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6742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919080" y="195120"/>
            <a:ext cx="5019840" cy="49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 Light"/>
              </a:rPr>
              <a:t>BIERv6 Revision Change Log History per WG, Chairs &amp; AD request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15920" y="842760"/>
            <a:ext cx="6732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0 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1 = 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2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3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4 = Problem Statement, IPv6 Scenario’s,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5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6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7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ist of Solu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8 = Problem Statement,  Mandatory &amp; Optional Requirements, Appendix A –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Appendix B-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ist of Solu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9 = Problem Statement,  Mandatory &amp; Optional Requir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***Some Clarity as far as Solutions Contentious Debate***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“BIER IPv6 Solutions” have always been present since Rev 00 May 201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 09 was the first time the Solutions was omitted completely from the draft at the request of Chairs &amp; AD.  Each revision we have tailored the draft to accommodate all Ask?? By the WG, Chairs, AD.   We are looking for consensus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920" y="267840"/>
            <a:ext cx="591516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raft Purpos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15560" y="98748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 the requirements for transporting packets, with bier headers, in an IPv6 environme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cus on Requirements Only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 the BIER WG come to a conclusion on what the requirements are that are on the table that are “Mandatory” and which are “Optional” so that we can move forward to next step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“Solutions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 – Rev 0 - 4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88640" y="9874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2 agnostic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BH Destination Modification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4 Inspection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cast Address in SA field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orrect Bits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BIER architecture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orm to existing IPv6 Spec 3,4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Simple Encapsulation 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内容占位符 2"/>
          <p:cNvSpPr/>
          <p:nvPr/>
        </p:nvSpPr>
        <p:spPr>
          <a:xfrm>
            <a:off x="3716280" y="987480"/>
            <a:ext cx="2521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 filtering 0,1,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Fragmentation 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ware fastpath 0,1,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v6 Security 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 – Rev 5 to 9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88640" y="9874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2 agnostic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ious L2 Link types 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BIER architecture 5,6,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orm to existing IPv6 Spec 6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deployment with Non-BFR routers 5,6,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nter-AS multicast deployment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Simple Encapsulation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Deployment Security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OAM 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内容占位符 2"/>
          <p:cNvSpPr/>
          <p:nvPr/>
        </p:nvSpPr>
        <p:spPr>
          <a:xfrm>
            <a:off x="3716280" y="987480"/>
            <a:ext cx="2521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MVPN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OAM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AH, ESP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ESP 7,8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Fragmentation 5,6,7,8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hardware fastpath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47480" y="105876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e review of the evolution of the draft and where we are today from 1 ½ ago helped to see how far we have c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? What is it lacking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es ? Let’s move on to solutions adop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985680" y="1402920"/>
            <a:ext cx="4886640" cy="28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92320" y="158760"/>
            <a:ext cx="54482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4c4c4c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7" name="Picture 1" descr=""/>
          <p:cNvPicPr/>
          <p:nvPr/>
        </p:nvPicPr>
        <p:blipFill>
          <a:blip r:embed="rId1"/>
          <a:stretch/>
        </p:blipFill>
        <p:spPr>
          <a:xfrm>
            <a:off x="2712960" y="2065320"/>
            <a:ext cx="1432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985680" y="1402920"/>
            <a:ext cx="4886640" cy="28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92320" y="158760"/>
            <a:ext cx="54482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4c4c4c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TextBox 2"/>
          <p:cNvSpPr/>
          <p:nvPr/>
        </p:nvSpPr>
        <p:spPr>
          <a:xfrm>
            <a:off x="2069280" y="2173320"/>
            <a:ext cx="2884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ookman Old Style"/>
              </a:rPr>
              <a:t>THANK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YOU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0" y="411120"/>
            <a:ext cx="6669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Gyan Mishra</cp:lastModifiedBy>
  <dcterms:modified xsi:type="dcterms:W3CDTF">2020-11-14T07:53:01Z</dcterms:modified>
  <cp:revision>17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d2cViwQcD5+2LLtggTQx9IHp7MRPajN5BxQzzQ+P6soBw06F5kaMG+ZYv7Nu0BsfmI2ixn5y
i9G42BPZwn9I1y3gAerqpsv9badvOCNPSNv69PouwW2ssVZ8IgQ4CNsrUq/1J6X9K/nv9EKx
rQ3vYK5Vc9bdI7p7dvq2xcF5htmns3kVpZpv8jS8/FCzGWwHlTvLscT+x1GUWmMhnpOoFMZV
INhB7TIcAQG93mEt+j</vt:lpwstr>
  </property>
  <property fmtid="{D5CDD505-2E9C-101B-9397-08002B2CF9AE}" pid="3" name="_2015_ms_pID_7253431">
    <vt:lpwstr>dMyxehvXnB5MVLGJtDDWVmKvAbxtRlaXarGez2waoaxGB4tvyaskZD
lcnRebyuElUBIAbgV92yi+CnzW5dsdivZ55x/ObRWB3yABetrg+KfEB/hz6Z3eLhvi14O/PO
I2R85RjPSUzfafTMfO+p4MVe/YXn0o3IEGwAnTRTUwCDpS2sO9bwEpj1HbeNaqi9oSLh5IYg
zaKyILKD3KbabAAo6TBxOM0f+dzZpyeaJGdL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jAZzqO/MiOuc/29UBdXaoB/OCVPlM60tGd+D
Ugs70wofcA32f5qFyqmFQPc7ACgG8EgeuBk/ADszfkkhkbAinP4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74045458</vt:lpwstr>
  </property>
</Properties>
</file>