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</p:sldIdLst>
  <p:sldSz cx="6858000" cy="5145088"/>
  <p:notesSz cx="6858000" cy="9144000"/>
</p:presentation>
</file>

<file path=ppt/commentAuthors.xml><?xml version="1.0" encoding="utf-8"?>
<p:cmAuthorLst xmlns:p="http://schemas.openxmlformats.org/presentationml/2006/main">
  <p:cmAuthor id="0" name="Gyan Mishra" initials="G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presProps" Target="presProps.xml"/><Relationship Id="rId33" Type="http://schemas.openxmlformats.org/officeDocument/2006/relationships/commentAuthors" Target="commentAuthors.xml"/>
</Relationships>
</file>

<file path=ppt/comments/comment2.xml><?xml version="1.0" encoding="utf-8"?>
<p:cmLst xmlns:p="http://schemas.openxmlformats.org/presentationml/2006/main">
  <p:cm authorId="0" dt="2020-11-13T18:45:08.542000000" idx="1">
    <p:pos x="3416" y="1700"/>
    <p:text>Moved from Body to Appendix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73F9-5103-4DF7-80D1-0520F5C5721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568C5-139A-44D3-A893-7260D73BC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8EB3-2741-458D-8CCA-7B3D090F71D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E9F8-A687-4482-9764-815F45F57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1646280" y="696960"/>
            <a:ext cx="3565440" cy="26748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#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11386E6-A7B4-411F-877A-15FF7B8F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37BD0A-E88E-42D8-9B3A-C80A0904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42880D-E6A3-47FC-B77F-CDF62317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4782B7-C9D9-4618-AD73-7E3931DE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3666940-5579-4AEE-84F4-A677312EA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348E439-FBF4-4E81-B63F-5321893F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955170-A4C0-4380-A36A-B2274E5C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A5243B-D409-4965-8FDF-30B1C635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2EE54B-7DAE-4C16-9781-383EA0E74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3FE2BF-DE85-4F88-A7F6-D0AF0AC8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C4C287B-1530-423A-83AA-6BDF952F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B09382-FCEF-4BD2-AFF2-3F695A5A9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F14A45-4542-4B57-8921-A5A390970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9386A8-DE46-4119-8F0E-E13F220E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D6E729-4B1E-42CF-B59B-47660B65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6010455-C364-446B-BA37-B3C43A6E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890509-4829-413F-8B38-34A51673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19419B-F1A6-4F86-A6CF-16F48EC4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C3BBF3-0C1F-4B75-A139-16993D68A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3F26FE-97CC-4553-B876-B849B37C1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0BFA98-E20B-402B-9C4A-787F0AA85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699772-A61A-48B2-A6FE-A2296EC0F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FA92C-8223-48FC-AA7D-495371FCA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E4BD72-1A18-497B-AD42-A3E09462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D7B2D0-BF4F-4976-AD03-9DB7124A1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D06B5E-8EBC-4DFF-8DAB-BB6179CEB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7E36DB-4120-459A-BA16-156C33511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09DFBC-D2FE-4457-8E65-091B5427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EBF61B-A8C2-44AF-A24E-F5F15501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4E4458-0365-44DB-816C-2BB8ED05D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34512A-1AAE-482E-8FB8-8791C799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34D3E3-B20E-40BB-A3DC-6E7FA3D9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F1C204-82E0-45B0-9676-5B21ABC30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9B3F3-FB66-450E-9A81-00C5B3487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F8DFD92-7076-4184-A1AD-F93F0905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A6CEE2-9402-4994-93B0-22C9F082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2339EF9-5EA1-456E-BBBB-086E2633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5A82D4F-983E-48AE-A374-139F64535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06A7178-97A5-4CFC-BE51-ED1DEA285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2120C8-5BF1-4751-B628-4E3751A9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671F08-59EA-47CF-840B-E2C6DB462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E29E6-6073-4C7D-9871-8C3977FA9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865E0D-97E1-4FCE-AF9F-F35FAC0C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A00018B-62AF-47D6-80C4-48235077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D7228D3-58D3-4A52-85B9-5188CD33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910292B-210D-4F5C-9870-0B2BE528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61D6617-8437-46FD-8D4D-673CD786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923F76A-7513-46F2-B68A-DD074F691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FB5590-0CFD-4677-BCA4-85F0296A4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FFA4A-E3E3-4D85-B909-20A1BF41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F4237-B18F-41DE-9F8D-6CE4DC19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40C4EB-EC73-4488-8455-78F39A2E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CE963-345E-4022-A859-F166AD7A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C536AC-4195-4A02-8AD9-E923C701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23E3BB-4B6B-437E-92FE-6FBEC8D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801E1C-6756-4743-B1D9-5A3CECAA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F2F2B2-F470-42F2-8B6D-927CF365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EECB26-49A9-40B1-B6AF-81380CBA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5BBCA-77EE-4786-A6EA-666B479C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DFE94-C474-462D-91F6-3C993CC0C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672DDDA-9A4E-4F50-99A0-673FDB2D3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1307AC5-3FE2-4E89-934A-9A8112DF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470499-8F47-45A9-B9D1-6236B890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3E674-A8E8-4295-8FE9-762DC131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26D0F3-86A9-4C74-9D6F-E394FFD9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6C7ECBE-8EC9-450E-BE2E-129DCACC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25EEE93-0ACA-47DD-A7C3-B13D6C31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14BAB8B-4977-472A-9B69-E932B61BE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0A7148A-360E-4F39-A511-F6F514D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869B31-779C-48D1-BF94-FEBC20C4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8F2DD1-8B86-4A46-813B-C3C68B43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1771EBE-8981-4879-9DFA-99377988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B9FDCE-C34A-4667-AE6F-7D7C82EE9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E236D-43E5-43AF-A20D-3BC63F703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39E647-E867-4EEF-AD18-4C92C87C5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1A175-C0CA-4B76-9CE3-74AB0A29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BF0F6F-FBB8-466E-B4E1-8A8E068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A9EEC6-D8FF-41CE-A796-798BFBFAD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4F097E-6F1D-4EA8-8AB2-1D7BD8ED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EA5A9-B210-4783-B3E6-340B66813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2954C-2A88-46FB-9FE4-E530C4AD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D9A9B-63CD-43DA-A043-B32A54E8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B94A59-E9F6-41F6-801C-9775E9A80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26EE60-0028-4C48-A5E4-94847882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6DCB2F-4466-47CB-85C6-8A36EDEA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8A13BA-0612-4CC2-BDE1-F11A6DF6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5ECDC-9D1B-4472-BD64-935EFEE5E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8E0313-D9B6-4F66-A08B-785E4F86B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0CCE90-83D4-4A02-BF67-9B1A1CC61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72A16-31AF-427C-A31C-367AE57A2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76F72-1023-4065-A41C-610F7C7A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4A44C2-1998-406E-98E5-76424D082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E2073-414A-4A36-B459-24CEF5B3D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043D8-3E2B-46AC-999D-236FB7BC9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EE55E-121D-4B47-BF98-9B5BDBDC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233F4-D9CB-4673-8F62-0EDB0EEB8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DFFA8A-CB3B-41DE-BE64-EC5B9DA3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CB5BC79-B547-4C8E-ADD4-C58A9BA7F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C0BC6B-F02F-4192-9AF9-D61B8538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C1CAB-5210-4CDE-8AAE-1F6467BA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8B7C9A-81E2-4D3D-9B59-C8C23A0E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809EE0-1A3E-4381-B9FD-7E1BCE45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6E2B34-53F6-4742-ACE5-3A91CC9FB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128324-37D2-463B-B023-2AD7A69A8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65274-E70B-40BB-9E2C-7B519563C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7A72E6-1A01-40D3-B35D-7988A2F6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BE9BC7-299D-431B-BB3B-0E274E05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1822CA-BACD-4852-850B-34DA6C85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E18427-3582-4CA6-BF88-1CF2DDC6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C97254-7349-4E62-871D-F1DC87DA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B88EDB-D38B-4DE9-A9E8-8E828FB5F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521EDF-F902-4D72-8428-D08FD1A0A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772230-9754-4C32-A660-023DDD9A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E08D21-EB60-4301-8603-B9660EFD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76F9C1E-E006-491C-98C4-56FE9477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005BFC-FBB6-47E4-AEDC-35B1EAC26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62BB12-F979-4EB7-A464-40DF30A93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4B6C5-7F58-46E1-9256-5583F057F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5B14B3E-E286-4AD6-8CAD-2B5364CE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CBEE85A-5B4F-4D5D-97FB-DC9ED5E80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01C66-9E5C-406F-8BF4-3C219E52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B8AE09-B7F6-4BF5-BEB4-CE3E0D4FE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2B8EB2-D381-44D7-BE5A-EB9D168C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31BE7-70BF-42DE-AFE8-5FBFC2A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9A75D8-B25E-4847-9975-F90928B6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1C4F41B-9E93-424D-9361-B41E1500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943879-7DD1-4B63-A301-166E94A8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5FF25-F4D5-4102-A838-9FD3E3351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CE9F0B8-D938-4DAA-B890-525FB712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5B73C6-B778-4DD5-AED1-747C8B13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0A5D2FC-B33B-4BAF-9D91-CEC9942C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F0D50DA-884D-42AC-91AB-8704EBFB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67B4E8-A0FA-4840-B4FC-322E9E438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9E53633-DBA9-4999-897F-EDB3CFE89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2F38147-27CB-4925-810A-B5E3467F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A682F5-4251-470C-AFAB-17F85B3A0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360C673-D7CF-46AF-B3B6-2CE7B365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5908A9-0B07-4362-B8E7-20E99B76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E73E01C-AD3D-432E-85E8-16CAA4A9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2E0265-BB9B-45CB-869D-D7FDE7AF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279443-1CEE-4769-8F4E-0AB869EE3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22BB8E-5E4C-4CED-BA34-F110D4173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094CB6-8A82-413F-890D-B455B0AA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AD474E-1855-40AE-B2E2-B3485F76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88D2DCC9-0BD2-4DB5-AEFD-2507427C3D6E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D090847-DFEE-4F0D-8ACD-462C4B207D6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6260D-7ACE-4F82-BC19-9107F8B1A47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5D9EE98-0DDB-45CC-A41F-1215C8E6118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AAA3-B7AF-4E0C-9EBA-87AAB631284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8784418-5405-466C-A89B-65ABEA956C33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545F-5FC3-4533-A81D-A4BD930B5AC8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3A08465-3441-4152-9A37-2E81CD60B5B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8CC9-C4E3-474B-99FD-C8044D4E217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D1EC653-676C-467C-A6C4-7770AC450110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48B7-87CA-4FC1-823C-5EE0C2BA8F5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0F328C8-93A6-4A9E-932A-4796E9FA633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0B18A-4F57-4A56-A929-DBE2D3D71254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865B8AA-48A7-43A5-BD4D-F37FBF67D12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ED51-66E5-47D9-9A9C-78B7ED933D5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575CBF7-81EC-429F-8C8B-44B7A7C5B6FA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4DE5D-9DF4-4B1A-ADAB-5AFDE3A79602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D38C788-EDAD-4D85-8134-A29DF81FD9A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E242A-C752-4E13-8923-2FBA574974AC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959A0C2B-D70A-4E54-BF12-F5CACB08680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D23F-CBC5-4A9C-8F9B-E88DCFE82DB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B43A6CB-5194-4FA6-A6C4-BB533B55C57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D629-89EB-4CB1-8CA0-4A4334D9412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696D2BA-1119-44EB-8B03-5956FF9B364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7D6F3-344E-40D7-BFCE-AB7B20F7751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comments" Target="../comments/commen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8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6"/>
          <p:cNvSpPr/>
          <p:nvPr/>
        </p:nvSpPr>
        <p:spPr>
          <a:xfrm>
            <a:off x="411120" y="1079640"/>
            <a:ext cx="6035760" cy="10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BIER IPv6 Requir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ietf-bier-ipv6-requirements-06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IETF109   2020-11-16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6"/>
          <p:cNvSpPr/>
          <p:nvPr/>
        </p:nvSpPr>
        <p:spPr>
          <a:xfrm>
            <a:off x="411120" y="2859120"/>
            <a:ext cx="6035760" cy="13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 - Future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Rajiv Asati - Ci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, Senthil D - 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Gyan Mishra - Veriz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Yongqing Zhu - China Tel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effrey Zhang - Juni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Picture 2" descr=""/>
          <p:cNvPicPr/>
          <p:nvPr/>
        </p:nvPicPr>
        <p:blipFill>
          <a:blip r:embed="rId1"/>
          <a:stretch/>
        </p:blipFill>
        <p:spPr>
          <a:xfrm>
            <a:off x="0" y="915840"/>
            <a:ext cx="6858000" cy="3168720"/>
          </a:xfrm>
          <a:prstGeom prst="rect">
            <a:avLst/>
          </a:prstGeom>
          <a:ln w="0">
            <a:noFill/>
          </a:ln>
        </p:spPr>
      </p:pic>
      <p:sp>
        <p:nvSpPr>
          <p:cNvPr id="683" name="TextBox 3"/>
          <p:cNvSpPr/>
          <p:nvPr/>
        </p:nvSpPr>
        <p:spPr>
          <a:xfrm>
            <a:off x="349920" y="195120"/>
            <a:ext cx="432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1 Independent Model – Continu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4" name="Picture 4" descr=""/>
          <p:cNvPicPr/>
          <p:nvPr/>
        </p:nvPicPr>
        <p:blipFill>
          <a:blip r:embed="rId1"/>
          <a:stretch/>
        </p:blipFill>
        <p:spPr>
          <a:xfrm>
            <a:off x="0" y="185760"/>
            <a:ext cx="685800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5" name="Picture 2" descr=""/>
          <p:cNvPicPr/>
          <p:nvPr/>
        </p:nvPicPr>
        <p:blipFill>
          <a:blip r:embed="rId1"/>
          <a:stretch/>
        </p:blipFill>
        <p:spPr>
          <a:xfrm>
            <a:off x="0" y="268200"/>
            <a:ext cx="674208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919080" y="195120"/>
            <a:ext cx="5019840" cy="49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 Light"/>
              </a:rPr>
              <a:t>BIERv6 Revision Change Log History per WG, Chairs &amp; AD requests</a:t>
            </a: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15920" y="842760"/>
            <a:ext cx="6732720" cy="38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0  = Problem Statement, IPv6 Scenario’s, Requirements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1 =  Problem Statement, IPv6 Scenario’s, Requirements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2 = Problem Statement, IPv6 Scenario’s, Requirements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3 = Problem Statement, IPv6 Scenario’s, Requirements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4 = Problem Statement, IPv6 Scenario’s, Requirements, Appendix A –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5 = Problem Statement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onceptual Model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 Mandatory &amp; Optional Requirements, Appendix A –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6 = Problem Statement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onceptual Model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 Mandatory &amp; Optional Requirements, Appendix A –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Solutions Evalu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7 = Problem Statement,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onceptual Model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 Mandatory &amp; Optional Requirements, Appendix A –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List of Solu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8 = Problem Statement,  Mandatory &amp; Optional Requirements, Appendix A –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Conceptual Models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Appendix B- </a:t>
            </a:r>
            <a:r>
              <a:rPr b="0" lang="en-US" sz="1000" spc="-1" strike="noStrike">
                <a:solidFill>
                  <a:srgbClr val="ff0000"/>
                </a:solidFill>
                <a:latin typeface="Calibri"/>
              </a:rPr>
              <a:t>List of Solution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Rev 09 = Problem Statement,  Mandatory &amp; Optional Requirement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***Some Clarity as far as Solutions Contentious Debate***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e “BIER IPv6 Solutions” have always been present since Rev 00 May 2019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v 09 was the first time the Solutions was omitted completely from the draft at the request of Chairs &amp; AD.  Each revision we have tailored the draft to accommodate all Ask?? By the WG, Chairs, AD.   We are looking for consensus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59920" y="267840"/>
            <a:ext cx="591516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Draft Purpose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115560" y="987480"/>
            <a:ext cx="6553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pecify the requirements for transporting packets, with bier headers, in an IPv6 environment.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cus on Requirements Only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Help the BIER WG come to a conclusion on what the requirements are that are on the table that are “Mandatory” and which are “Optional” so that we can move forward to next steps </a:t>
            </a:r>
            <a:r>
              <a:rPr b="0" lang="en-US" sz="21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“Solutions”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89000" y="26784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Requirements – Rev 0 - 4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88640" y="987480"/>
            <a:ext cx="331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2 agnostic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BH Destination Modification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4 Inspection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ulticast Address in SA field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ncorrect Bits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BIER architecture 0,1,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form to existing IPv6 Spec 3,4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Simple Encapsulation 2,3,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内容占位符 2"/>
          <p:cNvSpPr/>
          <p:nvPr/>
        </p:nvSpPr>
        <p:spPr>
          <a:xfrm>
            <a:off x="3716280" y="987480"/>
            <a:ext cx="2521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A filtering 0,1,2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PSec 2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Fragmentation 2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ardware fastpath 0,1,2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Pv6 Security 2,3,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89000" y="26784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Requirements – Rev 5 to 9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188640" y="987480"/>
            <a:ext cx="331308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2 agnostic 5,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Various L2 Link types 7,8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BIER architecture 5,6,7,8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nform to existing IPv6 Spec 6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deployment with Non-BFR routers 5,6,7,8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nter-AS multicast deployment 5,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Simple Encapsulation 5,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Deployment Security 5,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OAM 7,8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内容占位符 2"/>
          <p:cNvSpPr/>
          <p:nvPr/>
        </p:nvSpPr>
        <p:spPr>
          <a:xfrm>
            <a:off x="3716280" y="987480"/>
            <a:ext cx="2521080" cy="36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MVPN 5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OAM 5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PSEC AH, ESP 5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IPSEC ESP 7,8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Fragmentation 5,6,7,8,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pport hardware fastpath 5,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71600" y="274320"/>
            <a:ext cx="5914800" cy="5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4" name=""/>
          <p:cNvSpPr txBox="1"/>
          <p:nvPr/>
        </p:nvSpPr>
        <p:spPr>
          <a:xfrm>
            <a:off x="447480" y="1058760"/>
            <a:ext cx="604044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as the review of the evolution of the draft and where we are today from 1 ½ ago helped to see how far we have come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No? What is it lacking?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Yes ? Let’s move on to solutions adop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 txBox="1"/>
          <p:nvPr/>
        </p:nvSpPr>
        <p:spPr>
          <a:xfrm>
            <a:off x="985680" y="1402920"/>
            <a:ext cx="4886640" cy="28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192320" y="158760"/>
            <a:ext cx="54482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4c4c4c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77" name="Picture 1" descr=""/>
          <p:cNvPicPr/>
          <p:nvPr/>
        </p:nvPicPr>
        <p:blipFill>
          <a:blip r:embed="rId1"/>
          <a:stretch/>
        </p:blipFill>
        <p:spPr>
          <a:xfrm>
            <a:off x="2712960" y="2065320"/>
            <a:ext cx="143208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985680" y="1402920"/>
            <a:ext cx="4886640" cy="288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192320" y="158760"/>
            <a:ext cx="544824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4c4c4c"/>
                </a:solidFill>
                <a:latin typeface="Calibri Light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TextBox 2"/>
          <p:cNvSpPr/>
          <p:nvPr/>
        </p:nvSpPr>
        <p:spPr>
          <a:xfrm>
            <a:off x="2069280" y="2173320"/>
            <a:ext cx="2884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Bookman Old Style"/>
              </a:rPr>
              <a:t>THANK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 YOU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0" y="411120"/>
            <a:ext cx="6669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Gyan Mishra</cp:lastModifiedBy>
  <dcterms:modified xsi:type="dcterms:W3CDTF">2020-11-14T07:53:01Z</dcterms:modified>
  <cp:revision>170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d2cViwQcD5+2LLtggTQx9IHp7MRPajN5BxQzzQ+P6soBw06F5kaMG+ZYv7Nu0BsfmI2ixn5y
i9G42BPZwn9I1y3gAerqpsv9badvOCNPSNv69PouwW2ssVZ8IgQ4CNsrUq/1J6X9K/nv9EKx
rQ3vYK5Vc9bdI7p7dvq2xcF5htmns3kVpZpv8jS8/FCzGWwHlTvLscT+x1GUWmMhnpOoFMZV
INhB7TIcAQG93mEt+j</vt:lpwstr>
  </property>
  <property fmtid="{D5CDD505-2E9C-101B-9397-08002B2CF9AE}" pid="3" name="_2015_ms_pID_7253431">
    <vt:lpwstr>dMyxehvXnB5MVLGJtDDWVmKvAbxtRlaXarGez2waoaxGB4tvyaskZD
lcnRebyuElUBIAbgV92yi+CnzW5dsdivZ55x/ObRWB3yABetrg+KfEB/hz6Z3eLhvi14O/PO
I2R85RjPSUzfafTMfO+p4MVe/YXn0o3IEGwAnTRTUwCDpS2sO9bwEpj1HbeNaqi9oSLh5IYg
zaKyILKD3KbabAAo6TBxOM0f+dzZpyeaJGdL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jAZzqO/MiOuc/29UBdXaoB/OCVPlM60tGd+D
Ugs70wofcA32f5qFyqmFQPc7ACgG8EgeuBk/ADszfkkhkbAinP4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74045458</vt:lpwstr>
  </property>
</Properties>
</file>