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248520"/>
            <a:ext cx="743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7th IETF Meeting, San Diego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55080" y="6308640"/>
            <a:ext cx="59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fld id="{E14A6C94-26D0-482F-B9E8-E7D786AE9F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55080" y="6308640"/>
            <a:ext cx="59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fld id="{2CC33A9E-64BF-4FD9-B28B-580605A482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FIX Configuration Data Model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muenz-ipfix-configuration-00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hard Mü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FIX and PSAMP offer various configuration 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 device-independent configuration data model facilitates network management and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muenz-ipfix-configuration-00.t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n common configurati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for Observation Point, Collecting Process, Metering Process, and Expor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ing a data path through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an XML-based configuration data model for IPFIX de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with Netconf protocol or SOAP (or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to Configurabl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018040"/>
        </p:xfrm>
        <a:graphic>
          <a:graphicData uri="http://schemas.openxmlformats.org/drawingml/2006/table">
            <a:tbl>
              <a:tblPr/>
              <a:tblGrid>
                <a:gridCol w="2016360"/>
                <a:gridCol w="67690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 domain ID (where configurabl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type/selector and additional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of listeners, identified by network address, port,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template lifetime (if UDP is u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AMP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 for filters and sampling algorithms (Selection Proces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of Packet Reports (i.e. template for PSAMP expo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FIX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metering: Flow Keys, Non-Flow Keys, Template IDs (where configurable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f.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-dressler-ipfix-aggregation-03.txt, Flexible NetFlo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FIX packet restrictions: maximum packet size, maximum export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template retransmission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ing collectors (address, port, protoc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read the draft and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oit’s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raft is really for IPFIX and PSAMP configuration, even if the title doesn’t say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uld benefit from re-using the IPFIX/PSAMP termi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th, pointer, etc… are new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NMP/MIB or XML for configu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M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we commit ourselves to the Netconf Protoc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eave the decision on the protocol to the user and specify the data model only (as done in the draf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the common set of configurable parameters has to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IPFIX/PSAMP configuration via XML become a WG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isco Systems, Inc.</cp:lastModifiedBy>
  <dcterms:modified xsi:type="dcterms:W3CDTF">2006-11-09T14:43:52Z</dcterms:modified>
  <cp:revision>133</cp:revision>
  <dc:subject/>
  <dc:title>WSI-RI</dc:title>
</cp:coreProperties>
</file>