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0922040" y="-7415640"/>
            <a:ext cx="21845520" cy="163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754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DD3-CCB6-4DFD-9190-65E40C75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9200"/>
            <a:ext cx="77659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693-0A83-4584-B5B7-827DF44A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89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143000"/>
            <a:ext cx="3789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9200"/>
            <a:ext cx="3789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3769200"/>
            <a:ext cx="3789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E65-43B1-43E2-8FA4-3FBFB667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05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143000"/>
            <a:ext cx="25005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143000"/>
            <a:ext cx="25005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9200"/>
            <a:ext cx="25005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3769200"/>
            <a:ext cx="25005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3769200"/>
            <a:ext cx="25005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927-2A49-4BB6-9978-2CACC6D0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0ECB-44A8-4692-969F-73C1F45A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2E1-12F8-4A57-B17E-0D5E81FD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897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143000"/>
            <a:ext cx="37897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79E1-65B6-44A6-B9AC-64229F1F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F8AD-9CB8-41E5-BD10-921E10FE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6800"/>
            <a:ext cx="776592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FC9-2F5B-4E2F-86D2-C44A9D09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89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143000"/>
            <a:ext cx="37897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9200"/>
            <a:ext cx="3789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261-F905-4CF2-BB7B-F898BF5E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897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143000"/>
            <a:ext cx="3789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3769200"/>
            <a:ext cx="3789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1DE-FEFC-401A-BDB4-ADEDACD5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89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143000"/>
            <a:ext cx="3789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9200"/>
            <a:ext cx="77659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22B-079B-4421-AFE4-6C6FCFD5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AD679-FF0E-4AA4-AEBF-117120BCB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ietf-httpbis-p2-semantics-03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vn.tools.ietf.org/svn/wg/httpbis/draft-ietf-httpbis/latest/p2-semantics.html" TargetMode="External"/><Relationship Id="rId2" Type="http://schemas.openxmlformats.org/officeDocument/2006/relationships/hyperlink" Target="http://svn.tools.ietf.org/svn/wg/httpbis/draft-ietf-httpbis-method-registrations/latest/draft-ietf-httpbis-method-registrations.html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FC2616bis Draft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ETF 72, Dubli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ulian Reschke &lt;julian.reschke@greenbytes.de&gt;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iling List: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&lt;mailto:ietf-http-wg@w3.org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abber: httpbis@jabber.ietf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bis IETF 7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E18-35AF-410A-8125-E73B001F236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18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production in theory allows RFC 2047 based en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8N seems to be irrelevant for most of the headers in RFC26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: Content-Disposition (which already has its own escaping ru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pecs work around the issue (for instance, Slug header in AtomPub (RFC 502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bis IETF 7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B24-D8BE-404C-B705-85F4A1DC57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Track 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ssues are in Tr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9000" indent="-27648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issues discussed on mailing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9000" indent="-27648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issues opened by ch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-3330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s, including latest edits, are in Sub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9000" indent="-27648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ins linked to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-3330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s on tools.ietf.org and http://svn.tools.ietf.org/svn/wg/httpbis/draft-ietf-httpbis/diff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-3330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draft enumerates non-editorial changes in an append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bis IETF 7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358-5D63-4C2A-8DDC-E2EC83A9E5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History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0 (December 200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ed RFC26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 (January 200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original errata list appl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lnSpc>
                <a:spcPct val="82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2 (February 200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work on BNF fixes, make each document have a complete B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ed requirements on PUT/201/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NA media type registrations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bis IETF 7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7A5-8048-40CA-B2C9-C0AE107AA3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History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6560" indent="0">
              <a:lnSpc>
                <a:spcPct val="72000"/>
              </a:lnSpc>
              <a:spcBef>
                <a:spcPts val="60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7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 (June 2008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F: clarify HTTP-date (what to send, what to exp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F: fix quoted-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NA: header registrations, status code 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cations: Allow header, status 303 (“see other”), PUT, charset quoting, Accept-Encoding qvalue 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cate status 305 (“use proxy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weak ETags more useful for methods !=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lnSpc>
                <a:spcPct val="72000"/>
              </a:lnSpc>
              <a:spcBef>
                <a:spcPts val="60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7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st“ (July 200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cation on message length/connection closing, OPTIONS request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 Method 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7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bis IETF 7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E262-586B-4819-B563-E0F95EDAFD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ANA: header regist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Header registrations (according to RFC 3864) have been added (draft 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should we include additional information,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header vs request vs response vs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syntax all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8N (does RFC 2047 appl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lnSpc>
                <a:spcPct val="82000"/>
              </a:lnSpc>
              <a:spcBef>
                <a:spcPts val="60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f we do so, do we also want to modify the registration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lnSpc>
                <a:spcPct val="82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bis IETF 7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831-3EAA-418E-9E50-FDE6C9C442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Updating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ostly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ome downrefs for compression specs (RFC 1950..1952), see issue 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ferences to historic URI documents still in, expected to go away when we update to RFC3986, which in turn currently depends on BNF-to-ABNF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bis IETF 7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A84-5387-4D2B-BF79-255E2E4BF7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ANA: Status Code Reg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ously defined in RFC 2817, now in Part 2 (as of draft 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ally keeps the registration requirements, but rephrases them according to RFC 52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ools.ietf.org/html/draft-ietf-httpbis-p2-semantics-03#section-5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bis IETF 7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0B6-862E-473F-A232-43E267DCC6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ANA: Method Reg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6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6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unpublished draft of Part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6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svn.tools.ietf.org/svn/wg/httpbis/draft-ietf-httpbis/latest/p2-semantic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6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tion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6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cal to Status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6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 Review“ for new regist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6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state saf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6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required fiel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2000"/>
              </a:lnSpc>
              <a:spcBef>
                <a:spcPts val="499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6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 methods not defined in HTTP/1.1 in a separate 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6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6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svn.tools.ietf.org/svn/wg/httpbis/draft-ietf-httpbis-method-registrations/latest/draft-ietf-httpbis-method-registration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bis IETF 7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9AAA-8EC4-4723-BC24-5788FA63D8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From 2616-BNF to AB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s simple as it se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consensus how to deal with TEXT production, which in theory allows RFC 2047 based 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consensus how to deal with Linear White Space and the List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rify what RFC 2616 really says, vs. what is being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 simple errors (broken prose rules, name collis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d most prose prod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using RFC 5234 core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case-sensitive string constants to octet s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NF, still in RFC2616 format, can be parsed by modified version of Bill Fenner’s par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ls extract BNF and track the chan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bis IETF 7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FB2-EF7A-4271-A45E-67E5699B1C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lian Reschke</dc:creator>
  <dc:description/>
  <dc:language>en-US</dc:language>
  <cp:lastModifiedBy>Julian Reschke</cp:lastModifiedBy>
  <dcterms:modified xsi:type="dcterms:W3CDTF">2008-07-26T18:11:19Z</dcterms:modified>
  <cp:revision>132</cp:revision>
  <dc:subject/>
  <dc:title>RFC2616bis BNF Conversion</dc:title>
</cp:coreProperties>
</file>