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0922040" y="-7415640"/>
            <a:ext cx="21845520" cy="163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754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362-A45D-4E7B-86AE-F0C82697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9200"/>
            <a:ext cx="77659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191-E09A-49BF-8D64-E2126B07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1430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92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37692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66E-A3B9-4D7B-8332-3E1FB2A6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05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143000"/>
            <a:ext cx="25005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143000"/>
            <a:ext cx="25005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9200"/>
            <a:ext cx="25005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3769200"/>
            <a:ext cx="25005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3769200"/>
            <a:ext cx="25005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C75-38BF-4C86-A21B-96971001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52A-FCDD-42DB-A42B-3099064A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7C9-D103-4025-A3AE-30C51920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897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143000"/>
            <a:ext cx="37897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2925-A596-4C57-BD86-45EC8F01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AFF-1008-40B3-A2D8-E8780AF8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6800"/>
            <a:ext cx="776592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C43-969E-48E5-ABED-7D536C64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143000"/>
            <a:ext cx="37897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92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13C-9E2A-400E-AC89-D962D29E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897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1430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37692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538-40E2-4B23-A7DA-E74E5311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143000"/>
            <a:ext cx="3789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9200"/>
            <a:ext cx="77659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EED5-13E7-493E-87A7-4BCC0C91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FD14F-E8FE-45EE-A4F0-EECDCA14D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ietf-httpbis-p2-semantics-03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vn.tools.ietf.org/svn/wg/httpbis/draft-ietf-httpbis/latest/p2-semantics.html" TargetMode="External"/><Relationship Id="rId2" Type="http://schemas.openxmlformats.org/officeDocument/2006/relationships/hyperlink" Target="http://svn.tools.ietf.org/svn/wg/httpbis/draft-ietf-httpbis-method-registrations/latest/draft-ietf-httpbis-method-registrations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C2616bis Draft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ETF 72, Dubli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ulian Reschke &lt;julian.reschke@greenbytes.de&gt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iling List: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&lt;mailto:ietf-http-wg@w3.org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abber: httpbis@jabber.ietf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122-C793-4312-8CC7-F12043333E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18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production in theory allows RFC 2047 based 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8N seems to be irrelevant for most of the headers in RFC26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: Content-Disposition (which already has its own escaping ru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pecs work around the issue (for instance, Slug header in AtomPub (RFC 502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22C-6615-4271-BB46-9273176924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Track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ssues are in T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issues discussed on mail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issues opened by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-3330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s, including latest edits, are in Sub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648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ins linked to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-3330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s on tools.ietf.org and http://svn.tools.ietf.org/svn/wg/httpbis/draft-ietf-httpbis/diff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-3330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draft enumerates non-editorial changes in an append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4C1-184C-470B-BDA3-696F107199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History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 (December 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ed RFC26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 (January 200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original errata list ap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82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2 (February 200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work on BNF fixes, make each document have a complete B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ed requirements on PUT/201/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NA media type registrations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B58-104C-4780-B455-EE7C6F0B56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History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6560" indent="0">
              <a:lnSpc>
                <a:spcPct val="72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7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 (June 2008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F: clarify HTTP-date (what to send, what to exp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F: fix quoted-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NA: header registrations, status code 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cations: Allow header, status 303 (“see other”), PUT, charset quoting, Accept-Encoding qvalue 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cate status 305 (“use proxy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weak ETags more useful for methods !=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72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7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st“ (July 200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cation on message length/connection closing, OPTIONS request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Method 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7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467-A946-4D07-9656-F952B90B29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ANA: header regist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Header registrations (according to RFC 3864) have been added (draft 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should we include additional information,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header vs request vs response vs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syntax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8N (does RFC 2047 appl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82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f we do so, do we also want to modify the registration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82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CFF-047D-4B17-A959-01C3E3E3E5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Updating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ostly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ome downrefs for compression specs (RFC 1950..1952), see issue 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ferences to historic URI documents still in, expected to go away when we update to RFC3986, which in turn currently depends on BNF-to-ABNF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504-2264-45D3-99A0-241E4B4C3A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ANA: Status Code Reg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ly defined in RFC 2817, now in Part 2 (as of draft 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ally keeps the registration requirements, but rephrases them according to RFC 52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ools.ietf.org/html/draft-ietf-httpbis-p2-semantics-03#section-5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82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EFD-8FDF-43E6-ACD1-BC14E3F81D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ANA: Method Reg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6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6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npublished draft of Part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6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svn.tools.ietf.org/svn/wg/httpbis/draft-ietf-httpbis/latest/p2-semantic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6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6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cal to Status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6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 Review“ for new regist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6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state saf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6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required fiel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2000"/>
              </a:lnSpc>
              <a:spcBef>
                <a:spcPts val="499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6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methods not defined in HTTP/1.1 in a separate 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6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6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svn.tools.ietf.org/svn/wg/httpbis/draft-ietf-httpbis-method-registrations/latest/draft-ietf-httpbis-method-registratio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9E3-3525-4CCD-AE15-BC7EE5CC60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65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From 2616-BNF to AB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659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s simple as it se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consensus how to deal with TEXT production, which in theory allows RFC 2047 based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consensus how to deal with Linear White Space and the List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ify what RFC 2616 really says, vs. what is being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simple errors (broken prose rules, name collis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d most prose prod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using RFC 5234 core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case-sensitive string constants to octet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NF, still in RFC2616 format, can be parsed by modified version of Bill Fenner’s par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s extract BNF and track the chan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bis IETF 7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196-A527-4B15-B5FA-1A5E8834A0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lian Reschke</dc:creator>
  <dc:description/>
  <dc:language>en-US</dc:language>
  <cp:lastModifiedBy>Julian Reschke</cp:lastModifiedBy>
  <dcterms:modified xsi:type="dcterms:W3CDTF">2008-07-26T18:11:19Z</dcterms:modified>
  <cp:revision>132</cp:revision>
  <dc:subject/>
  <dc:title>RFC2616bis BNF Conversion</dc:title>
</cp:coreProperties>
</file>