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4076-6C51-4A44-A63C-CB2BDF79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4000" y="38667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98E1-A638-42E0-8B61-FCD7571C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4000" y="3866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240" y="3866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89EFA-BB93-46FB-AE2F-7AFB84B0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0560" y="1598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7480" y="1598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4000" y="3866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0560" y="3866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7480" y="3866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AA9C-9170-4C44-93BF-C54157D6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4000" y="15987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57040"/>
            <a:ext cx="7772400" cy="35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000" y="3866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4000" y="15987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DCF0D-CCD2-448E-B758-4892C98E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5240" y="3866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000" y="38667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4000" y="38667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4000" y="3866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5240" y="3866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0560" y="1598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7480" y="1598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4000" y="3866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0560" y="3866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7480" y="3866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20D9-517D-487F-B253-C300501D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74B2B-00CA-4B65-9803-FA8ECE37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AD1E-2BDE-40E2-85B8-9CB2A66D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57040"/>
            <a:ext cx="7772400" cy="35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270E-F0FD-47B9-95E5-77DB7D0A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4000" y="3866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76D67-C035-41F8-8EA9-E6FF216D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240" y="3866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58E8-F637-42AA-9C65-21CC7718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000" y="38667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405F-D875-4543-A4B7-FF835AE8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000" y="15987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54960" y="6545160"/>
            <a:ext cx="4874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5043-3DC4-4331-8BE8-82D796EE7DE7}" type="slidenum"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4360" y="6579720"/>
            <a:ext cx="50781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6acbe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cbe"/>
                </a:solidFill>
                <a:latin typeface="Times New Roman"/>
              </a:rPr>
              <a:t>© 2009 Wichorus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889600" y="6607080"/>
            <a:ext cx="9288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6acbe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CE27-E39A-4EFF-8AD4-FBE0A90D773D}" type="datetime">
              <a:rPr b="0" lang="en-US" sz="800" spc="-1" strike="noStrike">
                <a:solidFill>
                  <a:srgbClr val="a6acbe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ppt_rule"/>
          <p:cNvPicPr/>
          <p:nvPr/>
        </p:nvPicPr>
        <p:blipFill>
          <a:blip r:embed="rId2"/>
          <a:stretch/>
        </p:blipFill>
        <p:spPr>
          <a:xfrm>
            <a:off x="684360" y="6168960"/>
            <a:ext cx="7773840" cy="25560"/>
          </a:xfrm>
          <a:prstGeom prst="rect">
            <a:avLst/>
          </a:prstGeom>
          <a:ln w="0">
            <a:noFill/>
          </a:ln>
        </p:spPr>
      </p:pic>
      <p:sp>
        <p:nvSpPr>
          <p:cNvPr id="5" name="Text Box 7"/>
          <p:cNvSpPr/>
          <p:nvPr/>
        </p:nvSpPr>
        <p:spPr>
          <a:xfrm>
            <a:off x="684360" y="227160"/>
            <a:ext cx="776916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Master title style</a:t>
            </a:r>
            <a:endParaRPr b="1" lang="en-US" sz="2800" spc="-1" strike="noStrike">
              <a:solidFill>
                <a:srgbClr val="0c479d"/>
              </a:solidFill>
              <a:latin typeface="Arial"/>
            </a:endParaRPr>
          </a:p>
        </p:txBody>
      </p:sp>
      <p:pic>
        <p:nvPicPr>
          <p:cNvPr id="6" name="Picture 8" descr="WiChorus_logo_RGB_ppt_test"/>
          <p:cNvPicPr/>
          <p:nvPr/>
        </p:nvPicPr>
        <p:blipFill>
          <a:blip r:embed="rId3"/>
          <a:stretch/>
        </p:blipFill>
        <p:spPr>
          <a:xfrm>
            <a:off x="7083360" y="6265800"/>
            <a:ext cx="1123920" cy="4651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wichorus_ppt_text_image"/>
          <p:cNvPicPr/>
          <p:nvPr/>
        </p:nvPicPr>
        <p:blipFill>
          <a:blip r:embed="rId4"/>
          <a:stretch/>
        </p:blipFill>
        <p:spPr>
          <a:xfrm>
            <a:off x="0" y="0"/>
            <a:ext cx="9144000" cy="11923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605484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479d"/>
              </a:solidFill>
              <a:latin typeface="Arial"/>
            </a:endParaRPr>
          </a:p>
        </p:txBody>
      </p:sp>
      <p:pic>
        <p:nvPicPr>
          <p:cNvPr id="46" name="Picture 5" descr="ppt_rule"/>
          <p:cNvPicPr/>
          <p:nvPr/>
        </p:nvPicPr>
        <p:blipFill>
          <a:blip r:embed="rId2"/>
          <a:stretch/>
        </p:blipFill>
        <p:spPr>
          <a:xfrm>
            <a:off x="684360" y="6359400"/>
            <a:ext cx="7773840" cy="25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2513160" y="1370160"/>
            <a:ext cx="59418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Click to edit Master title style</a:t>
            </a:r>
            <a:endParaRPr b="1" lang="en-US" sz="30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513160" y="2741760"/>
            <a:ext cx="59418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add subtitle</a:t>
            </a:r>
            <a:endParaRPr b="1" lang="en-US" sz="3000" spc="-1" strike="noStrike">
              <a:solidFill>
                <a:srgbClr val="0c479d"/>
              </a:solidFill>
              <a:latin typeface="Arial"/>
            </a:endParaRPr>
          </a:p>
        </p:txBody>
      </p:sp>
      <p:pic>
        <p:nvPicPr>
          <p:cNvPr id="49" name="Picture 8" descr="WiChorus_logo_RGB_ppt_test"/>
          <p:cNvPicPr/>
          <p:nvPr/>
        </p:nvPicPr>
        <p:blipFill>
          <a:blip r:embed="rId3"/>
          <a:stretch/>
        </p:blipFill>
        <p:spPr>
          <a:xfrm>
            <a:off x="689040" y="5487840"/>
            <a:ext cx="1941480" cy="801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Wichorus_ppt_title_image"/>
          <p:cNvPicPr/>
          <p:nvPr/>
        </p:nvPicPr>
        <p:blipFill>
          <a:blip r:embed="rId4"/>
          <a:stretch/>
        </p:blipFill>
        <p:spPr>
          <a:xfrm>
            <a:off x="0" y="0"/>
            <a:ext cx="9144000" cy="5200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684000" y="15987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693720" y="6554520"/>
            <a:ext cx="528336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6acbe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cbe"/>
                </a:solidFill>
                <a:latin typeface="Times New Roman"/>
              </a:rPr>
              <a:t>© 2009 Wichorus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5"/>
          </p:nvPr>
        </p:nvSpPr>
        <p:spPr>
          <a:xfrm>
            <a:off x="6213600" y="6568560"/>
            <a:ext cx="938160" cy="1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6acbe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EC1F-8A54-4797-B409-2C8E23241C66}" type="datetime">
              <a:rPr b="0" lang="en-US" sz="800" spc="-1" strike="noStrike">
                <a:solidFill>
                  <a:srgbClr val="a6acbe"/>
                </a:solidFill>
                <a:latin typeface="Times New Roman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arliep@wichorus.com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93720" y="6554880"/>
            <a:ext cx="52833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cbe"/>
                </a:solidFill>
                <a:latin typeface="Arial"/>
              </a:rPr>
              <a:t>© 2009 Wichorus Inc. All rights reserved.</a:t>
            </a:r>
            <a:endParaRPr b="1" lang="en-US" sz="10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693720" y="6554880"/>
            <a:ext cx="52833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cbe"/>
                </a:solidFill>
                <a:latin typeface="Arial"/>
              </a:rPr>
              <a:t>© 2009 Wichorus Inc. All rights reserved.</a:t>
            </a:r>
            <a:endParaRPr b="1" lang="en-US" sz="10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479840" y="506268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98000" y="2003040"/>
            <a:ext cx="8518680" cy="31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ddress autoconfiguration for legacy hosts in a MAN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[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utoconf] W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ETF 79 / November, 2010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176db"/>
                </a:solidFill>
                <a:uFillTx/>
                <a:latin typeface="Arial Narrow"/>
                <a:hlinkClick r:id="rId1"/>
              </a:rPr>
              <a:t>charliep@wichorus.com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omas@thomasclausen.org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oblem statemen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000" y="15987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t should be possible to configure addresses for IPv6 end-hosts in an ad-hoc network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s can be done even for “legacy hosts” running DHCPv6 or Stateless Address Autoconfiguration (SLAAC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abling this does not by any means “solve” the address autoconfiguration problem for MANETs, but it does allow MANETs to include existing IPv6 hosts as viable participan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454960" y="6545160"/>
            <a:ext cx="4874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83B9-B601-486F-B311-6F2F88893B3C}" type="slidenum"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0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684360" y="6580080"/>
            <a:ext cx="5078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cbe"/>
                </a:solidFill>
                <a:latin typeface="Arial"/>
              </a:rPr>
              <a:t>© 2009 Wichorus Inc. All rights reserved. </a:t>
            </a:r>
            <a:endParaRPr b="1" lang="en-US" sz="10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DHCP legacy host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8040" y="1234800"/>
            <a:ext cx="776916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f  node broadcasts a DHCP Solicit message, a MANET router can intercept it and “pretend” to be a DHCP server.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router can then allocate an address from its “pool” of addresses, but with a very short prefix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at goes on behind the scenes to make this work consistently does not have to be made visible to the legacy host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lternatively, MANET router can broadcast DHCP Advertise, etc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8454960" y="6545160"/>
            <a:ext cx="4874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344C-BDB9-43E7-A793-821E317E70DD}" type="slidenum"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0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684360" y="6580080"/>
            <a:ext cx="5078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cbe"/>
                </a:solidFill>
                <a:latin typeface="Arial"/>
              </a:rPr>
              <a:t>© 2009 Wichorus Inc. All rights reserved. </a:t>
            </a:r>
            <a:endParaRPr b="1" lang="en-US" sz="10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Legacy hosts running SLAAC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000" y="15987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 legacy host can transmit a Router Solicit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ny MANET router receiving the Router Solicitation can supply the appropriate routing prefix in a unicast Router Advertisement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s before, the legacy host does not have to be involved with transactions “behind the scene”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router would presumably invoke the [autoconf] address configuration solution before responding with the Router Advertisement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8454960" y="6545160"/>
            <a:ext cx="4874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16E0-B366-42E4-92E5-47D318B1112F}" type="slidenum"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0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684360" y="6580080"/>
            <a:ext cx="5078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cbe"/>
                </a:solidFill>
                <a:latin typeface="Arial"/>
              </a:rPr>
              <a:t>© 2009 Wichorus Inc. All rights reserved. </a:t>
            </a:r>
            <a:endParaRPr b="1" lang="en-US" sz="10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4:00:00Z</dcterms:created>
  <dc:creator/>
  <dc:description/>
  <dc:language>en-US</dc:language>
  <cp:lastModifiedBy/>
  <cp:lastPrinted>1901-01-01T04:00:00Z</cp:lastPrinted>
  <dcterms:modified xsi:type="dcterms:W3CDTF">2010-11-09T08:10:05Z</dcterms:modified>
  <cp:revision>109</cp:revision>
  <dc:subject/>
  <dc:title>Slide 1</dc:title>
</cp:coreProperties>
</file>