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12AE-C8D8-4B54-9F06-B201B5EB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CC15-5E3E-484F-A5E1-E30A26EA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54EE-82DC-4DE8-A020-C977E2B7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748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00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748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9255-6929-4084-ABAD-286C39C5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57040"/>
            <a:ext cx="7772400" cy="35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E919-BD5B-445F-8ECF-C7767CAF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056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7480" y="1598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056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7480" y="38667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1B8B-6601-4B1F-8B96-AC01E8A0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7E10-43D0-4924-A4F8-037C945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E5E2-8718-4EE3-A5EB-3983E5F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57040"/>
            <a:ext cx="7772400" cy="35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CFA5-B337-4BBD-A706-CBC2AC5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13DE-7989-4949-B6CA-33AEEFA4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3866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3FAB-508E-46C7-A7F4-D324509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5987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38667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DAA7-025A-4080-BE6F-EA97B346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6D9C-379D-4E12-BF55-2784CB67FC93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4360" y="6579720"/>
            <a:ext cx="507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Times New Roman"/>
              </a:rPr>
              <a:t>© 2009 Wichorus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889600" y="6607080"/>
            <a:ext cx="9288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9DFC-9E9D-451F-B0C7-3C4C891B8C13}" type="datetime">
              <a:rPr b="0" lang="en-US" sz="800" spc="-1" strike="noStrike">
                <a:solidFill>
                  <a:srgbClr val="a6acbe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pt_rule"/>
          <p:cNvPicPr/>
          <p:nvPr/>
        </p:nvPicPr>
        <p:blipFill>
          <a:blip r:embed="rId2"/>
          <a:stretch/>
        </p:blipFill>
        <p:spPr>
          <a:xfrm>
            <a:off x="684360" y="6168960"/>
            <a:ext cx="7773840" cy="25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684360" y="227160"/>
            <a:ext cx="77691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Master title style</a:t>
            </a:r>
            <a:endParaRPr b="1" lang="en-US" sz="2800" spc="-1" strike="noStrike">
              <a:solidFill>
                <a:srgbClr val="0c479d"/>
              </a:solidFill>
              <a:latin typeface="Arial"/>
            </a:endParaRPr>
          </a:p>
        </p:txBody>
      </p:sp>
      <p:pic>
        <p:nvPicPr>
          <p:cNvPr id="6" name="Picture 8" descr="WiChorus_logo_RGB_ppt_test"/>
          <p:cNvPicPr/>
          <p:nvPr/>
        </p:nvPicPr>
        <p:blipFill>
          <a:blip r:embed="rId3"/>
          <a:stretch/>
        </p:blipFill>
        <p:spPr>
          <a:xfrm>
            <a:off x="7083360" y="6265800"/>
            <a:ext cx="1123920" cy="465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wichorus_ppt_text_image"/>
          <p:cNvPicPr/>
          <p:nvPr/>
        </p:nvPicPr>
        <p:blipFill>
          <a:blip r:embed="rId4"/>
          <a:stretch/>
        </p:blipFill>
        <p:spPr>
          <a:xfrm>
            <a:off x="0" y="0"/>
            <a:ext cx="9144000" cy="1192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05484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479d"/>
              </a:solidFill>
              <a:latin typeface="Arial"/>
            </a:endParaRPr>
          </a:p>
        </p:txBody>
      </p:sp>
      <p:pic>
        <p:nvPicPr>
          <p:cNvPr id="46" name="Picture 5" descr="ppt_rule"/>
          <p:cNvPicPr/>
          <p:nvPr/>
        </p:nvPicPr>
        <p:blipFill>
          <a:blip r:embed="rId2"/>
          <a:stretch/>
        </p:blipFill>
        <p:spPr>
          <a:xfrm>
            <a:off x="684360" y="6359400"/>
            <a:ext cx="7773840" cy="25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513160" y="1370160"/>
            <a:ext cx="5941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Click to edit Master title style</a:t>
            </a:r>
            <a:endParaRPr b="1" lang="en-US" sz="3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513160" y="2741760"/>
            <a:ext cx="5941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add subtitle</a:t>
            </a:r>
            <a:endParaRPr b="1" lang="en-US" sz="3000" spc="-1" strike="noStrike">
              <a:solidFill>
                <a:srgbClr val="0c479d"/>
              </a:solidFill>
              <a:latin typeface="Arial"/>
            </a:endParaRPr>
          </a:p>
        </p:txBody>
      </p:sp>
      <p:pic>
        <p:nvPicPr>
          <p:cNvPr id="49" name="Picture 8" descr="WiChorus_logo_RGB_ppt_test"/>
          <p:cNvPicPr/>
          <p:nvPr/>
        </p:nvPicPr>
        <p:blipFill>
          <a:blip r:embed="rId3"/>
          <a:stretch/>
        </p:blipFill>
        <p:spPr>
          <a:xfrm>
            <a:off x="689040" y="5487840"/>
            <a:ext cx="1941480" cy="80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ichorus_ppt_title_image"/>
          <p:cNvPicPr/>
          <p:nvPr/>
        </p:nvPicPr>
        <p:blipFill>
          <a:blip r:embed="rId4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693720" y="6554520"/>
            <a:ext cx="528336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Times New Roman"/>
              </a:rPr>
              <a:t>© 2009 Wichorus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6213600" y="6568560"/>
            <a:ext cx="938160" cy="1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acbe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D357-2097-434D-B21C-E9526C2AD631}" type="datetime">
              <a:rPr b="0" lang="en-US" sz="800" spc="-1" strike="noStrike">
                <a:solidFill>
                  <a:srgbClr val="a6acbe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arliep@wichorus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93720" y="6554880"/>
            <a:ext cx="52833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93720" y="6554880"/>
            <a:ext cx="52833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479840" y="5062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8000" y="2003040"/>
            <a:ext cx="85186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ddress autoconfiguration for legacy hosts in a MAN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utoconf] W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ETF 79 / November, 2010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176db"/>
                </a:solidFill>
                <a:uFillTx/>
                <a:latin typeface="Arial Narrow"/>
                <a:hlinkClick r:id="rId1"/>
              </a:rPr>
              <a:t>charliep@wichorus.co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omas@thomasclausen.or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oblem statemen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should be possible to configure addresses for IPv6 end-hosts in an ad-hoc network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can be done even for “legacy hosts” running DHCPv6 or Stateless Address Autoconfiguration (SLAA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abling this does not by any means “solve” the address autoconfiguration problem for MANETs, but it does allow MANETs to include existing IPv6 hosts as viable participan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9B7-0314-4A3B-B00D-30B180EB47BB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84360" y="6580080"/>
            <a:ext cx="5078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 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HCP legacy hos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8040" y="1234800"/>
            <a:ext cx="776916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f  node broadcasts a DHCP Solicit message, a MANET router can intercept it and “pretend” to be a DHCP server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router can then allocate an address from its “pool” of addresses, but with a very short prefix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 goes on behind the scenes to make this work consistently does not have to be made visible to the legacy hos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ternatively, MANET router can broadcast DHCP Advertise, etc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21E-7A70-4A9C-BB32-360A649328D5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684360" y="6580080"/>
            <a:ext cx="5078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 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70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gacy hosts running SLAAC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87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legacy host can transmit a Router Solicit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y MANET router receiving the Router Solicitation can supply the appropriate routing prefix in a unicast Router Advertisemen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 before, the legacy host does not have to be involved with transactions “behind the scene”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router would presumably invoke the [autoconf] address configuration solution before responding with the Router Advertisemen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454960" y="6545160"/>
            <a:ext cx="48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96B7-F266-419B-866A-E50C4949F79C}" type="slidenum"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684360" y="6580080"/>
            <a:ext cx="5078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cbe"/>
                </a:solidFill>
                <a:latin typeface="Arial"/>
              </a:rPr>
              <a:t>© 2009 Wichorus Inc. All rights reserved. </a:t>
            </a:r>
            <a:endParaRPr b="1" lang="en-US" sz="1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4:00:00Z</dcterms:created>
  <dc:creator/>
  <dc:description/>
  <dc:language>en-US</dc:language>
  <cp:lastModifiedBy/>
  <cp:lastPrinted>1901-01-01T04:00:00Z</cp:lastPrinted>
  <dcterms:modified xsi:type="dcterms:W3CDTF">2010-11-09T08:10:05Z</dcterms:modified>
  <cp:revision>109</cp:revision>
  <dc:subject/>
  <dc:title>Slide 1</dc:title>
</cp:coreProperties>
</file>