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C4B1-EF65-48C4-83F0-2F2A9A34A3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4D19-AE44-48F9-8C89-677DDFFCF8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ully-Qualified Domain Na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cuses on the dynamic-configured global unicast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al-configured addresses should be avoided as much as possi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6F38-0D60-4488-B04F-3FB8CF46FF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simplify, the forward and reverse DNS updates can be combined in a singl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536C-C8A5-4E43-875C-0EC4FF34F2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9CEC-7674-4EAC-8F57-ECADCCFA96D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0B587CF0-0BEA-44A2-AFDC-C95953ADC5B2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4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pSp>
        <p:nvGrpSpPr>
          <p:cNvPr id="7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8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9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0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1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2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3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4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5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7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18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2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3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7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28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9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0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1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2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3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4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5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6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7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38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9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0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1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2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3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4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5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6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7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48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9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0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1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2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3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4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5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6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7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58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9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0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1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2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3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4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5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6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7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68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9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0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1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09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907640" y="4437000"/>
            <a:ext cx="5185080" cy="122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华文细黑"/>
              </a:rPr>
              <a:t>Sheng Jiang(Speaker)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华文细黑"/>
              </a:rPr>
              <a:t>Bing Liu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华文细黑"/>
              </a:rPr>
              <a:t>Brian Carpenter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353440" cy="33832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rutigerNext LT Medium"/>
              </a:rPr>
              <a:t>IPv6 Enterprise Network Renumbering Scenarios and Guidelines</a:t>
            </a:r>
            <a:br>
              <a:rPr sz="3200"/>
            </a:br>
            <a:br>
              <a:rPr sz="3200"/>
            </a:br>
            <a:r>
              <a:rPr b="1" lang="en-GB" sz="2400" spc="-1" strike="noStrike">
                <a:solidFill>
                  <a:srgbClr val="000000"/>
                </a:solidFill>
                <a:latin typeface="FrutigerNext LT Medium"/>
              </a:rPr>
              <a:t>draft-jiang-6renum-enterprise</a:t>
            </a:r>
            <a:br>
              <a:rPr sz="2400"/>
            </a:b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FrutigerNext LT Medium"/>
              </a:rPr>
              <a:t>IETF 81 RENUM WG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FrutigerNext LT Medium"/>
              </a:rPr>
              <a:t>July 27, 2011</a:t>
            </a:r>
            <a:endParaRPr b="0" lang="en-US" sz="1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7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101520">
            <a:solidFill>
              <a:srgbClr val="31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FrutigerNext LT Medium"/>
              </a:rPr>
              <a:t>Overall question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51960" y="1557360"/>
            <a:ext cx="7929720" cy="1440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Are we heading in the right direction?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Are these the right topics?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Have we covered all major aspects?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C20F7910-206A-47ED-BF0D-B69BB5676E29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9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042920" y="3573360"/>
            <a:ext cx="666432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99"/>
                </a:solidFill>
                <a:latin typeface="FrutigerNext LT Regular"/>
              </a:rPr>
              <a:t>Comments are welcomed!</a:t>
            </a:r>
            <a:endParaRPr b="0" lang="en-US" sz="2700" spc="-1" strike="noStrike">
              <a:solidFill>
                <a:srgbClr val="ffffff"/>
              </a:solidFill>
              <a:latin typeface="FrutigerNext LT Regular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rutigerNext LT Regular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utigerNext LT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FrutigerNext LT Medium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45400" cy="695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Draft Introduction &amp; Scop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34136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5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It is thus desirable to develop tools and practices that may make renumbering a simpler process to reduce demand for IPv6 PI spac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5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6RENUM WG is chartered to </a:t>
            </a:r>
            <a:r>
              <a:rPr b="1" lang="en-GB" sz="2000" spc="-1" strike="noStrike">
                <a:solidFill>
                  <a:srgbClr val="0064ff"/>
                </a:solidFill>
                <a:latin typeface="FrutigerNext LT Regular"/>
              </a:rPr>
              <a:t>document existing renumbering practices for enterprise site networks</a:t>
            </a: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5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Following the WG scope, the draft </a:t>
            </a: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focuses on </a:t>
            </a:r>
            <a:r>
              <a:rPr b="1" lang="en-GB" sz="2000" spc="-1" strike="noStrike">
                <a:solidFill>
                  <a:srgbClr val="0064ff"/>
                </a:solidFill>
                <a:latin typeface="FrutigerNext LT Regular"/>
              </a:rPr>
              <a:t>IPv6</a:t>
            </a: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 enterprise renumbering through some conclusions may also be applicable to IPv4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5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Following the WG scope, </a:t>
            </a: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the draft is targeting </a:t>
            </a:r>
            <a:r>
              <a:rPr b="1" lang="en-GB" sz="2000" spc="-1" strike="noStrike">
                <a:solidFill>
                  <a:srgbClr val="0064ff"/>
                </a:solidFill>
                <a:latin typeface="FrutigerNext LT Regular"/>
              </a:rPr>
              <a:t>enterprise networks</a:t>
            </a: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but the analysis may also be applicable to ISP, SOHO or other (e.g. ad-hoc) scenario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82E48895-60BD-4115-88DC-BF753751D72E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9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tructure of Draf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51960" y="1125360"/>
            <a:ext cx="7929720" cy="4710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5000"/>
          </a:bodyPr>
          <a:p>
            <a:pPr marL="284760" indent="-284760">
              <a:lnSpc>
                <a:spcPct val="12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Section 2: Enterprise Network introduction and illustration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4760" indent="-284760">
              <a:lnSpc>
                <a:spcPct val="12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Section 3: Enterprise Network Renumbering Scenario Categories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(According to different reasons)</a:t>
            </a: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84760" indent="-284760">
              <a:lnSpc>
                <a:spcPct val="12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Section 4: According to the different stages of renumbering events, considerations and best current practise are described in three categories: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9560" indent="-237960">
              <a:lnSpc>
                <a:spcPct val="12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during network design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9560" indent="-237960">
              <a:lnSpc>
                <a:spcPct val="12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for preparation of renumbering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9560" indent="-237960">
              <a:lnSpc>
                <a:spcPct val="12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during renumbering operation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84760" indent="-284760">
              <a:lnSpc>
                <a:spcPct val="12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Section 5: A gap inventory is listed at the end of this documen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9560" indent="-237960">
              <a:lnSpc>
                <a:spcPct val="12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FrutigerNext LT Regular"/>
              </a:rPr>
              <a:t>[Open Question] </a:t>
            </a: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Should we summary here or leave all to gap analysis draft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84760" indent="-284760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64ff"/>
                </a:solidFill>
                <a:latin typeface="FrutigerNext LT Regular"/>
              </a:rPr>
              <a:t>The goal is to cover all major considerations in enterprise network renumbering scenario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4760" indent="-284760">
              <a:lnSpc>
                <a:spcPct val="12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D6B9BA11-7DE7-4B46-BA04-66EBCF532FEB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9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Enterprise Network Illustra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D108A817-9769-481E-B3BF-9C2BD3327233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9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6046560" cy="3564000"/>
          </a:xfrm>
          <a:prstGeom prst="rect">
            <a:avLst/>
          </a:prstGeom>
          <a:ln w="0">
            <a:noFill/>
          </a:ln>
        </p:spPr>
      </p:pic>
      <p:sp>
        <p:nvSpPr>
          <p:cNvPr id="167" name="矩形 5"/>
          <p:cNvSpPr/>
          <p:nvPr/>
        </p:nvSpPr>
        <p:spPr>
          <a:xfrm>
            <a:off x="900000" y="4941720"/>
            <a:ext cx="784872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These entities relevant to renumbering are illustrated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Enterprise Network [RFC4057]- A network that has multiple internal links, one or more router connections to one or more Providers, and is actively managed by a network operations entity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802332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FrutigerNext LT Medium"/>
              </a:rPr>
              <a:t>Why Enterprise Network is Renumbered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52320" y="1641240"/>
            <a:ext cx="8167680" cy="44514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8000"/>
          </a:bodyPr>
          <a:p>
            <a:pPr marL="293760" indent="-293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utigerNext LT Regular"/>
              </a:rPr>
              <a:t>Renumbering caused by External Network Factors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9000" indent="-2455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Switch to a new ISP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9000" indent="-2455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Receive a new prefix from the same uplink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9000" indent="-2455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Add new uplink(s) for multihoming purpose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utigerNext LT Regular"/>
              </a:rPr>
              <a:t>Renumbering caused by Internal Network Factors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9000" indent="-2455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Company network split, merge, grow, or reorganize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9000" indent="-2455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dopt new address scheme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9000" indent="-24552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Note: Using PI doesn't remove all those renumbering reason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9000" indent="-24552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utigerNext LT Regular"/>
              </a:rPr>
              <a:t>[Open Question]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nything missing?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9000" indent="-2455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EAC48435-E29C-4798-9913-E19FFCC09AF2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9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FrutigerNext LT Medium"/>
              </a:rPr>
              <a:t>Considerations and BCP</a:t>
            </a:r>
            <a:br>
              <a:rPr sz="3200"/>
            </a:br>
            <a:r>
              <a:rPr b="0" lang="en-GB" sz="3200" spc="-1" strike="noStrike">
                <a:solidFill>
                  <a:srgbClr val="990000"/>
                </a:solidFill>
                <a:latin typeface="FrutigerNext LT Medium"/>
              </a:rPr>
              <a:t>during network design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51960" y="1557360"/>
            <a:ext cx="8023320" cy="47512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Managing Prefix Delegation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Usage of FQDN and DNS as much as possibl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Address Type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FrutigerNext LT Light"/>
              </a:rPr>
              <a:t>[Open Question]</a:t>
            </a:r>
            <a:r>
              <a:rPr b="0" lang="en-GB" sz="1600" spc="-1" strike="noStrike">
                <a:solidFill>
                  <a:srgbClr val="000000"/>
                </a:solidFill>
                <a:latin typeface="FrutigerNext LT Light"/>
              </a:rPr>
              <a:t> What can we do regarding to manual configured hosts and static addresses, which do need to be changed?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FrutigerNext LT Light"/>
              </a:rPr>
              <a:t>[Open Question]</a:t>
            </a:r>
            <a:r>
              <a:rPr b="0" lang="en-GB" sz="1600" spc="-1" strike="noStrike">
                <a:solidFill>
                  <a:srgbClr val="000000"/>
                </a:solidFill>
                <a:latin typeface="FrutigerNext LT Light"/>
              </a:rPr>
              <a:t> Should usage of ULAs be recommended?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Address configuration models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utigerNext LT Light"/>
              </a:rPr>
              <a:t>[Open Question] </a:t>
            </a:r>
            <a:r>
              <a:rPr b="0" lang="en-US" sz="1600" spc="-1" strike="noStrike">
                <a:solidFill>
                  <a:srgbClr val="000000"/>
                </a:solidFill>
                <a:latin typeface="FrutigerNext LT Light"/>
              </a:rPr>
              <a:t>Should there be a preference between ND and DHCPv6 from renumbering perspective?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utigerNext LT Light"/>
              </a:rPr>
              <a:t>[Open Question] </a:t>
            </a:r>
            <a:r>
              <a:rPr b="0" lang="en-US" sz="1600" spc="-1" strike="noStrike">
                <a:solidFill>
                  <a:srgbClr val="000000"/>
                </a:solidFill>
                <a:latin typeface="FrutigerNext LT Light"/>
              </a:rPr>
              <a:t>Should we work towards avoiding ND and DHCPv6 co-existing or make the co-existing scenario better and error-prevented?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3B9DE2B5-9A02-41A9-9A6B-C3A8312D518E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9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FrutigerNext LT Medium"/>
              </a:rPr>
              <a:t>Considerations and BCP</a:t>
            </a:r>
            <a:br>
              <a:rPr sz="3200"/>
            </a:br>
            <a:r>
              <a:rPr b="0" lang="en-GB" sz="3200" spc="-1" strike="noStrike">
                <a:solidFill>
                  <a:srgbClr val="990000"/>
                </a:solidFill>
                <a:latin typeface="FrutigerNext LT Medium"/>
              </a:rPr>
              <a:t>during network design (2)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4360" y="1341000"/>
            <a:ext cx="8167680" cy="3816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lvl="1"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DNS record Update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FrutigerNext LT Light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FrutigerNext LT Light"/>
              </a:rPr>
              <a:t>[Open Question] </a:t>
            </a:r>
            <a:r>
              <a:rPr b="0" lang="en-GB" sz="1600" spc="-1" strike="noStrike">
                <a:solidFill>
                  <a:srgbClr val="000000"/>
                </a:solidFill>
                <a:latin typeface="FrutigerNext LT Light"/>
              </a:rPr>
              <a:t>Should we recommend A6 (RFC3363 is in Experimental status), which has advantage for renumbering, but not been used widely?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utigerNext LT Light"/>
              </a:rPr>
              <a:t>[Open Question] </a:t>
            </a:r>
            <a:r>
              <a:rPr b="0" lang="en-GB" sz="1600" spc="-1" strike="noStrike">
                <a:solidFill>
                  <a:srgbClr val="000000"/>
                </a:solidFill>
                <a:latin typeface="FrutigerNext LT Light"/>
              </a:rPr>
              <a:t>Or the Secure Dynamic DNS Update also provides the capability of auto DNS synchronizing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Security Recommendations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utigerNext LT Light"/>
              </a:rPr>
              <a:t>Any automatic renumbering scheme has a potential exposure to hijacking at the moment that a new address is announced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Light"/>
              </a:rPr>
              <a:t>Renumbering may help hosts to escape from black list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FrutigerNext LT Light"/>
              </a:rPr>
              <a:t>[Open Question] </a:t>
            </a:r>
            <a:r>
              <a:rPr b="0" lang="en-US" sz="1600" spc="-1" strike="noStrike">
                <a:solidFill>
                  <a:srgbClr val="000000"/>
                </a:solidFill>
                <a:latin typeface="FrutigerNext LT Light"/>
              </a:rPr>
              <a:t>There seems no current practice for this? What can we do?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A784F394-2ABF-489B-A4B4-EABCCE50617E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9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684360" y="4869000"/>
            <a:ext cx="81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nsiderations and BCP</a:t>
            </a:r>
            <a:br>
              <a:rPr sz="2800"/>
            </a:br>
            <a:r>
              <a:rPr b="0" lang="en-GB" sz="28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for the Preparation of Renumbering</a:t>
            </a:r>
            <a:endParaRPr b="0" lang="en-US" sz="28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684360" y="5775480"/>
            <a:ext cx="806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table records or long lifetimes mean less flexibility</a:t>
            </a:r>
            <a:endParaRPr b="0" lang="en-US" sz="18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1960" y="333360"/>
            <a:ext cx="7745400" cy="1008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FrutigerNext LT Medium"/>
              </a:rPr>
              <a:t>Considerations </a:t>
            </a:r>
            <a:r>
              <a:rPr b="0" lang="en-US" sz="3200" spc="-1" strike="noStrike">
                <a:solidFill>
                  <a:srgbClr val="990000"/>
                </a:solidFill>
                <a:latin typeface="FrutigerNext LT Medium"/>
              </a:rPr>
              <a:t>and BCP</a:t>
            </a:r>
            <a:br>
              <a:rPr sz="3200"/>
            </a:br>
            <a:r>
              <a:rPr b="0" lang="en-GB" sz="3200" spc="-1" strike="noStrike">
                <a:solidFill>
                  <a:srgbClr val="990000"/>
                </a:solidFill>
                <a:latin typeface="FrutigerNext LT Medium"/>
              </a:rPr>
              <a:t>during renumbering operation (1)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000" y="1773360"/>
            <a:ext cx="8280360" cy="4278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With/without a flag day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utigerNext LT Regular"/>
              </a:rPr>
              <a:t>[Open Question]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hould we recommend without a flag day model?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Transition period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FrutigerNext LT Regular"/>
              </a:rPr>
              <a:t>[Open Question] </a:t>
            </a: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How long is the best?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Network initiative enforced renumbering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Impact to branch/main site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Update DNS records on the local server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Update DNS configuration on host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41768C8B-CEA4-4C99-A301-8843CC47AF19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9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3600" spc="-1" strike="noStrike">
                <a:solidFill>
                  <a:srgbClr val="990000"/>
                </a:solidFill>
                <a:latin typeface="FrutigerNext LT Medium"/>
              </a:rPr>
              <a:t>Considerations </a:t>
            </a:r>
            <a:r>
              <a:rPr b="0" lang="en-US" sz="3600" spc="-1" strike="noStrike">
                <a:solidFill>
                  <a:srgbClr val="990000"/>
                </a:solidFill>
                <a:latin typeface="FrutigerNext LT Medium"/>
              </a:rPr>
              <a:t>and BCP</a:t>
            </a:r>
            <a:br>
              <a:rPr sz="3600"/>
            </a:br>
            <a:r>
              <a:rPr b="0" lang="en-GB" sz="3600" spc="-1" strike="noStrike">
                <a:solidFill>
                  <a:srgbClr val="990000"/>
                </a:solidFill>
                <a:latin typeface="FrutigerNext LT Medium"/>
              </a:rPr>
              <a:t>during renumbering operation (2)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Router awarenes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Border filtering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Tunnel concentrator renumbering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Update 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require cooperation with interact sites or ISP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utigerNext LT Regular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FrutigerNext LT Regular"/>
              </a:rPr>
              <a:t>[Open Question]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 lot of manual configuration work here. How much could be automated?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onnectivity session survivability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FrutigerNext LT Regular"/>
              </a:rPr>
              <a:t>[Open Question] </a:t>
            </a: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Anything we can do?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C2B68A12-0476-4D79-AC79-11263253358E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6:17:47Z</dcterms:created>
  <dc:creator>蒋胜</dc:creator>
  <dc:description/>
  <dc:language>en-US</dc:language>
  <cp:lastModifiedBy>sjiang</cp:lastModifiedBy>
  <dcterms:modified xsi:type="dcterms:W3CDTF">2011-07-25T02:04:44Z</dcterms:modified>
  <cp:revision>1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322612</vt:lpwstr>
  </property>
</Properties>
</file>