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7526-F6CB-4335-81D5-B07B3D44D129}" type="datetime">
              <a:rPr b="0" lang="zh-CN" sz="1200" spc="-1" strike="noStrike">
                <a:solidFill>
                  <a:srgbClr val="000000"/>
                </a:solidFill>
                <a:latin typeface="Calibri"/>
              </a:rPr>
              <a:t>26/7/30</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9C05-E9C0-43B3-868D-0509C0DFDCE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7FD3-4FBC-4AF4-BA7C-C9CB3AE6043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E779-0CAB-480A-B3C3-B3DA5FFFD16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AE54-E1E1-4282-B7C8-E89AE4F690F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D529-6DE9-49E2-BE1F-4318CD78146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8882-ED28-447E-936F-44365EFF9D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FCF3-594C-4C6C-A95E-4395B356960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C9E2-13DC-4C8B-9C0B-5D2CDFB19AA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DD46-3E78-46C9-B081-ECBE7D60B4A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531E-C158-4D38-B5A9-B0ADD8AD507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6F43-5888-4B1C-8BE9-7F7006B2F26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CA47-6837-4372-BC64-C90A546A366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DCB4-0270-4666-854C-26B823FF5A0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6964-FFF6-4C38-8A3E-C1C8C1BD07F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E523-9BC0-4558-A11C-3DCD9420E22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8BEC-C5D2-4540-AB1F-D50BA4D8575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5A38B-B6A5-4FE3-B700-7D413AE53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C3E32-B5DB-4F54-BEBC-9446009B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BD6D8-3D9C-4C3F-8A2E-56DB635AB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DB2DD-E4C9-44E4-B509-04EF7128B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F5DA-CE34-48E9-99BB-EF3C1B6A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6B5D4-142C-4684-97A2-3B5F9D3D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C7FB-87A5-4306-B6E7-498E67DAF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5157-E59A-4C6A-8B15-DB0D7FEF4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5B6EF-8952-47F4-9206-14C9FB0B5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46D3-895E-4D12-9D56-511862FB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5ADA-246B-436B-B134-091EB0B06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465C-602A-4F5E-B6D7-7FE2B9EE6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25DE-8B99-421D-A747-5425BD33987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A409-609C-489C-BF2E-12B3DDDC620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html/draft-liu-6renum-gap-analysis-01"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leo.liubing@huawei.com" TargetMode="External"/><Relationship Id="rId2" Type="http://schemas.openxmlformats.org/officeDocument/2006/relationships/hyperlink" Target="mailto:jiangsheng@huawei.co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2682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Pv6 Site Renumbering Gap Analysis</a:t>
            </a:r>
            <a:br>
              <a:rPr sz="4400"/>
            </a:br>
            <a:r>
              <a:rPr b="0" lang="en-US" sz="3200" spc="-1" strike="noStrike" u="sng">
                <a:solidFill>
                  <a:srgbClr val="0000ff"/>
                </a:solidFill>
                <a:uFillTx/>
                <a:latin typeface="Calibri"/>
                <a:hlinkClick r:id="rId1"/>
              </a:rPr>
              <a:t>draft-liu-6renum-gap-analysis-01</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ing Liu</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Sheng Jiang</a:t>
            </a: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ETF 81@Quebec</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July 2011</a:t>
            </a:r>
            <a:endParaRPr b="0" lang="en-US" sz="24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24EB-FBD5-437B-B277-D2528EB3893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relevant entries update</a:t>
            </a:r>
            <a:br>
              <a:rPr sz="3200"/>
            </a:br>
            <a:r>
              <a:rPr b="0" i="1" lang="en-US" sz="2800" spc="-1" strike="noStrike">
                <a:solidFill>
                  <a:srgbClr val="000000"/>
                </a:solidFill>
                <a:latin typeface="Calibri"/>
              </a:rPr>
              <a:t>--DNS records update</a:t>
            </a:r>
            <a:endParaRPr b="0" lang="en-US" sz="28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Dynamic DNS record upd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stream method is to manually update the zone file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C3007(Secure DNS) is a candidate for dynamic DNS upd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 1. Some argued RFC3007 could be potentially widely deployment, some didn’t  2. Any requirement of developing new (maybe lightweight) mechanism/protocol for dynamic DNS upd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DNS data structure optimiz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6 records (RFC2874) could make zone files update easier.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 Do we need optimized DNS record data schema such as A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DNS authorit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ervice host renumbers, they may not have sufficient authority to change the records since DNS zones are out of the administrative control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Whether it is only an operational issue or additional protocol/mechanism is needed to standardize the interaction between DNS systems?</a:t>
            </a: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78AB-D044-4EC8-AEF9-161EAEF4376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57200" y="1307880"/>
            <a:ext cx="8229600" cy="5505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Filters managemen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s such as ACLs, ingress filtering .etc may spread in various devices as firewalls, routers, gateways. Management is nee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n Question] </a:t>
            </a:r>
            <a:r>
              <a:rPr b="0" lang="en-US" sz="2400" spc="-1" strike="noStrike">
                <a:solidFill>
                  <a:srgbClr val="000000"/>
                </a:solidFill>
                <a:latin typeface="Calibri"/>
              </a:rPr>
              <a:t>Address-based filters and prefix-based filters need to be distinguished? Is dedicated management system needed?</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Filter update automation opera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n Question] </a:t>
            </a:r>
            <a:r>
              <a:rPr b="0" lang="en-US" sz="2400" spc="-1" strike="noStrike">
                <a:solidFill>
                  <a:srgbClr val="000000"/>
                </a:solidFill>
                <a:latin typeface="Calibri"/>
              </a:rPr>
              <a:t>Can update operation be achieved through standard interface/protocol?</a:t>
            </a:r>
            <a:endParaRPr b="0" lang="en-US" sz="2400" spc="-1" strike="noStrike">
              <a:solidFill>
                <a:srgbClr val="000000"/>
              </a:solidFill>
              <a:latin typeface="Calibri"/>
            </a:endParaRPr>
          </a:p>
        </p:txBody>
      </p:sp>
      <p:sp>
        <p:nvSpPr>
          <p:cNvPr id="7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relevant entries update</a:t>
            </a:r>
            <a:br>
              <a:rPr sz="3200"/>
            </a:br>
            <a:r>
              <a:rPr b="0" i="1" lang="en-US" sz="2800" spc="-1" strike="noStrike">
                <a:solidFill>
                  <a:srgbClr val="000000"/>
                </a:solidFill>
                <a:latin typeface="Calibri"/>
              </a:rPr>
              <a:t>--filters update</a:t>
            </a:r>
            <a:endParaRPr b="0" lang="en-US" sz="28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B12A-D7E0-4313-92CC-A87AF01CD70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379520"/>
            <a:ext cx="8229600" cy="5073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host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sts may record addresses of servers such as DNS resolver/server, radius server, etc. Hosts may also record addresses of other hosts or rout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renumbering, the hosts must update the records if the these addresses changed.</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routers</a:t>
            </a:r>
            <a:r>
              <a:rPr b="1" lang="zh-CN" sz="2400" spc="-1" strike="noStrike">
                <a:solidFill>
                  <a:srgbClr val="000000"/>
                </a:solidFill>
                <a:latin typeface="Calibri"/>
              </a:rPr>
              <a:t> </a:t>
            </a:r>
            <a:r>
              <a:rPr b="1" lang="en-US" sz="2400" spc="-1" strike="noStrike">
                <a:solidFill>
                  <a:srgbClr val="000000"/>
                </a:solidFill>
                <a:latin typeface="Calibri"/>
              </a:rPr>
              <a:t>&amp; serv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ly, router and servers may also record others’ addres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n Question] </a:t>
            </a:r>
            <a:r>
              <a:rPr b="0" lang="en-US" sz="2400" spc="-1" strike="noStrike">
                <a:solidFill>
                  <a:srgbClr val="000000"/>
                </a:solidFill>
                <a:latin typeface="Calibri"/>
              </a:rPr>
              <a:t>How to systematically update these entries? </a:t>
            </a:r>
            <a:endParaRPr b="0" lang="en-US" sz="2400" spc="-1" strike="noStrike">
              <a:solidFill>
                <a:srgbClr val="000000"/>
              </a:solidFill>
              <a:latin typeface="Calibri"/>
            </a:endParaRPr>
          </a:p>
        </p:txBody>
      </p:sp>
      <p:sp>
        <p:nvSpPr>
          <p:cNvPr id="8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relevant entries update</a:t>
            </a:r>
            <a:br>
              <a:rPr sz="3200"/>
            </a:br>
            <a:r>
              <a:rPr b="0" i="1" lang="en-US" sz="2400" spc="-1" strike="noStrike">
                <a:solidFill>
                  <a:srgbClr val="000000"/>
                </a:solidFill>
                <a:latin typeface="Calibri"/>
              </a:rPr>
              <a:t>--update of addresses embedded in configuration files</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EE24-F5D1-49FE-A34D-AD6AD0729AB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umbering event managemen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numbering Notification</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ifying the nodes to be aware of a renumbering event may make sense. E.g. as 4192 suggested, “reducing the delay in the transition to new IPv6 addresses applies when the DNS service can be given prior notice about a renumbering ev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Lack of this kind of mechanisms.  A gap?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chronization Management</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s described in RFC5887, synchronizing the SLAAC and DNS updates, and of reducing the SLAAC lease time and DNS TTL. </a:t>
            </a:r>
            <a:r>
              <a:rPr b="0" lang="en-US" sz="2000" spc="-1" strike="noStrike">
                <a:solidFill>
                  <a:srgbClr val="ff0000"/>
                </a:solidFill>
                <a:latin typeface="Calibri"/>
              </a:rPr>
              <a:t>[Gaps TBD]</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numbering Monitoring</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treating renumbering a network event, mechanisms to monitor the renumbering process may be needed. </a:t>
            </a:r>
            <a:r>
              <a:rPr b="0" lang="en-US" sz="2000" spc="-1" strike="noStrike">
                <a:solidFill>
                  <a:srgbClr val="ff0000"/>
                </a:solidFill>
                <a:latin typeface="Calibri"/>
              </a:rPr>
              <a:t>[Gaps TBD] </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A926-F43F-4DED-A0DB-40835AA4C8C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cellaneou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obilit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5887 suggested that, for Mobile IP, define a better mechanism to handle change of home agent address while mobile is disconnecte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ultica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ft-chown] mentioned, If the RP (Rendezvous Point, RFC3956) address changes, then the group addresses must also be changed. The embedded address is used by routers to determine the RP address. Applications must use new group addresses once the RP is not available on the old address.</a:t>
            </a:r>
            <a:endParaRPr b="0" lang="en-US" sz="24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A75A-B11A-4CCF-96EE-98F0CB86633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hank you!</a:t>
            </a:r>
            <a:br>
              <a:rPr sz="5400"/>
            </a:br>
            <a:r>
              <a:rPr b="0" lang="en-US" sz="3600" spc="-1" strike="noStrike">
                <a:solidFill>
                  <a:srgbClr val="000000"/>
                </a:solidFill>
                <a:latin typeface="Calibri"/>
              </a:rPr>
              <a:t>Comments are appreciated</a:t>
            </a:r>
            <a:br>
              <a:rPr sz="3600"/>
            </a:br>
            <a:br>
              <a:rPr sz="3600"/>
            </a:br>
            <a:r>
              <a:rPr b="0" lang="en-US" sz="2000" spc="-1" strike="noStrike" u="sng">
                <a:solidFill>
                  <a:srgbClr val="0000ff"/>
                </a:solidFill>
                <a:uFillTx/>
                <a:latin typeface="Calibri"/>
                <a:hlinkClick r:id="rId1"/>
              </a:rPr>
              <a:t>leo.liubing@huawei.com</a:t>
            </a:r>
            <a:br>
              <a:rPr sz="2000"/>
            </a:br>
            <a:r>
              <a:rPr b="0" lang="en-US" sz="2000" spc="-1" strike="noStrike" u="sng">
                <a:solidFill>
                  <a:srgbClr val="0000ff"/>
                </a:solidFill>
                <a:uFillTx/>
                <a:latin typeface="Calibri"/>
                <a:hlinkClick r:id="rId2"/>
              </a:rPr>
              <a:t>jiangsheng@huawei.com</a:t>
            </a:r>
            <a:br>
              <a:rPr sz="2000"/>
            </a:br>
            <a:r>
              <a:rPr b="0" i="1" lang="en-US" sz="1800" spc="-1" strike="noStrike">
                <a:solidFill>
                  <a:srgbClr val="000000"/>
                </a:solidFill>
                <a:latin typeface="Calibri"/>
              </a:rPr>
              <a:t>July 27-2011, @Quebec</a:t>
            </a:r>
            <a:endParaRPr b="0" lang="en-US" sz="1800" spc="-1" strike="noStrike">
              <a:solidFill>
                <a:srgbClr val="000000"/>
              </a:solidFill>
              <a:latin typeface="Calibri"/>
            </a:endParaRPr>
          </a:p>
        </p:txBody>
      </p:sp>
      <p:sp>
        <p:nvSpPr>
          <p:cNvPr id="9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F82F-A5B3-4AC2-B2A0-A3C375EA298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p Analysis-structure</a:t>
            </a:r>
            <a:endParaRPr b="0" lang="en-US" sz="4400" spc="-1" strike="noStrike">
              <a:solidFill>
                <a:srgbClr val="000000"/>
              </a:solidFill>
              <a:latin typeface="Calibri"/>
            </a:endParaRPr>
          </a:p>
        </p:txBody>
      </p:sp>
      <p:sp>
        <p:nvSpPr>
          <p:cNvPr id="5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ructure of gap analysis followed a renumbering event procedure clu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Managing prefixe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Address configuration</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Address relevant entries updat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Renumbering event manageme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are trying to cover </a:t>
            </a:r>
            <a:r>
              <a:rPr b="0" lang="en-US" sz="3000" spc="-1" strike="noStrike">
                <a:solidFill>
                  <a:srgbClr val="ff0000"/>
                </a:solidFill>
                <a:latin typeface="Calibri"/>
              </a:rPr>
              <a:t>ALL</a:t>
            </a:r>
            <a:r>
              <a:rPr b="0" lang="en-US" sz="3000" spc="-1" strike="noStrike">
                <a:solidFill>
                  <a:srgbClr val="0070c0"/>
                </a:solidFill>
                <a:latin typeface="Calibri"/>
              </a:rPr>
              <a:t> </a:t>
            </a:r>
            <a:r>
              <a:rPr b="0" lang="en-US" sz="3000" spc="-1" strike="noStrike">
                <a:solidFill>
                  <a:srgbClr val="000000"/>
                </a:solidFill>
                <a:latin typeface="Calibri"/>
              </a:rPr>
              <a:t>aspects of renumbering by this structure. </a:t>
            </a:r>
            <a:r>
              <a:rPr b="0" lang="en-US" sz="3000" spc="-1" strike="noStrike">
                <a:solidFill>
                  <a:srgbClr val="ff0000"/>
                </a:solidFill>
                <a:latin typeface="Calibri"/>
              </a:rPr>
              <a:t>[need your comment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65A2-0B9D-458C-A575-197D035D2F2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274320"/>
            <a:ext cx="89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Goals for IPv6 Renumbering</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Prefix delegation</a:t>
            </a:r>
            <a:r>
              <a:rPr b="0" lang="en-US" sz="2500" spc="-1" strike="noStrike">
                <a:solidFill>
                  <a:srgbClr val="000000"/>
                </a:solidFill>
                <a:latin typeface="Calibri"/>
              </a:rPr>
              <a:t>: automatic, accurate in aggregation and coordin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Address configuration</a:t>
            </a:r>
            <a:r>
              <a:rPr b="0" lang="en-US" sz="2500" spc="-1" strike="noStrike">
                <a:solidFill>
                  <a:srgbClr val="000000"/>
                </a:solidFill>
                <a:latin typeface="Calibri"/>
              </a:rPr>
              <a:t>: automatically achieved through standard protocols, with minimum human interve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Address relevant entries update</a:t>
            </a:r>
            <a:r>
              <a:rPr b="0" lang="en-US" sz="2500" spc="-1" strike="noStrike">
                <a:solidFill>
                  <a:srgbClr val="000000"/>
                </a:solidFill>
                <a:latin typeface="Calibri"/>
              </a:rPr>
              <a:t>: processed integrally, error-prevent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alibri"/>
              </a:rPr>
              <a:t>Management</a:t>
            </a:r>
            <a:r>
              <a:rPr b="0" i="1" lang="en-US" sz="2500" spc="-1" strike="noStrike" u="sng">
                <a:solidFill>
                  <a:srgbClr val="000000"/>
                </a:solidFill>
                <a:uFillTx/>
                <a:latin typeface="Calibri"/>
              </a:rPr>
              <a:t>:</a:t>
            </a:r>
            <a:r>
              <a:rPr b="0" lang="en-US" sz="2500" spc="-1" strike="noStrike">
                <a:solidFill>
                  <a:srgbClr val="000000"/>
                </a:solidFill>
                <a:latin typeface="Calibri"/>
              </a:rPr>
              <a:t> managing the renumbering ev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Open Question] </a:t>
            </a:r>
            <a:r>
              <a:rPr b="0" lang="en-US" sz="2500" spc="-1" strike="noStrike">
                <a:solidFill>
                  <a:srgbClr val="000000"/>
                </a:solidFill>
                <a:latin typeface="Calibri"/>
              </a:rPr>
              <a:t>Do we need a ''One-Click'' fully automatic renumbering technology? Is it possible to be realize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Open Question] </a:t>
            </a:r>
            <a:r>
              <a:rPr b="0" lang="en-US" sz="2500" spc="-1" strike="noStrike">
                <a:solidFill>
                  <a:srgbClr val="000000"/>
                </a:solidFill>
                <a:latin typeface="Calibri"/>
              </a:rPr>
              <a:t>Do we need recommendations for site address management tool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Open Question] </a:t>
            </a:r>
            <a:r>
              <a:rPr b="0" lang="en-US" sz="2500" spc="-1" strike="noStrike">
                <a:solidFill>
                  <a:srgbClr val="000000"/>
                </a:solidFill>
                <a:latin typeface="Calibri"/>
              </a:rPr>
              <a:t>Is session survivability within our scope?</a:t>
            </a:r>
            <a:endParaRPr b="0" lang="en-US" sz="25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5447-CB03-4F38-A037-395FE6A41BF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s been done</a:t>
            </a:r>
            <a:endParaRPr b="0" lang="en-US" sz="4400" spc="-1" strike="noStrike">
              <a:solidFill>
                <a:srgbClr val="000000"/>
              </a:solidFill>
              <a:latin typeface="Calibri"/>
            </a:endParaRPr>
          </a:p>
        </p:txBody>
      </p:sp>
      <p:sp>
        <p:nvSpPr>
          <p:cNvPr id="58" name=""/>
          <p:cNvSpPr txBox="1"/>
          <p:nvPr/>
        </p:nvSpPr>
        <p:spPr>
          <a:xfrm>
            <a:off x="179280" y="1412640"/>
            <a:ext cx="8785440" cy="48956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2894: router renumbering for IPv6</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4192: procedures for IPv6 site renumbering  without a flay day</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4076: stateless DHCPv6 renumbering requirem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C5887: renumbering issues in IPv4/IPv6</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ft-chown-v6ops-renumber-thinkabout-05]</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s of issues were analyzed in RFC5887 &amp; [draft-chown], but many of them are out of 6renum scope or unsolvable.  This draft intends to identify the valuable and solvable issues, dig out some undiscovered gaps, and try to give solution suggestions.</a:t>
            </a:r>
            <a:endParaRPr b="0" lang="en-US" sz="2400" spc="-1" strike="noStrike">
              <a:solidFill>
                <a:srgbClr val="000000"/>
              </a:solidFill>
              <a:latin typeface="Calibri"/>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is initial version draft is just to provoke discussion rather than definite conclus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844C-C2F6-4D1F-B18E-2F6FC42A9D0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Prefixes</a:t>
            </a:r>
            <a:endParaRPr b="0" lang="en-US" sz="4400" spc="-1" strike="noStrike">
              <a:solidFill>
                <a:srgbClr val="000000"/>
              </a:solidFill>
              <a:latin typeface="Calibri"/>
            </a:endParaRPr>
          </a:p>
        </p:txBody>
      </p:sp>
      <p:sp>
        <p:nvSpPr>
          <p:cNvPr id="61" name=""/>
          <p:cNvSpPr txBox="1"/>
          <p:nvPr/>
        </p:nvSpPr>
        <p:spPr>
          <a:xfrm>
            <a:off x="468360" y="148428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renumbering an enterprise site, a short prefix may be divided into longer prefixes for subnet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fix delivery, delegation, aggregation, coordination between branch sites, need be carefully managed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FC2894 </a:t>
            </a:r>
            <a:r>
              <a:rPr b="0" lang="zh-CN" sz="2800" spc="-1" strike="noStrike">
                <a:solidFill>
                  <a:srgbClr val="000000"/>
                </a:solidFill>
                <a:latin typeface="Calibri"/>
              </a:rPr>
              <a:t> </a:t>
            </a:r>
            <a:r>
              <a:rPr b="0" lang="en-US" sz="2800" spc="-1" strike="noStrike">
                <a:solidFill>
                  <a:srgbClr val="000000"/>
                </a:solidFill>
                <a:latin typeface="Calibri"/>
              </a:rPr>
              <a:t>could add/change routers’ prefixes, but it seems hasn’t been used (at least not widely used)</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HCP-PD(RFC3633) is being widely used for prefix delegation and provision.</a:t>
            </a:r>
            <a:endParaRPr b="0" lang="en-US" sz="2800" spc="-1" strike="noStrike">
              <a:solidFill>
                <a:srgbClr val="000000"/>
              </a:solidFill>
              <a:latin typeface="Calibri"/>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Open Question] </a:t>
            </a:r>
            <a:r>
              <a:rPr b="0" lang="en-US" sz="2800" spc="-1" strike="noStrike">
                <a:solidFill>
                  <a:srgbClr val="000000"/>
                </a:solidFill>
                <a:latin typeface="Calibri"/>
              </a:rPr>
              <a:t>Is DHCP-PD enough for all scenarios of renumbering prefix process?</a:t>
            </a: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09D7-D176-4A44-9DB8-C543C90676A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dress Configuration</a:t>
            </a:r>
            <a:br>
              <a:rPr sz="3200"/>
            </a:br>
            <a:r>
              <a:rPr b="0" lang="en-US" sz="3200" spc="-1" strike="noStrike">
                <a:solidFill>
                  <a:srgbClr val="000000"/>
                </a:solidFill>
                <a:latin typeface="Calibri"/>
              </a:rPr>
              <a:t>                        </a:t>
            </a:r>
            <a:r>
              <a:rPr b="0" i="1" lang="en-US" sz="2800" spc="-1" strike="noStrike">
                <a:solidFill>
                  <a:srgbClr val="000000"/>
                </a:solidFill>
                <a:latin typeface="Calibri"/>
              </a:rPr>
              <a:t>--Host address configuration</a:t>
            </a:r>
            <a:endParaRPr b="0" lang="en-US" sz="2800" spc="-1" strike="noStrike">
              <a:solidFill>
                <a:srgbClr val="000000"/>
              </a:solidFill>
              <a:latin typeface="Calibri"/>
            </a:endParaRPr>
          </a:p>
        </p:txBody>
      </p:sp>
      <p:sp>
        <p:nvSpPr>
          <p:cNvPr id="64" name=""/>
          <p:cNvSpPr txBox="1"/>
          <p:nvPr/>
        </p:nvSpPr>
        <p:spPr>
          <a:xfrm>
            <a:off x="457200" y="1557360"/>
            <a:ext cx="8229600" cy="4525920"/>
          </a:xfrm>
          <a:prstGeom prst="rect">
            <a:avLst/>
          </a:prstGeom>
          <a:noFill/>
          <a:ln w="0">
            <a:noFill/>
          </a:ln>
        </p:spPr>
        <p:txBody>
          <a:bodyPr anchor="t">
            <a:normAutofit fontScale="97000"/>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ND and DHCP are two basic automatic address configuration methods in IPv6 networks. They may be used parallel in a network for address configuration, which may cause issues:</a:t>
            </a:r>
            <a:endParaRPr b="0" lang="en-US" sz="24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alibri"/>
              </a:rPr>
              <a:t>Dynamic prefix learning</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HCP-configured hosts may ignore RA prefix advertisement, so that they can’t learn the new prefixes through ND when an uplink is added.</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alibri"/>
              </a:rPr>
              <a:t>DHCP&amp;SLAAC conflic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nistrators may mis-configure the prefixes in RA and DHCP messages to be different.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alibri"/>
              </a:rPr>
              <a:t>“</a:t>
            </a:r>
            <a:r>
              <a:rPr b="0" i="1" lang="en-US" sz="2000" spc="-1" strike="noStrike" u="sng">
                <a:solidFill>
                  <a:srgbClr val="000000"/>
                </a:solidFill>
                <a:uFillTx/>
                <a:latin typeface="Calibri"/>
              </a:rPr>
              <a:t>M” debat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M” bit in RA indicates there is DHCP available. This could cause SLAAC-Configured hosts ambiguous behavior, since there’s no clear specification in the protocols (neither in RFC4861 nor 486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D0A9-7944-4278-BDF1-6FB82CAFE70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st address configuration(continue)</a:t>
            </a:r>
            <a:endParaRPr b="0" lang="en-US" sz="3200" spc="-1" strike="noStrike">
              <a:solidFill>
                <a:srgbClr val="000000"/>
              </a:solidFill>
              <a:latin typeface="Calibri"/>
            </a:endParaRPr>
          </a:p>
        </p:txBody>
      </p:sp>
      <p:sp>
        <p:nvSpPr>
          <p:cNvPr id="67" name=""/>
          <p:cNvSpPr txBox="1"/>
          <p:nvPr/>
        </p:nvSpPr>
        <p:spPr>
          <a:xfrm>
            <a:off x="395280" y="981000"/>
            <a:ext cx="8229600" cy="5112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HCPv6 reconfiguration not yet for bulk usag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HCPv6-reconfiguration messages could be initiated by server to trigger clients restart DHCP sessions. As it can be considered as “stateful” renumbering, maybe it’s not proper for bulk usag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a:t>
            </a:r>
            <a:r>
              <a:rPr b="0" lang="en-US" sz="2000" spc="-1" strike="noStrike">
                <a:solidFill>
                  <a:srgbClr val="000000"/>
                </a:solidFill>
                <a:latin typeface="Calibri"/>
              </a:rPr>
              <a:t>But is there any requirement, so that we can consider the issue as a gap?</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 prefix lifetime limitation</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FC4862 it is specified that,  if the previous </a:t>
            </a:r>
            <a:r>
              <a:rPr b="0" i="1" lang="en-US" sz="2000" spc="-1" strike="noStrike">
                <a:solidFill>
                  <a:srgbClr val="000000"/>
                </a:solidFill>
                <a:latin typeface="Calibri"/>
              </a:rPr>
              <a:t>RemainingLifetime</a:t>
            </a:r>
            <a:r>
              <a:rPr b="0" lang="en-US" sz="2000" spc="-1" strike="noStrike">
                <a:solidFill>
                  <a:srgbClr val="000000"/>
                </a:solidFill>
                <a:latin typeface="Calibri"/>
              </a:rPr>
              <a:t> is longer than two hours, it is impossible to reduce a prefix‘s lifetime less than two hours for security consideration. (only if the RA is not authenticated, e.g. with SEN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a:t>
            </a:r>
            <a:r>
              <a:rPr b="0" lang="en-US" sz="2000" spc="-1" strike="noStrike">
                <a:solidFill>
                  <a:srgbClr val="000000"/>
                </a:solidFill>
                <a:latin typeface="Calibri"/>
              </a:rPr>
              <a:t> This limitation makes an immediate renumbering event is impossible. Should we change the current standards to remove the limitation (more security risk)? Or other trade-off solu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CE08-3F58-41C7-B3F1-7C9F704AE28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395280" y="1196640"/>
            <a:ext cx="8229600" cy="6048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1" lang="en-US" sz="2400" spc="-1" strike="noStrike">
                <a:solidFill>
                  <a:srgbClr val="000000"/>
                </a:solidFill>
                <a:latin typeface="Calibri"/>
              </a:rPr>
              <a:t>Learning new prefixe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described in RFC5887, in a multihomed site, the interior routers would need a mechanism to learn which upstream providers and prefixes were currently valid to only advertise these prefixes to hosts.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2400" spc="-1" strike="noStrike">
                <a:solidFill>
                  <a:srgbClr val="000000"/>
                </a:solidFill>
                <a:latin typeface="Calibri"/>
              </a:rPr>
              <a:t>Restart after renumbering</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C2072 mentioned that some routers cache IP addresses in some situations. So routers might need to be restarted as a result of site renumbe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a:t>
            </a:r>
            <a:r>
              <a:rPr b="0" lang="en-US" sz="2000" spc="-1" strike="noStrike">
                <a:solidFill>
                  <a:srgbClr val="000000"/>
                </a:solidFill>
                <a:latin typeface="Calibri"/>
              </a:rPr>
              <a:t>It seems only happen on the old type of router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2400" spc="-1" strike="noStrike">
                <a:solidFill>
                  <a:srgbClr val="000000"/>
                </a:solidFill>
                <a:latin typeface="Calibri"/>
              </a:rPr>
              <a:t>Router naming</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C4192 suggested that switches and routers should use domain names for configuration to better support renumbe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pen Question] </a:t>
            </a:r>
            <a:r>
              <a:rPr b="0" lang="en-US" sz="2000" spc="-1" strike="noStrike">
                <a:solidFill>
                  <a:srgbClr val="000000"/>
                </a:solidFill>
                <a:latin typeface="Calibri"/>
              </a:rPr>
              <a:t>Router naming is not a new capability, which is already supported in some scenarios (e.g. IPSec VPN). The gap is probably the education of network administrato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1"/>
          <p:cNvSpPr>
            <a:spLocks noGrp="1"/>
          </p:cNvSpPr>
          <p:nvPr>
            <p:ph type="title"/>
          </p:nvPr>
        </p:nvSpPr>
        <p:spPr>
          <a:xfrm>
            <a:off x="32400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dress Configuration</a:t>
            </a:r>
            <a:br>
              <a:rPr sz="3200"/>
            </a:br>
            <a:r>
              <a:rPr b="0" lang="en-US" sz="3200" spc="-1" strike="noStrike">
                <a:solidFill>
                  <a:srgbClr val="000000"/>
                </a:solidFill>
                <a:latin typeface="Calibri"/>
              </a:rPr>
              <a:t>                        </a:t>
            </a:r>
            <a:r>
              <a:rPr b="0" i="1" lang="en-US" sz="2800" spc="-1" strike="noStrike">
                <a:solidFill>
                  <a:srgbClr val="000000"/>
                </a:solidFill>
                <a:latin typeface="Calibri"/>
              </a:rPr>
              <a:t>--Router address configuration</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4145-E851-49FC-ABE1-6D4FB14A2DD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395280" y="1523520"/>
            <a:ext cx="8229600" cy="49294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tatic address configuration avoidance/reducing</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Open Question] </a:t>
            </a:r>
            <a:r>
              <a:rPr b="0" lang="en-US" sz="2800" spc="-1" strike="noStrike">
                <a:solidFill>
                  <a:srgbClr val="000000"/>
                </a:solidFill>
                <a:latin typeface="Calibri"/>
              </a:rPr>
              <a:t>Is static addr config (manual or script-driven) avoidance a lost cause? How to limit the places where static addresses must be used (e.g. FQDN and autoconf .etc) ?</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ULA</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Open Question] </a:t>
            </a:r>
            <a:r>
              <a:rPr b="0" lang="en-US" sz="2800" spc="-1" strike="noStrike">
                <a:solidFill>
                  <a:srgbClr val="000000"/>
                </a:solidFill>
                <a:latin typeface="Calibri"/>
              </a:rPr>
              <a:t>Is anyone actually using ULAs? It may help to prevent interior site renumbering caused by IS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1"/>
          <p:cNvSpPr>
            <a:spLocks noGrp="1"/>
          </p:cNvSpPr>
          <p:nvPr>
            <p:ph type="title"/>
          </p:nvPr>
        </p:nvSpPr>
        <p:spPr>
          <a:xfrm>
            <a:off x="32400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dress Configuration</a:t>
            </a:r>
            <a:br>
              <a:rPr sz="3200"/>
            </a:br>
            <a:r>
              <a:rPr b="0" lang="en-US" sz="3200" spc="-1" strike="noStrike">
                <a:solidFill>
                  <a:srgbClr val="000000"/>
                </a:solidFill>
                <a:latin typeface="Calibri"/>
              </a:rPr>
              <a:t>                        </a:t>
            </a:r>
            <a:r>
              <a:rPr b="0" i="1" lang="en-US" sz="2800" spc="-1" strike="noStrike">
                <a:solidFill>
                  <a:srgbClr val="000000"/>
                </a:solidFill>
                <a:latin typeface="Calibri"/>
              </a:rPr>
              <a:t>--static addresses configuration</a:t>
            </a:r>
            <a:endParaRPr b="0" lang="en-US" sz="28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A5EB-D337-4BE9-B7FF-DEAF67D4EE4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02:34:31Z</dcterms:created>
  <dc:creator>Leo Liu(bing)</dc:creator>
  <dc:description/>
  <dc:language>en-US</dc:language>
  <cp:lastModifiedBy>Tim Chown</cp:lastModifiedBy>
  <dcterms:modified xsi:type="dcterms:W3CDTF">2011-07-27T20:11:56Z</dcterms:modified>
  <cp:revision>300</cp:revision>
  <dc:subject/>
  <dc:title>IPv6 Site Renumbering  Gap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311298079</vt:lpwstr>
  </property>
</Properties>
</file>