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ill Sans"/>
              </a:rPr>
              <a:t>draft-smith-abfab-usability-ui-consideration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Rhys Smit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im of the I-D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Help elucidate UI and usability issues for those wishing to make use of, or develop, abfab based techno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o concentrates on user facing aspects of abfab - Identity Selection, et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in topics in -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anaging Identit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apping Services to Identit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Handling Erro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naging Identiti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90920" indent="-508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information is associated with an ID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86560" indent="-508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dding Identities (manually/automate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86560" indent="-508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odifying Identities (manually/automate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86560" indent="-508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Veryifying Identit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86560" indent="-508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moving Identity (manuall/automate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7124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Identity&lt;-&gt;Servic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Listing Identities and mapped servi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ssociating Services with an ident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User-driven manua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utomated rules-bas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Dis-associating servi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rror Handling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dentity Erro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rvices Erro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nc AuthZ erro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Other erro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.g. network erro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Qs for all in room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ny major topics missing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ny minor topics missing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nything erroneous so far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