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4BE-F595-4C29-B643-8B67EAA8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F80-AE14-43AE-BB98-12BD1877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21E-C868-4655-8828-36306D5B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FEF-07F9-4002-91AC-89A47822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C66-42BE-455A-8BED-3204385F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65F-B212-4BC1-9534-3D269125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E95-F1DC-4424-AC65-EF38F179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4BB-3635-4451-943C-247D64E5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6B7-DD6E-4A6E-9B5B-5F2F1F77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9E2-28BA-409C-97CD-3188EDD7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EFF-88E7-4C7E-87D5-873B60A2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703-B459-4B24-9B04-B1167041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F894C-56F0-42D0-AEEA-6628169A3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o Levels</a:t>
            </a:r>
            <a:br>
              <a:rPr sz="4400"/>
            </a:b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d</a:t>
            </a:r>
            <a:r>
              <a:rPr b="0" lang="en-GB" sz="2000" spc="-1" strike="noStrike">
                <a:solidFill>
                  <a:srgbClr val="0000ff"/>
                </a:solidFill>
                <a:latin typeface="Calibri"/>
              </a:rPr>
              <a:t>raft-ietf-avtext-client-to-mixer-audio-level-03</a:t>
            </a:r>
            <a:br>
              <a:rPr sz="2000"/>
            </a:br>
            <a:r>
              <a:rPr b="0" lang="en-GB" sz="2000" spc="-1" strike="noStrike">
                <a:solidFill>
                  <a:srgbClr val="0000ff"/>
                </a:solidFill>
                <a:latin typeface="Calibri"/>
              </a:rPr>
              <a:t>draft-ietf-avtext-mixer-to-client-audio-level-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mil Iv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nathan Lenn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rico Maroc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-WGLC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s from Keith Drage, Magnus Westerlund, Peter Musgrave, Stephen Wenger, John Elwell: Thank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er-to-client: draft updated reflecting editorial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ent-to-mixer: draft updated with editorial comments, 1 outstanding technical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‘V’ b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‘V’ B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 indicates “(possibly) voice in the packe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f voice activity detection is not implemen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cate VAD support (or lack of) in S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VAD not supported, always set V to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e ‘V’ with ‘NV’, “No voice in the packe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19:50:52Z</dcterms:created>
  <dc:creator>Enrico Marocco</dc:creator>
  <dc:description/>
  <dc:language>en-US</dc:language>
  <cp:lastModifiedBy>drage-7</cp:lastModifiedBy>
  <dcterms:modified xsi:type="dcterms:W3CDTF">2011-07-26T14:25:35Z</dcterms:modified>
  <cp:revision>3</cp:revision>
  <dc:subject/>
  <dc:title>Audio Levels</dc:title>
</cp:coreProperties>
</file>