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70E4-7C99-4FB1-AB93-665F6116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E386-C9B0-4317-BA60-CDA84095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CE20-B017-4350-A817-C43284DE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569C-CE8B-49C4-91CC-A8D4EBF1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5FC-987E-44EA-AA20-745463F3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3E4-3EAD-4815-BA9A-C1A33586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D7F6-D026-42EC-AF3D-F2D70DDF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4EC0-70EF-4027-B109-7C3FDA96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DB4E-699A-41DD-A0AF-1653C1B4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AC0-DC36-469F-83B6-CA1567EB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1AD-29A9-4FE7-BAA7-72F161FC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53FD-77D3-47C4-841E-B75C719F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D8288-33EC-4C85-AC5E-E7A842046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o Levels</a:t>
            </a:r>
            <a:br>
              <a:rPr sz="4400"/>
            </a:b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d</a:t>
            </a:r>
            <a:r>
              <a:rPr b="0" lang="en-GB" sz="2000" spc="-1" strike="noStrike">
                <a:solidFill>
                  <a:srgbClr val="0000ff"/>
                </a:solidFill>
                <a:latin typeface="Calibri"/>
              </a:rPr>
              <a:t>raft-ietf-avtext-client-to-mixer-audio-level-03</a:t>
            </a:r>
            <a:br>
              <a:rPr sz="2000"/>
            </a:br>
            <a:r>
              <a:rPr b="0" lang="en-GB" sz="2000" spc="-1" strike="noStrike">
                <a:solidFill>
                  <a:srgbClr val="0000ff"/>
                </a:solidFill>
                <a:latin typeface="Calibri"/>
              </a:rPr>
              <a:t>draft-ietf-avtext-mixer-to-client-audio-level-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mil Iv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nathan Lenn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nrico Maroc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t-WGLC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s from Keith Drage, Magnus Westerlund, Peter Musgrave, Stephen Wenger, John Elwell: Thank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xer-to-client: draft updated reflecting editorial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ent-to-mixer: draft updated with editorial comments, 1 outstanding technical 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‘V’ b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‘V’ B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 indicates “(possibly) voice in the packe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f voice activity detection is not implemen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cate VAD support (or lack of) in S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VAD not supported, always set V to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ace ‘V’ with ‘NV’, “No voice in the packe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19:50:52Z</dcterms:created>
  <dc:creator>Enrico Marocco</dc:creator>
  <dc:description/>
  <dc:language>en-US</dc:language>
  <cp:lastModifiedBy>drage-7</cp:lastModifiedBy>
  <dcterms:modified xsi:type="dcterms:W3CDTF">2011-07-26T14:25:35Z</dcterms:modified>
  <cp:revision>3</cp:revision>
  <dc:subject/>
  <dc:title>Audio Levels</dc:title>
</cp:coreProperties>
</file>