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2C75A-A5C9-45FE-B252-CE76773D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C52C-3099-434F-A619-8577448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984DA-6501-4BAD-BEEC-243A785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4AB3-8FD9-4916-A3A3-58FB0781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8B0BE-EC5E-4DAE-89C3-588FB7C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B9EB8-A9D3-4D8C-9DEA-DC3FEEF1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91A90-403F-4432-BCDC-CF39CD1E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A5F47-D27B-41D8-B41B-4076571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8A55-561F-4006-A210-5FE0382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C70D-3562-4EA5-AAC1-AC52AF2A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EA273-25E3-4489-A463-E5EFD283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527E-ADB9-4AEB-90FB-D152FC9A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BBCE706B-88FC-47E2-BB0E-C042D840661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4A72-F612-48BA-95FE-1E59BF632E0A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BA69-DB4A-470D-B277-65F4B675020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7" name="Rectangle 25"/>
          <p:cNvSpPr/>
          <p:nvPr/>
        </p:nvSpPr>
        <p:spPr>
          <a:xfrm>
            <a:off x="67784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5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283F-6026-4577-8F3C-7C547B8780C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365-90D7-4510-8D61-17B931C131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Splicing for RTP Sessions</a:t>
            </a:r>
            <a:br>
              <a:rPr sz="40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raft-xia-avtext-splicing-for-rtp-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#81, July 2011, Quebec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11280" y="4797360"/>
            <a:ext cx="684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Jinwei X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iajinwei@huawei.com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95D4-8848-4D98-A29D-FF139727C3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Mail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early user detectable case on RTP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includes the CSRC list in outgoing packets, which facilitates the system debug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jority of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fers the RTP mixer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kely user non-detectable case on RT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more complexity compared to detectable case whatever using mixer or trans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(not include CSRC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traightforward on RTC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re overhead (regenerating timing model and its own RTCP even during non-splicing time), as well as has loop detection iss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ss overhead (simply rewrite the RTP sequence number after splicing has taken place and timing of original content unchang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lex on RTCP processing, especially on bitrate adap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clear preference on mailing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FFA-A495-4734-B8BD-EC59F000E78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o use mixer in user detectabl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he final direction in user non-detectabl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, translator or both based solu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seems to be more easily specified to realize this case because it is similar to user detectable 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single mixer based draft for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1:40Z</dcterms:created>
  <dc:creator>xiajinwei</dc:creator>
  <dc:description/>
  <dc:language>en-US</dc:language>
  <cp:lastModifiedBy>drage-7</cp:lastModifiedBy>
  <dcterms:modified xsi:type="dcterms:W3CDTF">2011-07-26T14:38:41Z</dcterms:modified>
  <cp:revision>1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37744</vt:lpwstr>
  </property>
</Properties>
</file>