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24340-317F-458A-B5AC-64106F2B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C61DC-BE47-47C7-8787-5E1C601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00634-9D04-41E4-AD15-3ACA1212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B6F7E-774E-4B4C-B808-C70D9CB1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72D73-0C7F-4940-A9F5-1D72144B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E00C6-056B-443F-90C2-A00F02C0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81F87-22A3-4D18-8ED6-72539C3E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5C936-4875-4C1A-85B3-D517EFC0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6C982-8FA3-4ACA-BFCB-2487757D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00223-F0F7-4A4F-94D3-7104B827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2A72D-6CC7-46C1-8796-3CAC438C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7A2AF-079F-4C8C-AA37-92689FDB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D66E6A44-DE18-44AE-A115-61EA64E5C9E5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37108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7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8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11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3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6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1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6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1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6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8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1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3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6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8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1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3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6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8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1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3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6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8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71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3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4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5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CEAF-4E85-48DE-84DF-4A04165B9586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BF35-538D-494D-AD26-68E14EC47B8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0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38026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7" name="Rectangle 25"/>
          <p:cNvSpPr/>
          <p:nvPr/>
        </p:nvSpPr>
        <p:spPr>
          <a:xfrm>
            <a:off x="6778440" y="247680"/>
            <a:ext cx="14972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8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5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0616-F7C4-4FC6-BDDF-8B9F41CCD5B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4B34-BF4D-4D74-9368-CFC15C7D294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 Splicing for RTP Sessions</a:t>
            </a:r>
            <a:br>
              <a:rPr sz="40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raft-xia-avtext-splicing-for-rtp-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#81, July 2011, Quebec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11280" y="4797360"/>
            <a:ext cx="684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Jinwei X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iajinwei@huawei.com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5DC2-8371-4F9F-B986-502B032A80D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on Mail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early user detectable case on RTP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r includes the CSRC list in outgoing packets, which facilitates the system debug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ajority of 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fers the RTP mixer appro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kely user non-detectable case on RT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more complexity compared to detectable case whatever using mixer or trans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r (not include CSRC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traightforward on RTC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ore overhead (regenerating timing model and its own RTCP even during non-splicing time), as well as has loop detection iss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ess overhead (simply rewrite the RTP sequence number after splicing has taken place and timing of original content unchang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plex on RTCP processing, especially on bitrate adap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clear preference on mailing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2836-A418-41D8-B09C-C6F6AD4F0B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to use mixer in user detectabl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the final direction in user non-detectabl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r, translator or both based solu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r seems to be more easily specified to realize this case because it is similar to user detectable 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single mixer based draft for both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11:40Z</dcterms:created>
  <dc:creator>xiajinwei</dc:creator>
  <dc:description/>
  <dc:language>en-US</dc:language>
  <cp:lastModifiedBy>drage-7</cp:lastModifiedBy>
  <dcterms:modified xsi:type="dcterms:W3CDTF">2011-07-26T14:38:41Z</dcterms:modified>
  <cp:revision>1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237744</vt:lpwstr>
  </property>
</Properties>
</file>