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A62-59D3-4DEF-BBEE-CA8B4CA5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810-BF9C-4E7E-AEDD-7AF19FC9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047-0D6A-4DFE-85D7-D2C4012E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BFF-1C0E-402C-A6FB-1C945053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C98-87FE-4F6F-9D4A-9970976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E25-DD94-4534-92BE-89EA6314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B63-0CD1-44D8-9AF4-3C88FD71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617-71A7-42B1-B03A-5D0CD2D6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E79-384E-42C6-AB30-45E188EB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A18-1FB6-4807-9D87-BF2A9A9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8E2-608C-4D4E-B09F-6995C6A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C9A-9811-4759-95D3-85881DE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D716-9B51-4B38-82E3-A5FDA23A10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EEE 1588/802.1AS Synchronisation for RTP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raft-williams-avtext-avbsync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or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str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 of an RTP header extension for carrying in-band synchronization metadata provided by the IEEE1588/802.1AS Precision Time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working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work in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ssues with working on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 to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4:46:25Z</dcterms:created>
  <dc:creator>drage-7</dc:creator>
  <dc:description/>
  <dc:language>en-US</dc:language>
  <cp:lastModifiedBy>drage-7</cp:lastModifiedBy>
  <dcterms:modified xsi:type="dcterms:W3CDTF">2011-07-26T14:51:20Z</dcterms:modified>
  <cp:revision>1</cp:revision>
  <dc:subject/>
  <dc:title>IEEE 1588/802.1AS Synchronisation for RTP Streams</dc:title>
</cp:coreProperties>
</file>