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DD4-E4A2-4343-8208-694143FA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C71-A01E-42DE-9053-93EE8EE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7D4-D3DE-4EAE-81EC-8851B613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FAB-37FA-4102-AA53-35EE85E4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3D6-D744-4413-8FA5-49839C58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A41-231A-4021-9E2E-EFDD069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B81-2481-4403-BD90-7C3750D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D32-EAD9-493B-AA99-7B62B60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F02-B769-483C-B0BA-6916A3A8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C50-0132-4022-A39B-53C4089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0BB-61CF-4C74-BE20-C1AF645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5DF-6340-464E-B931-EF066A0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CFBD-6B27-4EE7-8611-1DFA687029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EEE 1588/802.1AS Synchronisation for RT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raft-williams-avtext-avbsync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or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str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an RTP header extension for carrying in-band synchronization metadata provided by the IEEE1588/802.1AS Precision Time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working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work in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ssues with working on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 to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4:46:25Z</dcterms:created>
  <dc:creator>drage-7</dc:creator>
  <dc:description/>
  <dc:language>en-US</dc:language>
  <cp:lastModifiedBy>drage-7</cp:lastModifiedBy>
  <dcterms:modified xsi:type="dcterms:W3CDTF">2011-07-26T14:51:20Z</dcterms:modified>
  <cp:revision>1</cp:revision>
  <dc:subject/>
  <dc:title>IEEE 1588/802.1AS Synchronisation for RTP Streams</dc:title>
</cp:coreProperties>
</file>