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D43B0-86D7-4EDA-8C0F-546C402DD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5FF0B-424F-44C2-ACB1-F8471D506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5DB5A-000C-4533-A036-03CDA709E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195C1-546C-451E-A48E-F447780A2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9086F-D379-4EA8-AB7C-7D3A9FCE7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6B9A3-88BF-4D6C-964A-79BBE655E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9B493-1BDD-4B1F-8442-D0AEE618C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89D06-EC0C-41AF-B391-DD0BB05D2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58507-46BE-4D1C-8732-7FB12BB45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6F1EC-9E5A-41CA-B003-B5562A639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D35A1-8317-49CD-A526-01FAD773B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2FA-76B0-431C-869C-2E5AEEFE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746-9820-421C-A4AA-6B075696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5E6-AC4E-401E-9793-47A11101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F95-A2DA-4952-B1BC-43FAF605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8BE-3ED9-4ED0-846B-D76C53D8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D4B-BBC7-40C4-A029-86073CCB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A63-5AC2-41DE-A026-E069D27C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B48-E44A-4736-8922-A27D579D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A2C-376A-4A6A-86B0-B86A7D70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634-D9DB-4C04-BCCB-696E677F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55C-BB4F-4F23-BEE0-3A24EF4E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321-207F-49A8-81B0-91FFED13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36814-4249-4DE2-9026-490486687A70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papneja-bgp-basic-dp-convergence-0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0EEBE-FC94-47EF-8D68-3612E7BF1424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2347920"/>
            <a:ext cx="856764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BGP Data-Plane Benchmarking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Applicable to Modern Router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10920" y="4284360"/>
            <a:ext cx="7056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ya Varlashkin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jiv Papneja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avani Parise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 Grégory CAUCHIE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6C765-43E1-47C9-8B8C-F392D356F93B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Action Item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an we agree on approach?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Post revised old draft and new draft before IETF82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Aim for WG-item readiness by IETF82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Inputs welcome!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35E8C-6F3A-4D64-85D8-E3099278473A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Background/ Current Statu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4320" y="14936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57200" indent="-45720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Terminology for Benchmarking BGP Device Convergence in the (RFC 4098) / June 2005</a:t>
            </a:r>
            <a:endParaRPr b="0" lang="en-US" sz="3000" spc="-1" strike="noStrike">
              <a:solidFill>
                <a:srgbClr val="000000"/>
              </a:solidFill>
              <a:latin typeface="Linux Biolinum O"/>
            </a:endParaRPr>
          </a:p>
          <a:p>
            <a:pPr marL="457200" indent="-45720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Methodology draft focusing on the BGP Data Plane convergence was posted prior IETF 80</a:t>
            </a:r>
            <a:endParaRPr b="0" lang="en-US" sz="30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0">
              <a:lnSpc>
                <a:spcPct val="85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Linux Biolinum O"/>
                <a:ea typeface="ＭＳ Ｐゴシック"/>
                <a:hlinkClick r:id="rId1"/>
              </a:rPr>
              <a:t>http://tools.ietf.org/html/draft-papneja-bgp-basic-dp-convergence-01</a:t>
            </a:r>
            <a:endParaRPr b="0" lang="en-US" sz="26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inux Biolinum O"/>
              </a:rPr>
              <a:t>Not addressed (Missing item): Data-plane convergence on modern routers, which have local restoration capability</a:t>
            </a:r>
            <a:endParaRPr b="0" lang="en-US" sz="26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inux Biolinum O"/>
              </a:rPr>
              <a:t>Probable solution to address missing item: Proposing additional draft (may merge later) to be submitted prior to IETF 82</a:t>
            </a:r>
            <a:endParaRPr b="0" lang="en-US" sz="26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B3367-AE41-46E2-8B37-B80231968E4B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Elaborating Missing Item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Assumptio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inux Biolinum O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: packet flow restored – protocol converged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This may NO LONGER be true – modern routers can restore traffic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Linux Biolinum O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 protocols converg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May not be applicable when mapped to modern router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24286-DD77-4C16-BF78-AA9592280E61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Proposed Solution!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Measure data-plane convergence at DUT (not behind) and do NOT call it BGP convergence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Relevant to modern world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By definition can be measured at data-plan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Measure BGP convergence only behind DUT, not a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Still relevant even today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Capture protocol packets rather than data-plan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Use same reference clock for all timestamp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A5D97-16B3-42C7-B723-8C886363C82B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Key points of methodology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4341960"/>
            <a:ext cx="9072360" cy="24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Eliminate or minimize dependence on non-DUT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DUT Detection tim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DUT Reaction tim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DUT Propagation tim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15880" y="1784520"/>
            <a:ext cx="9047160" cy="23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07F47-907D-4524-9AA3-C61899990F27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Two draft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DUT ability to tell routers, which depend on it, about new network topology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Revised draft-papneja-bgp-basic-dp-convergenc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Either exact but in control plane,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Or leveraging results from the new draft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DUT ability to send packets that already arrived to i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New draft (pending upload to ietf.org)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Strictly data-plan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  <a:ea typeface="ＭＳ Ｐゴシック"/>
              </a:rPr>
              <a:t>Current Draft Summary</a:t>
            </a:r>
            <a:br>
              <a:rPr sz="4400"/>
            </a:br>
            <a:r>
              <a:rPr b="1" lang="en-US" sz="2400" spc="-1" strike="noStrike">
                <a:solidFill>
                  <a:srgbClr val="00664d"/>
                </a:solidFill>
                <a:latin typeface="Linux Biolinum O"/>
                <a:ea typeface="ＭＳ Ｐゴシック"/>
              </a:rPr>
              <a:t>(draft-papneja-bgp-basic-dp-convergence-01)</a:t>
            </a:r>
            <a:endParaRPr b="1" lang="en-US" sz="2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3280" y="1511280"/>
            <a:ext cx="940896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5000"/>
          </a:bodyPr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BGP Data plane FIB convergence for both IPv4 and IPv6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Limited to Basic BGP convergence (RFC 4271 functionality with Multi-Protocol BGP (MP-BGP) for IPv6)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BGP Failure/Convergence Event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Considers dependencies on factors impacting convergence: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05600" indent="-271440">
              <a:lnSpc>
                <a:spcPct val="80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Number of peers, </a:t>
            </a:r>
            <a:endParaRPr b="0" lang="en-US" sz="2300" spc="-1" strike="noStrike">
              <a:solidFill>
                <a:srgbClr val="000000"/>
              </a:solidFill>
              <a:latin typeface="Linux Biolinum O"/>
            </a:endParaRPr>
          </a:p>
          <a:p>
            <a:pPr lvl="1" marL="705600" indent="-271440">
              <a:lnSpc>
                <a:spcPct val="80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Number of routes/peers</a:t>
            </a:r>
            <a:endParaRPr b="0" lang="en-US" sz="2300" spc="-1" strike="noStrike">
              <a:solidFill>
                <a:srgbClr val="000000"/>
              </a:solidFill>
              <a:latin typeface="Linux Biolinum O"/>
            </a:endParaRPr>
          </a:p>
          <a:p>
            <a:pPr lvl="1" marL="705600" indent="-271440">
              <a:lnSpc>
                <a:spcPct val="80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inux Biolinum O"/>
              </a:rPr>
              <a:t>Policy Processing/Reconfiguration </a:t>
            </a:r>
            <a:endParaRPr b="0" lang="en-US" sz="23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Data Traffic characterization – offered load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Various test cases that covers iBGP, eBGP and failure convergence event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Topologies – Several 3 node, and 4 node setup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05600" indent="-271440">
              <a:lnSpc>
                <a:spcPct val="80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C9DDB-F5E1-4132-A4BB-7F6E1C40617C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New draft summary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728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6000"/>
          </a:bodyPr>
          <a:p>
            <a:pPr marL="414360" indent="-310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Metrics derived from packets, not from clock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414360" indent="-310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ingle test procedure, 5 failure scenarios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29080" indent="-3110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Loss of Signal on the link attached to DUT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29080" indent="-3110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Attached link failure without Lo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29080" indent="-3110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Non-direct link failur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29080" indent="-3110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Best route withdrawal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29080" indent="-3110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BGP next-hop failur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14360" indent="-310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Background topological noise for realistic resul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414360" indent="-310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Large topology scenario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23FDF-9F20-4B15-92A1-4805D0CF9589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Next Step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urrent draft will be revised to focus only on “behind DUT”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Probably NOT data-plane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Metrics obtained directly, not derived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till data-plane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Use results from new draft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20:13:19Z</dcterms:created>
  <dc:creator>Rajiv</dc:creator>
  <dc:description/>
  <dc:language>en-US</dc:language>
  <cp:lastModifiedBy>admin</cp:lastModifiedBy>
  <dcterms:modified xsi:type="dcterms:W3CDTF">2011-07-28T00:19:41Z</dcterms:modified>
  <cp:revision>9</cp:revision>
  <dc:subject/>
  <dc:title>Measuring convergence of contemporary routers</dc:title>
</cp:coreProperties>
</file>