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E7657-1F59-444B-80DE-B2518AF21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B5EC9-8579-424C-803A-C378BCFA0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BF20A-9A34-4923-87C4-C1EA49FA2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1FDE3-5833-4C2F-A184-487758386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77DB8-210D-445E-BBDA-D16841A1A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6571F-02AE-4188-9877-9A9DADE40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C0742-DF5E-43C6-8562-418728636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84012-D763-47D6-99FF-61D197D9C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659B6-ACD1-423B-9DBE-CE2C91455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ABE3F-76A9-42D5-AD2A-3446EDC27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8B9A9-A3C1-493E-BE00-CAADAB33F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6E6D-B650-41B7-8985-B963DD65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B3DC-7BDE-49C4-B567-F0954DC6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41E-6795-469C-BE60-FDB04B29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2C7-094A-405D-98F1-A6168AE6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039-7175-42EB-BB89-E674D233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C8B-80B8-4D24-8CA3-1D9B419C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9FB-8825-4F59-8470-0602C727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9B9-8174-416A-89D4-FEE3AFD5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A11-FDCB-4CEE-AC7A-E7E7551B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BEA-71D6-4E5C-AE48-AD377AA1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270-7E3F-44DA-8494-D1BB2082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A43-CB02-4763-AF10-5C23B72F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28698-6443-49EB-A986-155DEBBC2B2F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papneja-bgp-basic-dp-convergence-0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8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3B802-52EA-4B61-A640-CBB404737D99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2347920"/>
            <a:ext cx="856764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BGP Data-Plane Benchmarking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Applicable to Modern Routers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10920" y="4284360"/>
            <a:ext cx="7056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ya Varlashkin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jiv Papneja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avani Parise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 Grégory CAUCHIE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8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5FD6C-2BB3-403A-BBFB-77998975AADB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Action Items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Can we agree on approach?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Post revised old draft and new draft before IETF82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Aim for WG-item readiness by IETF82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Inputs welcome!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8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34B0D-59C7-4966-A709-85FD4BCEFD93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Background/ Current Status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4320" y="149364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57200" indent="-45720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Terminology for Benchmarking BGP Device Convergence in the (RFC 4098) / June 2005</a:t>
            </a:r>
            <a:endParaRPr b="0" lang="en-US" sz="3000" spc="-1" strike="noStrike">
              <a:solidFill>
                <a:srgbClr val="000000"/>
              </a:solidFill>
              <a:latin typeface="Linux Biolinum O"/>
            </a:endParaRPr>
          </a:p>
          <a:p>
            <a:pPr marL="457200" indent="-45720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Methodology draft focusing on the BGP Data Plane convergence was posted prior IETF 80</a:t>
            </a:r>
            <a:endParaRPr b="0" lang="en-US" sz="30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0">
              <a:lnSpc>
                <a:spcPct val="85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Linux Biolinum O"/>
                <a:ea typeface="ＭＳ Ｐゴシック"/>
                <a:hlinkClick r:id="rId1"/>
              </a:rPr>
              <a:t>http://tools.ietf.org/html/draft-papneja-bgp-basic-dp-convergence-01</a:t>
            </a:r>
            <a:endParaRPr b="0" lang="en-US" sz="26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inux Biolinum O"/>
              </a:rPr>
              <a:t>Not addressed (Missing item): Data-plane convergence on modern routers, which have local restoration capability</a:t>
            </a:r>
            <a:endParaRPr b="0" lang="en-US" sz="26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inux Biolinum O"/>
              </a:rPr>
              <a:t>Probable solution to address missing item: Proposing additional draft (may merge later) to be submitted prior to IETF 82</a:t>
            </a:r>
            <a:endParaRPr b="0" lang="en-US" sz="26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8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08BBE-1CD2-47EA-94BD-BACFE6F97538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Elaborating Missing Item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Assumptio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inux Biolinum O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: packet flow restored – protocol converged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This may NO LONGER be true – modern routers can restore traffic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Linux Biolinum O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 protocols converg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May not be applicable when mapped to modern routers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8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658C6-B449-4F9D-9FAF-697667638255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Proposed Solution!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Measure data-plane convergence at DUT (not behind) and do NOT call it BGP convergence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Relevant to modern world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By definition can be measured at data-plan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Measure BGP convergence only behind DUT, not at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Still relevant even today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Capture protocol packets rather than data-plan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Use same reference clock for all timestamps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8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8C4CE-2EBA-4775-9C31-9788FC0576E0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Key points of methodology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4341960"/>
            <a:ext cx="9072360" cy="24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Eliminate or minimize dependence on non-DUT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DUT Detection tim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DUT Reaction tim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DUT Propagation tim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515880" y="1784520"/>
            <a:ext cx="9047160" cy="23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8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C839F-AF86-4C8D-B7BA-615E60982735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Two drafts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DUT ability to tell routers, which depend on it, about new network topology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Revised draft-papneja-bgp-basic-dp-convergenc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Either exact but in control plane,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Or leveraging results from the new draft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DUT ability to send packets that already arrived to it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New draft (pending upload to ietf.org)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Strictly data-plan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  <a:ea typeface="ＭＳ Ｐゴシック"/>
              </a:rPr>
              <a:t>Current Draft Summary</a:t>
            </a:r>
            <a:br>
              <a:rPr sz="4400"/>
            </a:br>
            <a:r>
              <a:rPr b="1" lang="en-US" sz="2400" spc="-1" strike="noStrike">
                <a:solidFill>
                  <a:srgbClr val="00664d"/>
                </a:solidFill>
                <a:latin typeface="Linux Biolinum O"/>
                <a:ea typeface="ＭＳ Ｐゴシック"/>
              </a:rPr>
              <a:t>(draft-papneja-bgp-basic-dp-convergence-01)</a:t>
            </a:r>
            <a:endParaRPr b="1" lang="en-US" sz="2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3280" y="1511280"/>
            <a:ext cx="940896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5000"/>
          </a:bodyPr>
          <a:p>
            <a:pPr marL="325800" indent="-32580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BGP Data plane FIB convergence for both IPv4 and IPv6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325800" indent="-32580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Limited to Basic BGP convergence (RFC 4271 functionality with Multi-Protocol BGP (MP-BGP) for IPv6)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325800" indent="-32580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BGP Failure/Convergence Events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325800" indent="-32580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Considers dependencies on factors impacting convergence: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705600" indent="-271440">
              <a:lnSpc>
                <a:spcPct val="80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Number of peers, </a:t>
            </a:r>
            <a:endParaRPr b="0" lang="en-US" sz="2300" spc="-1" strike="noStrike">
              <a:solidFill>
                <a:srgbClr val="000000"/>
              </a:solidFill>
              <a:latin typeface="Linux Biolinum O"/>
            </a:endParaRPr>
          </a:p>
          <a:p>
            <a:pPr lvl="1" marL="705600" indent="-271440">
              <a:lnSpc>
                <a:spcPct val="80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Number of routes/peers</a:t>
            </a:r>
            <a:endParaRPr b="0" lang="en-US" sz="2300" spc="-1" strike="noStrike">
              <a:solidFill>
                <a:srgbClr val="000000"/>
              </a:solidFill>
              <a:latin typeface="Linux Biolinum O"/>
            </a:endParaRPr>
          </a:p>
          <a:p>
            <a:pPr lvl="1" marL="705600" indent="-271440">
              <a:lnSpc>
                <a:spcPct val="80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inux Biolinum O"/>
              </a:rPr>
              <a:t>Policy Processing/Reconfiguration </a:t>
            </a:r>
            <a:endParaRPr b="0" lang="en-US" sz="2300" spc="-1" strike="noStrike">
              <a:solidFill>
                <a:srgbClr val="000000"/>
              </a:solidFill>
              <a:latin typeface="Linux Biolinum O"/>
            </a:endParaRPr>
          </a:p>
          <a:p>
            <a:pPr marL="325800" indent="-32580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Data Traffic characterization – offered load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325800" indent="-32580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Various test cases that covers iBGP, eBGP and failure convergence events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325800" indent="-32580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Topologies – Several 3 node, and 4 node setups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325800" indent="-32580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  <a:ea typeface="ＭＳ Ｐゴシック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705600" indent="-271440">
              <a:lnSpc>
                <a:spcPct val="80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8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3D2B1-ACD5-4F74-91E7-417364D0378A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New draft summary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728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6000"/>
          </a:bodyPr>
          <a:p>
            <a:pPr marL="414360" indent="-3106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Metrics derived from packets, not from clock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414360" indent="-3106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ingle test procedure, 5 failure scenarios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829080" indent="-3110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Loss of Signal on the link attached to DUT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29080" indent="-3110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Attached link failure without LoS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29080" indent="-3110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Non-direct link failur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29080" indent="-3110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Best route withdrawal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29080" indent="-3110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BGP next-hop failur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14360" indent="-3106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Background topological noise for realistic result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414360" indent="-3106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Large topology scenario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8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DD9BF-E6AF-480B-9C7F-300F31639050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Next Steps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Current draft will be revised to focus only on “behind DUT”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Probably NOT data-plane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Metrics obtained directly, not derived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till data-plane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86364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Use results from new draft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20:13:19Z</dcterms:created>
  <dc:creator>Rajiv</dc:creator>
  <dc:description/>
  <dc:language>en-US</dc:language>
  <cp:lastModifiedBy>admin</cp:lastModifiedBy>
  <dcterms:modified xsi:type="dcterms:W3CDTF">2011-07-28T00:19:41Z</dcterms:modified>
  <cp:revision>9</cp:revision>
  <dc:subject/>
  <dc:title>Measuring convergence of contemporary routers</dc:title>
</cp:coreProperties>
</file>