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257120" y="728640"/>
            <a:ext cx="478764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028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  <a:defRPr b="0" lang="en-GB" sz="13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254B1E51-8B26-421F-A973-55C1856E35F3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124EF4F6-67DB-4724-A859-1392D65E53A2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7A146841-DAA7-4B65-ACEB-CE2CA36E659A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79B267E6-17E9-4B68-97C1-A12A38C26548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1ED6A1FB-DF84-4D56-B21D-7FFF7B1BBC79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7FA82ADE-A3DB-435E-B5C4-8B38589F1E32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B9F-A5B8-4879-9737-6908BD1B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8B9-E63B-4A1D-AE9D-F6903495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FF0-ECC0-4961-B574-25CDC8C8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BAF-0EFB-49EE-A658-53D7B97A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AA5-AFC5-4C63-98CB-8A7B6B6A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0E5-71DB-4215-B770-A9E657E7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5C8-4EB4-4D1A-B4C4-5DCDCB5F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2D4-F7C4-4A80-BB0C-65EA59E3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976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21A-1F84-4693-AFF6-9FD2CC88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FDA-5384-46FA-9783-2B9943CF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4A8-1F50-46EC-ADC7-AD7080A5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324-05E3-49A9-8858-1339AB76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2480" indent="-282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4120" indent="-212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16120" indent="-204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827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IETF #74 - NETCONF WG session</a:t>
            </a:r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fld id="{4629577A-201F-476D-A485-33033B44598C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hamilton@breakingpoin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1BF2EEF8-1AB6-41E6-A170-CC98556BBF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66024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ntent-Aware Device Benchmarking Methodology/Terminology</a:t>
            </a: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draft-hamilton-bmwg-ca-bench-meth-07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draft-hamilton-bmwg-ca-bench-term-00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215532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MWG Meeting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ETF-81 Quebec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Jul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20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Mike Hamilton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 u="sng">
                <a:solidFill>
                  <a:srgbClr val="0000cc"/>
                </a:solidFill>
                <a:uFillTx/>
                <a:latin typeface="Calibri"/>
                <a:hlinkClick r:id="rId1"/>
              </a:rPr>
              <a:t>mhamilton@breakingpoint.com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BreakingPoint Systems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67E4D526-2A7E-458A-98EA-71C2881E1D1C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3280" y="1889280"/>
            <a:ext cx="903744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Draft Update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Outstanding Questions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Next Steps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2480" indent="-282600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34D41FD2-0328-47D1-8C1F-A9DFA1FF5BE8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39760" y="1733400"/>
            <a:ext cx="94489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Methodology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Updated to 07 version on ID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Addressed comments by WG up to dat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Major modifications to methodology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Discussion of Tput versus CP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Changed output metric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CPS -&gt; AFP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Other Group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EEMBC - DPIbench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D70E56BA-9EF4-4C40-AD7C-DBC399B2390D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tstanding Question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39760" y="1733400"/>
            <a:ext cx="94489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Traffic Composition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 the traffic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 a single protocol within the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Should it be updatabl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do we define “security”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Do we simply leave it out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Malformed traffic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Leave it out?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2EE5BE9A-681F-411B-B6EB-B81FEB0F5757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4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39760" y="1733400"/>
            <a:ext cx="9448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While not perfect, certainly has made progress and could use more input from the WG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Work left to do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Further define the traffic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Make decisions on exploit and malformed traffic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Finalize draft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8:01:51Z</dcterms:created>
  <dc:creator/>
  <dc:description/>
  <cp:keywords>IETF NETCONF</cp:keywords>
  <dc:language>en-US</dc:language>
  <cp:lastModifiedBy>Mike Hamilton</cp:lastModifiedBy>
  <dcterms:modified xsi:type="dcterms:W3CDTF">2011-07-28T14:58:22Z</dcterms:modified>
  <cp:revision>70</cp:revision>
  <dc:subject/>
  <dc:title>NETCONF @IETF70 - Agenda slides</dc:title>
</cp:coreProperties>
</file>