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257120" y="728640"/>
            <a:ext cx="478764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31520" y="4559400"/>
            <a:ext cx="584028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  <a:defRPr b="0" lang="en-GB" sz="13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B5054A61-6D26-4A8D-9C0D-987827AA53FD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DF91DFC4-0BE9-4421-8F7F-8552DA517D2F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A94A8355-740B-4C4C-91BE-534E1C7AAB80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C54D0FD9-CE7D-4856-97BE-238EED7DDF49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46838BFD-7B6B-4138-B9E9-49571B17A703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C3E15E70-FB95-435F-91E4-2268483A7E06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FF6-865F-44E3-8BC5-695CB26A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A4D-8828-456B-803C-4EE0BD2A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F4E-B8C0-4EB1-B513-0ECE65B4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F55-6AEE-4FDA-80E5-527F60B8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E56-8BD3-4284-B412-AA744CFD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68F-BB97-4551-B37E-43B7BE54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CA8-B4B4-4CAC-9984-73938073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EE8A-909C-4FDA-AA69-1CCA7D8A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976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E67-1E7E-4B15-90C7-2275FC4E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D87-E586-46AF-AF52-DAE857E3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918-FC54-4397-91A7-BCDD1BE6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3F9-9C3A-400D-BDAB-DD2C8EAA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2480" indent="-282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4120" indent="-212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716120" indent="-204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827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IETF #74 - NETCONF WG session</a:t>
            </a:r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fld id="{4DDD817D-5A65-4748-938F-DD9075667D57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hamilton@breakingpoin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5F3E0284-70A7-491F-AC33-E6DB50EE6D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66024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ntent-Aware Device Benchmarking Methodology/Terminology</a:t>
            </a:r>
            <a:br>
              <a:rPr sz="4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draft-hamilton-bmwg-ca-bench-meth-07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draft-hamilton-bmwg-ca-bench-term-00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215532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MWG Meeting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ETF-81 Quebec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Jul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201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Mike Hamilton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 u="sng">
                <a:solidFill>
                  <a:srgbClr val="0000cc"/>
                </a:solidFill>
                <a:uFillTx/>
                <a:latin typeface="Calibri"/>
                <a:hlinkClick r:id="rId1"/>
              </a:rPr>
              <a:t>mhamilton@breakingpoint.com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BreakingPoint Systems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B96979E9-AB6F-475C-8725-57FC8C6D78FA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3280" y="1889280"/>
            <a:ext cx="903744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Draft Update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Outstanding Questions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Next Steps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2480" indent="-282600">
              <a:lnSpc>
                <a:spcPct val="95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79BB2B65-9488-4F0B-93CD-7C140CDC1356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39760" y="1733400"/>
            <a:ext cx="944892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Methodology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Updated to 07 version on ID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Addressed comments by WG up to dat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Major modifications to methodology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Discussion of Tput versus CP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Changed output metric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CPS -&gt; AFP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Other Group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EEMBC - DPIbench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9AABDE99-345A-4EFD-ACAB-6629E9EF73ED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tstanding Question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39760" y="1733400"/>
            <a:ext cx="944892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Traffic Composition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How to define the traffic mix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How to define a single protocol within the mix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Should it be updatabl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How do we define “security”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Do we simply leave it out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Malformed traffic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How to defi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Leave it out?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FF89F8CE-AD53-480E-A5B7-4CA78273D983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3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4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239760" y="1733400"/>
            <a:ext cx="9448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While not perfect, certainly has made progress and could use more input from the WG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Work left to do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Further define the traffic mix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Make decisions on exploit and malformed traffic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Finalize draft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08:01:51Z</dcterms:created>
  <dc:creator/>
  <dc:description/>
  <cp:keywords>IETF NETCONF</cp:keywords>
  <dc:language>en-US</dc:language>
  <cp:lastModifiedBy>Mike Hamilton</cp:lastModifiedBy>
  <dcterms:modified xsi:type="dcterms:W3CDTF">2011-07-28T14:58:22Z</dcterms:modified>
  <cp:revision>70</cp:revision>
  <dc:subject/>
  <dc:title>NETCONF @IETF70 - Agenda slides</dc:title>
</cp:coreProperties>
</file>