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940-C69D-4C0F-AFB0-2E226607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17C-27A3-4645-8980-A284600D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F4BD-4D12-4158-B14D-14A17FA1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277-6525-45C7-B0EE-D138FDD8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1645-4A17-44E1-A192-E5523ECA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5F9A-9FA7-44EC-894A-21D96C51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644B-54C9-4D9A-BB5B-472F3B21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F5D5-F70B-4705-883A-343E5EC3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0B31-E3C7-4C77-8237-EF25BF1C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7DB9-0590-4CC4-9A94-FCBF25BB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E382-D667-4BEA-BDEA-9AD53F75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2A8-A200-44E9-8FC1-1336E7F4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ED7D-0D26-4256-A6CE-6197BD67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31BB-13A6-4E16-BB7A-78A9AFEA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5924-B116-4CAF-BCB2-980A74B7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D62F-CB09-42F4-9637-468A8C67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C227-8568-49CA-A714-9023A052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3E0-2F77-4CE1-90EE-D2C7A74D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C78A-AB49-47C3-8011-A99616CE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BCE-365E-4B20-8635-F5D65FC8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F95B-81EB-4DE4-93C0-2E1274DE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580-CBA4-413A-9313-6059C78A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C8D4-52AB-4361-A322-2F1DD5C1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F325-47D2-49C7-91A4-B842C66B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2953-5E34-44A1-AD73-7A08A1A96E1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1AA6-1E86-44E1-8E15-5DA3EE2987A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IMIX Genom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 Mort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uly 201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draft-morton-bmwg-imix-genome-02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26AC-10DE-4101-9169-8A039E64FF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Additional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ests with Variable Packet Siz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xed Packet/Frame Size tests are currently required in RFC 2544, et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F variable size testing is needed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ully Specifi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peatability? How Important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nerally Specified if repeating sequence is too long for human comprehension (fraction, or number of frames@size for each size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33D8-8419-41DD-BA86-0355261B33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cope and Spe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act Sequence specification meth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 Standard IMIX!!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MIX-aaafg ha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64,64,64,1280,1518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lso, frequency of a siz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48320" y="1600200"/>
          <a:ext cx="4038480" cy="50846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ze, byt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Code Let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6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2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5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5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02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28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51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MTU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5965-44DD-4939-9167-5CE411706F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raft is useful, MTU size is usefu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viously Added Specification of fully Custom IMIX with sequen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ster can specify IMIX Genome between any two entitie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n te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ample with Blade configuration add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umbo Frame sizes added, with note about FCS issu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01F-5987-425F-BFB8-39AE349D0B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mments on the Genome Table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ded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Jumbo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siz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 Standard IMIX!!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about PROTOCOL??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48320" y="1066680"/>
          <a:ext cx="4038480" cy="54673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ze, byte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Code Letter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2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5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51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02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28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f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51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g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11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h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9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6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j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MTU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z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B3D-16AC-44DE-81CA-2350550E09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6:16:29Z</dcterms:created>
  <dc:creator>Al Morton</dc:creator>
  <dc:description/>
  <dc:language>en-US</dc:language>
  <cp:lastModifiedBy>Al Morton</cp:lastModifiedBy>
  <dcterms:modified xsi:type="dcterms:W3CDTF">2011-07-28T15:08:03Z</dcterms:modified>
  <cp:revision>6</cp:revision>
  <dc:subject/>
  <dc:title>IMIX Genome</dc:title>
</cp:coreProperties>
</file>