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1074-ECF6-4D8D-A745-23DC18BBD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F819-DC78-4E75-B7EB-60158EACC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4536-84B0-4F01-B8E5-8EFD7EF4C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665F-978E-41CA-826D-599F1D48D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2A30A-B7B0-47FD-B5FE-BA1F1128A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3C2EB-E398-4109-96E9-E7BA3B96B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CDFA3-50EE-40AE-9B95-4C5EDAE6C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BFE89-BE4A-4E93-B003-7F8711F2E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6AE7B-04C9-4FAA-9011-B5448022E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5AB89-9C3B-4602-B413-F25EF9452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DDAFD-0A7D-45C1-AE2C-04525D96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55CF-2EA8-41FD-A9BE-C37E6ED2E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BD707-B079-4002-9D09-EE8C39CF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5D679-4F2D-4565-B51C-FA76A4B02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48650-DBA4-4052-BEAD-06E8D576E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33B00-B3F8-4A55-ABEA-2701B3362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C4611-9F5E-4C45-A69A-EAAFA9E82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C4A8-4A5E-4600-BF48-6E5EA9CD9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F5F6-A5C6-4C64-AF6F-63AE0370E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9B0C-0869-42E7-AFE3-BED9795F5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C08F-4961-4CF2-BE8C-706EE1A1C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D01C-D198-4D59-871B-4D9E404D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F79E-D425-4E54-B2B6-4F666663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2489-EBEE-4E10-9B66-D0DE3450D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C71EE-39C2-49DD-8ACD-07C79659E33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2E3ED-EE32-4076-A408-63C7F52A134F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IMIX Genome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l Morto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July 2011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draft-morton-bmwg-imix-genome-02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E08DB-57B0-4B85-BB37-EC9B1C9D407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cc"/>
                </a:solidFill>
                <a:uFillTx/>
                <a:latin typeface="Arial"/>
              </a:rPr>
              <a:t>Additional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Tests with Variable Packet Size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xed Packet/Frame Size tests are currently required in RFC 2544, etc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F variable size testing is needed,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Fully Specifie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Repeatability? How Important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Generally Specified if repeating sequence is too long for human comprehension (fraction, or number of frames@size for each size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005D-06E7-48BB-ABB6-75AE4831A5C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cope and Spec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Exact Sequence specification metho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No Standard IMIX!!!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MIX-aaafg has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64,64,64,1280,1518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lso, frequency of a siz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648320" y="1600200"/>
          <a:ext cx="4038480" cy="508464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Size, byte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Code Letter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6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a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128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b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256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c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51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102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128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f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1518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g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MTU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97E0-4607-4AD5-A887-3A759456954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Feedback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raft is useful, MTU size is usefu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reviously Added Specification of fully Custom IMIX with sequenc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ester can specify IMIX Genome between any two entities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in tes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Example with Blade configuration adde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Jumbo Frame sizes added, with note about FCS issu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5EF7-2AB0-44F7-9CD5-6DAF00FC849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omments on the Genome Table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dded </a:t>
            </a: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Jumbo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siz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No Standard IMIX!!!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What about PROTOCOL??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648320" y="1066680"/>
          <a:ext cx="4038480" cy="54673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Size, bytes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Code Letter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64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a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128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b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256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c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512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d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1024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e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128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f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1518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g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2112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h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900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i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1600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j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MTU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z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91C2-DE24-4FA5-BFED-CAB5BC06890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16:16:29Z</dcterms:created>
  <dc:creator>Al Morton</dc:creator>
  <dc:description/>
  <dc:language>en-US</dc:language>
  <cp:lastModifiedBy>Al Morton</cp:lastModifiedBy>
  <dcterms:modified xsi:type="dcterms:W3CDTF">2011-07-28T15:08:03Z</dcterms:modified>
  <cp:revision>6</cp:revision>
  <dc:subject/>
  <dc:title>IMIX Genome</dc:title>
</cp:coreProperties>
</file>