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16BA-91B9-4AD4-BB6C-6033881A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4154-4420-469D-8C7B-5A05D3E1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9F20-2FD3-42F7-8A40-054B8EAE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4489-37E1-48C7-9F26-3CEA251E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8B44-CC21-4C0E-9C1F-C2DC70D9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E917-B85A-408E-BCB3-97B247EE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2197-D2E0-451D-892B-93BA51DC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4701-4F0A-4BD6-82B3-7FF1986D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9D4C-B271-47F5-8DE9-DB5E2D7E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6D0-986C-41DE-8629-7A068BED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10AF-F63A-41D5-8948-88D99864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296D-8E84-457D-8A37-1D457FB6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B5D4-565A-43B4-89D1-EA06579A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2ED3-FBD3-4761-BA36-3A841CF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C9EB-DBC7-4E13-979B-68173EAC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27B5-F19A-40E2-A44C-7C13F93A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E48-8D5F-4132-9456-4124B3B2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509E-7390-4B0D-93B3-DB4B963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47DD-B8D6-4E61-89CD-40756E0A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8A75-5485-4E35-9C47-665EF2FD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B9F6-9F22-413E-B44B-43970CE5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CFFD-36B8-47D6-85C1-A9B683B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54DC-9B4A-4C58-AFEC-0835FCFE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59D0-827B-443A-AD29-DC8B40EF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6140-CC8A-4E15-A3EF-A5CB7872DC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0054-2562-4A14-8513-7C53A987A7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FC 2544 Applicability Statement: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se on Real-World Networks Considered Harmful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raft-chairs-bmwg-2544-as-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cott Bradner, Kevin Dubray,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im McQuaid, Al Mort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mo clarifies the scope of [RFC2544], with the goal to provide guidance to the community on its applicability, which is limited to laboratory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Isolated Test Environment (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ain the test streams to paths within the desired set-u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event non-test traffic from traversing the test set-u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planation and Advisor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RFC 2544 Methods are intended for 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xperimental Control, Repeatability, and Accura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ntainment of Implementation Failure Impact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intended for network devices(not ne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test equipment on real-world networks according to the methods in [RFC2544], where overload is a required outcome, would no doubt be harmful to user traffic perform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ests MUST NOT be used on active, live, real-world network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7:19:52Z</dcterms:created>
  <dc:creator>Al Morton</dc:creator>
  <dc:description/>
  <dc:language>en-US</dc:language>
  <cp:lastModifiedBy>Al Morton</cp:lastModifiedBy>
  <dcterms:modified xsi:type="dcterms:W3CDTF">2011-07-28T15:09:31Z</dcterms:modified>
  <cp:revision>4</cp:revision>
  <dc:subject/>
  <dc:title>RFC 2544 Applicability Statement:  Use on Real-World Networks Considered Harmful  draft-chairs-bmwg-2544-as-00</dc:title>
</cp:coreProperties>
</file>