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D1B8-2651-4991-A23E-87E33EEB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9615-0896-4040-A2AB-76A83B0E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668F-3B2B-4CD1-9383-D8C9E280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E515-4433-4D61-8A14-17A7B31F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667-DF91-4C9D-AC3B-CE862AC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069-AC61-4833-AF18-DF1CE13D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1C0-7351-457A-BFF3-CDF9793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05E6-7BD2-4283-A553-A442EF3C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78C-77D7-48F0-946B-D6417D06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6B3-BA43-4F7F-B278-2D5B4061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102-33D4-42F4-9919-F938358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E0CA-6B7D-46E7-8AB1-7821EB7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3FDA-F86F-45A9-BF74-F4B3D30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209-EC53-4801-9D95-AA58BD1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7002-B84B-4612-B9C9-4D977FF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CCEB-1B20-4CEA-8DAA-F7A86CFF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FEF5-A081-480A-9AF4-3160B73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C320-F223-4090-A112-1CB1735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0A92-4AC0-4D76-BBB2-B0E0617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B9CA-5F6D-4AA1-84D9-9AA1200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80F3-C190-4F66-9D95-68257DF4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3FA8-4457-44B2-B58D-DC3C9CF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6928-0777-43F3-942D-29049F5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0787-1D82-45D4-8C8B-8486F63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DE39-9767-4EBF-97BA-8A0C34941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F56-7FB8-4018-A19A-4BB89B21B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FC 2544 Applicability Statement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 on Real-World Networks Considered Harmful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raft-chairs-bmwg-2544-as-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cott Bradner, Kevin Dubra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im McQuaid, Al Mort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mo clarifies the scope of [RFC2544], with the goal to provide guidance to the community on its applicability, which is limited to laboratory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Isolated Test Environment (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 the test streams to paths within the desired set-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vent non-test traffic from traversing the test set-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planation and Advis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RFC 2544 Methods are intended for 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erimental Control, Repeatability, and Accura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tainment of Implementation Failure Impac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intended for network devices(not n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test equipment on real-world networks according to the methods in [RFC2544], where overload is a required outcome, would no doubt be harmful to user traffic perform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ests MUST NOT be used on active, live, real-world networ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7:19:52Z</dcterms:created>
  <dc:creator>Al Morton</dc:creator>
  <dc:description/>
  <dc:language>en-US</dc:language>
  <cp:lastModifiedBy>Al Morton</cp:lastModifiedBy>
  <dcterms:modified xsi:type="dcterms:W3CDTF">2011-07-28T15:09:31Z</dcterms:modified>
  <cp:revision>4</cp:revision>
  <dc:subject/>
  <dc:title>RFC 2544 Applicability Statement:  Use on Real-World Networks Considered Harmful  draft-chairs-bmwg-2544-as-00</dc:title>
</cp:coreProperties>
</file>