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E437-82EA-4E6B-AD63-48E937C8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21C4-658D-49C2-A6E8-C0173A2F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90E5-6511-4381-8701-AA4BB11F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CD6F-C8DF-43B1-8497-EA0C8626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8CB7-2E19-4198-BAF7-652908B9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250C-CDE7-4693-8339-86C52C4E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2397-F123-49BA-AF33-66E0DB00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D3B1-045A-46CE-83CD-3E00C053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7A49-459A-4497-9933-80D01903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CE1-88C8-4F9D-A242-74AC1D3C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BDCA-7A3C-4D09-BD89-2C6D5B56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D52B-D1E7-4CEE-ABB6-B307EBD0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D301-4D43-4309-8FFF-EDB4FE371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6024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SVP-TE Extensions to Establish Associated Bidirectional L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689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AMP/MPLS WG, IETF 81th, Queb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raft-ietf-ccamp-mpls-tp-rsvpte-ext-associated-lsp-0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2685960" y="4702320"/>
            <a:ext cx="37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ei Zhang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uiquan 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n Yang      Weilian Ji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51040" y="1022040"/>
            <a:ext cx="6829200" cy="4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165240" y="2342160"/>
            <a:ext cx="8661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signaling procedure more clearly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ion of  asymmetric bandwidth LS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ion of recovery 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254160"/>
            <a:ext cx="6184800" cy="44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gle Sided VS Double S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1080" y="1951200"/>
          <a:ext cx="8420040" cy="3627360"/>
        </p:xfrm>
        <a:graphic>
          <a:graphicData uri="http://schemas.openxmlformats.org/drawingml/2006/table">
            <a:tbl>
              <a:tblPr/>
              <a:tblGrid>
                <a:gridCol w="2666880"/>
                <a:gridCol w="2622600"/>
                <a:gridCol w="31305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sided provis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P1 triggers LS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sided provis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th LSPs do not ex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P1 exists, LSP2 needs to be establishe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P1 does not exist, LSP2 has been establishe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th LSP1 and LSP2 exi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38"/>
          <p:cNvSpPr/>
          <p:nvPr/>
        </p:nvSpPr>
        <p:spPr>
          <a:xfrm>
            <a:off x="0" y="925560"/>
            <a:ext cx="79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ssociated time comparison of two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p are the time costs of path messages pro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8"/>
          <p:cNvSpPr/>
          <p:nvPr/>
        </p:nvSpPr>
        <p:spPr>
          <a:xfrm>
            <a:off x="0" y="5902200"/>
            <a:ext cx="79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sided provisioning is more effic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33000" y="1965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mmetric bandwidth L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843200"/>
          <a:ext cx="9144000" cy="3862440"/>
        </p:xfrm>
        <a:graphic>
          <a:graphicData uri="http://schemas.openxmlformats.org/drawingml/2006/table">
            <a:tbl>
              <a:tblPr/>
              <a:tblGrid>
                <a:gridCol w="2728800"/>
                <a:gridCol w="3014640"/>
                <a:gridCol w="34005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sid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P1 triggers LS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si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th LSPs do not ex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ERSE_TSPEC object in LSP1’s Path Mes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ERSE_TSPEC object  in LSP1 and LSP2’s Path mess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P1 exists, LSP2 needs to be establishe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ERSE_TSPEC object in LSP1’s Path Mes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ERSE_TSPEC object in LSP1’s Path Mes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P1 does not exist, LSP2 has been establishe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ERSE_TSPEC object  not nee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ERSE_TSPEC object in LSP2’s Path Mes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th LSP1 and LSP2 exi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ERSE_TSPEC object  not nee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ERSE_TSPEC object  not nee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Rectangle 38"/>
          <p:cNvSpPr/>
          <p:nvPr/>
        </p:nvSpPr>
        <p:spPr>
          <a:xfrm>
            <a:off x="0" y="826920"/>
            <a:ext cx="796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plexity brought by asymmetric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associated time is not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8"/>
          <p:cNvSpPr/>
          <p:nvPr/>
        </p:nvSpPr>
        <p:spPr>
          <a:xfrm>
            <a:off x="0" y="5986440"/>
            <a:ext cx="79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sided provisioning is mor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1160" y="69480"/>
            <a:ext cx="6184800" cy="4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7"/>
          <p:cNvGrpSpPr/>
          <p:nvPr/>
        </p:nvGrpSpPr>
        <p:grpSpPr>
          <a:xfrm>
            <a:off x="1301760" y="501480"/>
            <a:ext cx="6603840" cy="4253040"/>
            <a:chOff x="1301760" y="501480"/>
            <a:chExt cx="6603840" cy="4253040"/>
          </a:xfrm>
        </p:grpSpPr>
        <p:graphicFrame>
          <p:nvGraphicFramePr>
            <p:cNvPr id="57" name="Object 13"/>
            <p:cNvGraphicFramePr/>
            <p:nvPr/>
          </p:nvGraphicFramePr>
          <p:xfrm>
            <a:off x="1301760" y="501480"/>
            <a:ext cx="6603840" cy="4253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01760" y="501480"/>
                      <a:ext cx="6603840" cy="425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" name="Object 14"/>
            <p:cNvGraphicFramePr/>
            <p:nvPr/>
          </p:nvGraphicFramePr>
          <p:xfrm>
            <a:off x="2926440" y="1580400"/>
            <a:ext cx="1534320" cy="1408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26440" y="1580400"/>
                      <a:ext cx="1534320" cy="140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" name="Object 15"/>
            <p:cNvGraphicFramePr/>
            <p:nvPr/>
          </p:nvGraphicFramePr>
          <p:xfrm>
            <a:off x="1341360" y="1198440"/>
            <a:ext cx="5877360" cy="1444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2" name="Object 1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41360" y="1198440"/>
                      <a:ext cx="5877360" cy="14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3" name="Rectangle 38"/>
          <p:cNvSpPr/>
          <p:nvPr/>
        </p:nvSpPr>
        <p:spPr>
          <a:xfrm>
            <a:off x="0" y="4737240"/>
            <a:ext cx="863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P1 and LSP2 are associated together by LSP1’s 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SP3 is rerouted/refreshed with LSP2’s identif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SP2 is refreshed with LSP2’s 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8"/>
          <p:cNvSpPr/>
          <p:nvPr/>
        </p:nvSpPr>
        <p:spPr>
          <a:xfrm>
            <a:off x="0" y="6027840"/>
            <a:ext cx="863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P1 and LSP2 are associated together by LSP2’s 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SP3 is rerouted/refreshed with LSP2’s 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52200" y="553680"/>
            <a:ext cx="71118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2082600"/>
            <a:ext cx="9144000" cy="21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d based on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ided provisioning or double sided provisio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ents/Feedback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568680" y="4511520"/>
            <a:ext cx="96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80962</cp:lastModifiedBy>
  <dcterms:modified xsi:type="dcterms:W3CDTF">2011-07-22T14:14:38Z</dcterms:modified>
  <cp:revision>10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237343711</vt:lpwstr>
  </property>
</Properties>
</file>