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D2C-55EF-41B9-912B-9F10751C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F9C-0D68-4F77-97FC-4E82723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B4F-F721-4379-9538-0472CEDA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EB3-9025-4360-9288-4A7B276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8FD-1EBA-442E-896B-FC8520D7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BC3-C901-402D-9600-3B7799D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82B-101B-405F-9AEA-8FF9DA5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7AB-C731-4AAF-8418-2E8C0C08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478-BB06-4FAE-977F-0327BA4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F1F-40D0-4FB8-8793-3261E8C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1DA-CEDB-44C4-9EEB-954349D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145-E8BA-4244-AED3-03D1863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54FF-5F72-4B2F-AC33-6AFBE88D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VP-TE Extensions to Establish Associated Bidirectional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/MPLS WG, IETF 81th, Queb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-ietf-ccamp-mpls-tp-rsvpte-ext-associated-lsp-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685960" y="47023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uiquan 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n Yang      Weilian J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1040" y="1022040"/>
            <a:ext cx="68292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65240" y="2342160"/>
            <a:ext cx="866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signaling procedure more clear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 asymmetric bandwidth L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recovery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54160"/>
            <a:ext cx="618480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Sided VS Double 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1080" y="1951200"/>
          <a:ext cx="8420040" cy="3627360"/>
        </p:xfrm>
        <a:graphic>
          <a:graphicData uri="http://schemas.openxmlformats.org/drawingml/2006/table">
            <a:tbl>
              <a:tblPr/>
              <a:tblGrid>
                <a:gridCol w="2666880"/>
                <a:gridCol w="2622600"/>
                <a:gridCol w="3130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ided provi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triggers LS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ided provi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s do not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exists, LSP2 needs to be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does not exist, LSP2 has been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1 and LSP2 exi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9255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sociated time comparison of two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p are the time costs of path messages 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0" y="590220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ided provisioning is more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3000" y="1965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mmetric bandwidth L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43200"/>
          <a:ext cx="9144000" cy="3862440"/>
        </p:xfrm>
        <a:graphic>
          <a:graphicData uri="http://schemas.openxmlformats.org/drawingml/2006/table">
            <a:tbl>
              <a:tblPr/>
              <a:tblGrid>
                <a:gridCol w="2728800"/>
                <a:gridCol w="3014640"/>
                <a:gridCol w="3400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id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triggers LS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LSPs do not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in LSP1 and LSP2’s Path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exists, LSP2 needs to be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does not exist, LSP2 has been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2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1 and LSP2 exi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38"/>
          <p:cNvSpPr/>
          <p:nvPr/>
        </p:nvSpPr>
        <p:spPr>
          <a:xfrm>
            <a:off x="0" y="826920"/>
            <a:ext cx="79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xity brought by asymmetric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ssociated time is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0" y="598644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ided provisioning is mor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1160" y="6948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7"/>
          <p:cNvGrpSpPr/>
          <p:nvPr/>
        </p:nvGrpSpPr>
        <p:grpSpPr>
          <a:xfrm>
            <a:off x="1301760" y="501480"/>
            <a:ext cx="6603840" cy="4253040"/>
            <a:chOff x="1301760" y="501480"/>
            <a:chExt cx="6603840" cy="4253040"/>
          </a:xfrm>
        </p:grpSpPr>
        <p:graphicFrame>
          <p:nvGraphicFramePr>
            <p:cNvPr id="57" name="Object 13"/>
            <p:cNvGraphicFramePr/>
            <p:nvPr/>
          </p:nvGraphicFramePr>
          <p:xfrm>
            <a:off x="1301760" y="501480"/>
            <a:ext cx="6603840" cy="425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1760" y="501480"/>
                      <a:ext cx="6603840" cy="42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Object 14"/>
            <p:cNvGraphicFramePr/>
            <p:nvPr/>
          </p:nvGraphicFramePr>
          <p:xfrm>
            <a:off x="2926440" y="1580400"/>
            <a:ext cx="1534320" cy="140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6440" y="1580400"/>
                      <a:ext cx="1534320" cy="140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15"/>
            <p:cNvGraphicFramePr/>
            <p:nvPr/>
          </p:nvGraphicFramePr>
          <p:xfrm>
            <a:off x="1341360" y="1198440"/>
            <a:ext cx="5877360" cy="144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1360" y="1198440"/>
                      <a:ext cx="5877360" cy="14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Rectangle 38"/>
          <p:cNvSpPr/>
          <p:nvPr/>
        </p:nvSpPr>
        <p:spPr>
          <a:xfrm>
            <a:off x="0" y="4737240"/>
            <a:ext cx="86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P1 and LSP2 are associated together by LSP1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3 is rerouted/refreshed with LSP2’s identif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 is refreshed with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0" y="602784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P1 and LSP2 are associated together by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3 is rerouted/refreshed with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082600"/>
            <a:ext cx="91440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based o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ded provisioning or double sided provisio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568680" y="451152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0962</cp:lastModifiedBy>
  <dcterms:modified xsi:type="dcterms:W3CDTF">2011-07-22T14:14:38Z</dcterms:modified>
  <cp:revision>10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