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9903-A586-449E-ADFC-E08593556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37EC-B421-44AA-B176-98A9D263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D413-976C-493F-B27E-686616B18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1728-C935-4A7B-893D-4A90DCC16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3A3C-7B49-4006-B683-07FE90B7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1E86-1AE4-4258-A6CA-31586D8D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7D95-C15D-483F-8EEE-84AD3BE1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FFF1-F74D-41D7-BDD5-E2A904C6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9A59-CF2A-4507-ADD9-69CFA01C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43E9-EB96-4306-986A-09F424D9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9FC7-37C6-4E0C-814E-FBD8F27D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312B-BE1C-4DB5-86E5-41454C7D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4055-CB08-48EA-8FEA-E805E19CC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ools.ietf.org/html/draft-zhang-mpls-tp-rsvpte-ext-associated-lsp-04" TargetMode="External"/><Relationship Id="rId2" Type="http://schemas.openxmlformats.org/officeDocument/2006/relationships/hyperlink" Target="http://tools.ietf.org/html/draft-zhang-mpls-tp-rsvpte-ext-associated-lsp-04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ools.ietf.org/html/rfc5654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66024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SVP-TE Extensions to Notification for Shared Mesh Pro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6892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AMP WG, IETF 81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draft-he-ccamp-notification-shared-mesh-protection-00   </a:t>
            </a:r>
            <a:r>
              <a:rPr b="0" lang="fr-FR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1946160" y="4614840"/>
            <a:ext cx="57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enjuan He       (he.wenjuan1@zte.com.c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ei</a:t>
            </a: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Zhang           (zhang.fei3@zte.com.c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14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2863440"/>
            <a:ext cx="9144000" cy="37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66/67/68/69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[RFC5654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ing the number of network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tp-surviv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 ga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ing of Shared Mesh Restoration was descried in [RFC4872], but Shared Mesh Protection was not cove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3400560" y="1084320"/>
            <a:ext cx="458784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red Mesh Protection Plann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50480" y="1265400"/>
            <a:ext cx="8993160" cy="15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or plans the Shared Mesh Protection Group (SMP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 a group ID and a virtual address for the shared mesh protection group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5284800" y="2968560"/>
            <a:ext cx="3638520" cy="3048120"/>
          </a:xfrm>
          <a:prstGeom prst="rect">
            <a:avLst/>
          </a:prstGeom>
          <a:ln w="0">
            <a:noFill/>
          </a:ln>
        </p:spPr>
      </p:pic>
      <p:sp>
        <p:nvSpPr>
          <p:cNvPr id="51" name="矩形 6"/>
          <p:cNvSpPr/>
          <p:nvPr/>
        </p:nvSpPr>
        <p:spPr>
          <a:xfrm>
            <a:off x="439560" y="4975200"/>
            <a:ext cx="456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内容占位符 2"/>
          <p:cNvSpPr/>
          <p:nvPr/>
        </p:nvSpPr>
        <p:spPr>
          <a:xfrm>
            <a:off x="0" y="2612880"/>
            <a:ext cx="5348160" cy="25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ociat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ssociation Type:Resource Sha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ssociation Source: SMPG virtual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ssociation ID :SMPG group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内容占位符 2"/>
          <p:cNvSpPr/>
          <p:nvPr/>
        </p:nvSpPr>
        <p:spPr>
          <a:xfrm>
            <a:off x="0" y="5381640"/>
            <a:ext cx="53481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ct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nchan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3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ion Switching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592360" y="984240"/>
            <a:ext cx="3638520" cy="3048120"/>
          </a:xfrm>
          <a:prstGeom prst="rect">
            <a:avLst/>
          </a:prstGeom>
          <a:ln w="0">
            <a:noFill/>
          </a:ln>
        </p:spPr>
      </p:pic>
      <p:sp>
        <p:nvSpPr>
          <p:cNvPr id="56" name="矩形 4"/>
          <p:cNvSpPr/>
          <p:nvPr/>
        </p:nvSpPr>
        <p:spPr>
          <a:xfrm>
            <a:off x="0" y="421020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A/B switch the traffic from working path to pro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ta plane Switching [linear-protection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ntrol Plane Switching [section-7 of RFC487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E  send notify message to node C with error "notify error/resource occupied by the high priority" or "notify error/resource occupied by the low priority"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C MAY reroute or lock the protecting L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4200" y="145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4"/>
          <p:cNvSpPr/>
          <p:nvPr/>
        </p:nvSpPr>
        <p:spPr>
          <a:xfrm>
            <a:off x="0" y="49132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A switches the traffic to W1 and refreshes the Path mess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on receiving the Path message with the O bit clear, node E will send notify message with new error code/sub-code "notify error/ resource available" to node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C May unlock the protection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419200" y="1295280"/>
            <a:ext cx="3638880" cy="30481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-37440" y="4440240"/>
            <a:ext cx="66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the fault of the working LSP disappea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ource Preem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"/>
          <p:cNvSpPr/>
          <p:nvPr/>
        </p:nvSpPr>
        <p:spPr>
          <a:xfrm>
            <a:off x="174600" y="4811760"/>
            <a:ext cx="873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failure occurs on W2 while W1 is still in failure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f P2’s priority is lower; the node C will not switch the 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f P2’s priority is higher; the above figure indicates the signaling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2819520" y="1279440"/>
            <a:ext cx="36385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553680"/>
            <a:ext cx="711180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54240" y="2288880"/>
            <a:ext cx="619272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RFC4872?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s/Feedba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3633480" y="3876840"/>
            <a:ext cx="6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80962</cp:lastModifiedBy>
  <dcterms:modified xsi:type="dcterms:W3CDTF">2011-07-22T14:10:45Z</dcterms:modified>
  <cp:revision>10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sflag">
    <vt:lpwstr>1237343711</vt:lpwstr>
  </property>
</Properties>
</file>