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E640-266D-4BB6-8BED-FF3A4686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68A6-2DD0-40FB-BBE4-A694914E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F0CC-2413-4B5F-89E8-BAEA5F3D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477E-1AFC-4A75-A3AE-571C1615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0C95-3ADE-4366-B6F8-8DBF55FE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518C-E8B0-4403-AD4A-77E4E113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F405-2AF8-4AAF-BBF2-F38B70B5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51D3-AFD3-4245-80DC-8B869B4D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0D7C-B53C-4663-B81B-1A571B0E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B4B4-ED1F-4D75-9C6B-1EC70859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EF26-55AF-456E-95EC-772C507C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F68A-587A-41FB-8552-72C093B6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5551-CEA3-4F34-8D15-6D4BE1CA9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zhang-mpls-tp-rsvpte-ext-associated-lsp-04" TargetMode="External"/><Relationship Id="rId2" Type="http://schemas.openxmlformats.org/officeDocument/2006/relationships/hyperlink" Target="http://tools.ietf.org/html/draft-zhang-mpls-tp-rsvpte-ext-associated-lsp-04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5654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6024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SVP-TE Extensions to Notification for Shared Mesh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689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AMP WG, IETF 81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draft-he-ccamp-notification-shared-mesh-protection-00   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1946160" y="4614840"/>
            <a:ext cx="57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enjuan He       (he.wenjuan1@zte.com.c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ei</a:t>
            </a: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Zhang           (zhang.fei3@zte.com.c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1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2863440"/>
            <a:ext cx="9144000" cy="37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66/67/68/69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[RFC565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the number of network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tp-surviv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 ga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ing of Shared Mesh Restoration was descried in [RFC4872], but Shared Mesh Protection was not cov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3400560" y="1084320"/>
            <a:ext cx="458784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d Mesh Protection Plan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50480" y="1265400"/>
            <a:ext cx="8993160" cy="15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or plans the Shared Mesh Protection Group (SMP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a group ID and a virtual address for the shared mesh protection group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5284800" y="2968560"/>
            <a:ext cx="3638520" cy="3048120"/>
          </a:xfrm>
          <a:prstGeom prst="rect">
            <a:avLst/>
          </a:prstGeom>
          <a:ln w="0">
            <a:noFill/>
          </a:ln>
        </p:spPr>
      </p:pic>
      <p:sp>
        <p:nvSpPr>
          <p:cNvPr id="51" name="矩形 6"/>
          <p:cNvSpPr/>
          <p:nvPr/>
        </p:nvSpPr>
        <p:spPr>
          <a:xfrm>
            <a:off x="439560" y="4975200"/>
            <a:ext cx="45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内容占位符 2"/>
          <p:cNvSpPr/>
          <p:nvPr/>
        </p:nvSpPr>
        <p:spPr>
          <a:xfrm>
            <a:off x="0" y="2612880"/>
            <a:ext cx="5348160" cy="25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ocia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ociation Type:Resource Sh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ociation Source: SMPG virtual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ociation ID :SMPG group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内容占位符 2"/>
          <p:cNvSpPr/>
          <p:nvPr/>
        </p:nvSpPr>
        <p:spPr>
          <a:xfrm>
            <a:off x="0" y="5381640"/>
            <a:ext cx="53481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Switching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592360" y="984240"/>
            <a:ext cx="3638520" cy="3048120"/>
          </a:xfrm>
          <a:prstGeom prst="rect">
            <a:avLst/>
          </a:prstGeom>
          <a:ln w="0">
            <a:noFill/>
          </a:ln>
        </p:spPr>
      </p:pic>
      <p:sp>
        <p:nvSpPr>
          <p:cNvPr id="56" name="矩形 4"/>
          <p:cNvSpPr/>
          <p:nvPr/>
        </p:nvSpPr>
        <p:spPr>
          <a:xfrm>
            <a:off x="0" y="421020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A/B switch the traffic from working path to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plane Switching [linear-protection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ntrol Plane Switching [section-7 of RFC487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E  send notify message to node C with error "notify error/resource occupied by the high priority" or "notify error/resource occupied by the low priority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C MAY reroute or lock the protecting L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4200" y="14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0" y="4913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A switches the traffic to W1 and refreshes the Path mess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on receiving the Path message with the O bit clear, node E will send notify message with new error code/sub-code "notify error/ resource available" to nod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C May unlock the protection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419200" y="1295280"/>
            <a:ext cx="3638880" cy="30481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-37440" y="4440240"/>
            <a:ext cx="66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the fault of the working LSP disappea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ource Pree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174600" y="4811760"/>
            <a:ext cx="873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ailure occurs on W2 while W1 is still in failur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f P2’s priority is lower; the node C will not switch the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f P2’s priority is higher; the above figure indicates the signaling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819520" y="1279440"/>
            <a:ext cx="36385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553680"/>
            <a:ext cx="71118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54240" y="2288880"/>
            <a:ext cx="619272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RFC4872?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/Feedb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633480" y="3876840"/>
            <a:ext cx="6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80962</cp:lastModifiedBy>
  <dcterms:modified xsi:type="dcterms:W3CDTF">2011-07-22T14:10:45Z</dcterms:modified>
  <cp:revision>10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237343711</vt:lpwstr>
  </property>
</Properties>
</file>