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F119-97B7-4BC7-AF91-0F59DCD9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5A39-3E3D-4BDE-AF67-AFF7BECF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4551-A9E8-4754-9D4B-011A025A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FBE7-E956-4440-B21B-2876A7AB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902E-E9DF-411C-ADE4-0A5FBE61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6601-3F25-4C5F-830B-B5288381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CDB-A092-41BA-98C5-5EFB8BC0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3F90-C95C-4034-AA3B-9D5D91F8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919C-2A65-4599-A6FF-E8FF800A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5FAA-0ECF-45BA-A24F-A5626AB2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0F0B-1EBE-41AB-97FE-8B470EC5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38F-0D09-4001-ABD3-42F7C3A4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81 Queb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D2FE-2E30-4638-A004-521FBA42F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SON Optical Interface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5560" y="281952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ft-martinelli-wson-interface-class-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905120" y="4038480"/>
            <a:ext cx="556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iova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nni Martinell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Cis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abriele Galimbert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Cis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81 Queb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65B5-E162-40AE-998F-7C2C7DAC1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Propose a different way to solve the WSON signal compati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(to some extent) keep protocol extensions independent from ITU standard ev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raft Stat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a rough cut proposed here to start discuss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81 Queb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2199-AE05-4269-ACA4-098664CE5D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WSON 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gnal compatibility parameters (RFC6163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C (forward error correc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ulation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t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s/Encoding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ft-ietf-ccamp-rwa-info-11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ft-ietf-ccamp-rwa-wson-encode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ocol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SPF: draft-ietf-ccamp-wson-signal-compatibility-ospf-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SVP: draft-ietf-ccamp-wson-signaling-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CEP:  draft-lee-pce-wson-rwa-ext-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81 Queb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DF6D-8BBD-4F24-932E-DC53D314A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Mod Format &amp; F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81 Queb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B6EF-9E37-486B-902C-56F462FD0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52280" y="1143000"/>
            <a:ext cx="7467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1|1|       Modulation ID         |           Length           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Possible additional modulation parameters depending upon   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the modulation ID                                          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152280" y="4343400"/>
            <a:ext cx="72392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1|1|       FEC ID                |           Length           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Possible additional FEC parameters depending upon          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the FEC ID                                                 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232920" y="350532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Standard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Propriet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6383520" y="3429000"/>
            <a:ext cx="23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Length: depending als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on proprietary inf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7700040" y="24382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Possibl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228600" y="1676520"/>
            <a:ext cx="380880" cy="457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12"/>
          <p:cNvSpPr/>
          <p:nvPr/>
        </p:nvSpPr>
        <p:spPr>
          <a:xfrm>
            <a:off x="228600" y="4876920"/>
            <a:ext cx="380880" cy="457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3"/>
          <p:cNvSpPr/>
          <p:nvPr/>
        </p:nvSpPr>
        <p:spPr>
          <a:xfrm>
            <a:off x="4572000" y="1676520"/>
            <a:ext cx="1828800" cy="457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15"/>
          <p:cNvSpPr/>
          <p:nvPr/>
        </p:nvSpPr>
        <p:spPr>
          <a:xfrm>
            <a:off x="4572000" y="4876920"/>
            <a:ext cx="1828800" cy="457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Straight Arrow Connector 19"/>
          <p:cNvCxnSpPr/>
          <p:nvPr/>
        </p:nvCxnSpPr>
        <p:spPr>
          <a:xfrm flipH="1" flipV="1">
            <a:off x="533160" y="2133000"/>
            <a:ext cx="305280" cy="14482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1" name="Straight Arrow Connector 20"/>
          <p:cNvCxnSpPr>
            <a:endCxn id="67" idx="0"/>
          </p:cNvCxnSpPr>
          <p:nvPr/>
        </p:nvCxnSpPr>
        <p:spPr>
          <a:xfrm flipH="1">
            <a:off x="418320" y="4190760"/>
            <a:ext cx="343800" cy="6865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2" name="Straight Arrow Connector 23"/>
          <p:cNvCxnSpPr/>
          <p:nvPr/>
        </p:nvCxnSpPr>
        <p:spPr>
          <a:xfrm flipH="1" flipV="1">
            <a:off x="6323760" y="1980720"/>
            <a:ext cx="305640" cy="144864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3" name="Straight Arrow Connector 24"/>
          <p:cNvCxnSpPr/>
          <p:nvPr/>
        </p:nvCxnSpPr>
        <p:spPr>
          <a:xfrm flipH="1">
            <a:off x="6171840" y="4114440"/>
            <a:ext cx="457920" cy="76284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74" name="Oval 27"/>
          <p:cNvSpPr/>
          <p:nvPr/>
        </p:nvSpPr>
        <p:spPr>
          <a:xfrm>
            <a:off x="1371600" y="1752480"/>
            <a:ext cx="17524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Straight Arrow Connector 28"/>
          <p:cNvCxnSpPr/>
          <p:nvPr/>
        </p:nvCxnSpPr>
        <p:spPr>
          <a:xfrm flipH="1" flipV="1">
            <a:off x="1980720" y="2209320"/>
            <a:ext cx="457920" cy="1067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6" name="TextBox 31"/>
          <p:cNvSpPr/>
          <p:nvPr/>
        </p:nvSpPr>
        <p:spPr>
          <a:xfrm>
            <a:off x="2442960" y="3200400"/>
            <a:ext cx="33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D according to G.959.1 (only NRZ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32"/>
          <p:cNvSpPr/>
          <p:nvPr/>
        </p:nvSpPr>
        <p:spPr>
          <a:xfrm>
            <a:off x="990720" y="4952880"/>
            <a:ext cx="17524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Straight Arrow Connector 34"/>
          <p:cNvCxnSpPr/>
          <p:nvPr/>
        </p:nvCxnSpPr>
        <p:spPr>
          <a:xfrm flipH="1">
            <a:off x="1752120" y="4266720"/>
            <a:ext cx="534240" cy="686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9" name="TextBox 39"/>
          <p:cNvSpPr/>
          <p:nvPr/>
        </p:nvSpPr>
        <p:spPr>
          <a:xfrm>
            <a:off x="2298960" y="404964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D according to G.709 and G.975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ight Brace 40"/>
          <p:cNvSpPr/>
          <p:nvPr/>
        </p:nvSpPr>
        <p:spPr>
          <a:xfrm>
            <a:off x="7302600" y="2211480"/>
            <a:ext cx="304560" cy="82368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823680"/>
              <a:gd name="textAreaBottom" fmla="*/ 815760 h 82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4"/>
                  <a:pt x="10800" y="667"/>
                </a:cubicBezTo>
                <a:lnTo>
                  <a:pt x="10800" y="10133"/>
                </a:lnTo>
                <a:cubicBezTo>
                  <a:pt x="10800" y="10467"/>
                  <a:pt x="16200" y="10800"/>
                  <a:pt x="21600" y="10800"/>
                </a:cubicBezTo>
                <a:cubicBezTo>
                  <a:pt x="16200" y="10800"/>
                  <a:pt x="10800" y="11134"/>
                  <a:pt x="10800" y="11467"/>
                </a:cubicBezTo>
                <a:lnTo>
                  <a:pt x="10800" y="20933"/>
                </a:lnTo>
                <a:cubicBezTo>
                  <a:pt x="10800" y="2126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already new modulation formats available for 40/100G (e.g. DPSK/QPSK)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ndard will evolve soon (but we don’t know how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f we need some more paramet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 The Optical Impairment awareness c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81 Queb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38EC-41CB-419F-9852-88316FD36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ptical Interface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numb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ocol operations become trivial: if two interfaces have the same number, they are compati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ptical parameters values associated to this numbers are defined elsew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when optical std evolve no changes are requi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81 Queb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DC6B-59F5-4F31-ABC3-DFA05943B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cal Interface Class: enco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81 Queb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28F3-BCDB-4C21-BE4D-33E851B65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533520" y="1523880"/>
            <a:ext cx="7467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Optical Interface Class                         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615960" y="4191120"/>
            <a:ext cx="1821960" cy="20142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 value =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C =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 Format =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t Rate =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2673360" y="4191120"/>
            <a:ext cx="1821960" cy="20142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 value =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C =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 Format =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t Rate =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Straight Arrow Connector 11"/>
          <p:cNvCxnSpPr/>
          <p:nvPr/>
        </p:nvCxnSpPr>
        <p:spPr>
          <a:xfrm flipH="1">
            <a:off x="1369800" y="2363400"/>
            <a:ext cx="3600" cy="16772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99" name="TextBox 12"/>
          <p:cNvSpPr/>
          <p:nvPr/>
        </p:nvSpPr>
        <p:spPr>
          <a:xfrm>
            <a:off x="152100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Reference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4804920" y="4419720"/>
            <a:ext cx="385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Class Values /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shall be def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elsew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00 to 01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ails enco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ine how to associate Optical Interface Class with the set of optical parame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81 Queb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681E-3415-488B-AABC-DBC32A750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4T11:17:40Z</dcterms:created>
  <dc:creator>Giovanni Martinelli</dc:creator>
  <dc:description/>
  <cp:keywords>GMPLS WSON IETF CCAMP</cp:keywords>
  <dc:language>en-US</dc:language>
  <cp:lastModifiedBy>Giovanni Martinelli</cp:lastModifiedBy>
  <dcterms:modified xsi:type="dcterms:W3CDTF">2011-07-24T19:10:26Z</dcterms:modified>
  <cp:revision>37</cp:revision>
  <dc:subject/>
  <dc:title>WSON Optical Interface Cla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88385732</vt:lpwstr>
  </property>
</Properties>
</file>