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F43-44CF-473F-BECF-03E6B075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3AC-73BC-4AAA-B756-3ABD7ED3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9DD-5C77-4A09-8DD9-5026D60F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4AC-4030-4E8A-A7EB-B9ADA8F6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C29-74CC-4D8A-8F4F-99D71DCC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AFA-6806-4843-AA78-05ECB956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D1A-56CB-4083-88FB-70B793DE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360-12D1-4187-BB33-C4D1BA0B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EFA-B32C-49D3-82DE-7C54C780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CA0-ED48-4AE0-B8B7-7D89EE02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754-5C6F-4A17-AA85-5F552B5C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D27-2AC2-4DAB-9109-70FA66B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455E-58EF-43AF-92F6-B7ECCEB1E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ON Optical Interface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60" y="28195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martinelli-wson-interface-class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905120" y="4038480"/>
            <a:ext cx="556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iova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ni Martinell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abriele Galimbert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81C4-DF4B-4E5A-A827-FCE7ADF68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Propose a different way to solve the WSON signal compat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(to some extent) keep protocol extensions independent from ITU standard ev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ft Stat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 rough cut proposed here to start discu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3B36-F663-4F8B-8B02-EE7C18887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WSON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compatibility parameters (RFC6163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C (forward error correc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ulation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s/Encod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ietf-ccamp-rwa-info-11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ietf-ccamp-rwa-wson-encode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PF: draft-ietf-ccamp-wson-signal-compatibility-ospf-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SVP: draft-ietf-ccamp-wson-signaling-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EP:  draft-lee-pce-wson-rwa-ext-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B2C1-9EFF-40C7-ADDB-A7A8AE8E2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Mod Format &amp; F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BF87-08A2-4E0F-A068-ACCFD19EB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2280" y="1143000"/>
            <a:ext cx="7467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1|1|       Modulation ID         |           Length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Possible additional modulation parameters depending upon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the modulation ID                                          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52280" y="4343400"/>
            <a:ext cx="7239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1|1|       FEC ID                |           Length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Possible additional FEC parameters depending upon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the FEC ID                                                 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32920" y="350532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Standard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Propri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383520" y="3429000"/>
            <a:ext cx="23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Length: depending als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on proprietary inf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7700040" y="2438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Possib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228600" y="167652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228600" y="487692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4572000" y="1676520"/>
            <a:ext cx="18288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4572000" y="4876920"/>
            <a:ext cx="18288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19"/>
          <p:cNvCxnSpPr/>
          <p:nvPr/>
        </p:nvCxnSpPr>
        <p:spPr>
          <a:xfrm flipH="1" flipV="1">
            <a:off x="533160" y="2133000"/>
            <a:ext cx="305280" cy="1448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1" name="Straight Arrow Connector 20"/>
          <p:cNvCxnSpPr>
            <a:endCxn id="67" idx="0"/>
          </p:cNvCxnSpPr>
          <p:nvPr/>
        </p:nvCxnSpPr>
        <p:spPr>
          <a:xfrm flipH="1">
            <a:off x="418320" y="4190760"/>
            <a:ext cx="343800" cy="686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2" name="Straight Arrow Connector 23"/>
          <p:cNvCxnSpPr/>
          <p:nvPr/>
        </p:nvCxnSpPr>
        <p:spPr>
          <a:xfrm flipH="1" flipV="1">
            <a:off x="6323760" y="1980720"/>
            <a:ext cx="305640" cy="14486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" name="Straight Arrow Connector 24"/>
          <p:cNvCxnSpPr/>
          <p:nvPr/>
        </p:nvCxnSpPr>
        <p:spPr>
          <a:xfrm flipH="1">
            <a:off x="6171840" y="4114440"/>
            <a:ext cx="457920" cy="7628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4" name="Oval 27"/>
          <p:cNvSpPr/>
          <p:nvPr/>
        </p:nvSpPr>
        <p:spPr>
          <a:xfrm>
            <a:off x="1371600" y="1752480"/>
            <a:ext cx="1752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28"/>
          <p:cNvCxnSpPr/>
          <p:nvPr/>
        </p:nvCxnSpPr>
        <p:spPr>
          <a:xfrm flipH="1" flipV="1">
            <a:off x="1980720" y="2209320"/>
            <a:ext cx="457920" cy="106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31"/>
          <p:cNvSpPr/>
          <p:nvPr/>
        </p:nvSpPr>
        <p:spPr>
          <a:xfrm>
            <a:off x="2442960" y="320040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D according to G.959.1 (only NRZ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2"/>
          <p:cNvSpPr/>
          <p:nvPr/>
        </p:nvSpPr>
        <p:spPr>
          <a:xfrm>
            <a:off x="990720" y="4952880"/>
            <a:ext cx="1752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34"/>
          <p:cNvCxnSpPr/>
          <p:nvPr/>
        </p:nvCxnSpPr>
        <p:spPr>
          <a:xfrm flipH="1">
            <a:off x="1752120" y="4266720"/>
            <a:ext cx="534240" cy="686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TextBox 39"/>
          <p:cNvSpPr/>
          <p:nvPr/>
        </p:nvSpPr>
        <p:spPr>
          <a:xfrm>
            <a:off x="2298960" y="4049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D according to G.709 and G.975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ight Brace 40"/>
          <p:cNvSpPr/>
          <p:nvPr/>
        </p:nvSpPr>
        <p:spPr>
          <a:xfrm>
            <a:off x="7302600" y="2211480"/>
            <a:ext cx="304560" cy="82368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823680"/>
              <a:gd name="textAreaBottom" fmla="*/ 815760 h 82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4"/>
                  <a:pt x="10800" y="667"/>
                </a:cubicBezTo>
                <a:lnTo>
                  <a:pt x="10800" y="10133"/>
                </a:lnTo>
                <a:cubicBezTo>
                  <a:pt x="10800" y="10467"/>
                  <a:pt x="16200" y="10800"/>
                  <a:pt x="21600" y="10800"/>
                </a:cubicBezTo>
                <a:cubicBezTo>
                  <a:pt x="16200" y="10800"/>
                  <a:pt x="10800" y="11134"/>
                  <a:pt x="10800" y="11467"/>
                </a:cubicBezTo>
                <a:lnTo>
                  <a:pt x="10800" y="20933"/>
                </a:lnTo>
                <a:cubicBezTo>
                  <a:pt x="10800" y="2126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ready new modulation formats available for 40/100G (e.g. DPSK/QPSK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will evolve soon (but we don’t know how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we need some more parame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The Optical Impairment awareness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426A-59AA-4786-AE6B-3C4B36D59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ptical Interface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um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 operations become trivial: if two interfaces have the same number, they are compat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ptical parameters values associated to this numbers are defined elsew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when optical std evolve no changes are requ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AE8-2CE2-497D-B6F3-4D8644F52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cal Interface Class: en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3821-2714-486A-8C2D-594265112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33520" y="1523880"/>
            <a:ext cx="7467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Optical Interface Class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15960" y="4191120"/>
            <a:ext cx="1821960" cy="2014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value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C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 Format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t Rate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673360" y="4191120"/>
            <a:ext cx="1821960" cy="20142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value =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C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 Format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t Rate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11"/>
          <p:cNvCxnSpPr/>
          <p:nvPr/>
        </p:nvCxnSpPr>
        <p:spPr>
          <a:xfrm flipH="1">
            <a:off x="1369800" y="2363400"/>
            <a:ext cx="3600" cy="16772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99" name="TextBox 12"/>
          <p:cNvSpPr/>
          <p:nvPr/>
        </p:nvSpPr>
        <p:spPr>
          <a:xfrm>
            <a:off x="152100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Referenc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4804920" y="4419720"/>
            <a:ext cx="38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lass Values /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shall be def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lsew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00 to 01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s en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ine how to associate Optical Interface Class with the set of optical para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1E34-FBC0-4DDC-A055-4D944FBE2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1:17:40Z</dcterms:created>
  <dc:creator>Giovanni Martinelli</dc:creator>
  <dc:description/>
  <cp:keywords>GMPLS WSON IETF CCAMP</cp:keywords>
  <dc:language>en-US</dc:language>
  <cp:lastModifiedBy>Giovanni Martinelli</cp:lastModifiedBy>
  <dcterms:modified xsi:type="dcterms:W3CDTF">2011-07-24T19:10:26Z</dcterms:modified>
  <cp:revision>37</cp:revision>
  <dc:subject/>
  <dc:title>WSON Optical Interfac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8385732</vt:lpwstr>
  </property>
</Properties>
</file>