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C24-11B8-44DC-8C07-170E9684A9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5568-82AF-4409-B9F7-3084CBB85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operable B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ation of solutions ensuring an interoperable management of BL deployments for 10G, 40G and bey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work with legacy equipment and management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WSON is complemen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cusing on the management and control of the optical interfa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ynamic Wavelength switching and assignment is out of sco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78E-FE2B-4D1B-95B4-BACAE3B9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BA9-2CB3-483D-AD8C-4C37E20D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B8C-009A-4CE4-A255-CB73BFF3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120-4C5D-42B3-8E9C-C7B8534F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4C1-3D50-4FD8-A5AB-0349750D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4AE-C218-4A79-A047-113BCAE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D17-D76F-4EE4-8D3E-289FB0CD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BBB-0D56-4299-826E-ACDD899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A0F-F612-425E-8545-9F825D0B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AA8-33DC-4F13-9D6E-69887BA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3D5-B9BF-4B26-AF8E-82DAECE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43C-2D43-4130-B536-4F7296F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9th IETF Beijing,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A97-FE7B-444F-BCC2-372EF9ADB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Framework for Management and Control of Optical Interfaces supporting G.698.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kunze-g-698-2-management-control-framework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14400" y="4267080"/>
            <a:ext cx="73915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uediger Kun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nuel Pau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utsche Telek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4"/>
          <p:cNvSpPr/>
          <p:nvPr/>
        </p:nvSpPr>
        <p:spPr>
          <a:xfrm>
            <a:off x="3808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1st IETF  Quebe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8148-4413-4DDD-8082-AC659EC1C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4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4640" y="990360"/>
            <a:ext cx="8282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Framework for the Control and Management of Optical Interfaces according to the Black Link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Enhancements for Control &amp; Management to leverage the Black Link approach in carrier networks in large-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Case: Improved Interworking between third party system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Router &lt;-&gt; DWDM &lt;-&gt; Ro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Status-Quo as well as future network management and control 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lack Link according to ITU-T G.698.2 provides options to deploy Optical Interfaces in a WDM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rrently defined up to 10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ing extended by ITU-T for 40G, 100G and bey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imarily intended for metro applications (i.e. up to 600km rea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G.698.2 in a colored Nutsh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2"/>
          <p:cNvSpPr/>
          <p:nvPr/>
        </p:nvSpPr>
        <p:spPr>
          <a:xfrm>
            <a:off x="685800" y="35798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ack Link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lack Link appro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[ITU-T G.698.2]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supporting an optical transmitter/receiver pair of one or different vendors to inject an Optical Channel (OCh) and transfer it over a DWDM network composed of amplifiers and add-drop multiplexers from a different vendor. Therefore the standard defines the ingress and egress parameters at the reference points Ss and 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7440" cy="2376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85800" y="5210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.698.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ovides an optical interface specifications towards the realizat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ansversely compat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nse wavelength division multiplexing (DWDM) systems primarily intended for metro applications which include optical amplifiers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&gt; towards "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ultivendor DWDM optical transmission network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cument Scope and Persp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4640" y="990720"/>
            <a:ext cx="828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utions for Control and Management of Optical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erational Scenarios and Uses 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quirements for Black Link deployment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operable Control and Management Solution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ing multivendor transverse interoperability DWDM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ing just one optical network operat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.e. one administrative domain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Plane under consideration is well-defined and standardiz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TU-T G.698.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TF work focuses on the control and management aspec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optical interface / optical system (excluding active optical compone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69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SON work is compleme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6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5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work going forward in ITU-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ution initially in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5638680" y="5943600"/>
            <a:ext cx="329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p  – Transponder (eliminat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MS – Element Management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MS – Network Management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143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d interconnection of client nodes to the optical transport network, being all in the same administrative domain (intra-doma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54000" y="2717640"/>
            <a:ext cx="7427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Status &amp; Modif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first time at the last meeting in Pra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the WG ch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aming th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 management and control extensions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ITU-T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troduced to and discussed with ITU-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d the feedback from the working group and from ITU-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U-T Discussion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ack Link contributions for the recent ITU-T Chicago inter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proposal to progress BL work in ITU-T Q9, Q12, Q14 of SG15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yond optical specifications being in the works by Q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pment Functions, Architecture &amp; Features of Black Links (Q9, Q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col neutral Black Link Management models (Q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ck Link will be subject of next SG15 Plenary Coordination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s from ITU-T discussions for the IETF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s at IETF will focus on the management and control of optical interfaces based on existing ITU-T standards (ITU-T G.698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of the WDM network part of Black Links is out of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al to home/base this work in CCAM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with related Black Link work at ITU-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Operators and Vendors inv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ses and deployment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 work on Use Case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MIB document 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4:47:10Z</dcterms:created>
  <dc:creator>Ruediger Kunze et al.</dc:creator>
  <dc:description/>
  <dc:language>en-US</dc:language>
  <cp:lastModifiedBy>Manuel Paul</cp:lastModifiedBy>
  <dcterms:modified xsi:type="dcterms:W3CDTF">2011-07-22T10:51:54Z</dcterms:modified>
  <cp:revision>67</cp:revision>
  <dc:subject>A Framework for Management and Control of Optical Interfaces supporting G.698.2</dc:subject>
  <dc:title>draft-kunze-g-698-2-management-control-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8385732</vt:lpwstr>
  </property>
</Properties>
</file>