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283B-C7CC-49FC-9CED-D0AA1C6B9C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68F6-C5B2-4C8E-AA9A-D83A57B0E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operable BL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ation of solutions ensuring an interoperable management of BL deployments for 10G, 40G and bey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work with legacy equipment and management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WSON is complemen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cusing on the management and control of the optical interfa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ynamic Wavelength switching and assignment is out of sco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A0C-4392-48FC-B7BF-BA5B3D91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3EB-FE50-4738-A40B-BA2FA7BB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FB8-6BB9-4854-99FF-C1AE96CD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E88-2413-4184-A654-F7A7271E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D1C-479C-41D9-BD10-0D84AFA7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D93-62D8-46CF-A354-F61D88FE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451-CF5E-462D-86D5-267BA458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97C-E409-4647-A26D-192FC296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010-A891-41B1-ABE4-4AD0476D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D09-2E57-484B-BDF1-E77B38F1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30C-1EF7-4233-9E2B-F6013F79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322-E9AF-4045-9C6F-4BDF3B2A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9th IETF Beijing,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E93F-4EA7-4224-8F4F-2B55F12FF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Framework for Management and Control of Optical Interfaces supporting G.698.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kunze-g-698-2-management-control-framework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14400" y="4267080"/>
            <a:ext cx="73915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uediger Kun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nuel Pau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utsche Telek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4"/>
          <p:cNvSpPr/>
          <p:nvPr/>
        </p:nvSpPr>
        <p:spPr>
          <a:xfrm>
            <a:off x="3808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1st IETF  Quebe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AE1F-F1D6-4DBD-948D-226C402A4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4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4640" y="990360"/>
            <a:ext cx="8282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Framework for the Control and Management of Optical Interfaces according to the Black Link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 Enhancements for Control &amp; Management to leverage the Black Link approach in carrier networks in large-s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Case: Improved Interworking between third party system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 Router &lt;-&gt; DWDM &lt;-&gt; Rou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Status-Quo as well as future network management and control conce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lack Link according to ITU-T G.698.2 provides options to deploy Optical Interfaces in a WDM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urrently defined up to 10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ing extended by ITU-T for 40G, 100G and bey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43080">
              <a:lnSpc>
                <a:spcPct val="95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imarily intended for metro applications (i.e. up to 600km rea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p: G.698.2 in a colored Nutsh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82"/>
          <p:cNvSpPr/>
          <p:nvPr/>
        </p:nvSpPr>
        <p:spPr>
          <a:xfrm>
            <a:off x="685800" y="35798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ack Link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Black Link appro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[ITU-T G.698.2]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s supporting an optical transmitter/receiver pair of one or different vendors to inject an Optical Channel (OCh) and transfer it over a DWDM network composed of amplifiers and add-drop multiplexers from a different vendor. Therefore the standard defines the ingress and egress parameters at the reference points Ss and 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7440" cy="2376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685800" y="5210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.698.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ovides an optical interface specifications towards the realization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ansversely compat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nse wavelength division multiplexing (DWDM) systems primarily intended for metro applications which include optical amplifiers.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&gt; towards "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ultivendor DWDM optical transmission network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cument Scope and Persp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4640" y="990720"/>
            <a:ext cx="8282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6920" indent="-37692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utions for Control and Management of Optical 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perational Scenarios and Uses C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quirements for Black Link deployment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76920" indent="-376920">
              <a:lnSpc>
                <a:spcPct val="8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operable Control and Management Solutions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8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ing multivendor transverse interoperability DWDM netwo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8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ing just one optical network operat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i.e. one administrative domain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8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Plane under consideration is well-defined and standardiz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ITU-T G.698.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08280" indent="-339480">
              <a:lnSpc>
                <a:spcPct val="8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TF work focuses on the control and management aspec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optical interface / optical system (excluding active optical componen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769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76920" indent="-37692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SON work is complemen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769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920" indent="-376920">
              <a:lnSpc>
                <a:spcPct val="85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work going forward in ITU-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ution initially in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5638680" y="5943600"/>
            <a:ext cx="329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p  – Transponder (eliminat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MS – Element Management Syste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MS – Network Management Syste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1143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d interconnection of client nodes to the optical transport network, being all in the same administrative domain (intra-doma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54000" y="2717640"/>
            <a:ext cx="74278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Status &amp; Modif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ed first time at the last meeting in Pra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the WG ch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naming the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 management and control extensions 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ITU-T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troduced to and discussed with ITU-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ed the feedback from the working group and from ITU-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U-T Discussion 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ack Link contributions for the recent ITU-T Chicago inter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 proposal to progress BL work in ITU-T Q9, Q12, Q14 of SG15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yond optical specifications being in the works by Q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pment Functions, Architecture &amp; Features of Black Links (Q9, Q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ocol neutral Black Link Management models (Q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ack Link will be subject of next SG15 Plenary Coordination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s from ITU-T discussions for the IETF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s at IETF will focus on the management and control of optical interfaces based on existing ITU-T standards (ITU-T G.698.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of the WDM network part of Black Links is out of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al to home/base this work in CCAM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ng with related Black Link work at ITU-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Operators and Vendors inv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ses and deployment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ess work on Use Cases 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ing MIB document 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4:47:10Z</dcterms:created>
  <dc:creator>Ruediger Kunze et al.</dc:creator>
  <dc:description/>
  <dc:language>en-US</dc:language>
  <cp:lastModifiedBy>Manuel Paul</cp:lastModifiedBy>
  <dcterms:modified xsi:type="dcterms:W3CDTF">2011-07-22T10:51:54Z</dcterms:modified>
  <cp:revision>67</cp:revision>
  <dc:subject>A Framework for Management and Control of Optical Interfaces supporting G.698.2</dc:subject>
  <dc:title>draft-kunze-g-698-2-management-control-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8385732</vt:lpwstr>
  </property>
</Properties>
</file>