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E2B-62A1-4707-8472-40C32974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597-DD39-4212-89D6-E485F575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24F-6917-476C-B94F-C65BA227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69F-70FF-434B-AB09-8CD3A405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014-372C-4D92-B3BA-13AA81E0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3AC-5909-4DB2-9E20-3C509FFC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A8E-1B9A-4C37-B29C-F5423A6A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434-4554-43C3-83ED-047EA853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D23-E011-47B4-9597-80A4377F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A95-7D43-44DD-AC55-D0D99333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772-4089-484D-A22D-9FBCC28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46F-65D0-4E4F-A695-31BBBEBA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6FCC-717A-475F-BE6D-2660F799B2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VP-TE Extensions for SRLG Configuration of 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8800" y="2450880"/>
            <a:ext cx="80521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CAMP WG, IETF 81th, Quebec City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raft-zhang-ccamp-srlg-fa-configuration-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O. Gonzalez de Dios (ogondio@tid.es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atai Zhang (zhangfatai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n Li (danli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. Margaria. C (cyril.margaria@nsn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hanges from 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480" y="1461960"/>
            <a:ext cx="7602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a section to describe the SRLG updat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ddress the comments from the last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the content for Manageability Consid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LG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708280" y="1535040"/>
            <a:ext cx="444600" cy="5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6172200" y="1535040"/>
            <a:ext cx="444600" cy="5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295800" y="2887560"/>
            <a:ext cx="444240" cy="5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562720" y="2887560"/>
            <a:ext cx="444240" cy="5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AutoShape 9"/>
          <p:cNvCxnSpPr>
            <a:stCxn id="49" idx="3"/>
            <a:endCxn id="50" idx="1"/>
          </p:cNvCxnSpPr>
          <p:nvPr/>
        </p:nvCxnSpPr>
        <p:spPr>
          <a:xfrm>
            <a:off x="3739680" y="3158640"/>
            <a:ext cx="182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AutoShape 10"/>
          <p:cNvCxnSpPr>
            <a:stCxn id="47" idx="3"/>
            <a:endCxn id="49" idx="0"/>
          </p:cNvCxnSpPr>
          <p:nvPr/>
        </p:nvCxnSpPr>
        <p:spPr>
          <a:xfrm>
            <a:off x="3152880" y="1806120"/>
            <a:ext cx="365760" cy="108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AutoShape 11"/>
          <p:cNvCxnSpPr>
            <a:stCxn id="48" idx="1"/>
            <a:endCxn id="50" idx="0"/>
          </p:cNvCxnSpPr>
          <p:nvPr/>
        </p:nvCxnSpPr>
        <p:spPr>
          <a:xfrm flipV="1" rot="10800000">
            <a:off x="5784120" y="1805400"/>
            <a:ext cx="388080" cy="108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Line 12"/>
          <p:cNvSpPr/>
          <p:nvPr/>
        </p:nvSpPr>
        <p:spPr>
          <a:xfrm>
            <a:off x="1855800" y="2386080"/>
            <a:ext cx="5394240" cy="144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204200" y="212076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ent network/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231560" y="2424240"/>
            <a:ext cx="138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er network/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803400" y="292428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LG: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474720" y="242100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LG: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209920" y="242244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LG: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860400" y="3604320"/>
            <a:ext cx="74674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LG of the Link between D and E is change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487760" y="2889360"/>
            <a:ext cx="444600" cy="54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4947480" y="292572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LG: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任意多边形 27"/>
          <p:cNvSpPr/>
          <p:nvPr/>
        </p:nvSpPr>
        <p:spPr>
          <a:xfrm>
            <a:off x="3141720" y="1650960"/>
            <a:ext cx="3043080" cy="1620720"/>
          </a:xfrm>
          <a:custGeom>
            <a:avLst/>
            <a:gdLst/>
            <a:ahLst/>
            <a:rect l="l" t="t" r="r" b="b"/>
            <a:pathLst>
              <a:path w="3044414" h="1620818">
                <a:moveTo>
                  <a:pt x="0" y="155986"/>
                </a:moveTo>
                <a:cubicBezTo>
                  <a:pt x="73510" y="128195"/>
                  <a:pt x="147021" y="100404"/>
                  <a:pt x="215153" y="102197"/>
                </a:cubicBezTo>
                <a:cubicBezTo>
                  <a:pt x="283285" y="103990"/>
                  <a:pt x="371139" y="84268"/>
                  <a:pt x="408791" y="166743"/>
                </a:cubicBezTo>
                <a:cubicBezTo>
                  <a:pt x="446443" y="249218"/>
                  <a:pt x="439271" y="414169"/>
                  <a:pt x="441064" y="597049"/>
                </a:cubicBezTo>
                <a:cubicBezTo>
                  <a:pt x="442857" y="779929"/>
                  <a:pt x="399826" y="1109830"/>
                  <a:pt x="419548" y="1264023"/>
                </a:cubicBezTo>
                <a:cubicBezTo>
                  <a:pt x="439270" y="1418216"/>
                  <a:pt x="482302" y="1464833"/>
                  <a:pt x="559398" y="1522207"/>
                </a:cubicBezTo>
                <a:cubicBezTo>
                  <a:pt x="636495" y="1579581"/>
                  <a:pt x="745864" y="1602889"/>
                  <a:pt x="882127" y="1608268"/>
                </a:cubicBezTo>
                <a:cubicBezTo>
                  <a:pt x="1018390" y="1613647"/>
                  <a:pt x="1229958" y="1563445"/>
                  <a:pt x="1376979" y="1554480"/>
                </a:cubicBezTo>
                <a:cubicBezTo>
                  <a:pt x="1524000" y="1545515"/>
                  <a:pt x="1764254" y="1554480"/>
                  <a:pt x="1764254" y="1554480"/>
                </a:cubicBezTo>
                <a:cubicBezTo>
                  <a:pt x="1936376" y="1556273"/>
                  <a:pt x="2269864" y="1620818"/>
                  <a:pt x="2409713" y="1565237"/>
                </a:cubicBezTo>
                <a:cubicBezTo>
                  <a:pt x="2549563" y="1509656"/>
                  <a:pt x="2567492" y="1452282"/>
                  <a:pt x="2603351" y="1220993"/>
                </a:cubicBezTo>
                <a:cubicBezTo>
                  <a:pt x="2639210" y="989704"/>
                  <a:pt x="2551356" y="355002"/>
                  <a:pt x="2624866" y="177501"/>
                </a:cubicBezTo>
                <a:cubicBezTo>
                  <a:pt x="2698376" y="0"/>
                  <a:pt x="2871395" y="77993"/>
                  <a:pt x="3044414" y="155986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156120" y="1498680"/>
            <a:ext cx="95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SP head n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297760" y="1511280"/>
            <a:ext cx="87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SP tail n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860400" y="4045680"/>
            <a:ext cx="74674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detects the change of SRLG (from 3 to 5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860400" y="4488120"/>
            <a:ext cx="7467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finds out the LSP that traverses the link between D and E, then sends a Notify message to the head node of the LSP to re-collect the SRL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860400" y="5205600"/>
            <a:ext cx="7467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eceives the Notify message, then sends the Path message as a trigger message (RFC2961) to C to re-collect the SR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860400" y="5923080"/>
            <a:ext cx="7467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odes collect the SRLG information hop by hop by the trigger Path/Resv messages, then A/B get the updated SRLG information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Callout 3 29"/>
          <p:cNvSpPr/>
          <p:nvPr/>
        </p:nvSpPr>
        <p:spPr>
          <a:xfrm>
            <a:off x="6620040" y="2879640"/>
            <a:ext cx="162396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5086" y="25527"/>
                </a:lnTo>
                <a:lnTo>
                  <a:pt x="-20373" y="10164"/>
                </a:lnTo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LG: 3--&gt;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ability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could be configured to disable/enable SRLG collection outside of the domain (either inter-domain or inter-layer scenari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t SRLG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LG IDs must be unique and allocated based on a coherent r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scenarios, where coherence in the SRLG IDs cannot be guaranteed are out of the scope of the present document and are left for further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8480" y="1372680"/>
            <a:ext cx="8039160" cy="30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dopt it as a WG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efine it according to the feedback from the meeting or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Fatai</cp:lastModifiedBy>
  <dcterms:modified xsi:type="dcterms:W3CDTF">2011-07-15T06:12:51Z</dcterms:modified>
  <cp:revision>10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  <property fmtid="{D5CDD505-2E9C-101B-9397-08002B2CF9AE}" pid="3" name="_ms_pID_725343">
    <vt:lpwstr>(2)TfLzuNbLXa91Eit+jdu8jJyq0LSJQZ6LFxd96Na2BXPfMNE7Y92gN1B2GFJpzdigulD648Zr
y2BFZ2DFAlaTxU44gz6eeYDgjtQilBgBi8uar+VHxCyTBYXyBXoI9FE3iQEpEEx/keOoufH5
CYuzHtY8DIXRt7gOk4lbVCp2BKhsxNK0PoWhPhHPPjMvXSiKUa9cGeTWNJpK0KrDm7vwYkpp
+gMLKjedrrfoMK1oEV3r5</vt:lpwstr>
  </property>
  <property fmtid="{D5CDD505-2E9C-101B-9397-08002B2CF9AE}" pid="4" name="_ms_pID_7253431">
    <vt:lpwstr>1/tA8bEAPTST6BVQVq3q75xAfLuTlzzKz1db7tZg3oqXF+ZsExX
qc2xlgso5H4C+ur7NiXohKt9pbQDGMYINENhP9D+UY0ra0iE8jRxXzRLJBGMkY5mOqGB2iCl
bWZp3ho5gbct4CB+Ect5C3xCmyEtfEe8B6KizejKBil4IFJjZl4wSMhWX7sfYxgpXn4=</vt:lpwstr>
  </property>
  <property fmtid="{D5CDD505-2E9C-101B-9397-08002B2CF9AE}" pid="5" name="sflag">
    <vt:lpwstr>1310709202</vt:lpwstr>
  </property>
</Properties>
</file>