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60EF2-6032-4FD4-9E7B-3A8B2B4F3F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927DF-8899-4209-AA96-B8194D78B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550BC-A15E-414A-96E3-C462B632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E0485-CB45-4BA3-8158-4EF6AF72E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28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136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B7C83-F98B-4621-96D2-E74CAED0B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D699-27C2-4373-9407-75335C29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B580-5EB9-44A6-862F-3E11F958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12A0-D3D8-4979-90D6-1CE07ED9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7B6F-33C1-42EF-B9AF-0ED887FB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513D-D154-427C-B35A-B651BC4F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77B3-6B2F-4A44-B319-9AEFA71F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8A9C-2ACF-4631-8803-1289F4F2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25313-02EF-43F5-A068-55129DDA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0A18-4A4B-4D53-B452-64F5E2A4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1B53-AFB9-4B30-9D3C-610B4868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E93C-10F5-4A72-A99F-A3D58FD5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F2B3-8FA9-44A3-893E-2D0B57CF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819F-EEAC-45A7-B8C5-E16B0FDEE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659B3-9164-4863-B7F1-FDEF8896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11110-0115-43B4-A7FD-6D06B0EC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7814D-8C57-4E8A-B67C-7C44595E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53434-0843-4160-A0F1-D6DFB8CE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4B310-47CB-49D6-99A4-0E7E142A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5AB53-DAFA-4386-B37C-3B99E9F6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9907A-5BF0-4173-AF93-2287F4D7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SimSu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9814F9-EB86-47A2-BE5F-DD6753E625E1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2200" cy="544680"/>
            <a:chOff x="0" y="0"/>
            <a:chExt cx="9142200" cy="54468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480" cy="532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560" y="134640"/>
              <a:ext cx="8729640" cy="273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320" y="134640"/>
              <a:ext cx="137520" cy="140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200" y="0"/>
              <a:ext cx="13932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200" y="134640"/>
              <a:ext cx="139320" cy="140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320" y="273600"/>
              <a:ext cx="13608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400" y="136080"/>
              <a:ext cx="140760" cy="1375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320" y="270720"/>
              <a:ext cx="137520" cy="1375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320" y="408600"/>
              <a:ext cx="136080" cy="1360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2200" cy="6856560"/>
            <a:chOff x="0" y="0"/>
            <a:chExt cx="9142200" cy="685656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460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5760" y="1690200"/>
              <a:ext cx="7426440" cy="25329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320"/>
              <a:ext cx="2864520" cy="3155040"/>
              <a:chOff x="0" y="1066320"/>
              <a:chExt cx="2864520" cy="3155040"/>
            </a:xfrm>
          </p:grpSpPr>
          <p:sp>
            <p:nvSpPr>
              <p:cNvPr id="55" name=""/>
              <p:cNvSpPr/>
              <p:nvPr/>
            </p:nvSpPr>
            <p:spPr>
              <a:xfrm>
                <a:off x="572400" y="3580920"/>
                <a:ext cx="575640" cy="6404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4680" y="1689480"/>
                <a:ext cx="573840" cy="642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79520" y="1066320"/>
                <a:ext cx="585000" cy="6343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0480" y="3580920"/>
                <a:ext cx="583200" cy="6404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79520" y="1689480"/>
                <a:ext cx="585000" cy="642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0480" y="2322720"/>
                <a:ext cx="583200" cy="632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2720"/>
                <a:ext cx="581760" cy="632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4680" y="2322720"/>
                <a:ext cx="573840" cy="632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2400" y="2946240"/>
                <a:ext cx="575640" cy="6436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0480" y="2946240"/>
                <a:ext cx="583200" cy="6436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SimSu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1270440-33B0-46D9-9198-6862BF264D43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812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5776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OSPF-TE extensions for GMPLS Control of Evolving G.709 OT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0" y="443664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draft-ceccarelli-ccamp-gmpls-ospf-g709-0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SimSun"/>
              </a:rPr>
              <a:t>CCAMP WG, IETF 81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t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SimSun"/>
              </a:rPr>
              <a:t> Quebec C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uthors/Contribu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Steve Balls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eve.Balls@metaswitch.com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Sergio Belotti </a:t>
            </a: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(sergio.belotti@alcatel-lucent.com)</a:t>
            </a:r>
            <a:r>
              <a:rPr b="1" i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Diego Caviglia </a:t>
            </a: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(diego.caviglia@ericsson.com)</a:t>
            </a:r>
            <a:r>
              <a:rPr b="1" i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Daniele Ceccarelli </a:t>
            </a: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(daniele.ceccarelli@ericsson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John Drake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drake@juniper.net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Xihua Fu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u.xihua@zte.com.cn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Pietro Grandi </a:t>
            </a: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(pietro_vittorio.grandi@alcatel-lucent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Dan Li </a:t>
            </a: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(danli@huawei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Cyril Margaria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yril.margaria@nsn.com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Lyndon Ong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Lyong@Ciena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Khuzema Pithewan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pithewan@infinera.c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Rajan Rao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rao@infinera.com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Jonathan Sadler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Jonathan.Sadler@tellabs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Yunbin Xu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uyunbin@mail.ritt.com.c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Fatai Zhang </a:t>
            </a: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(zhangfatai@huawei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iaobing Z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zixiaobing@huawei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98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Changes in version -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Merge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ceccarelli-ccamp-gmpls-ospf-g709-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ft-ashok-ccamp-gmpls-ospf-g709-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New OTN ISC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New SCSI sub-TL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New Bandwidth sub-sub-TL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1 – Fixed 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2 – Flexible 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New OTN ISCD and SCSI TL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5076720" cy="335916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0" y="3342960"/>
            <a:ext cx="9036000" cy="3329280"/>
            <a:chOff x="0" y="3342960"/>
            <a:chExt cx="9036000" cy="332928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2700360" y="3357720"/>
              <a:ext cx="6335640" cy="33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4508640"/>
              <a:ext cx="2700360" cy="2089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33480" y="3342960"/>
              <a:ext cx="2700360" cy="718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00360" y="3357720"/>
              <a:ext cx="6264360" cy="32400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New Bandwidth sub-sub-TLV (1-BW-fi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03280" y="1052640"/>
            <a:ext cx="5977080" cy="28159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4360" y="3860640"/>
            <a:ext cx="896472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Num of stages: Number of muxing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Signal type = Client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Stage #1 = ODU where the client layer is mux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Stage #N = ODUk server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E.g. ODU1-&gt;ODU2-&gt;ODU3-&gt;ODU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Signal Type = ODU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Stage #1 = ODU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Stage #2 = ODU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Stage #3 = ODU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New Bandwidth sub-sub-TLV (2-BW-v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280" y="5876640"/>
            <a:ext cx="8964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 flag - Unreserved vs MAX LSP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47920" y="1266840"/>
            <a:ext cx="624996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40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 single ISCD per TE-Link MAY be advert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terfaces with different OTUk layers and different muxing hierarchies MAY be bundled together but a different SCSI TLV MUST be used for each different type of muxing hierarch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Merging all the 3 different component links in the example above would cause and advertis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ODU0-&gt;ODU3-&gt;ODU4     and     ODU3-&gt;ODU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But in this case it is not possible to know how many ODU3-&gt;ODU4 are available for ODU3 FA set up (i.e. belonging to the ODU0-&gt;ODU3-&gt;ODU4 hierarchy) and how many simple ODU3 cannot be used for ODU0 transport (i.e. belonging to ODU3-&gt;ODU4 hierarch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63640" y="3141720"/>
            <a:ext cx="474336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843588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feedbacks from the meeting and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alignment with OTN Framework and G.709 Info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pt as WG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QUESTION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4292640"/>
            <a:ext cx="822960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06:55:26Z</dcterms:created>
  <dc:creator>diego caviglia</dc:creator>
  <dc:description/>
  <dc:language>en-US</dc:language>
  <cp:lastModifiedBy>Daniele Ceccarelli</cp:lastModifiedBy>
  <dcterms:modified xsi:type="dcterms:W3CDTF">2011-07-18T15:33:11Z</dcterms:modified>
  <cp:revision>140</cp:revision>
  <dc:subject/>
  <dc:title>CCAMP WG IETF 69 </dc:title>
</cp:coreProperties>
</file>