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283FB-9495-4685-88B3-6A6D61DD21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2858-0D02-4AC7-B82D-B7DEABAB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C741-1EB4-4385-87F4-24809460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33AA-6A0A-4942-B659-322FBCED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ACCE-AD16-4766-A760-ED15DE6A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08AF-1549-46E4-807A-8FDF9D36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0DE-7BBE-484A-ADDD-3C71D3D6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01D3-1B72-4F20-B6BE-4841CE74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A07E-E7AA-471B-B6B1-CE94226C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B783-E880-4455-9BCB-C402780F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5226-7B6E-4FA6-8492-536926B6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61CB-856E-453D-843F-4C123882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3089-B8A8-46A3-88E3-B0BAAB39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EDB-7403-435E-B628-F2A7194E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627-4B83-4F39-BF47-F00B2A9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7708-F3CB-41AE-BC3F-A7898A95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3B1E-7FFF-4ECD-A4F7-89DF0814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C754-E868-45AB-9AC0-B7028696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99DF8-B20E-4C71-B0FD-4C1C3747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63D8-B384-4CFE-B06A-4E060E49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2D09-60B5-4EAD-AF35-94C611FA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DFB0-1C6A-4DD7-AF9D-AAE21181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66FC-0131-438F-818F-67F58C0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38DB-8B34-4E71-8AA2-62CF7393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D957-6425-469D-AB39-73F2A173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70C05E-6968-48E6-A718-EE6FBB62593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488D0C-D13C-497E-B276-BF2CFCDF7A8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SPF-TE extensions for GMPLS Control of Evolving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draft-ceccarelli-ccamp-gmpls-ospf-g709-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SimSun"/>
              </a:rPr>
              <a:t>CCAMP WG, IETF 81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SimSun"/>
              </a:rPr>
              <a:t> Quebec 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hors/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teve Ball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ve.Balls@metaswitch.com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ergio Belott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sergio.belotti@alcatel-lucent.com)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iego Caviglia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iego.caviglia@ericsson.com)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Daniele Ceccarell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aniele.ceccarelli@ericsson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John Drak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drake@juniper.net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Xihua Fu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.xihua@zte.com.c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ietro Grand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pietro_vittorio.grandi@alcatel-lucent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an L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anli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yril Margari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ril.margaria@nsn.com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yndon Ong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Lyong@Ciena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Khuzema Pithewan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pithewan@infinera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Rajan Rao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rao@infinera.com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Jonathan Sadler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Jonathan.Sadler@tellabs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Yunbin Xu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uyunbin@mail.ritt.com.c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atai Zhang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zhangfatai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iaobing 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zixiaobing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hanges in version 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rg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ceccarelli-ccamp-gmpls-ospf-g7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t-ashok-ccamp-gmpls-ospf-g709-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w OTN ISC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w SCSI sub-T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w Bandwidth sub-sub-T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1 – Fixed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2 – Flexible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New OTN ISCD and SCSI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076720" cy="335916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0" y="3342960"/>
            <a:ext cx="9036000" cy="3329280"/>
            <a:chOff x="0" y="3342960"/>
            <a:chExt cx="9036000" cy="33292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2700360" y="3357720"/>
              <a:ext cx="633564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508640"/>
              <a:ext cx="2700360" cy="2089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3480" y="3342960"/>
              <a:ext cx="2700360" cy="718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00360" y="3357720"/>
              <a:ext cx="6264360" cy="32400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w Bandwidth sub-sub-TLV (1-BW-f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77080" cy="2815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360" y="3860640"/>
            <a:ext cx="89647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Num of stages: Number of muxing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ignal type = Clien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tage #1 = ODU where the client layer is mu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tage #N = ODUk server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ODU1-&gt;ODU2-&gt;ODU3-&gt;OD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ignal Type = ODU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tage #1 = OD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tage #2 = OD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tage #3 = OD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w Bandwidth sub-sub-TLV (2-BW-v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280" y="587664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 flag - Unreserved vs MAX LSP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1266840"/>
            <a:ext cx="624996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single ISCD per TE-Link MAY be advert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rfaces with different OTUk layers and different muxing hierarchies MAY be bundled together but a different SCSI TLV MUST be used for each different type of muxing hierarc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erging all the 3 different component links in the example above would cause and adverti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DU0-&gt;ODU3-&gt;ODU4     and     ODU3-&gt;OD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ut in this case it is not possible to know how many ODU3-&gt;ODU4 are available for ODU3 FA set up (i.e. belonging to the ODU0-&gt;ODU3-&gt;ODU4 hierarchy) and how many simple ODU3 cannot be used for ODU0 transport (i.e. belonging to ODU3-&gt;ODU4 hierarch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4743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feedbacks from the meeting and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ignment with OTN Framework and G.709 Info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as WG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1-07-18T15:33:11Z</dcterms:modified>
  <cp:revision>140</cp:revision>
  <dc:subject/>
  <dc:title>CCAMP WG IETF 69 </dc:title>
</cp:coreProperties>
</file>