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571-4461-4E4A-AFC6-97641ACD36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DBA2-3C7A-4620-9179-0AED6A9241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3504-DE8C-43F6-8923-7C9D2C93B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A93-3A73-43BC-93ED-59570DD6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974-FA30-44BA-9DC8-FE09613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00867-CD49-451B-B2F1-15E81018DD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9A04C-34AF-4FD9-88C0-8208C78CC0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F6012-78A9-4E47-90C7-D7B94BA5B9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7E4C6-9E1B-4812-96DC-2369B4E387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0F0A0-9027-417D-B906-2BC41C0A7E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6ED20-6063-4681-A9DB-9C90DDA53E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A0254-3DD1-4C10-B6D9-C453A4213E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E3E9B2-4785-443D-8DFE-7F68C9B1A7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C756B-0485-41DA-89BE-2288CCD697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F0FF-3382-48AA-BB15-C4D8517BD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DD3-010F-4CA3-8F1E-5C53F621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0B25-0E0C-459F-AB73-E22D8D8A9C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1F7E-ACC5-4C8A-8BF1-F9DB7BF3925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17D1-01B0-49C7-A1C2-D85E3FD8CC6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3D9A-4180-4BAE-B433-C35944C302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E894B-820D-49A0-96EF-182FE377F3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1D99-1227-487C-A625-8ADD30F23A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51BC-9BDC-429F-8EB2-1136BE22BA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72F1-3B15-4DBC-98AE-36FF07346C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85BF-7CAA-425D-9C81-D607E7CEEF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49FE-D0F7-4C4C-A235-C16734A98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0E2-91F0-444C-89E2-3BFBB2A4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4B56A-B28B-49F6-A7A6-868B5FF311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59CCD-6054-4D4B-9765-D6F9CC33F1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A9D70-07FC-4D6B-8D0C-FF4A0B7C10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ABF44-24B4-4030-AA83-96F5568BFA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346B4-022E-41D1-A525-D14F45E0BA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E125E-B378-4226-BFBB-965D656D2DD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A9324-6B6F-47E4-A8EC-1BB3DD3D06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E13B7-9B34-4F8B-B4C2-43FA70F6AE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6ABB5-2B63-4645-9AF4-7633DF82C91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FA483-1310-4B00-8914-F02568994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E0EA5-16A4-41D4-B469-93DAB5CC38F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68920-7C4D-48C2-8151-537327428D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A1F91-F1CA-46E7-AE3E-FC3CEB79EB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3E005-39DC-4FE2-8A7D-ADA1A5B4C8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60196-BF4B-48EC-8E40-7FBE2E1F1B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8CC17-647D-45AF-8DD8-987A304A2A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6CE2-4956-498B-B895-F79E5761AB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C39A4-7C50-472B-AF0B-2E19BB17D15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86CD0-4C1F-4B6D-A0A4-CDD01447C4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10423-BDAC-4229-8B23-2263E99F30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CBB32-444D-4652-AF4C-D0A75CBCA9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798DE-8D3F-4FB4-BE05-C4210B073D7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5EEB7-E179-4EFB-B938-696A6DE04DC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89B49-7B0B-4409-9F5D-09E1D7DEA2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01F1A-9DB0-4408-BCAE-FFC7F6AAA4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2D24E-0B3B-42E4-94CA-491E98E951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12B89-E172-4EF1-AB54-30C6D692AF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4ED3-23CF-47AD-A0C9-7785668E4D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09075-CF5C-4A98-83F5-69451DC32E9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A6E0C-FD28-4637-B803-7EA382DB41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D73B0-7B48-4AB3-BC94-795EEB4935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27F7E-C658-4119-B1A7-139E173AA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8EA0E-C54F-449F-B1F4-F8CF4A11BBC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64FFE-CE9E-4103-A783-201BCE3D0A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48C6-229D-4836-9980-DE512256DB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7D987-C751-4C55-8425-12D2364F60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16898-4B11-40A6-BDCA-B77B4C2D79A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5B7C0-8CC2-4705-B4E2-DABF3FFF27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8D94-5F34-46A4-96AA-F7D1E678E6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2EE6D-187A-4B4C-9ECB-6681A16E3C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BA41-7F83-49A0-9523-73C835EF2F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640CA-DFA0-4E80-B65C-4AD641F00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41AF-A4C5-4424-BFDF-0DFB2E315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8967-7259-40A0-B87D-1CAD9D35D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17E-8611-4452-BDD8-0E1C562A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20688-260A-4EA5-963C-E7E1A19E0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92C54-D6B6-4076-BE31-529EEE9B16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E752C-4495-4DFD-A996-6D9601356D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D9336-55B8-4921-B988-117F28FA6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C16EA-98EB-4F7E-9C26-1B24871289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881CF-990D-485D-AB3C-01C2A228EB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50448-D0B6-47E9-99E5-91CACD4B27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C6FA0-0A6C-4276-B0A5-038EF6733D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967A6-715F-4138-AB8C-4E30445822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4AB98-0CD2-4B84-B4E1-D68BCC21A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619-8C44-402C-B1FB-415D65B6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3D355-47EC-4A81-B371-081FC0FE6D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945F4-DCAA-4699-BAB3-9F246EF31E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99C79-CDA3-43A6-8D3C-5C88BEA19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927E8-87C2-4F1C-BBCF-C192B83D6D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6A71E-880F-4A9F-B614-522F82BAF7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D52AC-AF72-422D-A629-FEBD614609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856C0-6013-43CB-832C-7A5156EA58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06A2-0F33-4D30-B082-47316BD853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FC21-BB07-4A62-81D6-0A27B8F92F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651D-D5DC-4CBE-B1E0-A92930F3C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72E-DA85-40F2-861B-65F643B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F2FF-7D48-4AE0-9864-FE603C2F98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4833-B162-4914-886E-7F44EEC47C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002B-5F14-4B20-BD47-F7CACEDA95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E343-B432-4F02-A40B-BBD5735A13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1E06-2B7D-4AD0-98B7-358CA5B1B3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DE2A-625C-4E9F-83A8-95FC7701A1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FCF6-9D45-403D-982C-BFBCD08B75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5649-0F0D-464C-AF33-3D6D020353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46F3-6910-4326-B93B-82FCE07F70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D8381-88ED-4340-AA9D-8D119F47F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8F5-6F0B-42FE-B1AB-90C275B4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99C92-6595-4E6E-972A-62C94F01EB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0FD77-8FC8-470E-8786-7142B9E02C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44C2C-4DC9-48B8-A5F5-88B580D3A6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C4958-2D50-4C8F-B37A-3303A6686A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91A41-0195-45CF-9165-4794AED598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8A39D-C305-4519-B0BA-3C0C1784E6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E806B-1D2F-47D0-B084-D2114C811B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13D04-0D1B-47AC-965F-D8ACD8B335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46885-4306-49EC-AF7C-CC38766859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84691-3E2F-4825-9867-213E8A197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43-5D2B-4000-9E15-F33A71B7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521D0-95AA-4BAA-9B87-83DD13CB739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97A79-CAF8-4A3D-B1C7-B00485385A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E997BA-9718-497D-9F07-87B36A4989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34ACFA-E95C-4DB2-A8CC-0A67251733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A3417-85A2-4E4B-819A-E135FB74DF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BC6FE-A8C1-4092-A56B-BE593CAF30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1BEBE0-3DBF-42B2-AB7A-B775C498D6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F78D5-C099-4882-B9A1-1C13ACEEE6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77381-179D-4D21-9579-5D8C2AB72A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716A18-A3E6-46C4-8B5F-2B3FCA94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D11-BE3F-47EA-91AA-A472208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FC445-F272-4E49-9A8B-431AF48564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024D6-622A-4A64-9E1F-BDF28BD2E6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54237-9A8C-4B66-9C92-2B4928661F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5EBD-5BFB-4C88-9DCB-DF943E2B7D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BD4A-63B7-4A38-8928-50D258019B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02AB-28D8-48F1-9351-E6AE0E93DE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81DE-F87E-4851-8841-57D1B8E811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F656-FD2E-466E-B694-485DEDE4D7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24DE-32DD-4AF7-8D1E-DC9F296126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A990-7BE6-47D6-9D7A-BEBA6BEC3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F9C-D600-45B4-8E82-67EC6EC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B9A0-9634-4239-9B19-22F3D03AAA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D66B-98E1-4A32-8335-1B2C65671C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7BDE-9D62-40AF-A5D5-E0EE3B058D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D14A-9978-4B4E-B2C5-4037C8E131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09AB-94BD-476D-AB9D-F3529BD1C4E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35AA1-E53D-4D31-A15E-6FB53881E5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CEF75-5038-4F8F-AC4D-59B6F8F9E3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D79F1-E4D6-433F-915A-560BA7785A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7B0DE-F34D-4AB9-976C-6824242AF4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3AD85-3F17-40C9-AF34-C80BBE13D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EB7-816D-4417-999F-950C114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48B67-3EEA-40F5-8D28-D13CBF661E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70F4E-CB8B-4EEB-AF1A-52FDF50775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015AD-7137-4548-BE10-76700F2DB2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69761-7B62-4A43-92C1-766D8906F3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4A109-50B6-4300-B14C-4611770F8B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9738C-F928-4BFC-9037-690C6D0BD6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1A2E6-EA23-4D04-8327-D8D30FE2DB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CD3071-7269-4B97-A36F-EF4584911E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EA438-7554-4ACC-A6F3-C68EA42577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AE5F2-2B3F-4DD7-8BDB-7BE860375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64EC-0409-49D1-84CE-82172A7520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179-F59B-4C67-9E20-CF5EF375F8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7CA-0B7E-4CA4-958D-D78DF65DE4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B14-7EEB-4E52-A675-9375B08BBFF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1EE6-0742-490F-9827-6CFE5489346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00B-A09E-4467-9A12-29969D8DAE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D39-13D4-4110-841E-F06A99A392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288-2542-4611-BE9B-5573B9B5AC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6E43-5067-4B4C-AF26-3ACA76AA44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936-BC02-4118-A600-482AB599C2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BBD2-EB56-4594-9EBD-BDE6FB101E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E0D-31BD-4602-BE43-851DBA3F3B1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84B7-F459-4BE0-A5C7-6791617B95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CAMP WG, IETF 81th, Quebec City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hang-ccamp-gmpls-evolving-g709-08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 &amp;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76032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2: Restoration of single hop H-L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Hop H-LSP is a direct connection between 2 inter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witch fabric configuration involved in single hop H-LS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re is no mesh here, restoration is not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nk protection 1+1 or 1:n is applic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 #3: Multi-stage Label and O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: RFC 4783, draft-ietf-ccamp-oam-configuration-fwk-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of these documents talk about end-to-end OAM of service lay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doesn’t address server layer(s) involved in supporting service lay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Multi-stage Label is used, OAM is applicable only to client signal that is mentioned in traffic spec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other layers, that are created to support service layer, doesn’t come in the purview of end-to-end O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4: Egress Control through sig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absence of multi-stage label as “egress label”, manual steps are needed 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the multiplexing hierarchy on lsp egress interf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ign the interface indexes to each layer of the hierarc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ndex and corresponding time slot information needs to be configured as part of LSP configu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ti-stage label automates these manual steps through signaling (Ref: RFC400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ors &amp; Contrib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971640" y="128880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atai Zha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zhangfatai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Guoying Zha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zhangguoying@mail.ritt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rgio Belot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rgio.belotti@alcatel-lucen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aniele Ceccarell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aniele.ceccarelli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Khuzema Pithewan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kpithewan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i L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i.lin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Yunbin X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xuyunbin@mail.ritt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Pietro Grand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pietro_vittorio.grandi@alcatel-lucen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iego Cavigl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iego.caviglia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ohit Mis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misra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ajan Ra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rao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shok Kunjidhapath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kunjidhapatham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iao L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lu@infiner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Lyndon Ong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lyong@cie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gor Bryski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Bryskin@advaoptic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1116000" y="5766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2240"/>
                <a:tab algn="l" pos="1096920"/>
                <a:tab algn="l" pos="1371600"/>
                <a:tab algn="l" pos="1646280"/>
                <a:tab algn="l" pos="1920960"/>
                <a:tab algn="l" pos="2193840"/>
                <a:tab algn="l" pos="2468520"/>
                <a:tab algn="l" pos="2743200"/>
                <a:tab algn="l" pos="3017880"/>
                <a:tab algn="l" pos="3292560"/>
                <a:tab algn="l" pos="3565440"/>
                <a:tab algn="l" pos="3840120"/>
                <a:tab algn="l" pos="4114800"/>
                <a:tab algn="l" pos="4389480"/>
                <a:tab algn="l" pos="4664160"/>
                <a:tab algn="l" pos="4937040"/>
                <a:tab algn="l" pos="5211720"/>
                <a:tab algn="l" pos="5486400"/>
                <a:tab algn="l" pos="6035760"/>
                <a:tab algn="l" pos="6308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Jonathan Sadler, John E Drake and other active experts for their useful comments to the doc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from Version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d &lt;draft-khuzema-ccamp-gmpls-signaling-g709&gt; and introducing the multi-stage labe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826920" y="3357720"/>
            <a:ext cx="367380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H-LSP using Generalized La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roducing optional multi-stage label object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of multi-stage label solution using Generalized Label + multi-stage label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716360" y="3357720"/>
            <a:ext cx="367200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&lt;draft-khuz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multi-stage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multi-stage label solution using multi-stage Generalized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826920" y="2133720"/>
            <a:ext cx="7561440" cy="107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of ODU multiplexing (the reqs would be moved to &lt;draft-ietf-ccamp-gmpls-g709-framework&gt; after agre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900000" y="3786120"/>
            <a:ext cx="3456000" cy="2379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Develop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agreed to have Generalized Label Format as specified in Section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of ODU Multiplex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684360" y="2843280"/>
            <a:ext cx="374328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2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"/>
          <p:cNvSpPr/>
          <p:nvPr/>
        </p:nvSpPr>
        <p:spPr>
          <a:xfrm>
            <a:off x="4500720" y="2843280"/>
            <a:ext cx="381636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2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"/>
          <p:cNvSpPr/>
          <p:nvPr/>
        </p:nvSpPr>
        <p:spPr>
          <a:xfrm>
            <a:off x="684360" y="1197000"/>
            <a:ext cx="7632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ngle-s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ltiplexing (e.g., ODUj-&gt;ODUk, or ODUj-&gt;OTU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684360" y="1792440"/>
            <a:ext cx="763272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lti-hops multi-st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684360" y="3500280"/>
            <a:ext cx="763272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ne-hop multi-st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/>
          <p:cNvSpPr/>
          <p:nvPr/>
        </p:nvSpPr>
        <p:spPr>
          <a:xfrm>
            <a:off x="684360" y="5157720"/>
            <a:ext cx="763272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Control &amp; management of intermediate ODU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684360" y="5651640"/>
            <a:ext cx="763272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Creating ODUj service involving various mux hierarchies on each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0"/>
          <p:cNvSpPr/>
          <p:nvPr/>
        </p:nvSpPr>
        <p:spPr>
          <a:xfrm>
            <a:off x="684360" y="6156360"/>
            <a:ext cx="76327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: Egress control of OT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5"/>
          <p:cNvSpPr/>
          <p:nvPr/>
        </p:nvSpPr>
        <p:spPr>
          <a:xfrm>
            <a:off x="684360" y="4572000"/>
            <a:ext cx="374328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3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6"/>
          <p:cNvSpPr/>
          <p:nvPr/>
        </p:nvSpPr>
        <p:spPr>
          <a:xfrm>
            <a:off x="4500720" y="4572000"/>
            <a:ext cx="3816360" cy="36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720720" indent="-720720"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termediate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26"/>
          <p:cNvGrpSpPr/>
          <p:nvPr/>
        </p:nvGrpSpPr>
        <p:grpSpPr>
          <a:xfrm>
            <a:off x="4572000" y="1741320"/>
            <a:ext cx="3456000" cy="914040"/>
            <a:chOff x="4572000" y="1741320"/>
            <a:chExt cx="3456000" cy="914040"/>
          </a:xfrm>
        </p:grpSpPr>
        <p:sp>
          <p:nvSpPr>
            <p:cNvPr id="552" name="TextBox 116"/>
            <p:cNvSpPr/>
            <p:nvPr/>
          </p:nvSpPr>
          <p:spPr>
            <a:xfrm>
              <a:off x="5580000" y="234828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17"/>
            <p:cNvSpPr/>
            <p:nvPr/>
          </p:nvSpPr>
          <p:spPr>
            <a:xfrm>
              <a:off x="6732000" y="234828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组合 125"/>
            <p:cNvGrpSpPr/>
            <p:nvPr/>
          </p:nvGrpSpPr>
          <p:grpSpPr>
            <a:xfrm>
              <a:off x="4572000" y="1741320"/>
              <a:ext cx="3456000" cy="698760"/>
              <a:chOff x="4572000" y="1741320"/>
              <a:chExt cx="3456000" cy="698760"/>
            </a:xfrm>
          </p:grpSpPr>
          <p:sp>
            <p:nvSpPr>
              <p:cNvPr id="555" name="矩形 90"/>
              <p:cNvSpPr/>
              <p:nvPr/>
            </p:nvSpPr>
            <p:spPr>
              <a:xfrm>
                <a:off x="521964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矩形 91"/>
              <p:cNvSpPr/>
              <p:nvPr/>
            </p:nvSpPr>
            <p:spPr>
              <a:xfrm>
                <a:off x="629928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矩形 92"/>
              <p:cNvSpPr/>
              <p:nvPr/>
            </p:nvSpPr>
            <p:spPr>
              <a:xfrm>
                <a:off x="7452000" y="2008080"/>
                <a:ext cx="288720" cy="432000"/>
              </a:xfrm>
              <a:prstGeom prst="rect">
                <a:avLst/>
              </a:prstGeom>
              <a:solidFill>
                <a:srgbClr val="8eb4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22"/>
              <p:cNvSpPr/>
              <p:nvPr/>
            </p:nvSpPr>
            <p:spPr>
              <a:xfrm rot="16200000">
                <a:off x="6408360" y="1107720"/>
                <a:ext cx="142920" cy="2232000"/>
              </a:xfrm>
              <a:prstGeom prst="can">
                <a:avLst>
                  <a:gd name="adj" fmla="val 260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直接连接符 94"/>
              <p:cNvSpPr/>
              <p:nvPr/>
            </p:nvSpPr>
            <p:spPr>
              <a:xfrm flipH="1">
                <a:off x="4932000" y="222408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直接连接符 95"/>
              <p:cNvSpPr/>
              <p:nvPr/>
            </p:nvSpPr>
            <p:spPr>
              <a:xfrm flipH="1">
                <a:off x="7596000" y="222408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直接连接符 96"/>
              <p:cNvSpPr/>
              <p:nvPr/>
            </p:nvSpPr>
            <p:spPr>
              <a:xfrm flipH="1">
                <a:off x="5364000" y="2224080"/>
                <a:ext cx="22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23"/>
              <p:cNvSpPr/>
              <p:nvPr/>
            </p:nvSpPr>
            <p:spPr>
              <a:xfrm rot="16200000">
                <a:off x="6875280" y="1792080"/>
                <a:ext cx="289080" cy="863640"/>
              </a:xfrm>
              <a:prstGeom prst="can">
                <a:avLst>
                  <a:gd name="adj" fmla="val 9370"/>
                </a:avLst>
              </a:prstGeom>
              <a:solidFill>
                <a:srgbClr val="00b05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23"/>
              <p:cNvSpPr/>
              <p:nvPr/>
            </p:nvSpPr>
            <p:spPr>
              <a:xfrm rot="16200000">
                <a:off x="5796000" y="1792080"/>
                <a:ext cx="289080" cy="863640"/>
              </a:xfrm>
              <a:prstGeom prst="can">
                <a:avLst>
                  <a:gd name="adj" fmla="val 9370"/>
                </a:avLst>
              </a:prstGeom>
              <a:solidFill>
                <a:srgbClr val="00b05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Box 115"/>
              <p:cNvSpPr/>
              <p:nvPr/>
            </p:nvSpPr>
            <p:spPr>
              <a:xfrm>
                <a:off x="4572000" y="1988280"/>
                <a:ext cx="86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DU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Box 118"/>
              <p:cNvSpPr/>
              <p:nvPr/>
            </p:nvSpPr>
            <p:spPr>
              <a:xfrm>
                <a:off x="6300000" y="1741320"/>
                <a:ext cx="86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DU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组合 132"/>
          <p:cNvGrpSpPr/>
          <p:nvPr/>
        </p:nvGrpSpPr>
        <p:grpSpPr>
          <a:xfrm>
            <a:off x="5364000" y="3500280"/>
            <a:ext cx="2232360" cy="720720"/>
            <a:chOff x="5364000" y="3500280"/>
            <a:chExt cx="2232360" cy="720720"/>
          </a:xfrm>
        </p:grpSpPr>
        <p:sp>
          <p:nvSpPr>
            <p:cNvPr id="567" name="矩形 108"/>
            <p:cNvSpPr/>
            <p:nvPr/>
          </p:nvSpPr>
          <p:spPr>
            <a:xfrm>
              <a:off x="5651280" y="3789000"/>
              <a:ext cx="288720" cy="43200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09"/>
            <p:cNvSpPr/>
            <p:nvPr/>
          </p:nvSpPr>
          <p:spPr>
            <a:xfrm>
              <a:off x="7020000" y="3789000"/>
              <a:ext cx="288720" cy="43200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22"/>
            <p:cNvSpPr/>
            <p:nvPr/>
          </p:nvSpPr>
          <p:spPr>
            <a:xfrm rot="16200000">
              <a:off x="6407640" y="3319560"/>
              <a:ext cx="144360" cy="1368720"/>
            </a:xfrm>
            <a:prstGeom prst="can">
              <a:avLst>
                <a:gd name="adj" fmla="val 428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3"/>
            <p:cNvSpPr/>
            <p:nvPr/>
          </p:nvSpPr>
          <p:spPr>
            <a:xfrm rot="16200000">
              <a:off x="6350760" y="3449880"/>
              <a:ext cx="288720" cy="1109880"/>
            </a:xfrm>
            <a:prstGeom prst="can">
              <a:avLst>
                <a:gd name="adj" fmla="val 7282"/>
              </a:avLst>
            </a:prstGeom>
            <a:solidFill>
              <a:srgbClr val="00b05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112"/>
            <p:cNvSpPr/>
            <p:nvPr/>
          </p:nvSpPr>
          <p:spPr>
            <a:xfrm flipH="1">
              <a:off x="5364000" y="400500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113"/>
            <p:cNvSpPr/>
            <p:nvPr/>
          </p:nvSpPr>
          <p:spPr>
            <a:xfrm flipH="1">
              <a:off x="7164360" y="400500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114"/>
            <p:cNvSpPr/>
            <p:nvPr/>
          </p:nvSpPr>
          <p:spPr>
            <a:xfrm flipH="1">
              <a:off x="5795640" y="4005000"/>
              <a:ext cx="1368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131"/>
            <p:cNvSpPr/>
            <p:nvPr/>
          </p:nvSpPr>
          <p:spPr>
            <a:xfrm>
              <a:off x="5364000" y="350028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U0-&gt;ODU2-&gt;ODU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矩形 139"/>
          <p:cNvSpPr/>
          <p:nvPr/>
        </p:nvSpPr>
        <p:spPr>
          <a:xfrm>
            <a:off x="618840" y="189000"/>
            <a:ext cx="138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tion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43"/>
          <p:cNvSpPr/>
          <p:nvPr/>
        </p:nvSpPr>
        <p:spPr>
          <a:xfrm>
            <a:off x="543564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44"/>
          <p:cNvSpPr/>
          <p:nvPr/>
        </p:nvSpPr>
        <p:spPr>
          <a:xfrm>
            <a:off x="759636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46"/>
          <p:cNvSpPr/>
          <p:nvPr/>
        </p:nvSpPr>
        <p:spPr>
          <a:xfrm>
            <a:off x="543564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47"/>
          <p:cNvSpPr/>
          <p:nvPr/>
        </p:nvSpPr>
        <p:spPr>
          <a:xfrm>
            <a:off x="694836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eft Brace 52"/>
          <p:cNvSpPr/>
          <p:nvPr/>
        </p:nvSpPr>
        <p:spPr>
          <a:xfrm>
            <a:off x="468360" y="1916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81080"/>
              <a:gd name="textAreaBottom" fmla="*/ 10774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eft Brace 53"/>
          <p:cNvSpPr/>
          <p:nvPr/>
        </p:nvSpPr>
        <p:spPr>
          <a:xfrm>
            <a:off x="468360" y="3716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81080"/>
              <a:gd name="textAreaBottom" fmla="*/ 10774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圆角矩形 54"/>
          <p:cNvSpPr/>
          <p:nvPr/>
        </p:nvSpPr>
        <p:spPr>
          <a:xfrm>
            <a:off x="324000" y="5084640"/>
            <a:ext cx="849600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stag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直接连接符 3"/>
          <p:cNvSpPr/>
          <p:nvPr/>
        </p:nvSpPr>
        <p:spPr>
          <a:xfrm>
            <a:off x="108000" y="3789360"/>
            <a:ext cx="853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4464000" y="1773360"/>
            <a:ext cx="237636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sta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3276720" y="2349360"/>
            <a:ext cx="1836720" cy="432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ho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-stage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"/>
          <p:cNvSpPr/>
          <p:nvPr/>
        </p:nvSpPr>
        <p:spPr>
          <a:xfrm>
            <a:off x="6156360" y="2349360"/>
            <a:ext cx="1765440" cy="432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One-ho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-stage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肘形连接符 7"/>
          <p:cNvCxnSpPr>
            <a:stCxn id="585" idx="2"/>
            <a:endCxn id="586" idx="0"/>
          </p:cNvCxnSpPr>
          <p:nvPr/>
        </p:nvCxnSpPr>
        <p:spPr>
          <a:xfrm rot="5400000">
            <a:off x="4815000" y="1511640"/>
            <a:ext cx="216360" cy="1459800"/>
          </a:xfrm>
          <a:prstGeom prst="bentConnector3">
            <a:avLst>
              <a:gd name="adj1" fmla="val 50000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589" name="肘形连接符 8"/>
          <p:cNvCxnSpPr>
            <a:stCxn id="585" idx="2"/>
            <a:endCxn id="587" idx="0"/>
          </p:cNvCxnSpPr>
          <p:nvPr/>
        </p:nvCxnSpPr>
        <p:spPr>
          <a:xfrm flipH="1" rot="16200000">
            <a:off x="6238080" y="1548000"/>
            <a:ext cx="216360" cy="1386720"/>
          </a:xfrm>
          <a:prstGeom prst="bentConnector3">
            <a:avLst>
              <a:gd name="adj1" fmla="val 50000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590" name="下箭头 9"/>
          <p:cNvSpPr/>
          <p:nvPr/>
        </p:nvSpPr>
        <p:spPr>
          <a:xfrm>
            <a:off x="3240000" y="3645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0"/>
          <p:cNvSpPr/>
          <p:nvPr/>
        </p:nvSpPr>
        <p:spPr>
          <a:xfrm>
            <a:off x="3024360" y="4005360"/>
            <a:ext cx="86328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1"/>
          <p:cNvSpPr/>
          <p:nvPr/>
        </p:nvSpPr>
        <p:spPr>
          <a:xfrm>
            <a:off x="3240000" y="1197000"/>
            <a:ext cx="194472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DU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2"/>
          <p:cNvSpPr/>
          <p:nvPr/>
        </p:nvSpPr>
        <p:spPr>
          <a:xfrm>
            <a:off x="792000" y="1773360"/>
            <a:ext cx="2160720" cy="360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One-sta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肘形连接符 13"/>
          <p:cNvCxnSpPr>
            <a:stCxn id="592" idx="2"/>
            <a:endCxn id="593" idx="0"/>
          </p:cNvCxnSpPr>
          <p:nvPr/>
        </p:nvCxnSpPr>
        <p:spPr>
          <a:xfrm rot="5400000">
            <a:off x="2933640" y="494640"/>
            <a:ext cx="216720" cy="2342160"/>
          </a:xfrm>
          <a:prstGeom prst="bentConnector3">
            <a:avLst>
              <a:gd name="adj1" fmla="val 49916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595" name="肘形连接符 14"/>
          <p:cNvCxnSpPr>
            <a:stCxn id="592" idx="2"/>
            <a:endCxn id="585" idx="0"/>
          </p:cNvCxnSpPr>
          <p:nvPr/>
        </p:nvCxnSpPr>
        <p:spPr>
          <a:xfrm flipH="1" rot="16200000">
            <a:off x="4825080" y="945360"/>
            <a:ext cx="216720" cy="1440360"/>
          </a:xfrm>
          <a:prstGeom prst="bentConnector3">
            <a:avLst>
              <a:gd name="adj1" fmla="val 49916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596" name="下箭头 15"/>
          <p:cNvSpPr/>
          <p:nvPr/>
        </p:nvSpPr>
        <p:spPr>
          <a:xfrm>
            <a:off x="1728720" y="2133720"/>
            <a:ext cx="432000" cy="19429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6"/>
          <p:cNvSpPr/>
          <p:nvPr/>
        </p:nvSpPr>
        <p:spPr>
          <a:xfrm>
            <a:off x="1224000" y="4076640"/>
            <a:ext cx="1584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multi-stage mux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n't need H-LSP or multi-stag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7"/>
          <p:cNvSpPr/>
          <p:nvPr/>
        </p:nvSpPr>
        <p:spPr>
          <a:xfrm>
            <a:off x="2736720" y="3068640"/>
            <a:ext cx="129564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Pre-provision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8"/>
          <p:cNvSpPr/>
          <p:nvPr/>
        </p:nvSpPr>
        <p:spPr>
          <a:xfrm>
            <a:off x="417672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>
            <a:off x="576108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Pre-provisioned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0"/>
          <p:cNvSpPr/>
          <p:nvPr/>
        </p:nvSpPr>
        <p:spPr>
          <a:xfrm>
            <a:off x="7201080" y="3068640"/>
            <a:ext cx="1295280" cy="5763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Dynamic cre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termediate 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肘形连接符 21"/>
          <p:cNvCxnSpPr>
            <a:stCxn id="586" idx="2"/>
            <a:endCxn id="598" idx="0"/>
          </p:cNvCxnSpPr>
          <p:nvPr/>
        </p:nvCxnSpPr>
        <p:spPr>
          <a:xfrm rot="5400000">
            <a:off x="3645000" y="2520360"/>
            <a:ext cx="288000" cy="81000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3" name="肘形连接符 22"/>
          <p:cNvCxnSpPr>
            <a:stCxn id="586" idx="2"/>
            <a:endCxn id="599" idx="0"/>
          </p:cNvCxnSpPr>
          <p:nvPr/>
        </p:nvCxnSpPr>
        <p:spPr>
          <a:xfrm flipH="1" rot="16200000">
            <a:off x="4364640" y="2609640"/>
            <a:ext cx="288000" cy="63108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4" name="形状 52"/>
          <p:cNvCxnSpPr>
            <a:stCxn id="587" idx="2"/>
            <a:endCxn id="600" idx="0"/>
          </p:cNvCxnSpPr>
          <p:nvPr/>
        </p:nvCxnSpPr>
        <p:spPr>
          <a:xfrm rot="5400000">
            <a:off x="6579360" y="2609640"/>
            <a:ext cx="288000" cy="63108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cxnSp>
        <p:nvCxnSpPr>
          <p:cNvPr id="605" name="肘形连接符 24"/>
          <p:cNvCxnSpPr>
            <a:stCxn id="587" idx="2"/>
            <a:endCxn id="601" idx="0"/>
          </p:cNvCxnSpPr>
          <p:nvPr/>
        </p:nvCxnSpPr>
        <p:spPr>
          <a:xfrm flipH="1" rot="16200000">
            <a:off x="7299360" y="2520000"/>
            <a:ext cx="288000" cy="810360"/>
          </a:xfrm>
          <a:prstGeom prst="bentConnector3">
            <a:avLst>
              <a:gd name="adj1" fmla="val 49937"/>
            </a:avLst>
          </a:prstGeom>
          <a:ln w="28440">
            <a:solidFill>
              <a:srgbClr val="558ed5"/>
            </a:solidFill>
            <a:round/>
            <a:tailEnd len="med" type="triangle" w="med"/>
          </a:ln>
        </p:spPr>
      </p:cxnSp>
      <p:sp>
        <p:nvSpPr>
          <p:cNvPr id="606" name="矩形 25"/>
          <p:cNvSpPr/>
          <p:nvPr/>
        </p:nvSpPr>
        <p:spPr>
          <a:xfrm>
            <a:off x="4392720" y="4005360"/>
            <a:ext cx="86364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6"/>
          <p:cNvSpPr/>
          <p:nvPr/>
        </p:nvSpPr>
        <p:spPr>
          <a:xfrm>
            <a:off x="5832360" y="4005360"/>
            <a:ext cx="86364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下箭头 27"/>
          <p:cNvSpPr/>
          <p:nvPr/>
        </p:nvSpPr>
        <p:spPr>
          <a:xfrm rot="1767000">
            <a:off x="7540560" y="3615840"/>
            <a:ext cx="289080" cy="432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下箭头 28"/>
          <p:cNvSpPr/>
          <p:nvPr/>
        </p:nvSpPr>
        <p:spPr>
          <a:xfrm flipH="1" rot="19833000">
            <a:off x="7900200" y="3615840"/>
            <a:ext cx="287280" cy="43200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9"/>
          <p:cNvSpPr/>
          <p:nvPr/>
        </p:nvSpPr>
        <p:spPr>
          <a:xfrm>
            <a:off x="7921800" y="4005360"/>
            <a:ext cx="718920" cy="792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multi-stage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0"/>
          <p:cNvSpPr/>
          <p:nvPr/>
        </p:nvSpPr>
        <p:spPr>
          <a:xfrm>
            <a:off x="7129440" y="4005360"/>
            <a:ext cx="719280" cy="28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-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下箭头 31"/>
          <p:cNvSpPr/>
          <p:nvPr/>
        </p:nvSpPr>
        <p:spPr>
          <a:xfrm>
            <a:off x="4608360" y="3645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下箭头 32"/>
          <p:cNvSpPr/>
          <p:nvPr/>
        </p:nvSpPr>
        <p:spPr>
          <a:xfrm>
            <a:off x="6048360" y="3645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33"/>
          <p:cNvSpPr/>
          <p:nvPr/>
        </p:nvSpPr>
        <p:spPr>
          <a:xfrm>
            <a:off x="0" y="270828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DU multiplexing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4"/>
          <p:cNvSpPr/>
          <p:nvPr/>
        </p:nvSpPr>
        <p:spPr>
          <a:xfrm>
            <a:off x="0" y="39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tenti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7"/>
          <p:cNvSpPr/>
          <p:nvPr/>
        </p:nvSpPr>
        <p:spPr>
          <a:xfrm>
            <a:off x="3203640" y="4365720"/>
            <a:ext cx="4105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need "service ODUj -&gt; intermediate ODUk "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lti-stage label is not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56"/>
          <p:cNvCxnSpPr/>
          <p:nvPr/>
        </p:nvCxnSpPr>
        <p:spPr>
          <a:xfrm>
            <a:off x="6659640" y="36450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TextBox 43"/>
          <p:cNvSpPr/>
          <p:nvPr/>
        </p:nvSpPr>
        <p:spPr>
          <a:xfrm>
            <a:off x="2268360" y="5899320"/>
            <a:ext cx="3598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lized Label = all stage mu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5"/>
          <p:cNvSpPr/>
          <p:nvPr/>
        </p:nvSpPr>
        <p:spPr>
          <a:xfrm>
            <a:off x="2268360" y="5529240"/>
            <a:ext cx="35989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abel format (Section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箭头连接符 51"/>
          <p:cNvCxnSpPr>
            <a:stCxn id="610" idx="2"/>
            <a:endCxn id="619" idx="0"/>
          </p:cNvCxnSpPr>
          <p:nvPr/>
        </p:nvCxnSpPr>
        <p:spPr>
          <a:xfrm flipH="1">
            <a:off x="4066920" y="4797000"/>
            <a:ext cx="4215600" cy="73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1" name="矩形 56"/>
          <p:cNvSpPr/>
          <p:nvPr/>
        </p:nvSpPr>
        <p:spPr>
          <a:xfrm>
            <a:off x="46836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ction 5.1 &amp;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6"/>
          <p:cNvSpPr/>
          <p:nvPr/>
        </p:nvSpPr>
        <p:spPr>
          <a:xfrm>
            <a:off x="584280" y="1241280"/>
            <a:ext cx="7916760" cy="4067280"/>
          </a:xfrm>
          <a:custGeom>
            <a:avLst/>
            <a:gdLst/>
            <a:ahLst/>
            <a:rect l="l" t="t" r="r" b="b"/>
            <a:pathLst>
              <a:path w="7915701" h="4067033">
                <a:moveTo>
                  <a:pt x="1009934" y="0"/>
                </a:moveTo>
                <a:lnTo>
                  <a:pt x="627797" y="40944"/>
                </a:lnTo>
                <a:lnTo>
                  <a:pt x="300250" y="109182"/>
                </a:lnTo>
                <a:lnTo>
                  <a:pt x="13647" y="464024"/>
                </a:lnTo>
                <a:lnTo>
                  <a:pt x="0" y="914400"/>
                </a:lnTo>
                <a:lnTo>
                  <a:pt x="736979" y="1269242"/>
                </a:lnTo>
                <a:lnTo>
                  <a:pt x="1009934" y="1364776"/>
                </a:lnTo>
                <a:lnTo>
                  <a:pt x="1037229" y="2047164"/>
                </a:lnTo>
                <a:lnTo>
                  <a:pt x="1091821" y="2647666"/>
                </a:lnTo>
                <a:lnTo>
                  <a:pt x="777922" y="2674961"/>
                </a:lnTo>
                <a:lnTo>
                  <a:pt x="518615" y="2961564"/>
                </a:lnTo>
                <a:lnTo>
                  <a:pt x="545910" y="3439236"/>
                </a:lnTo>
                <a:lnTo>
                  <a:pt x="545910" y="3739487"/>
                </a:lnTo>
                <a:lnTo>
                  <a:pt x="805218" y="3944203"/>
                </a:lnTo>
                <a:lnTo>
                  <a:pt x="1201003" y="3944203"/>
                </a:lnTo>
                <a:lnTo>
                  <a:pt x="1856095" y="3889612"/>
                </a:lnTo>
                <a:lnTo>
                  <a:pt x="2347415" y="3835021"/>
                </a:lnTo>
                <a:lnTo>
                  <a:pt x="2661313" y="3794078"/>
                </a:lnTo>
                <a:lnTo>
                  <a:pt x="2961564" y="3916908"/>
                </a:lnTo>
                <a:lnTo>
                  <a:pt x="3370997" y="3971499"/>
                </a:lnTo>
                <a:lnTo>
                  <a:pt x="3875964" y="4067033"/>
                </a:lnTo>
                <a:lnTo>
                  <a:pt x="4817659" y="4053385"/>
                </a:lnTo>
                <a:lnTo>
                  <a:pt x="5404513" y="3998794"/>
                </a:lnTo>
                <a:lnTo>
                  <a:pt x="5991367" y="4039738"/>
                </a:lnTo>
                <a:lnTo>
                  <a:pt x="6605516" y="4053385"/>
                </a:lnTo>
                <a:lnTo>
                  <a:pt x="7014949" y="4067033"/>
                </a:lnTo>
                <a:lnTo>
                  <a:pt x="7383438" y="4067033"/>
                </a:lnTo>
                <a:lnTo>
                  <a:pt x="7492621" y="3835021"/>
                </a:lnTo>
                <a:lnTo>
                  <a:pt x="7410734" y="3370997"/>
                </a:lnTo>
                <a:lnTo>
                  <a:pt x="7342495" y="3234520"/>
                </a:lnTo>
                <a:lnTo>
                  <a:pt x="7328847" y="3002508"/>
                </a:lnTo>
                <a:lnTo>
                  <a:pt x="7246961" y="2634018"/>
                </a:lnTo>
                <a:lnTo>
                  <a:pt x="7342495" y="2361063"/>
                </a:lnTo>
                <a:lnTo>
                  <a:pt x="7533564" y="2047164"/>
                </a:lnTo>
                <a:lnTo>
                  <a:pt x="7915701" y="1692323"/>
                </a:lnTo>
                <a:lnTo>
                  <a:pt x="7915701" y="1460311"/>
                </a:lnTo>
                <a:lnTo>
                  <a:pt x="7847462" y="1173708"/>
                </a:lnTo>
                <a:lnTo>
                  <a:pt x="7683689" y="928048"/>
                </a:lnTo>
                <a:lnTo>
                  <a:pt x="7055892" y="477672"/>
                </a:lnTo>
                <a:lnTo>
                  <a:pt x="6209731" y="245660"/>
                </a:lnTo>
                <a:lnTo>
                  <a:pt x="5759355" y="163773"/>
                </a:lnTo>
                <a:lnTo>
                  <a:pt x="5022376" y="232012"/>
                </a:lnTo>
                <a:lnTo>
                  <a:pt x="4640238" y="259308"/>
                </a:lnTo>
                <a:lnTo>
                  <a:pt x="4312692" y="259308"/>
                </a:lnTo>
                <a:lnTo>
                  <a:pt x="3944203" y="327547"/>
                </a:lnTo>
                <a:lnTo>
                  <a:pt x="3548418" y="382138"/>
                </a:lnTo>
                <a:lnTo>
                  <a:pt x="2934268" y="313899"/>
                </a:lnTo>
                <a:lnTo>
                  <a:pt x="2456597" y="245660"/>
                </a:lnTo>
                <a:lnTo>
                  <a:pt x="1897038" y="109182"/>
                </a:lnTo>
                <a:lnTo>
                  <a:pt x="1460310" y="40944"/>
                </a:lnTo>
                <a:lnTo>
                  <a:pt x="1009934" y="0"/>
                </a:lnTo>
                <a:close/>
              </a:path>
            </a:pathLst>
          </a:custGeom>
          <a:noFill/>
          <a:ln w="25560">
            <a:solidFill>
              <a:srgbClr val="e46c0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Clarification w.r.t. RFC3471/3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ff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RFC 3471/3945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Generalized Label only carries a single level of label, i.e., it is non-hierarchical. When multiple levels of label (LSPs within LSPs) are required, each LSP must be established separately, see [MPLS- HIERARCHY]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N Label can essentially contain multiple stages, as described in section 5.2.  Should we call it hierarchical Label or something different (OTN Composite Label?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is hierarchical Label, then we might need a new draft to get this clarified w.r.t. RFC3471/39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7715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G document ado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7200" y="2464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up slides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Item#1 : Applicability of Multi-stage 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125360"/>
            <a:ext cx="2592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-stage label replaces single hop H-LSP(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xing hierarchy needs to be same on the both ends of the link for multi-stage label to work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Multiplexing hierarchy on the 2 ends of the link is not same, then it calls for multi-hop H-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-stage label is not meant to replace multi-hop H-LS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3564000" y="965160"/>
            <a:ext cx="5046480" cy="2801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348000" y="3962520"/>
            <a:ext cx="5643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02:47Z</dcterms:created>
  <dc:creator>Khuzema Pithewan</dc:creator>
  <dc:description/>
  <dc:language>en-US</dc:language>
  <cp:lastModifiedBy>Fatai</cp:lastModifiedBy>
  <dcterms:modified xsi:type="dcterms:W3CDTF">2011-07-25T22:19:55Z</dcterms:modified>
  <cp:revision>4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98289</vt:lpwstr>
  </property>
</Properties>
</file>