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438D-4C9A-460F-97C5-6528D7083C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01D-246F-4464-A16D-7EE2537812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567-D242-43E8-ABA5-9BE01A085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25F-FB07-49DD-BA3E-583EBD76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CB4-DF35-4196-8698-F9FFCDB4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507556-6A7F-4F78-987D-2E2A90E619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4CDD0-91CF-4A4D-AD1D-9026B23965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C34C98-D26B-4E73-8A18-AFBDC5E53D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DAC316-28A0-4506-8BD5-FF27460D09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5C208-51D8-4F6C-9503-F5945A9179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1A021-3A44-43ED-9789-CB29074F92E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59DDB-F264-43EA-A55A-9AC0616E7F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BBCCE-B016-4A22-B4B2-AC89505CE5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2FD8D9-A301-445B-9E88-D9CE93C54F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0F82-73D6-4DDF-B03F-E3D2C46C4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FFA-F1F2-4F69-B249-306A0E35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AC0D9-BAA1-4ED7-98E9-C2764C5031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023F5-69AE-448C-8882-9406B47A39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D64BC-9ECD-4A6C-97D6-DB1EE094D1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BE68-CE7B-4028-8668-F247C7C032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07C4-D0B0-4517-B533-DF4F4032C07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35D3-8C2F-413F-8DBF-39CC48BDF1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A0E57-ED2B-40FF-B25A-C1486B7672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B0596-940B-4F3C-8997-533C060A96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9B37-FF3D-475F-A42A-78E00B60E9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BE14-C454-49AB-A0FD-D2B742125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455-3382-40AB-A623-2A428EBE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F504-815E-4345-8501-3B6D883B0D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9F82D-ED38-46F2-8919-A5CF8B325C9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93CE7-5230-4811-8F37-66CF3C4CB2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EF4DE-5273-4B26-B857-1164B75448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C3DFD-E6F0-4C4C-BF5B-0278256423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CD117-C52C-4489-B33D-137ADB9503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47B5F-C0A9-4AFA-802B-AB0594ECED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89700-2761-4819-B002-17A9FB126DD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C577B-0279-41CA-95FC-434E0C28E1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2A21A-6440-41E1-AEBE-43E8FF864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17BFC-2A5E-425C-BF02-8D42540761C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06536-D78E-4197-8AC9-0147F57F78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1E364-8782-40BB-992B-C0F8349CA76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89FED-6C99-48E6-A161-06B13A7C57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04C4C-C181-447B-A318-813E91D061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83314-DE43-43EC-BB2B-EC6C062DA1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22E57-BEB8-441D-A3AA-BAE6E7A09C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610B8-E9D2-4275-89BF-C9FEF2186B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FDABC-CBC9-4478-8866-9A789C1E3FD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37B0C-22B1-4B1E-A969-A8DA2EE26F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618F4-FD78-4C7C-8F22-A68BA5B88C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19782-3019-468F-87A9-6976BBD256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4B34C-0FE3-4817-A173-9C0A2F39FA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5626A-7FC4-4B18-8055-A23DAF16E9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FE763-416C-4F16-99C7-2B9FA2F47C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BE150-629A-414C-AC44-C23B48CF415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CFF4E-81B9-4891-9407-747DA4B609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819F-FE56-47B2-AC46-94F606F124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3E36-CE86-4685-83D5-98A2481DB9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57D16-A249-4E63-9BF9-6C4510D90EB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3D7A0-07DD-4747-BE58-290A81247A8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9538C-7393-4E67-B7D3-203EAEDE24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83D08-593E-4931-AFA0-468914B3A3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18736-6C1F-43D0-80EC-379E145A690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D0870-7FD1-4937-B2F0-94637767CF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FAC3-4179-4291-B6E9-DE37654D22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F974B-9168-4798-8222-D635F6BA2D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B6DE-9796-404C-8D8B-0B9C37DF96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C334-B44B-4705-B108-EE04847C61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9D47C-9B5E-4CA8-8B9E-94A8007DB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5C4D4-A3BE-4FCA-BA01-8546EDB40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68F1D-F5DC-432D-AA2B-AB33DE8CB1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78125-E147-4E6F-8D2E-AD4F23946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D82D-A652-4CD8-9EB4-F69CE7C80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674-86CE-477D-8DEE-AAB167F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EDD2-2F5D-4108-B9D7-0A3588C261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5C955-051F-4AF2-ABBD-DEEBD0393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F731-AB23-4A27-BDBB-5467870DB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D7D64-F12D-4FFA-BC49-41E2966AE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7958E-B3CB-46F4-A14E-C69844BE7A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0C39A-739D-4D9B-BC09-418C718B0B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6B285-CB95-4A67-BB3E-A2592A7BCD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F4967-4371-4ACA-8CA6-A4A3E3498D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73AEE-E66B-4242-A183-367ABAECAE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C3C76-E847-4C4E-A507-502AD897E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DD6-1102-4C4D-A270-F2F68F2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A399E-CE87-4CC8-AA83-E8092F1C7B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CD44C-0CFB-47EA-86E6-B4D320B2C6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4F1C3-02A1-4767-A1B7-4671654F1C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F3A40-6139-4C99-9773-58DDC80981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14F48-B85F-4D31-A52A-03737FA77F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F8B95-5914-4759-9BC8-48D93AD4F9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0EE56-A4D9-4959-8E67-D0E05EE415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7A1D-0F37-4955-9EF8-DE8D4C6F88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AAC2-0A1C-4792-8920-6BF1DC4C63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FD84-4060-4D6F-B7D6-3A6BCFEF8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66E-3EDF-4B21-A4AE-0651B7C8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A203-CB5A-4034-BE73-BCCAF049B8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A3FC-D59E-4D81-83F2-4C87FF8DA5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A173-3642-4172-BF97-D7F1AE8C6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7D18-C202-47CE-827E-0C3CF4976A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3B86-AFC7-47CC-AA4F-375CB1BE64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4789-7C74-45C0-B623-754AD7EC98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B2A6-9554-489A-8C30-6FBE9B9246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F15A-0639-43CD-9949-9F5AD29EFF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3BA9-6A71-48E5-831B-C020CA94F6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AB059-266F-4231-B245-48B2C8F53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CFA-BEDC-4813-815E-1A2C2EF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F39EA-1643-47F5-A405-C9C5F6EC69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30833-F170-4C9E-9E12-C49E6B471F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9E6A3-9DA4-4A5D-8543-B375B0665C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734F0-60EA-4363-AFDF-BADDFCA0A5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8CB33-7671-44D3-AB7E-58215C0594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3A3E0-7137-454D-A756-6BE7C9856F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356D1-011A-42BE-85AA-3067F7EBAA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1355D-864D-4C90-B88D-81F4493CB9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9C59C-1520-4650-B05C-396FC0406A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EE007-7DE2-4416-91CF-DB2B3E647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81C-19F8-4CF8-866D-87439B6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75967-33E8-400F-960C-9E7BCC32CC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AE7D1-3514-4C76-8353-046469992F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91E3D-A24D-4D2A-9E3A-C452540F63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31548-15C7-43D8-8243-130963345E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C0525-FA3F-4670-AD37-5DE631D34C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B9E3F-B529-4FC1-A9F5-E9EC59DAC1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54FAC-FA1C-4CE5-B7B2-FF2BB03107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4D77D-1691-4E6C-9F17-98ECE55399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129A9-A177-4019-B39B-479FB215DE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523A30-2C6B-417B-93C0-95E40707C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FB2-F8E2-4F1A-ADA7-0F1630F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B1EFC7-019B-47F1-B25A-1B03FAAF98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0F244-E1B5-46AC-860F-A35C734D0A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32F58-237D-4AC6-8D8D-B40B0B8908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8E22-51C7-45C3-9CA6-372EF39965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B4E5-CB4B-423D-A818-CBCD3C177F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C9A8-A0D1-4037-884A-84FF6A1520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7453-F5DB-4F89-8AE0-E11EB46486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0B3D-B629-4948-A60A-761D6B8861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2EFE-BF26-4E5A-99C0-F7BB197EA3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36A7-E5D4-4A86-8B61-59ABFB5B6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23B-ED50-46E5-A379-1258D13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358F-6FAF-4D3B-921F-7FEE0DCEDB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4554-1B1D-4664-864C-1476042415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0F9F-59DA-4006-9149-5DB19426E3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E939-A321-40E8-B53A-29D67FA0D5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F760-4055-41EB-83B9-DBB519E105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2D321-0A63-4D0B-B4D5-A400CFF46D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05C96-FCD9-40C8-A482-FFF8D99D29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810C1-2F10-4242-89AA-A0EB8A42A7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419B1-2E0D-4951-88B0-74925CA404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1883A-D4EC-4D89-A899-71095BCBC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54D-07A7-4ECC-9C74-0F4A040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47308-4578-41BD-8EAD-E00F92D0EB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A9489-9B23-4550-A4E4-842AF39BCA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BED86-19BA-4AED-AE58-D085C91964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90521-94DD-433B-9829-206FCE18AF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6C147-E7DE-4CBD-9063-8ED8340F68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C785-B837-4EB9-B224-D62D1B8B3C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16C83-E07A-4831-B9CD-E0907C6DC6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4C06F-B409-40AA-B8FB-C4F71C4855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F8A5D-3BF6-4D7E-A3C2-10D0FAB993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A201BE-7BA0-43E6-BB80-818EC2BFA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F3C-1E0C-4F92-97DF-62B4CF1AA3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4D3D-CF7F-4E53-838A-BECFA702FD0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B70A-3907-4EE9-AD02-DE29870D66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7E3-AAA2-4275-B996-25E2C1A7000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1BB-6935-4866-911C-F85D6E20381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535-D910-468C-93AF-7A1C0ECAFA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AEC-5948-47FC-B6A6-03F05DD122C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37C-3807-45A4-A77E-D189D13D8D0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DAAB-3C25-4145-A84B-D51F1B30FF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93D0-CE80-48F1-B1E3-5534B71BA1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31B-665E-45A2-B911-DADF40EE870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B693-768B-49FA-9F23-52367941718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4538-09A5-4ADA-9E76-8C97524EA48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CAMP WG, IETF 81th, Quebec City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hang-ccamp-gmpls-evolving-g709-08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 &amp;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76032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2: Restoration of single hop H-L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Hop H-LSP is a direct connection between 2 inter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witch fabric configuration involved in single hop H-LS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re is no mesh here, restoration is not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nk protection 1+1 or 1:n is applic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 #3: Multi-stage Label and O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: RFC 4783, draft-ietf-ccamp-oam-configuration-fwk-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of these documents talk about end-to-end OAM of service lay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doesn’t address server layer(s) involved in supporting service lay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Multi-stage Label is used, OAM is applicable only to client signal that is mentioned in traffic spec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other layers, that are created to support service layer, doesn’t come in the purview of end-to-end O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4: Egress Control through sig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absence of multi-stage label as “egress label”, manual steps are needed 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the multiplexing hierarchy on lsp egress interf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ign the interface indexes to each layer of the hierarc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ndex and corresponding time slot information needs to be configured as part of LSP configu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ti-stage label automates these manual steps through signaling (Ref: RFC400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ors &amp; Contrib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971640" y="128880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atai Zha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zhangfatai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Guoying Zha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zhangguoying@mail.ritt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rgio Belot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rgio.belotti@alcatel-lucen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aniele Ceccarell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aniele.ceccarelli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Khuzema Pithewan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kpithewan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i L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i.lin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unbin X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xuyunbin@mail.ritt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Pietro Gran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pietro_vittorio.grandi@alcatel-lucen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iego Cavigl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iego.caviglia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ohit Mis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misra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ajan Ra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rao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shok Kunjidhapath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kunjidhapatham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iao L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lu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Lyndon Ong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lyong@cie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gor Bryski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Bryskin@advaoptic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1116000" y="5766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2240"/>
                <a:tab algn="l" pos="1096920"/>
                <a:tab algn="l" pos="1371600"/>
                <a:tab algn="l" pos="1646280"/>
                <a:tab algn="l" pos="1920960"/>
                <a:tab algn="l" pos="2193840"/>
                <a:tab algn="l" pos="2468520"/>
                <a:tab algn="l" pos="2743200"/>
                <a:tab algn="l" pos="3017880"/>
                <a:tab algn="l" pos="3292560"/>
                <a:tab algn="l" pos="3565440"/>
                <a:tab algn="l" pos="3840120"/>
                <a:tab algn="l" pos="4114800"/>
                <a:tab algn="l" pos="4389480"/>
                <a:tab algn="l" pos="4664160"/>
                <a:tab algn="l" pos="4937040"/>
                <a:tab algn="l" pos="5211720"/>
                <a:tab algn="l" pos="5486400"/>
                <a:tab algn="l" pos="6035760"/>
                <a:tab algn="l" pos="6308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Jonathan Sadler, John E Drake and other active experts for their useful comments to the doc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from Version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d &lt;draft-khuzema-ccamp-gmpls-signaling-g709&gt; and introducing the multi-stage labe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826920" y="3357720"/>
            <a:ext cx="367380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H-LSP using Generalized La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roducing optional multi-stage label object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of multi-stage label solution using Generalized Label + multi-stage label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716360" y="3357720"/>
            <a:ext cx="367200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&lt;draft-khuz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multi-stage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multi-stage label solution using multi-stage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826920" y="2133720"/>
            <a:ext cx="7561440" cy="107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of ODU multiplexing (the reqs would be moved to &lt;draft-ietf-ccamp-gmpls-g709-framework&gt; after agre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900000" y="3786120"/>
            <a:ext cx="3456000" cy="2379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Develop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agreed to have Generalized Label Format as specified in Section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of ODU Multiplex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684360" y="2843280"/>
            <a:ext cx="374328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2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"/>
          <p:cNvSpPr/>
          <p:nvPr/>
        </p:nvSpPr>
        <p:spPr>
          <a:xfrm>
            <a:off x="4500720" y="2843280"/>
            <a:ext cx="381636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2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"/>
          <p:cNvSpPr/>
          <p:nvPr/>
        </p:nvSpPr>
        <p:spPr>
          <a:xfrm>
            <a:off x="684360" y="1197000"/>
            <a:ext cx="7632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ngle-s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ltiplexing (e.g., ODUj-&gt;ODUk, or ODUj-&gt;OTU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684360" y="1792440"/>
            <a:ext cx="763272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lti-hops multi-st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684360" y="3500280"/>
            <a:ext cx="763272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ne-hop multi-st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/>
          <p:cNvSpPr/>
          <p:nvPr/>
        </p:nvSpPr>
        <p:spPr>
          <a:xfrm>
            <a:off x="684360" y="5157720"/>
            <a:ext cx="763272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Control &amp; management of intermediate ODU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684360" y="5651640"/>
            <a:ext cx="763272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Creating ODUj service involving various mux hierarchies on each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0"/>
          <p:cNvSpPr/>
          <p:nvPr/>
        </p:nvSpPr>
        <p:spPr>
          <a:xfrm>
            <a:off x="684360" y="6156360"/>
            <a:ext cx="76327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Egress control of OT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5"/>
          <p:cNvSpPr/>
          <p:nvPr/>
        </p:nvSpPr>
        <p:spPr>
          <a:xfrm>
            <a:off x="684360" y="4572000"/>
            <a:ext cx="374328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3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6"/>
          <p:cNvSpPr/>
          <p:nvPr/>
        </p:nvSpPr>
        <p:spPr>
          <a:xfrm>
            <a:off x="4500720" y="4572000"/>
            <a:ext cx="381636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26"/>
          <p:cNvGrpSpPr/>
          <p:nvPr/>
        </p:nvGrpSpPr>
        <p:grpSpPr>
          <a:xfrm>
            <a:off x="4572000" y="1741320"/>
            <a:ext cx="3456000" cy="914040"/>
            <a:chOff x="4572000" y="1741320"/>
            <a:chExt cx="3456000" cy="914040"/>
          </a:xfrm>
        </p:grpSpPr>
        <p:sp>
          <p:nvSpPr>
            <p:cNvPr id="552" name="TextBox 116"/>
            <p:cNvSpPr/>
            <p:nvPr/>
          </p:nvSpPr>
          <p:spPr>
            <a:xfrm>
              <a:off x="5580000" y="234828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17"/>
            <p:cNvSpPr/>
            <p:nvPr/>
          </p:nvSpPr>
          <p:spPr>
            <a:xfrm>
              <a:off x="6732000" y="234828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组合 125"/>
            <p:cNvGrpSpPr/>
            <p:nvPr/>
          </p:nvGrpSpPr>
          <p:grpSpPr>
            <a:xfrm>
              <a:off x="4572000" y="1741320"/>
              <a:ext cx="3456000" cy="698760"/>
              <a:chOff x="4572000" y="1741320"/>
              <a:chExt cx="3456000" cy="698760"/>
            </a:xfrm>
          </p:grpSpPr>
          <p:sp>
            <p:nvSpPr>
              <p:cNvPr id="555" name="矩形 90"/>
              <p:cNvSpPr/>
              <p:nvPr/>
            </p:nvSpPr>
            <p:spPr>
              <a:xfrm>
                <a:off x="521964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矩形 91"/>
              <p:cNvSpPr/>
              <p:nvPr/>
            </p:nvSpPr>
            <p:spPr>
              <a:xfrm>
                <a:off x="629928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矩形 92"/>
              <p:cNvSpPr/>
              <p:nvPr/>
            </p:nvSpPr>
            <p:spPr>
              <a:xfrm>
                <a:off x="745200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22"/>
              <p:cNvSpPr/>
              <p:nvPr/>
            </p:nvSpPr>
            <p:spPr>
              <a:xfrm rot="16200000">
                <a:off x="6408360" y="1107720"/>
                <a:ext cx="142920" cy="2232000"/>
              </a:xfrm>
              <a:prstGeom prst="can">
                <a:avLst>
                  <a:gd name="adj" fmla="val 260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直接连接符 94"/>
              <p:cNvSpPr/>
              <p:nvPr/>
            </p:nvSpPr>
            <p:spPr>
              <a:xfrm flipH="1">
                <a:off x="4932000" y="222408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直接连接符 95"/>
              <p:cNvSpPr/>
              <p:nvPr/>
            </p:nvSpPr>
            <p:spPr>
              <a:xfrm flipH="1">
                <a:off x="7596000" y="222408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直接连接符 96"/>
              <p:cNvSpPr/>
              <p:nvPr/>
            </p:nvSpPr>
            <p:spPr>
              <a:xfrm flipH="1">
                <a:off x="5364000" y="2224080"/>
                <a:ext cx="22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23"/>
              <p:cNvSpPr/>
              <p:nvPr/>
            </p:nvSpPr>
            <p:spPr>
              <a:xfrm rot="16200000">
                <a:off x="6875280" y="1792080"/>
                <a:ext cx="289080" cy="863640"/>
              </a:xfrm>
              <a:prstGeom prst="can">
                <a:avLst>
                  <a:gd name="adj" fmla="val 9370"/>
                </a:avLst>
              </a:prstGeom>
              <a:solidFill>
                <a:srgbClr val="00b05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23"/>
              <p:cNvSpPr/>
              <p:nvPr/>
            </p:nvSpPr>
            <p:spPr>
              <a:xfrm rot="16200000">
                <a:off x="5796000" y="1792080"/>
                <a:ext cx="289080" cy="863640"/>
              </a:xfrm>
              <a:prstGeom prst="can">
                <a:avLst>
                  <a:gd name="adj" fmla="val 9370"/>
                </a:avLst>
              </a:prstGeom>
              <a:solidFill>
                <a:srgbClr val="00b05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Box 115"/>
              <p:cNvSpPr/>
              <p:nvPr/>
            </p:nvSpPr>
            <p:spPr>
              <a:xfrm>
                <a:off x="4572000" y="1988280"/>
                <a:ext cx="86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DU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Box 118"/>
              <p:cNvSpPr/>
              <p:nvPr/>
            </p:nvSpPr>
            <p:spPr>
              <a:xfrm>
                <a:off x="6300000" y="1741320"/>
                <a:ext cx="86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DU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组合 132"/>
          <p:cNvGrpSpPr/>
          <p:nvPr/>
        </p:nvGrpSpPr>
        <p:grpSpPr>
          <a:xfrm>
            <a:off x="5364000" y="3500280"/>
            <a:ext cx="2232360" cy="720720"/>
            <a:chOff x="5364000" y="3500280"/>
            <a:chExt cx="2232360" cy="720720"/>
          </a:xfrm>
        </p:grpSpPr>
        <p:sp>
          <p:nvSpPr>
            <p:cNvPr id="567" name="矩形 108"/>
            <p:cNvSpPr/>
            <p:nvPr/>
          </p:nvSpPr>
          <p:spPr>
            <a:xfrm>
              <a:off x="5651280" y="3789000"/>
              <a:ext cx="288720" cy="43200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09"/>
            <p:cNvSpPr/>
            <p:nvPr/>
          </p:nvSpPr>
          <p:spPr>
            <a:xfrm>
              <a:off x="7020000" y="3789000"/>
              <a:ext cx="288720" cy="43200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22"/>
            <p:cNvSpPr/>
            <p:nvPr/>
          </p:nvSpPr>
          <p:spPr>
            <a:xfrm rot="16200000">
              <a:off x="6407640" y="3319560"/>
              <a:ext cx="144360" cy="1368720"/>
            </a:xfrm>
            <a:prstGeom prst="can">
              <a:avLst>
                <a:gd name="adj" fmla="val 428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3"/>
            <p:cNvSpPr/>
            <p:nvPr/>
          </p:nvSpPr>
          <p:spPr>
            <a:xfrm rot="16200000">
              <a:off x="6350760" y="3449880"/>
              <a:ext cx="288720" cy="1109880"/>
            </a:xfrm>
            <a:prstGeom prst="can">
              <a:avLst>
                <a:gd name="adj" fmla="val 7282"/>
              </a:avLst>
            </a:prstGeom>
            <a:solidFill>
              <a:srgbClr val="00b05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112"/>
            <p:cNvSpPr/>
            <p:nvPr/>
          </p:nvSpPr>
          <p:spPr>
            <a:xfrm flipH="1">
              <a:off x="5364000" y="400500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113"/>
            <p:cNvSpPr/>
            <p:nvPr/>
          </p:nvSpPr>
          <p:spPr>
            <a:xfrm flipH="1">
              <a:off x="7164360" y="400500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114"/>
            <p:cNvSpPr/>
            <p:nvPr/>
          </p:nvSpPr>
          <p:spPr>
            <a:xfrm flipH="1">
              <a:off x="5795640" y="4005000"/>
              <a:ext cx="1368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131"/>
            <p:cNvSpPr/>
            <p:nvPr/>
          </p:nvSpPr>
          <p:spPr>
            <a:xfrm>
              <a:off x="5364000" y="350028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U0-&gt;ODU2-&gt;OD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矩形 139"/>
          <p:cNvSpPr/>
          <p:nvPr/>
        </p:nvSpPr>
        <p:spPr>
          <a:xfrm>
            <a:off x="618840" y="189000"/>
            <a:ext cx="138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43"/>
          <p:cNvSpPr/>
          <p:nvPr/>
        </p:nvSpPr>
        <p:spPr>
          <a:xfrm>
            <a:off x="543564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44"/>
          <p:cNvSpPr/>
          <p:nvPr/>
        </p:nvSpPr>
        <p:spPr>
          <a:xfrm>
            <a:off x="759636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46"/>
          <p:cNvSpPr/>
          <p:nvPr/>
        </p:nvSpPr>
        <p:spPr>
          <a:xfrm>
            <a:off x="543564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47"/>
          <p:cNvSpPr/>
          <p:nvPr/>
        </p:nvSpPr>
        <p:spPr>
          <a:xfrm>
            <a:off x="694836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eft Brace 52"/>
          <p:cNvSpPr/>
          <p:nvPr/>
        </p:nvSpPr>
        <p:spPr>
          <a:xfrm>
            <a:off x="468360" y="1916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81080"/>
              <a:gd name="textAreaBottom" fmla="*/ 10774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eft Brace 53"/>
          <p:cNvSpPr/>
          <p:nvPr/>
        </p:nvSpPr>
        <p:spPr>
          <a:xfrm>
            <a:off x="468360" y="3716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81080"/>
              <a:gd name="textAreaBottom" fmla="*/ 10774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圆角矩形 54"/>
          <p:cNvSpPr/>
          <p:nvPr/>
        </p:nvSpPr>
        <p:spPr>
          <a:xfrm>
            <a:off x="324000" y="5084640"/>
            <a:ext cx="849600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stag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直接连接符 3"/>
          <p:cNvSpPr/>
          <p:nvPr/>
        </p:nvSpPr>
        <p:spPr>
          <a:xfrm>
            <a:off x="108000" y="3789360"/>
            <a:ext cx="853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4464000" y="1773360"/>
            <a:ext cx="237636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sta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3276720" y="2349360"/>
            <a:ext cx="1836720" cy="432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ho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-stage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"/>
          <p:cNvSpPr/>
          <p:nvPr/>
        </p:nvSpPr>
        <p:spPr>
          <a:xfrm>
            <a:off x="6156360" y="2349360"/>
            <a:ext cx="1765440" cy="432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One-ho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-stage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肘形连接符 7"/>
          <p:cNvCxnSpPr>
            <a:stCxn id="585" idx="2"/>
            <a:endCxn id="586" idx="0"/>
          </p:cNvCxnSpPr>
          <p:nvPr/>
        </p:nvCxnSpPr>
        <p:spPr>
          <a:xfrm rot="5400000">
            <a:off x="4815000" y="1511640"/>
            <a:ext cx="216360" cy="1459800"/>
          </a:xfrm>
          <a:prstGeom prst="bentConnector3">
            <a:avLst>
              <a:gd name="adj1" fmla="val 50000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589" name="肘形连接符 8"/>
          <p:cNvCxnSpPr>
            <a:stCxn id="585" idx="2"/>
            <a:endCxn id="587" idx="0"/>
          </p:cNvCxnSpPr>
          <p:nvPr/>
        </p:nvCxnSpPr>
        <p:spPr>
          <a:xfrm flipH="1" rot="16200000">
            <a:off x="6238080" y="1548000"/>
            <a:ext cx="216360" cy="1386720"/>
          </a:xfrm>
          <a:prstGeom prst="bentConnector3">
            <a:avLst>
              <a:gd name="adj1" fmla="val 50000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590" name="下箭头 9"/>
          <p:cNvSpPr/>
          <p:nvPr/>
        </p:nvSpPr>
        <p:spPr>
          <a:xfrm>
            <a:off x="3240000" y="3645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0"/>
          <p:cNvSpPr/>
          <p:nvPr/>
        </p:nvSpPr>
        <p:spPr>
          <a:xfrm>
            <a:off x="3024360" y="4005360"/>
            <a:ext cx="86328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1"/>
          <p:cNvSpPr/>
          <p:nvPr/>
        </p:nvSpPr>
        <p:spPr>
          <a:xfrm>
            <a:off x="3240000" y="1197000"/>
            <a:ext cx="194472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DU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2"/>
          <p:cNvSpPr/>
          <p:nvPr/>
        </p:nvSpPr>
        <p:spPr>
          <a:xfrm>
            <a:off x="792000" y="1773360"/>
            <a:ext cx="216072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One-sta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肘形连接符 13"/>
          <p:cNvCxnSpPr>
            <a:stCxn id="592" idx="2"/>
            <a:endCxn id="593" idx="0"/>
          </p:cNvCxnSpPr>
          <p:nvPr/>
        </p:nvCxnSpPr>
        <p:spPr>
          <a:xfrm rot="5400000">
            <a:off x="2933640" y="494640"/>
            <a:ext cx="216720" cy="2342160"/>
          </a:xfrm>
          <a:prstGeom prst="bentConnector3">
            <a:avLst>
              <a:gd name="adj1" fmla="val 49916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595" name="肘形连接符 14"/>
          <p:cNvCxnSpPr>
            <a:stCxn id="592" idx="2"/>
            <a:endCxn id="585" idx="0"/>
          </p:cNvCxnSpPr>
          <p:nvPr/>
        </p:nvCxnSpPr>
        <p:spPr>
          <a:xfrm flipH="1" rot="16200000">
            <a:off x="4825080" y="945360"/>
            <a:ext cx="216720" cy="1440360"/>
          </a:xfrm>
          <a:prstGeom prst="bentConnector3">
            <a:avLst>
              <a:gd name="adj1" fmla="val 49916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596" name="下箭头 15"/>
          <p:cNvSpPr/>
          <p:nvPr/>
        </p:nvSpPr>
        <p:spPr>
          <a:xfrm>
            <a:off x="1728720" y="2133720"/>
            <a:ext cx="432000" cy="19429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6"/>
          <p:cNvSpPr/>
          <p:nvPr/>
        </p:nvSpPr>
        <p:spPr>
          <a:xfrm>
            <a:off x="1224000" y="4076640"/>
            <a:ext cx="1584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multi-stage mux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n't need H-LSP or multi-stag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7"/>
          <p:cNvSpPr/>
          <p:nvPr/>
        </p:nvSpPr>
        <p:spPr>
          <a:xfrm>
            <a:off x="2736720" y="3068640"/>
            <a:ext cx="129564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8"/>
          <p:cNvSpPr/>
          <p:nvPr/>
        </p:nvSpPr>
        <p:spPr>
          <a:xfrm>
            <a:off x="417672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>
            <a:off x="576108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Pre-provisioned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0"/>
          <p:cNvSpPr/>
          <p:nvPr/>
        </p:nvSpPr>
        <p:spPr>
          <a:xfrm>
            <a:off x="720108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肘形连接符 21"/>
          <p:cNvCxnSpPr>
            <a:stCxn id="586" idx="2"/>
            <a:endCxn id="598" idx="0"/>
          </p:cNvCxnSpPr>
          <p:nvPr/>
        </p:nvCxnSpPr>
        <p:spPr>
          <a:xfrm rot="5400000">
            <a:off x="3645000" y="2520360"/>
            <a:ext cx="288000" cy="81000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3" name="肘形连接符 22"/>
          <p:cNvCxnSpPr>
            <a:stCxn id="586" idx="2"/>
            <a:endCxn id="599" idx="0"/>
          </p:cNvCxnSpPr>
          <p:nvPr/>
        </p:nvCxnSpPr>
        <p:spPr>
          <a:xfrm flipH="1" rot="16200000">
            <a:off x="4364640" y="2609640"/>
            <a:ext cx="288000" cy="63108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4" name="形状 52"/>
          <p:cNvCxnSpPr>
            <a:stCxn id="587" idx="2"/>
            <a:endCxn id="600" idx="0"/>
          </p:cNvCxnSpPr>
          <p:nvPr/>
        </p:nvCxnSpPr>
        <p:spPr>
          <a:xfrm rot="5400000">
            <a:off x="6579360" y="2609640"/>
            <a:ext cx="288000" cy="63108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5" name="肘形连接符 24"/>
          <p:cNvCxnSpPr>
            <a:stCxn id="587" idx="2"/>
            <a:endCxn id="601" idx="0"/>
          </p:cNvCxnSpPr>
          <p:nvPr/>
        </p:nvCxnSpPr>
        <p:spPr>
          <a:xfrm flipH="1" rot="16200000">
            <a:off x="7299360" y="2520000"/>
            <a:ext cx="288000" cy="81036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606" name="矩形 25"/>
          <p:cNvSpPr/>
          <p:nvPr/>
        </p:nvSpPr>
        <p:spPr>
          <a:xfrm>
            <a:off x="4392720" y="4005360"/>
            <a:ext cx="86364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6"/>
          <p:cNvSpPr/>
          <p:nvPr/>
        </p:nvSpPr>
        <p:spPr>
          <a:xfrm>
            <a:off x="5832360" y="4005360"/>
            <a:ext cx="86364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下箭头 27"/>
          <p:cNvSpPr/>
          <p:nvPr/>
        </p:nvSpPr>
        <p:spPr>
          <a:xfrm rot="1767000">
            <a:off x="7540560" y="3615840"/>
            <a:ext cx="289080" cy="432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下箭头 28"/>
          <p:cNvSpPr/>
          <p:nvPr/>
        </p:nvSpPr>
        <p:spPr>
          <a:xfrm flipH="1" rot="19833000">
            <a:off x="7900200" y="3615840"/>
            <a:ext cx="287280" cy="43200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9"/>
          <p:cNvSpPr/>
          <p:nvPr/>
        </p:nvSpPr>
        <p:spPr>
          <a:xfrm>
            <a:off x="7921800" y="4005360"/>
            <a:ext cx="718920" cy="792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stage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0"/>
          <p:cNvSpPr/>
          <p:nvPr/>
        </p:nvSpPr>
        <p:spPr>
          <a:xfrm>
            <a:off x="7129440" y="4005360"/>
            <a:ext cx="71928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下箭头 31"/>
          <p:cNvSpPr/>
          <p:nvPr/>
        </p:nvSpPr>
        <p:spPr>
          <a:xfrm>
            <a:off x="4608360" y="3645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下箭头 32"/>
          <p:cNvSpPr/>
          <p:nvPr/>
        </p:nvSpPr>
        <p:spPr>
          <a:xfrm>
            <a:off x="6048360" y="3645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33"/>
          <p:cNvSpPr/>
          <p:nvPr/>
        </p:nvSpPr>
        <p:spPr>
          <a:xfrm>
            <a:off x="0" y="270828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DU multiplexing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4"/>
          <p:cNvSpPr/>
          <p:nvPr/>
        </p:nvSpPr>
        <p:spPr>
          <a:xfrm>
            <a:off x="0" y="39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tenti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7"/>
          <p:cNvSpPr/>
          <p:nvPr/>
        </p:nvSpPr>
        <p:spPr>
          <a:xfrm>
            <a:off x="3203640" y="4365720"/>
            <a:ext cx="4105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need "service ODUj -&gt; intermediate ODUk "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lti-stage label is not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56"/>
          <p:cNvCxnSpPr/>
          <p:nvPr/>
        </p:nvCxnSpPr>
        <p:spPr>
          <a:xfrm>
            <a:off x="6659640" y="36450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TextBox 43"/>
          <p:cNvSpPr/>
          <p:nvPr/>
        </p:nvSpPr>
        <p:spPr>
          <a:xfrm>
            <a:off x="2268360" y="5899320"/>
            <a:ext cx="3598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lized Label = all stage mu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5"/>
          <p:cNvSpPr/>
          <p:nvPr/>
        </p:nvSpPr>
        <p:spPr>
          <a:xfrm>
            <a:off x="2268360" y="5529240"/>
            <a:ext cx="35989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abel format (Section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箭头连接符 51"/>
          <p:cNvCxnSpPr>
            <a:stCxn id="610" idx="2"/>
            <a:endCxn id="619" idx="0"/>
          </p:cNvCxnSpPr>
          <p:nvPr/>
        </p:nvCxnSpPr>
        <p:spPr>
          <a:xfrm flipH="1">
            <a:off x="4066920" y="4797000"/>
            <a:ext cx="4215600" cy="73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矩形 56"/>
          <p:cNvSpPr/>
          <p:nvPr/>
        </p:nvSpPr>
        <p:spPr>
          <a:xfrm>
            <a:off x="46836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ction 5.1 &amp;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6"/>
          <p:cNvSpPr/>
          <p:nvPr/>
        </p:nvSpPr>
        <p:spPr>
          <a:xfrm>
            <a:off x="584280" y="1241280"/>
            <a:ext cx="7916760" cy="4067280"/>
          </a:xfrm>
          <a:custGeom>
            <a:avLst/>
            <a:gdLst/>
            <a:ahLst/>
            <a:rect l="l" t="t" r="r" b="b"/>
            <a:pathLst>
              <a:path w="7915701" h="4067033">
                <a:moveTo>
                  <a:pt x="1009934" y="0"/>
                </a:moveTo>
                <a:lnTo>
                  <a:pt x="627797" y="40944"/>
                </a:lnTo>
                <a:lnTo>
                  <a:pt x="300250" y="109182"/>
                </a:lnTo>
                <a:lnTo>
                  <a:pt x="13647" y="464024"/>
                </a:lnTo>
                <a:lnTo>
                  <a:pt x="0" y="914400"/>
                </a:lnTo>
                <a:lnTo>
                  <a:pt x="736979" y="1269242"/>
                </a:lnTo>
                <a:lnTo>
                  <a:pt x="1009934" y="1364776"/>
                </a:lnTo>
                <a:lnTo>
                  <a:pt x="1037229" y="2047164"/>
                </a:lnTo>
                <a:lnTo>
                  <a:pt x="1091821" y="2647666"/>
                </a:lnTo>
                <a:lnTo>
                  <a:pt x="777922" y="2674961"/>
                </a:lnTo>
                <a:lnTo>
                  <a:pt x="518615" y="2961564"/>
                </a:lnTo>
                <a:lnTo>
                  <a:pt x="545910" y="3439236"/>
                </a:lnTo>
                <a:lnTo>
                  <a:pt x="545910" y="3739487"/>
                </a:lnTo>
                <a:lnTo>
                  <a:pt x="805218" y="3944203"/>
                </a:lnTo>
                <a:lnTo>
                  <a:pt x="1201003" y="3944203"/>
                </a:lnTo>
                <a:lnTo>
                  <a:pt x="1856095" y="3889612"/>
                </a:lnTo>
                <a:lnTo>
                  <a:pt x="2347415" y="3835021"/>
                </a:lnTo>
                <a:lnTo>
                  <a:pt x="2661313" y="3794078"/>
                </a:lnTo>
                <a:lnTo>
                  <a:pt x="2961564" y="3916908"/>
                </a:lnTo>
                <a:lnTo>
                  <a:pt x="3370997" y="3971499"/>
                </a:lnTo>
                <a:lnTo>
                  <a:pt x="3875964" y="4067033"/>
                </a:lnTo>
                <a:lnTo>
                  <a:pt x="4817659" y="4053385"/>
                </a:lnTo>
                <a:lnTo>
                  <a:pt x="5404513" y="3998794"/>
                </a:lnTo>
                <a:lnTo>
                  <a:pt x="5991367" y="4039738"/>
                </a:lnTo>
                <a:lnTo>
                  <a:pt x="6605516" y="4053385"/>
                </a:lnTo>
                <a:lnTo>
                  <a:pt x="7014949" y="4067033"/>
                </a:lnTo>
                <a:lnTo>
                  <a:pt x="7383438" y="4067033"/>
                </a:lnTo>
                <a:lnTo>
                  <a:pt x="7492621" y="3835021"/>
                </a:lnTo>
                <a:lnTo>
                  <a:pt x="7410734" y="3370997"/>
                </a:lnTo>
                <a:lnTo>
                  <a:pt x="7342495" y="3234520"/>
                </a:lnTo>
                <a:lnTo>
                  <a:pt x="7328847" y="3002508"/>
                </a:lnTo>
                <a:lnTo>
                  <a:pt x="7246961" y="2634018"/>
                </a:lnTo>
                <a:lnTo>
                  <a:pt x="7342495" y="2361063"/>
                </a:lnTo>
                <a:lnTo>
                  <a:pt x="7533564" y="2047164"/>
                </a:lnTo>
                <a:lnTo>
                  <a:pt x="7915701" y="1692323"/>
                </a:lnTo>
                <a:lnTo>
                  <a:pt x="7915701" y="1460311"/>
                </a:lnTo>
                <a:lnTo>
                  <a:pt x="7847462" y="1173708"/>
                </a:lnTo>
                <a:lnTo>
                  <a:pt x="7683689" y="928048"/>
                </a:lnTo>
                <a:lnTo>
                  <a:pt x="7055892" y="477672"/>
                </a:lnTo>
                <a:lnTo>
                  <a:pt x="6209731" y="245660"/>
                </a:lnTo>
                <a:lnTo>
                  <a:pt x="5759355" y="163773"/>
                </a:lnTo>
                <a:lnTo>
                  <a:pt x="5022376" y="232012"/>
                </a:lnTo>
                <a:lnTo>
                  <a:pt x="4640238" y="259308"/>
                </a:lnTo>
                <a:lnTo>
                  <a:pt x="4312692" y="259308"/>
                </a:lnTo>
                <a:lnTo>
                  <a:pt x="3944203" y="327547"/>
                </a:lnTo>
                <a:lnTo>
                  <a:pt x="3548418" y="382138"/>
                </a:lnTo>
                <a:lnTo>
                  <a:pt x="2934268" y="313899"/>
                </a:lnTo>
                <a:lnTo>
                  <a:pt x="2456597" y="245660"/>
                </a:lnTo>
                <a:lnTo>
                  <a:pt x="1897038" y="109182"/>
                </a:lnTo>
                <a:lnTo>
                  <a:pt x="1460310" y="40944"/>
                </a:lnTo>
                <a:lnTo>
                  <a:pt x="1009934" y="0"/>
                </a:lnTo>
                <a:close/>
              </a:path>
            </a:pathLst>
          </a:custGeom>
          <a:noFill/>
          <a:ln w="25560">
            <a:solidFill>
              <a:srgbClr val="e46c0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Clarification w.r.t. RFC3471/3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ff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RFC 3471/3945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Generalized Label only carries a single level of label, i.e., it is non-hierarchical. When multiple levels of label (LSPs within LSPs) are required, each LSP must be established separately, see [MPLS- HIERARCHY]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N Label can essentially contain multiple stages, as described in section 5.2.  Should we call it hierarchical Label or something different (OTN Composite Label?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is hierarchical Label, then we might need a new draft to get this clarified w.r.t. RFC3471/39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7715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G document ado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7200" y="2464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up slides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1 : Applicability of Multi-stage 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125360"/>
            <a:ext cx="2592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-stage label replaces single hop H-LSP(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xing hierarchy needs to be same on the both ends of the link for multi-stage label to work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Multiplexing hierarchy on the 2 ends of the link is not same, then it calls for multi-hop H-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-stage label is not meant to replace multi-hop H-LS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3564000" y="965160"/>
            <a:ext cx="5046480" cy="2801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348000" y="3962520"/>
            <a:ext cx="5643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02:47Z</dcterms:created>
  <dc:creator>Khuzema Pithewan</dc:creator>
  <dc:description/>
  <dc:language>en-US</dc:language>
  <cp:lastModifiedBy>Fatai</cp:lastModifiedBy>
  <dcterms:modified xsi:type="dcterms:W3CDTF">2011-07-25T22:19:55Z</dcterms:modified>
  <cp:revision>4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98289</vt:lpwstr>
  </property>
</Properties>
</file>