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8752-A51C-41C4-8840-147E0DE667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.xihua@zte.com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g.qilei@zte.com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o.yuanlin@zte.com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4EED-B968-4134-9B5C-C0AEBED754F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5471-D394-4796-B838-5F0D1139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1F1-4237-429C-B652-D1A7893B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7EC-8B10-44AF-9D33-00DA7302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5FC4-FDB9-41B4-BB3C-F45CBC23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F7F6-6ABA-4DB6-ACC7-4100254B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2CA7-86B0-4591-A122-0316047E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BAB-4D6D-4FAB-8264-D41318EA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A6F-EB29-44A2-A099-95DE56B3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6074-809F-4A22-B623-4A364A20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853-3D9F-4465-A185-A9F6FFA1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DBC0-5827-4962-B132-59FC923A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324-9665-4BF0-9706-B5F92E51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29E0-604F-4120-88DD-D3EBCD27BE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atatracker.ietf.org/doc/draft-fuxh-ccamp-boundary-explicit-control-ext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SVP-TE Signaling Extension for Explicit Control of LSP Boundary in MRN/MLN </a:t>
            </a:r>
            <a:br>
              <a:rPr sz="3200"/>
            </a:br>
            <a:br>
              <a:rPr sz="3200"/>
            </a:br>
            <a:r>
              <a:rPr b="1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aft-fuxh-ccamp-boundary-explicit-control-ext-03.tx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3714840"/>
            <a:ext cx="6986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Xihua F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Qilei Wa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Yuanlin Ba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ZTE Corpo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Ruiquan J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Xiaoli Hu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China Teleco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since last ve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120" y="1285920"/>
            <a:ext cx="8501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ng a boundaries determination mech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ining requi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itorial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Boundaries Determination Mechanism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12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boundary determination mechanism in [RFC4206] depends on the comparing of interface switching capabiliti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TDM switching capability, the comparing of interface switching capabilities relies on the max LSP bandwidth of interfa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"/>
          <p:cNvGraphicFramePr/>
          <p:nvPr/>
        </p:nvGraphicFramePr>
        <p:xfrm>
          <a:off x="704880" y="3214800"/>
          <a:ext cx="7653240" cy="34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3214800"/>
                    <a:ext cx="765324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Boundaries Determination Mechanism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12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e interface in OTN network could support several ODUk signal types. The max LSP bandwidth makes no any sense to path computation entity.  So the mechanism in [RFC4206] isn't applied to OTN multi-layer net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, PCE don’t know which are the boundary nodes of FA-LSP (e.g., ODU1 or ODU2) for e2e ODU0 LSP based on [RFC4206]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document introduces a generic mechanism for MRN/MLN to determine the boundaries of FA-LSPs by using termination and switching capability from IGP databas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图片 3" descr="未命名.bmp"/>
          <p:cNvPicPr/>
          <p:nvPr/>
        </p:nvPicPr>
        <p:blipFill>
          <a:blip r:embed="rId1"/>
          <a:stretch/>
        </p:blipFill>
        <p:spPr>
          <a:xfrm>
            <a:off x="728640" y="4214880"/>
            <a:ext cx="7915320" cy="2305080"/>
          </a:xfrm>
          <a:prstGeom prst="rect">
            <a:avLst/>
          </a:prstGeom>
          <a:ln w="0">
            <a:noFill/>
          </a:ln>
        </p:spPr>
      </p:pic>
      <p:sp>
        <p:nvSpPr>
          <p:cNvPr id="60" name="椭圆 4"/>
          <p:cNvSpPr/>
          <p:nvPr/>
        </p:nvSpPr>
        <p:spPr>
          <a:xfrm>
            <a:off x="2928960" y="4714920"/>
            <a:ext cx="3714840" cy="1285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Boundaries Determination Mechanism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12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ample: Node B and D support ODUj being mapped into ODUk (k&gt;j).  Interface IF-B and IF-D support ODUj switching capability (ODUj(S)) and ODUk termination capability  (ODUk(T)).  Interface within node C only supports ODUk  switching capability.  So Node B and D could be boundaries of ODUk FA-LSP for ODUj LSP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图片 3" descr="未命名.bmp"/>
          <p:cNvPicPr/>
          <p:nvPr/>
        </p:nvPicPr>
        <p:blipFill>
          <a:blip r:embed="rId1"/>
          <a:stretch/>
        </p:blipFill>
        <p:spPr>
          <a:xfrm>
            <a:off x="476280" y="3286080"/>
            <a:ext cx="80247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Boundaries Determination Mechanism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712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xample: Hybrid node B and D support PSC being mapping into ODUk (e.g., by GFP-F).  Interface IF-B and IF-D support PSC switching capability (PSC(S)) and ODUk termination capability (ODUk(T)). Interface within node C only supports ODUk switching capability.  So Node B and D could be boundaries of ODUk FA-LSP for PSC LSP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片 4" descr="未命名.bmp"/>
          <p:cNvPicPr/>
          <p:nvPr/>
        </p:nvPicPr>
        <p:blipFill>
          <a:blip r:embed="rId1"/>
          <a:stretch/>
        </p:blipFill>
        <p:spPr>
          <a:xfrm>
            <a:off x="442800" y="3500280"/>
            <a:ext cx="82504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356840"/>
            <a:ext cx="84358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ine the document according to the feedback of meeting and mailing l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7:39:15Z</dcterms:created>
  <dc:creator>王其磊</dc:creator>
  <dc:description/>
  <dc:language>en-US</dc:language>
  <cp:lastModifiedBy>Xihua Fu</cp:lastModifiedBy>
  <dcterms:modified xsi:type="dcterms:W3CDTF">2011-07-24T16:17:04Z</dcterms:modified>
  <cp:revision>427</cp:revision>
  <dc:subject/>
  <dc:title>幻灯片 1</dc:title>
</cp:coreProperties>
</file>