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FD89-3A52-4057-A0FE-FEEE0A6710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.xihua@zte.com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g.qilei@zte.com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o.yuanlin@zte.com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5B78-35E5-48F3-8839-07E88B1965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255-2277-4F69-8A6A-73567BF2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2BD-3635-4B44-99E2-E15B3410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C13-0915-4E12-ACE1-E29D6666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2C93-EBBA-43E9-A0CD-C0E491E4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DF7-E564-4F88-B5D9-98074E16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374-8A18-4DC4-8222-C4D5468B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6F4-AD6D-4EA8-8BA9-1DCBAC00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165-CD3B-4195-976A-B669BA0A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000-682D-4451-84C8-523161D8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FE3-1079-4455-A707-5A54A77D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7B5-73AE-44A2-8FFF-97C8C6A3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E73-E463-4D80-84EC-7A931D2F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D1F3-9A01-4CF2-AAAE-8E2FAFCFE1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tatracker.ietf.org/doc/draft-fuxh-ccamp-boundary-explicit-control-ex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SVP-TE Signaling Extension for Explicit Control of LSP Boundary in MRN/MLN </a:t>
            </a:r>
            <a:br>
              <a:rPr sz="3200"/>
            </a:br>
            <a:br>
              <a:rPr sz="3200"/>
            </a:br>
            <a:r>
              <a:rPr b="1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fuxh-ccamp-boundary-explicit-control-ext-03.tx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3714840"/>
            <a:ext cx="69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Xihua F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Qilei Wa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Yuanlin Ba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ZTE Corpo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uiquan J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Xiaoli Hu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China Teleco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since last 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285920"/>
            <a:ext cx="8501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a boundaries determination mech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ining requ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itori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Boundaries Determination Mechanism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boundary determination mechanism in [RFC4206] depends on the comparing of interface switching capabiliti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TDM switching capability, the comparing of interface switching capabilities relies on the max LSP bandwidth of interfa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"/>
          <p:cNvGraphicFramePr/>
          <p:nvPr/>
        </p:nvGraphicFramePr>
        <p:xfrm>
          <a:off x="704880" y="3214800"/>
          <a:ext cx="7653240" cy="34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3214800"/>
                    <a:ext cx="765324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Boundaries Determination Mechanism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interface in OTN network could support several ODUk signal types. The max LSP bandwidth makes no any sense to path computation entity.  So the mechanism in [RFC4206] isn't applied to OTN multi-layer net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PCE don’t know which are the boundary nodes of FA-LSP (e.g., ODU1 or ODU2) for e2e ODU0 LSP based on [RFC4206]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document introduces a generic mechanism for MRN/MLN to determine the boundaries of FA-LSPs by using termination and switching capability from IGP databas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3" descr="未命名.bmp"/>
          <p:cNvPicPr/>
          <p:nvPr/>
        </p:nvPicPr>
        <p:blipFill>
          <a:blip r:embed="rId1"/>
          <a:stretch/>
        </p:blipFill>
        <p:spPr>
          <a:xfrm>
            <a:off x="728640" y="4214880"/>
            <a:ext cx="7915320" cy="2305080"/>
          </a:xfrm>
          <a:prstGeom prst="rect">
            <a:avLst/>
          </a:prstGeom>
          <a:ln w="0">
            <a:noFill/>
          </a:ln>
        </p:spPr>
      </p:pic>
      <p:sp>
        <p:nvSpPr>
          <p:cNvPr id="60" name="椭圆 4"/>
          <p:cNvSpPr/>
          <p:nvPr/>
        </p:nvSpPr>
        <p:spPr>
          <a:xfrm>
            <a:off x="2928960" y="4714920"/>
            <a:ext cx="3714840" cy="1285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Boundaries Determination Mechanism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ample: Node B and D support ODUj being mapped into ODUk (k&gt;j).  Interface IF-B and IF-D support ODUj switching capability (ODUj(S)) and ODUk termination capability  (ODUk(T)).  Interface within node C only supports ODUk  switching capability.  So Node B and D could be boundaries of ODUk FA-LSP for ODUj LS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3" descr="未命名.bmp"/>
          <p:cNvPicPr/>
          <p:nvPr/>
        </p:nvPicPr>
        <p:blipFill>
          <a:blip r:embed="rId1"/>
          <a:stretch/>
        </p:blipFill>
        <p:spPr>
          <a:xfrm>
            <a:off x="476280" y="3286080"/>
            <a:ext cx="8024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Boundaries Determination Mechanism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ample: Hybrid node B and D support PSC being mapping into ODUk (e.g., by GFP-F).  Interface IF-B and IF-D support PSC switching capability (PSC(S)) and ODUk termination capability (ODUk(T)). Interface within node C only supports ODUk switching capability.  So Node B and D could be boundaries of ODUk FA-LSP for PSC LSP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4" descr="未命名.bmp"/>
          <p:cNvPicPr/>
          <p:nvPr/>
        </p:nvPicPr>
        <p:blipFill>
          <a:blip r:embed="rId1"/>
          <a:stretch/>
        </p:blipFill>
        <p:spPr>
          <a:xfrm>
            <a:off x="442800" y="3500280"/>
            <a:ext cx="82504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356840"/>
            <a:ext cx="8435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ine the document according to the feedback of meeting and mailing l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39:15Z</dcterms:created>
  <dc:creator>王其磊</dc:creator>
  <dc:description/>
  <dc:language>en-US</dc:language>
  <cp:lastModifiedBy>Xihua Fu</cp:lastModifiedBy>
  <dcterms:modified xsi:type="dcterms:W3CDTF">2011-07-24T16:17:04Z</dcterms:modified>
  <cp:revision>427</cp:revision>
  <dc:subject/>
  <dc:title>幻灯片 1</dc:title>
</cp:coreProperties>
</file>