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move the slid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DDF17-461A-4F90-8CE9-82D40C4382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E1676-46FF-453F-B6ED-14AE55F2F2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09248-E1AC-450B-9F46-05475A7343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91BEA-DB8F-4045-A2C6-9D896CFD9E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D6975-F90A-4A3F-9B77-ED3BD516AC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5E666-7301-4E60-A81F-35F25D6EBC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AC9F6-F975-49CD-8F6B-29D521264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734EF-8249-460E-AC02-94C6B419A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AA7A7-9E5C-4E66-BB6D-0AC6C48DA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F6CD0-E583-4193-865E-14BEE36BB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22612-B0AE-4E0E-956B-0D1C61A99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0375C-BF34-49E6-AD7B-B579417B0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A44C4-857B-4BB2-AB00-9EAE7AEA1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7BB8D-D92B-4DB4-94EB-E2631DCD5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DC17B-C2B9-47C1-8835-8F9EF2459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122400"/>
            <a:ext cx="68580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4185C-2313-4C80-8DEF-2860A4BE2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E924F-C660-4956-B5AD-01DA57C63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3066E-DD2A-479C-BCAB-877107EC7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7B216-1D98-4CE4-B0DF-D42B9AADB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38C02-E4BD-413E-8736-53E76690F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3629A-C2E8-489D-9E6A-D20E6CFEB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B37C7-D7E0-4C2E-8AC8-CEB930294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1DF94-602E-4CF2-B84A-7D00DCEEF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2BF02-1E9A-4C17-8ED1-10BBAE859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F85E6-FDE2-4286-80AC-402B1CBD1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11D29-9434-46A6-9FC0-C2AB23CBD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22400"/>
            <a:ext cx="68580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2AFFE-2476-4795-8063-3BFB81F9F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679D7-6C3F-4179-8607-8AE551BED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8BD88-1824-43C8-88AB-666CF1299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9ADBC-D8BA-40F8-BB13-84347491F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391520" y="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D5829-DFCF-4034-A1CA-06F5D5AA73F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Picture 40" descr="ietflogo"/>
          <p:cNvPicPr/>
          <p:nvPr/>
        </p:nvPicPr>
        <p:blipFill>
          <a:blip r:embed="rId2"/>
          <a:stretch/>
        </p:blipFill>
        <p:spPr>
          <a:xfrm>
            <a:off x="7391520" y="228600"/>
            <a:ext cx="1523880" cy="871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41" descr="ietflogo"/>
          <p:cNvPicPr/>
          <p:nvPr/>
        </p:nvPicPr>
        <p:blipFill>
          <a:blip r:embed="rId2"/>
          <a:stretch/>
        </p:blipFill>
        <p:spPr>
          <a:xfrm>
            <a:off x="7391520" y="2971800"/>
            <a:ext cx="1523880" cy="87156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1DDF9-8329-4510-A5B2-98CEFC1DDDD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ASON Extensions to the OSPFv2 Protocol </a:t>
            </a:r>
            <a:br>
              <a:rPr sz="4800"/>
            </a:b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(RFC 5787 BIS) 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-228600" y="2971440"/>
            <a:ext cx="7391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ndy Malis, Veriz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yndon Ong, Cien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mi Theillaud, Marben Product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ee Lindem, Ericsson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685800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ummary of Changes (1/2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380880" y="1447920"/>
            <a:ext cx="830592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800280" indent="-343080">
              <a:lnSpc>
                <a:spcPct val="10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 requirements compliance mapping to RFC 4258 requirements added – draft-malis-ccamp-rfc5787bis-03.t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de WG document with no changes – draft-ietf-ccamp-rfc5787bis-00.t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685800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ummary of Changes (2/2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9" name="Rectangle 3"/>
          <p:cNvSpPr/>
          <p:nvPr/>
        </p:nvSpPr>
        <p:spPr>
          <a:xfrm>
            <a:off x="380880" y="1447920"/>
            <a:ext cx="830592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800280" indent="-343080">
              <a:lnSpc>
                <a:spcPct val="10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rly IANA allocation request for TE sub-TLV code points and IANA Considerations removal of Associated RA sub-TLV. - draft-ietf-ccamp-rfc5787-01.tx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rection of SNPP terminology and corrections of several ITU references – draft-ietf-ccamp-rfc5787-02.tx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685800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New ITU-T Liaison from Study Group 15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1" name="Rectangle 3"/>
          <p:cNvSpPr/>
          <p:nvPr/>
        </p:nvSpPr>
        <p:spPr>
          <a:xfrm>
            <a:off x="380880" y="1447920"/>
            <a:ext cx="830592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800280" indent="-343080">
              <a:lnSpc>
                <a:spcPct val="10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firms desire to work with IETF on ASON OSPF TE exten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Requirements from G.7715.1 to lay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-layer attribu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ll support for remote End-Point identification including the lay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ll support for advertisement of remote End-point adaptations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685800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Next Step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3" name="Rectangle 3"/>
          <p:cNvSpPr/>
          <p:nvPr/>
        </p:nvSpPr>
        <p:spPr>
          <a:xfrm>
            <a:off x="380880" y="1447920"/>
            <a:ext cx="830592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800280" indent="-343080">
              <a:lnSpc>
                <a:spcPct val="10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stand the ITU-T requirements in the recent Liaison – hopefully progress will be made F2F this week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whether we should add additional sub-TLV encodings to meet these multi-layer requirements or this should be addressed in a new draf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e up with ITU amenable resolution and move unabated toward WG last call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21T20:30:04Z</dcterms:created>
  <dc:creator>Vishwas Manral</dc:creator>
  <dc:description/>
  <cp:keywords>Crypto</cp:keywords>
  <dc:language>en-US</dc:language>
  <cp:lastModifiedBy>Acee Lindem</cp:lastModifiedBy>
  <dcterms:modified xsi:type="dcterms:W3CDTF">2011-07-25T13:17:35Z</dcterms:modified>
  <cp:revision>171</cp:revision>
  <dc:subject>Crypto Auth for ISIS</dc:subject>
  <dc:title>IS-IS WG</dc:title>
</cp:coreProperties>
</file>