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78F4-AF5D-4E87-A25A-1880AEDED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654-D5A6-4E88-B52E-D8920825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1680-5803-495E-9DF0-BA0F159B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1B9-07AA-417A-B363-1F4EB185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9C9-4AA9-4F2C-87A5-3193F5BA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853-7686-4CCD-969E-38F88FD6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8E7-1B97-41A0-8E2C-9C02C688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A0F-2DB6-4940-A2A8-AB9E0EF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974-C125-4AB2-AFF0-CD36C55A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F5-1E63-41D0-80F4-4B633EF0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B671-3751-4406-9065-EC171D37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652-24A5-484A-A866-C8225DE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C7C-1C3A-4841-9803-AE1E0C76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5AE-7F81-445F-9583-8AD8D893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4E65-FE78-4AEA-9CE9-31626717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04C-8903-4DB6-85EB-32333A82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9372-5ABD-4884-91BE-0351946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87F-D753-40CB-9A70-2FAA622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C57-A824-4DB8-8F23-F685020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F48-EF78-485F-966A-AE67841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8963-4E50-4A6F-BE89-EF4A6B9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53E-CB1F-4E0C-9D39-A345E81B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6D96-9AD9-490D-9422-34D4F703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EBE-34B9-485A-9C6A-B0FC61F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E2B-61DA-4752-9F0C-254CA2B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A3-00B3-48BE-8ED1-1BAD649D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A72-0978-4183-8CB8-BB18AFA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B78-43FC-49F4-97CD-3AACB0A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54B-ED7A-419F-B14E-9229E27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1CA-674B-4387-AF8F-7A28BAE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AD0E-450D-43FD-A4CA-5C5DB8FEC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A36-EAB9-44BB-BB73-1F50AD5E3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SON Extensions to the OSPFv2 Protocol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(RFC 5787 BIS)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y Malis, Veriz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don Ong, Ci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i Theillaud, Marben Produc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of Change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quirements compliance mapping to RFC 4258 requirements added – draft-malis-ccamp-rfc5787bis-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G document with no changes – draft-ietf-ccamp-rfc5787bis-00.t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of Change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IANA allocation request for TE sub-TLV code points and IANA Considerations removal of Associated RA sub-TLV. - draft-ietf-ccamp-rfc5787-01.t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 of SNPP terminology and corrections of several ITU references – draft-ietf-ccamp-rfc5787-02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ITU-T Liaison from Study Group 1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s desire to work with IETF on ASON OSPF TE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Requirements from G.7715.1 to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-layer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upport for remote End-Point identification including th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upport for advertisement of remote End-point adapt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TU-T requirements in the recent Liaison – hopefully progress will be made F2F this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we should add additional sub-TLV encodings to meet these multi-layer requirements or this should be addressed in a new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ITU amenable resolution and move unabated toward WG last c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20:30:04Z</dcterms:created>
  <dc:creator>Vishwas Manral</dc:creator>
  <dc:description/>
  <cp:keywords>Crypto</cp:keywords>
  <dc:language>en-US</dc:language>
  <cp:lastModifiedBy>Acee Lindem</cp:lastModifiedBy>
  <dcterms:modified xsi:type="dcterms:W3CDTF">2011-07-25T13:17:35Z</dcterms:modified>
  <cp:revision>171</cp:revision>
  <dc:subject>Crypto Auth for ISIS</dc:subject>
  <dc:title>IS-IS WG</dc:title>
</cp:coreProperties>
</file>