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4F4-906F-4C71-A8E7-249AC4C7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B6B-BF37-45AB-A204-F3C258B8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EBAB4-BB4E-4410-B1BE-F7C00A42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4060F-BE12-4B7F-AD28-436C0A63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BAF04-B6A7-400A-B917-F9F3A38A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23A2A-B597-4A57-B469-F76D0B5A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46735-9916-4234-AEE9-5DB531E5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45A97-48E9-4266-BEB1-1B6099F8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57950-3873-469E-85FE-95EF6D23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08FB1-3EFF-4E9E-B8F6-FD11C545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156C0-6B0D-440C-80FE-6E82A189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6C653-1C58-43F6-AA70-38EB1679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A5F-54C6-4493-894F-91013651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4DF03-F2C4-4E61-9D6A-A11629FE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CB719-C1C5-4565-86CF-071D18AC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621EE-B171-4957-AF44-B1AAA226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E2189-8165-4851-BEBC-3E7C27D2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80F70-4686-4D67-8E6E-7C1B0F3D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0C6C7-4B19-4FE5-AFEB-00DBE5FF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0595C-A88A-4992-B017-EE21CD7E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3298A-A9DC-4599-865A-867C5001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E19F0-DDD5-4533-8DD8-554C7B41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9BE0F-4D25-4D32-9B64-2788A523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DDF-B005-49CC-918A-8D3BC5C5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6F892-48D0-4F6B-B16D-0195F841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FBB05-429B-481D-94DC-24004063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7AC58-EA20-4AAD-8B72-6050F436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768E9-DFAC-426F-9359-064A926E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C4F33-C2F8-4AF3-971A-4A09EADC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2AC77-27C1-4954-976D-6DCAA65A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CAB4E-4564-42AE-8BD2-86C3AE56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5D963-37AA-4C15-AA3A-D7223862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A5D1A-FAF6-46F8-A0C1-3AE02E33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E1EB5-4AD8-4636-B828-86429626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C38B-85A3-415E-8FFF-BAD37587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619C8-C825-479D-950E-4BECDC3F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1E76D-3770-4E5A-8A91-213C7EF3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66992-2CA4-4E03-8FEF-F073253A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7385-3783-428E-9EA5-69D715E1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8379-89B9-4B13-BC59-DAB343B6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56D2-53CA-4FCC-A8D3-E66AAD17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1A79-87C6-40AA-A8CB-6656AF93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A0AA-B138-49A5-96C2-D3663DE2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6466-05A6-4E85-B0AF-224BCB2C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CD62-45A1-48C7-BCD9-A1768BDE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234E-E76E-4896-9476-5F57448A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C59B-90E2-4659-9D4A-D3747204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8CB8-8C85-4B8A-B5F3-DCD20FC7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DBDB-E51C-42AE-A23E-1AA39D0C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73BB-B120-4F8E-A497-8A645D6E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239E2-437A-4029-94C5-48107874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8D1E3-3347-4ED1-BFCB-FFAC3010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37940-BB55-49F0-A1D2-CF06F889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CA139-5574-4EF3-8C3C-18144BC1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77CA2-1631-4203-BBAE-02AF01E0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67C-80C7-4CDC-AA06-C835FB94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8A17E-50C7-4349-B82F-78D3362D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4CD47-E65B-43CF-8A85-CC20D21B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EF771-9E26-4C18-BA45-909FBCF6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5844F-27FA-4A32-BC2E-6714780C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B3D37-FF5F-4BAE-BB63-CD10F3CD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07C14-2A78-41A1-8E80-36FEC111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606B0-077B-4E00-AF9C-FF78D4C2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055C9-A1CB-4DD8-9B04-B33BFB61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FE87C-52A4-4E7A-A21E-F593DAFC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A4884-88AD-48FF-B8EB-BD196C8E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042-4D54-49DA-9B7E-56C56AC8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543F4-CA10-4B87-AECD-96837A01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34B54-A30F-498E-ADCB-52EFB7B2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72F9F-7A1A-4A5B-AB85-0575F667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AF16C-F773-4CD4-8DD8-5639E604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03938-B45D-4834-AC74-146CE993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F64E9-0EC8-4FC2-988D-34C8E362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CAE90-0D7D-4C23-B500-1A2DB1F6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05516-7CA8-43EB-80FE-FA643380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A8634-47D1-45A4-8886-5879DB38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14C9F-40A5-42D3-A89E-90200E3E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B89-F391-4BD0-AE4B-0778659A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6CE32-A024-4285-A828-74887B61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A22CC-80BB-45E2-878A-51088357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AB3E6-90F1-4114-9E00-54F3426E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00041-8EB4-4793-A07D-190674E9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DFE9C-550F-443F-908E-D5561435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0BE5F-6175-4B28-A20F-F8A4F4A5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0FFE0-240B-47BC-A7BB-760C5BB0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3CAFA-E2BE-4A2C-9BFA-F98F1F23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9D3E4-7E9A-4649-A092-98DD57B5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DDA84-05CA-4D6D-B156-5C659633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860-D128-40A3-B1DB-A725F53A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BE71F-9CE9-49D6-AC61-AF03EFEC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FFD3E-1EB1-413E-8A78-8FAA61A9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836E2-2EDC-4484-921A-BB3F79A7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F41BE-96A5-4F63-85A0-AFF3D449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29FEB-D3C8-4E81-9AA1-EA262487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9DF55-6B74-47A5-96E8-5BA0E9B3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499B3-1D1A-46EA-A1F3-B3BB5733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D1AE6-0F6A-4740-92E4-A2193B2B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5FCA7-DFF9-4D24-88DC-5583A59C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FBFDD-7D50-4942-A671-20EA0A2B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17A-DAC0-4332-AD10-D12357B7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11B4F-62AC-4BE2-A671-2A055FE1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501F9-1EDE-419F-8798-9948D27F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B2CE5-ADFF-49AD-BC77-56C2B44C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B2B10-9EED-445B-9C74-8BA9FF8C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A5F0D-D7D1-45A0-B310-332C9B03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23B8D-0FE5-4C7B-A422-FA1A774A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1EAD3-C6A0-4759-A13A-8D76F76F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FEC00-A522-4BA4-ADEC-6F15A0F5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683D0-E562-48D9-946E-AF0113FE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58FE4-4501-42DD-B92B-73A70119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53F-2039-4D05-AC5E-2357AB17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E96A4-116E-4781-92C0-2DF37AC0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AF4A4-8BE8-415F-9314-2A867EFA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57F4A-F7A1-422B-8467-32D7FFE2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53515-B4C1-4EFA-9155-12ED2459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4074A-8427-4DE3-946A-4EE7C2BA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247E1-197E-4701-9CC9-8A761B1A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36D4F-9642-4AD3-8D39-424AF828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19F93-FB08-483B-B282-6AE1766F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F97D8-B9A7-47D6-AACC-46A39023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08ACE-19FB-4D30-94C3-CFB0F5C8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CBD9-449C-453C-93D0-599A5CCC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60791-D6CD-449F-BF8D-45012788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1F097-878A-4F02-8738-ADA44FC3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3FCE0-3FE0-482F-B73E-70FCDC9E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D332D-798E-46F8-9623-93C99C78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89C62-8E04-4B85-8E23-A250469E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42F7B-6FBC-40FC-BC2F-D73D70B6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B1A1D-D0A7-4834-BB8A-BC8E9654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BAAFD-CA83-4B85-93F2-E9641D45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24CAF-2C2A-4635-A004-0AD6917F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6C73E-75AF-4315-8F2F-D821EEF9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ETF-81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C627-D1DA-4E1D-883E-EA4C5DFA1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3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0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BD77-A6F9-4973-BA64-6C8305010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3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0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31CA-8E3E-439D-8D9F-8573EDAC9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A7E0-FB99-4BFF-B6FD-6FCD23F5C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47AE-F6A3-40BE-BB49-65D68C89E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3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0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D450-D78B-492B-8C8C-CBB1C3564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3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0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DC09-9A20-44CB-AF88-3349CEEA9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3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0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350D-C986-4584-B888-528BA1A41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3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0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F9CE-16E4-4ECF-9FD2-DD266D293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3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0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7C4F-4137-4E21-A449-0169F9D87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3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0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27DF-F8D1-43B7-909A-B1D91BF89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atatracker.ietf.org/doc/draft-kutscher-conex-mobile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Mobile Communicatio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Congestion Exposure Scenario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atatracker.ietf.org/doc/draft-kutscher-conex-mobile/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rsion 01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3809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98989"/>
                </a:solidFill>
                <a:latin typeface="Calibri"/>
              </a:rPr>
              <a:t>Dirk Kutsc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98989"/>
                </a:solidFill>
                <a:latin typeface="Calibri"/>
              </a:rPr>
              <a:t>Faisal M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98989"/>
                </a:solidFill>
                <a:latin typeface="Calibri"/>
              </a:rPr>
              <a:t>Rolf Wi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98989"/>
                </a:solidFill>
                <a:latin typeface="Calibri"/>
              </a:rPr>
              <a:t>&lt;firstname.lastname&gt;@neclab.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ubtitle 2"/>
          <p:cNvSpPr/>
          <p:nvPr/>
        </p:nvSpPr>
        <p:spPr>
          <a:xfrm>
            <a:off x="4724280" y="3886200"/>
            <a:ext cx="4038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98989"/>
                </a:solidFill>
                <a:latin typeface="Calibri"/>
              </a:rPr>
              <a:t>Suresh Krish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98989"/>
                </a:solidFill>
                <a:latin typeface="Calibri"/>
              </a:rPr>
              <a:t>Ying Z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98989"/>
                </a:solidFill>
                <a:latin typeface="Calibri"/>
              </a:rPr>
              <a:t>&lt;firstname.lastname&gt;@ericss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FE03-788A-4366-ADD0-28CC59660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ONEX WG:Congestion exposure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in a variety of use c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0520" y="17524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Turns out that most of these would be really useful in mobile commun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carce ressources – elaborate policy and charging infra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 need of scalable resource sharing for „best-effort traffic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lso: if CONEX is done right, mobile communication networks would be a particuarly good environment for congestion expos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ONEX WG to focus on use case where end hosts and network containing destination host are CONEX-enabled – other networks need not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obile communication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Well-defined roles for hosts, nodes, gateway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Well-defined network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Limited resources (wireless), fine-granular policing and account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B4C8-044B-4DB2-B9AA-EC675EE1E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Congestion in Mobile Communic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Moving from telephony to data networ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Historically: congestion considered a non-iss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Strict resource management and adequate resource provisio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Also: best-effort traffic considered  expend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This is changing n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Most traffic is „best-effort“ n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M2M,  mobile cloud access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0" i="1" lang="de-DE" sz="3000" spc="-1" strike="noStrike">
                <a:solidFill>
                  <a:srgbClr val="000000"/>
                </a:solidFill>
                <a:latin typeface="Calibri"/>
              </a:rPr>
              <a:t>User Plane Congestion Manag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9E92-C3C7-422B-AB6E-19B59C05F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ft-kutscher-conex-mobile-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escribing 3GPP‘s 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alyzing CONEX use cases in mobile communication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raffic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centivize scavenger trans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ccounting for congestion volu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fferential Q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artial vs. Full De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ONEX in the 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cross operator dom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Within one operator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mplementing CONEX mechanisms and policing fun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mplications for CON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What we should consider for the mechanism sp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C8E2-66EA-487E-9BD9-3FE389F79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Recent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mphasize description of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mobile communication can really benefit from CONE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re on how CONEX can be deployed incremental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instance: enhancing DPI and eventually making it obso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lighting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NEX as a mechanis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enabling different operator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dded a deployment scenario: CONEX sender support on operators servers, caches, prox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gration into 3GPP’s PCC architect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out requiring invasiv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88AB-6B71-419C-9E96-7022BBAB5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EX Suppo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Servers and C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573F-BF24-4EE4-927A-D82169A56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914400" y="1600200"/>
            <a:ext cx="784872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Web server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w/ CONEX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|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Internet     |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|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|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|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+-----------+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| Web cache |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| w/ CONEX  |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+-----------+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|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+----+     +-------+     +-------+     +-------+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| UE |=====|  eNB  |=====|  S-GW |=====|  P-GW |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+----+     +-------+     +-------+     +-------+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Operator B                           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EX and 3GPP PC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EX as a supplement (and not as a replacement) to existing QoS mechanis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 example, CONEX to provide input to existing 3GPP PCC mechanis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l-time congestion information =&gt; better resource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umulated congestion volume for accou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able network to make better policy control decisions than possible toda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out requiring new reference 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2BE5-6585-4211-8BD7-F514D8EEF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uld like to add more specific guidance about possible u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cific deployment scenar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sidering our CONEX mechanis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erator feedback would be usefu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ture of this dra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blish as Informational to document possible CONEX 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uld this be a WG it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07-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-81, 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13CF-4744-4211-89B1-E116F4292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4:08:36Z</dcterms:created>
  <dc:creator>Dirk Kutscher</dc:creator>
  <dc:description/>
  <dc:language>en-US</dc:language>
  <cp:lastModifiedBy>Dirk Kutscher</cp:lastModifiedBy>
  <dcterms:modified xsi:type="dcterms:W3CDTF">2011-07-26T15:06:15Z</dcterms:modified>
  <cp:revision>23</cp:revision>
  <dc:subject/>
  <dc:title>Mobile Communication Congestion Exposure Scenario  http://datatracker.ietf.org/doc/draft-kutscher-conex-mobile/  </dc:title>
</cp:coreProperties>
</file>