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C86-2758-4058-BE14-CF561A52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3C5-3C98-4C73-8C2A-79344799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41EF7-22E7-4050-B523-1054F0D3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28E31-B175-4C55-86E1-A3651871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96D83-DD97-4942-AA92-E8F7E10D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91B11-C34C-4DC0-84E1-14E7C14D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38C22-FEE8-499E-87A0-94FD9510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42ED0-31AB-4902-AC53-489A18E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C919F-EA6A-4791-9BAA-51F01CD6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20D7-8159-4E73-B34D-9D282AAF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E29AF-9C14-447C-A8D4-05769E4D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7CE25-8132-4FC0-BEBA-B3A50137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0B7-87C6-4B77-B421-83F86D4C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51611-72E5-4E49-AB5A-A050728F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9555B-9DF1-4644-B23B-E67DE9DB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B03C7-D5BA-415C-9164-C2130477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42577-0259-4ABA-855E-E2B80E8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F4A37-9C9D-4988-A620-72B54FB3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22A78-47C0-434F-BBB4-B20D3C7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FF7B0-7D4B-4168-A937-6CCF687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83B0B-29C5-4A58-932A-46694D4F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5C09D-9ECB-4B2A-95B4-E19CE662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D4686-9792-43FA-B139-C481251C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19A-F351-4F3A-BECE-A1FD026C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BD4FC-BC50-4C05-AE00-7C88D6A1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EDB7A-A393-4D83-A7A0-29472EC9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EEB21-788E-4186-815F-BB92977D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73239-FE1E-42CD-BD09-ED6CF19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7344B-AD32-4C64-B386-3AF9C909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09C36-48DD-40E5-95E8-FF661C3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10264-43A2-48BB-8679-A949FE47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1B809-19A8-4307-9A24-8FD27A7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DA0DD-7FE6-46CD-81A7-464E2776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CEF5D-C421-4DD7-837B-1EA4715D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754A-2A58-406E-BE17-21B50017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1419F-EF96-4516-9478-FE15C79C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81A00-682A-4089-9CF3-73F40D0E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2B927-3A9F-4C48-877D-663C4487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F8C4-9D26-4B80-B504-349DFD0D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2E61-5422-464B-82A1-82CC46E0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B2F3-7534-49E7-BE8A-EAAD5479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3C19-50CF-4383-9729-0B184C36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2500-2EC5-4008-9781-DA2F9267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2BB0-28DE-4279-BEC6-4DE0DA27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E1D-8BE5-4ED6-B4A3-67ADF2E3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E694-EBFD-4DC7-A256-3E60C22A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C30B-F6A1-4C3D-982F-3D86680D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1BAE-A006-4749-8C74-D39DC92A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A6EE-AEC5-4EAC-B1AD-9FAEB5ED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6758-E9C7-4E33-AD80-F524A3E4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5726-2584-40FF-9719-A43D27D8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3EE4-D9DE-48E7-B157-8213567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13F6-6486-40F1-9752-080DCC96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A32B-4039-4B67-B914-D814E967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428E-1FA2-4BF0-86CE-DCD6E222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586-B648-4F4C-AA38-9A101707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6540-45D3-40B1-B822-20F7822E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2A8DB-49C6-429A-BB63-7F0FF98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88E2-ACF2-428F-9083-46455F04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609C-AA6B-4A66-829B-259100F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A438-3905-4C49-A237-64F4D6F3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6308-BF17-486F-BCBA-322B69AC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0C00-6195-499F-8332-62CB6B4B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77FD-CED3-4A72-9561-DA65B74B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8035-15EC-4DC0-B707-5A4BB6D1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59FE9-8710-4A4A-AED1-70929E7C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DF5-F16B-4038-AC77-7399C22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3028-E1CE-4CEB-8C5D-3F06F02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724D-BA98-4F54-B741-72D870B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9E00-69DC-4175-9A1F-F61211DC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3623-C3AB-49F1-AF5C-A06E1D8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D3FF-B95D-483D-9A82-B33D5ED7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581E-08E5-4468-ADE8-0020EA19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803CF-B396-493A-A5AA-9467CED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B072-58F7-40CD-AE5A-0E95E511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CF695-8A87-49C3-9615-F4C43F50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2E526-DCA0-4837-849B-1A6A6591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228-D5AD-4616-A011-7EB81AB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27382-6720-416F-8092-16BDAF1C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7EC9-79D3-4891-8C8D-6E2BAE9A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9C34-5FE7-4E2E-8BA7-5BB3B7B4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5E00-B16E-431B-8443-F43D44E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AC34A-A527-4210-905C-FE139DAB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4ED36-E730-4DE7-86A1-0ADEDC3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1F1D9-CFF0-4FF3-963F-E87AC2C2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5DC9-3721-40B6-90C1-1377B3EC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FCA5-BA87-463B-8214-C4E3BFDD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59B7C-C24D-423B-B6A5-B9E129A4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826-A134-4007-A0ED-661AAD4E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9764-6B20-4A7E-893D-6E98613E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EDAA-D6A4-4B0B-BEAA-BC1CFA4B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3C2B8-E09F-49C8-991D-8544E02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F6C4B-83BC-4F55-915E-AA27EA09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0D094-C5CE-4001-A331-9B18E8CE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F9379-9C68-479D-BD80-9AD0F9B3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980FC-A571-424D-BF8A-7FBC0B39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56D0E-18C2-4609-9CF7-DE05BDC2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0261C-8C20-494A-9757-C7FE767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C819-5843-4B39-B38A-213F61CC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1C3-95FC-4638-A050-301F47FF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D4DD0-9DB4-410A-89CC-5446D090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ACCCD-5771-4662-9D8B-4218260D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4B75E-364C-463A-BAA0-78FBA3B9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A273A-7A5B-4621-BCB0-74D3CCBB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4F9E-3C54-49F1-8546-17CF09C7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6DF72-9DE6-4E18-8C5F-DBAAD13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5279C-F96E-42EE-B26F-637D7904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DADCC-773B-4924-90B1-49ED7D68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E4265-1B52-41C8-A386-84067AC2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4437-F4DC-4972-8D96-2FD23F4B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C96-768C-42D2-8CAF-76BF9871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83BCD-38F6-4AD1-BC80-DC1F0569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9DEC1-57A4-4827-B06F-88625B4A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52B4A-D226-4161-BC42-D7EC8039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01764-789A-4FDC-BE32-66940A6E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EB6B-CEC3-4C4B-BD5D-B6E3D2F4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42227-F7B7-43A7-BD65-C812C91E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F4F1A-BCFB-436D-AAF4-34A322F5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E0584-B5DA-46C0-9F4E-76BA5D3C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986C3-6B8D-4C0A-AAEF-2907D945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41971-E47A-49CF-9C5E-8A4CBCF0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EED-4D23-4378-8640-3FD17ED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C50A7-BE74-4BC6-9FA2-4C0F6560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FA74F-4CB3-4934-AF30-654590EF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7D7D3-7661-47EF-AD64-9F9F36C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2269-DDA8-469D-BE71-58020A49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781F8-6F2F-43AF-9761-56B252EF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D7E37-93E6-4484-AD81-978EF37C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9E50A-0AA1-47D0-981B-CBAAE3CE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D2CC2-4C40-425C-9211-FA0AE99C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876EC-ABBE-4075-AFA6-52C49564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24D9E-73B8-4883-95A3-A199FEAD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ETF-8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3E74-7D65-4875-9B89-151510F69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6A18-A805-45F7-865D-D2238F62C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8149-FEB9-4361-B76F-B4C8C33D6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91A1-3CFF-42A1-91CF-6633D96FD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8128-5EEB-48B4-99EB-4CCC9FE90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57F2-A55D-4224-85A1-C30DBF359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BFCF-0A37-433D-B290-4BF6DEDF5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165A-D86D-4A23-9593-08A669F9A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4796-1C19-4AE9-A6D0-B886598FC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90AF-CDD0-4B71-9B98-D0827D4DA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C75E-8EBF-4307-A027-136F1B1D1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tatracker.ietf.org/doc/draft-kutscher-conex-mobil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obile Communicatio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Congestion Exposure Scenario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atatracker.ietf.org/doc/draft-kutscher-conex-mobile/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rsion 01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Dirk Kutsc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Faisal M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Rolf Wi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&lt;firstname.lastname&gt;@neclab.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ubtitle 2"/>
          <p:cNvSpPr/>
          <p:nvPr/>
        </p:nvSpPr>
        <p:spPr>
          <a:xfrm>
            <a:off x="4724280" y="3886200"/>
            <a:ext cx="4038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Suresh Krish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Ying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&lt;firstname.lastname&gt;@ericss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7F9C-27B2-40D1-842C-272DF540B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NEX WG:Congestion exposure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n a variety of use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052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Turns out that most of these would be really useful in mobile commun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carce ressources – elaborate policy and charging 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 need of scalable resource sharing for „best-effort traffic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lso: if CONEX is done right, mobile communication networks would be a particuarly good environment for congestion expos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NEX WG to focus on use case where end hosts and network containing destination host are CONEX-enabled – other networks need not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obile communication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Well-defined roles for hosts, nodes, gateway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Well-defined network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Limited resources (wireless), fine-granular policing and account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B25-3F35-46E7-AE93-936CCBA94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Congestion in Mobile Commun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Moving from telephony to data networ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Historically: congestion considered a non-iss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Strict resource management and adequate resource provisio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Also: best-effort traffic considered  expend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This is changing n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Most traffic is „best-effort“ 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M2M,  mobile cloud access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i="1" lang="de-DE" sz="3000" spc="-1" strike="noStrike">
                <a:solidFill>
                  <a:srgbClr val="000000"/>
                </a:solidFill>
                <a:latin typeface="Calibri"/>
              </a:rPr>
              <a:t>User Plane Congestion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9A39-AFF6-4149-A0CE-6EC0FAA70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kutscher-conex-mobile-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scribing 3GPP‘s 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alyzing CONEX use cases in mobile communication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entivize scavenger tran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ccounting for congestion volu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fferential Q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artial vs. Full De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NEX in the 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cross operator dom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ithin one operator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mplementing CONEX mechanisms and policing fun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plications for CON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hat we should consider for the mechanism sp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B275-7BF2-457E-82F9-A2D01965C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Recent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mphasize description of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mobile communication can really benefit from CON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re on how CONEX can be deployed incremental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instance: enhancing DPI and eventually making it obso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EX as a mechanis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enabling different operator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ded a deployment scenario: CONEX sender support on operators servers, caches, prox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gration into 3GPP’s PCC architec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out requiring invasiv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22A4-1920-434F-9B32-E20467367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EX Suppo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Servers and C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D622-4381-4F7E-9E2E-CADE72F6A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914400" y="1600200"/>
            <a:ext cx="784872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Web server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w/ CONEX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|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Internet     |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|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|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|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+-----------+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| Web cache |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| w/ CONEX  |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+-----------+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|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+----+     +-------+     +-------+     +-------+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| UE |=====|  eNB  |=====|  S-GW |=====|  P-GW |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+----+     +-------+     +-------+     +-------+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Operator B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EX and 3GPP P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EX as a supplement (and not as a replacement) to existing QoS mechanis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example, CONEX to provide input to existing 3GPP PCC mechanis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-time congestion information =&gt; better resource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umulated congestion volume for accou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able network to make better policy control decisions than possible to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out requiring new reference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1AFB-519B-442D-8117-5D9CF5CEF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uld like to add more specific guidance about possible u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 deployment scena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idering our CONEX mech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rator feedback would be usefu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ture of this dra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blish as Informational to document possible CONEX 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this be a WG it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8E9-C9DB-4DD1-A57D-2E97CD549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4:08:36Z</dcterms:created>
  <dc:creator>Dirk Kutscher</dc:creator>
  <dc:description/>
  <dc:language>en-US</dc:language>
  <cp:lastModifiedBy>Dirk Kutscher</cp:lastModifiedBy>
  <dcterms:modified xsi:type="dcterms:W3CDTF">2011-07-26T15:06:15Z</dcterms:modified>
  <cp:revision>23</cp:revision>
  <dc:subject/>
  <dc:title>Mobile Communication Congestion Exposure Scenario  http://datatracker.ietf.org/doc/draft-kutscher-conex-mobile/  </dc:title>
</cp:coreProperties>
</file>