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Suresh Krishnan  |  IETF81  |  Conex IPv6 Destination Option  |  2011-03-29  |  Page </a:t>
            </a:r>
            <a:fld id="{21DE2405-66F1-4EAC-85C9-AD34AE7FC8D6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112840"/>
            <a:ext cx="835164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onex IPv6 Destination Option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Suresh Krishn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Mirja Kuehlewind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arlos Ralli Ucendo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he mechanism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conex wg decided that using destination options was the best way forwar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conex-unaware nodes will not inspect the destination options header.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conex-aware nodes on path that inspect these options are not exactly standards complian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FC2460 does not use RFC2119 wording and hence it is hard to say one way or anoth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ption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88" name="Content_SM"/>
          <p:cNvGraphicFramePr/>
          <p:nvPr/>
        </p:nvGraphicFramePr>
        <p:xfrm>
          <a:off x="1852560" y="1197000"/>
          <a:ext cx="5284800" cy="54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Content_SM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1197000"/>
                    <a:ext cx="528480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pen issu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 have a lot of free bits (28 to be exact) left </a:t>
            </a:r>
            <a:r>
              <a:rPr b="0" lang="en-US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at do we do with thos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eave them empty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Use them for some other conex related purpose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f so, what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ne suggestion was to not have the destination option in each packet but carry aggregate metrics every few packe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authors request wg adoption of the draf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6man wg needs to review the option prior to progressing the draft to the IES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EMC/QRM/U Suresh Krishnan</dc:creator>
  <dc:description>Rev PA1</dc:description>
  <cp:keywords/>
  <dc:language>en-US</dc:language>
  <cp:lastModifiedBy>Suresh Krishnan</cp:lastModifiedBy>
  <dcterms:modified xsi:type="dcterms:W3CDTF">2011-07-27T03:59:35Z</dcterms:modified>
  <cp:revision>154</cp:revision>
  <dc:subject/>
  <dc:title>Conex IPv6 Destination Op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7-26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Conex IPv6 Destination Option</vt:lpwstr>
  </property>
  <property fmtid="{D5CDD505-2E9C-101B-9397-08002B2CF9AE}" pid="13" name="MiddleFooterField">
    <vt:lpwstr>IETF81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EMC/QRM/U Suresh Krishna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Suresh Krishnan</vt:lpwstr>
  </property>
  <property fmtid="{D5CDD505-2E9C-101B-9397-08002B2CF9AE}" pid="21" name="RightFooterField2">
    <vt:lpwstr>2011-03-29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1</vt:bool>
  </property>
  <property fmtid="{D5CDD505-2E9C-101B-9397-08002B2CF9AE}" pid="34" name="optEnterText2">
    <vt:bool>1</vt:bool>
  </property>
  <property fmtid="{D5CDD505-2E9C-101B-9397-08002B2CF9AE}" pid="35" name="optEnterText3">
    <vt:bool>1</vt:bool>
  </property>
  <property fmtid="{D5CDD505-2E9C-101B-9397-08002B2CF9AE}" pid="36" name="optEnterText4">
    <vt:bool>1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0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0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