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6DA-80FC-47B3-BA74-4D707008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613-FA1B-4550-9CE5-7240F4F2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56E-2B3C-4FA9-AAC6-DB831472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E3A-8A4E-4735-9E72-50C0CD59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D76-91E0-4343-A3E9-7781A221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A59-62F8-4E4B-83BD-147A95AB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31B-B497-4357-9AD6-6140D8C2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9F6-5F10-4E66-AB5F-B1663CC6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F8E-CA34-4E14-9BD7-8029C83A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C80-E6CE-4D6D-AB88-025A9BDB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2E8-3C6A-4348-AAF7-77038FB6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0CE-C5A0-4AC7-A89C-610E36D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79C4-9AC7-4E6B-BBF2-49C12B785C69}" type="datetime5">
              <a:rPr b="0" lang="en-GB" sz="1200" spc="-1" strike="noStrike">
                <a:solidFill>
                  <a:srgbClr val="898989"/>
                </a:solidFill>
                <a:latin typeface="Calibri"/>
              </a:rPr>
              <a:t>30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E43B-B7EF-41EA-89F9-CC1C4DE05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Ex Concepts and Use Cas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-ietf-conex-concepts-uses-02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Briscoe, B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. Woundy, Comc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TF-81 ConE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-Jul-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307C-EF76-4F37-80C2-8ECB1100E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E51-8A13-4639-BC64-62B8DB4647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9C5D3-9320-4FC3-96DA-802351D489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n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838080"/>
            <a:ext cx="817236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countabi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o little capacity meets too much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property of the link or p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gestion-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property of the traff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user, per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r’s contribution to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gestion-volume = bytes marked or drop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6161040" y="1211400"/>
            <a:ext cx="2089080" cy="1060200"/>
          </a:xfrm>
          <a:custGeom>
            <a:avLst/>
            <a:gdLst/>
            <a:ahLst/>
            <a:rect l="l" t="t" r="r" b="b"/>
            <a:pathLst>
              <a:path w="930" h="749">
                <a:moveTo>
                  <a:pt x="0" y="0"/>
                </a:moveTo>
                <a:lnTo>
                  <a:pt x="0" y="749"/>
                </a:lnTo>
                <a:lnTo>
                  <a:pt x="930" y="749"/>
                </a:lnTo>
              </a:path>
            </a:pathLst>
          </a:custGeom>
          <a:noFill/>
          <a:ln w="28440">
            <a:solidFill>
              <a:srgbClr val="00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144120" y="1143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bit-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8191800" y="1978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157800" y="1549440"/>
            <a:ext cx="71640" cy="5763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6734160" y="1549440"/>
            <a:ext cx="71280" cy="5763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453440" y="1549440"/>
            <a:ext cx="72720" cy="5763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558800"/>
            <a:ext cx="1871640" cy="720720"/>
          </a:xfrm>
          <a:custGeom>
            <a:avLst/>
            <a:gdLst/>
            <a:ahLst/>
            <a:rect l="l" t="t" r="r" b="b"/>
            <a:pathLst>
              <a:path w="1179" h="454">
                <a:moveTo>
                  <a:pt x="0" y="454"/>
                </a:moveTo>
                <a:lnTo>
                  <a:pt x="0" y="363"/>
                </a:lnTo>
                <a:lnTo>
                  <a:pt x="45" y="363"/>
                </a:lnTo>
                <a:lnTo>
                  <a:pt x="62" y="1"/>
                </a:lnTo>
                <a:lnTo>
                  <a:pt x="363" y="0"/>
                </a:lnTo>
                <a:lnTo>
                  <a:pt x="363" y="363"/>
                </a:lnTo>
                <a:lnTo>
                  <a:pt x="408" y="363"/>
                </a:lnTo>
                <a:lnTo>
                  <a:pt x="428" y="1"/>
                </a:lnTo>
                <a:lnTo>
                  <a:pt x="816" y="0"/>
                </a:lnTo>
                <a:lnTo>
                  <a:pt x="816" y="363"/>
                </a:lnTo>
                <a:lnTo>
                  <a:pt x="862" y="363"/>
                </a:lnTo>
                <a:lnTo>
                  <a:pt x="876" y="1"/>
                </a:lnTo>
                <a:lnTo>
                  <a:pt x="1179" y="0"/>
                </a:lnTo>
                <a:lnTo>
                  <a:pt x="1179" y="454"/>
                </a:lnTo>
                <a:lnTo>
                  <a:pt x="0" y="454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6173640" y="2465280"/>
            <a:ext cx="2089440" cy="1060560"/>
          </a:xfrm>
          <a:custGeom>
            <a:avLst/>
            <a:gdLst/>
            <a:ahLst/>
            <a:rect l="l" t="t" r="r" b="b"/>
            <a:pathLst>
              <a:path w="930" h="749">
                <a:moveTo>
                  <a:pt x="0" y="0"/>
                </a:moveTo>
                <a:lnTo>
                  <a:pt x="0" y="749"/>
                </a:lnTo>
                <a:lnTo>
                  <a:pt x="930" y="74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6145200" y="23954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8204400" y="32320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6167520" y="2805120"/>
            <a:ext cx="1841400" cy="716040"/>
          </a:xfrm>
          <a:custGeom>
            <a:avLst/>
            <a:gdLst/>
            <a:ahLst/>
            <a:rect l="l" t="t" r="r" b="b"/>
            <a:pathLst>
              <a:path w="1160" h="451">
                <a:moveTo>
                  <a:pt x="0" y="41"/>
                </a:moveTo>
                <a:cubicBezTo>
                  <a:pt x="7" y="44"/>
                  <a:pt x="31" y="0"/>
                  <a:pt x="42" y="59"/>
                </a:cubicBezTo>
                <a:cubicBezTo>
                  <a:pt x="53" y="118"/>
                  <a:pt x="19" y="339"/>
                  <a:pt x="66" y="395"/>
                </a:cubicBezTo>
                <a:cubicBezTo>
                  <a:pt x="113" y="451"/>
                  <a:pt x="275" y="448"/>
                  <a:pt x="324" y="394"/>
                </a:cubicBezTo>
                <a:cubicBezTo>
                  <a:pt x="373" y="340"/>
                  <a:pt x="348" y="124"/>
                  <a:pt x="360" y="70"/>
                </a:cubicBezTo>
                <a:cubicBezTo>
                  <a:pt x="372" y="16"/>
                  <a:pt x="388" y="14"/>
                  <a:pt x="399" y="67"/>
                </a:cubicBezTo>
                <a:cubicBezTo>
                  <a:pt x="410" y="120"/>
                  <a:pt x="369" y="333"/>
                  <a:pt x="429" y="386"/>
                </a:cubicBezTo>
                <a:cubicBezTo>
                  <a:pt x="489" y="439"/>
                  <a:pt x="699" y="440"/>
                  <a:pt x="762" y="385"/>
                </a:cubicBezTo>
                <a:cubicBezTo>
                  <a:pt x="825" y="330"/>
                  <a:pt x="793" y="109"/>
                  <a:pt x="807" y="55"/>
                </a:cubicBezTo>
                <a:cubicBezTo>
                  <a:pt x="821" y="1"/>
                  <a:pt x="833" y="7"/>
                  <a:pt x="846" y="61"/>
                </a:cubicBezTo>
                <a:cubicBezTo>
                  <a:pt x="859" y="115"/>
                  <a:pt x="833" y="322"/>
                  <a:pt x="885" y="379"/>
                </a:cubicBezTo>
                <a:cubicBezTo>
                  <a:pt x="937" y="436"/>
                  <a:pt x="1103" y="397"/>
                  <a:pt x="1160" y="4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5"/>
          <p:cNvSpPr/>
          <p:nvPr/>
        </p:nvSpPr>
        <p:spPr>
          <a:xfrm>
            <a:off x="4464000" y="5602320"/>
            <a:ext cx="4572000" cy="588960"/>
          </a:xfrm>
          <a:prstGeom prst="pie">
            <a:avLst/>
          </a:prstGeom>
          <a:noFill/>
          <a:ln w="368280">
            <a:solidFill>
              <a:srgbClr val="00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6757920" y="495000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5293440" y="54212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10G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267600" y="45212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0.01% ma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6746760" y="60325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1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93080" y="5853240"/>
            <a:ext cx="712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653920" y="45259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% ma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133440" y="60372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1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5"/>
          <p:cNvSpPr/>
          <p:nvPr/>
        </p:nvSpPr>
        <p:spPr>
          <a:xfrm flipV="1">
            <a:off x="2496960" y="4970520"/>
            <a:ext cx="1629000" cy="588960"/>
          </a:xfrm>
          <a:prstGeom prst="pie">
            <a:avLst/>
          </a:prstGeom>
          <a:noFill/>
          <a:ln w="3049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6"/>
          <p:cNvSpPr/>
          <p:nvPr/>
        </p:nvSpPr>
        <p:spPr>
          <a:xfrm flipV="1">
            <a:off x="2470320" y="5761080"/>
            <a:ext cx="1509480" cy="465120"/>
          </a:xfrm>
          <a:prstGeom prst="pie">
            <a:avLst/>
          </a:prstGeom>
          <a:noFill/>
          <a:ln w="15228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7"/>
          <p:cNvSpPr/>
          <p:nvPr/>
        </p:nvSpPr>
        <p:spPr>
          <a:xfrm>
            <a:off x="3144960" y="58024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8"/>
          <p:cNvSpPr/>
          <p:nvPr/>
        </p:nvSpPr>
        <p:spPr>
          <a:xfrm>
            <a:off x="3147840" y="4954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0"/>
          <p:cNvSpPr/>
          <p:nvPr/>
        </p:nvSpPr>
        <p:spPr>
          <a:xfrm flipV="1">
            <a:off x="3149640" y="5294160"/>
            <a:ext cx="457200" cy="13032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98680" y="5870160"/>
            <a:ext cx="1080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298680" y="5186520"/>
            <a:ext cx="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166480" y="52261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300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166480" y="555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100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120840" y="4886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3M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flipV="1">
            <a:off x="3220920" y="5827680"/>
            <a:ext cx="385920" cy="13824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166920" y="3807000"/>
            <a:ext cx="3600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67640" y="3806640"/>
            <a:ext cx="36036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732720" y="279864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451640" y="1572840"/>
            <a:ext cx="0" cy="208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804000" y="1572840"/>
            <a:ext cx="0" cy="208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732720" y="1572840"/>
            <a:ext cx="0" cy="208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092000" y="3410640"/>
            <a:ext cx="71280" cy="647640"/>
          </a:xfrm>
          <a:custGeom>
            <a:avLst/>
            <a:gdLst>
              <a:gd name="textAreaLeft" fmla="*/ 45720 w 71280"/>
              <a:gd name="textAreaRight" fmla="*/ 7164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732720" y="3699000"/>
            <a:ext cx="71280" cy="7128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71280"/>
              <a:gd name="textAreaBottom" fmla="*/ 69480 h 7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644080" y="2654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366520" y="3230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0.0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3483000"/>
            <a:ext cx="20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2870280"/>
            <a:ext cx="20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6831000" y="1538280"/>
            <a:ext cx="62064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6808680" y="1898640"/>
            <a:ext cx="64296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131920"/>
            <a:ext cx="7128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732720" y="2206800"/>
            <a:ext cx="7128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131920"/>
            <a:ext cx="7128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156360" y="2206800"/>
            <a:ext cx="7128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7451640" y="2131920"/>
            <a:ext cx="7164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2206800"/>
            <a:ext cx="71640" cy="3492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7545240" y="1538280"/>
            <a:ext cx="48276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523280" y="1898640"/>
            <a:ext cx="50472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6249960" y="1538280"/>
            <a:ext cx="48276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1898640"/>
            <a:ext cx="505080" cy="179280"/>
          </a:xfrm>
          <a:prstGeom prst="rect">
            <a:avLst/>
          </a:prstGeom>
          <a:solidFill>
            <a:srgbClr val="00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1538280"/>
            <a:ext cx="288720" cy="144360"/>
          </a:xfrm>
          <a:prstGeom prst="rect">
            <a:avLst/>
          </a:prstGeom>
          <a:noFill/>
          <a:ln cap="rnd" w="2844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5816520"/>
            <a:ext cx="12668400" cy="2117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89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8972"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6767640" y="58024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252-6EDC-4F0C-991F-B6388F4282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6F05A-2334-44AB-A3B3-0E56B7CBB7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se-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 main use-cases reframed as one: traffic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ith 2 consequential use-ca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ises LEDB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orms intra-class Q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tistical Multiplexing over Differing Timesca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property of ConEx used in the other use-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elongs under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roduced a little in Intro &amp; under Traffic mg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ill need a brief explanation of this under Concepts to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ther Use-Cases” section created to conta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eventing congestion col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orm Inter-Operator Contr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orm Capacity Provisi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1CA-02B9-4A39-8DB0-1629CAADEC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9B8AA-5623-4D21-94C4-0B640303D5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ling List response/con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ull reviews: Nandita, Alissa, Mika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bstantial continuou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chael M, John L, Toby, Phil, Georgios, Dave M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-rewrite of Int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diagram bas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deoff: concrete explanation vs prejudging deci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reedom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bla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port sender/recei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ucturing main use-cases as sequen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n-Goals nearer 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dvert in “Concept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structur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A4A-B4E6-40F9-BEBA-DBCD47151A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FB003-D680-4FFB-8E29-2D7FEF2811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ed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re Use Case: Informing Congestion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isting Approach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rawbacks of Existing Approach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ther Use 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ing Incentives for Scavenger Transpo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upporting Intra-Class Quality of Ser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eventing Congestion Collap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forming Inter-Operator Contra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forming Capacity Provisio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loyment Arrangements (see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ercial Secrecy as a Potential Deployment Bar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n-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urity Considerations, […etc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228600"/>
            <a:ext cx="3657600" cy="36576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Current Structure (-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osing Conge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Ex Use-C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form the Operator's Traffic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sequence: Incentivise Scavenger Transpor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sequence: User-Controlled Intra-Class Q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ther Use-C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ployment Arrang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tential Issues or Non-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curity Considerations,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[…etc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100480"/>
            <a:ext cx="4386240" cy="130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issa Cooper becomes doc edi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prize for proposing this :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utstanding issu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roduce downstream congestion &amp; ECN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arly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§2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or late (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§4.4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B6E-5C18-44F8-948C-933F4AA3C6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CE926-7134-443C-B53C-CB65897272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ployment Arran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call top level g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e take-away message on what ConEx is good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understanding of why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504d"/>
                </a:solidFill>
                <a:latin typeface="Calibri"/>
              </a:rPr>
              <a:t>…</a:t>
            </a:r>
            <a:r>
              <a:rPr b="0" lang="en-GB" sz="1800" spc="-1" strike="noStrike">
                <a:solidFill>
                  <a:srgbClr val="c0504d"/>
                </a:solidFill>
                <a:latin typeface="Calibri"/>
              </a:rPr>
              <a:t>and believable initial de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Prague we promised to add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de an attempt, but it won’t work, it can’t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loyment is about mechanism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huge lump to add to a doc that was avoiding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 proposal, 3 informational draf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Ex Concepts and Use-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Ex Abstract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Ex Single Network Deployment Scena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#2 is prerequisite for #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ief section in #1 summarising and pointing to #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F63-151F-45C8-B61B-569BE5D0E1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296B3-1AC6-4FDB-AB6B-8D20AD9311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mith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lant out deployment arran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ave a signpost to it in a dedicated small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mith use-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dus operan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section at a time to mailing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im for WGLC around Nov 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722-C508-46AC-B58D-FE73608A5B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6E58F-8CCB-43C6-9061-7060959FB0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t we Forget: Top Level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to draft since Mar-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ling List Reaction/Con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loyment Arran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8C33-D350-4C45-9CF7-A43D0769E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D68-9A4F-4B37-882D-5C5838D865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39B3B-B6F8-4C1F-82C2-669CAB5512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t we Forget: Top Level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ve reader with one take-away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ConEx is goo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understanding of w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g chose traffic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DBAT &amp; QoS use-cases are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ther use-cases must not confuse main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996-55B1-4253-AA3E-3DED71F106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9D85C-52BD-4F67-8332-1B419E9E57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tered to submit to IESG Mar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ft-02 posted 11 J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w editing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b Briscoe &amp; Rich Woun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2f hand-over meetings (where possi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eep the body, change the first im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w structure &amp; new text pasted to list &amp; ba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rough June/J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BCA-6CBA-44F4-A552-521367E234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4830E-E5A1-471B-ACFE-2F086A7940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nges to draft since Mar-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tract &amp; Int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pts, incl. Non-Goals &amp; Miscon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Use-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loyment Arrangements (discussed l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BBB-51A2-49B3-A352-A301F77FEA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55D3C-6306-42A5-9D54-40E229CC7E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roduced Traffic Mgmt in Intro (see next sli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itions → Concepts (incl. formal defin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ed “Non-Goals &amp; Misconceptions” under Concepts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-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main use-cases reframed as one (traffic mgmt) with 2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tistical Multiplexing over Differing Timescale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once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ther Use-Cases” section created for brief mentions of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ounting for Congestion”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ther/interconn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lf-congestion, moved from Intro → Potential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ormation Security → Security Consid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60800" y="579132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plan to move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529-A9C6-4587-8D2E-F6144EA4D2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7565D-5956-4D0A-9301-F8B7230B33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urren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osing Co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Ex Use-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loyment Arran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tential Issues or Non-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urity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B77-AF5B-437A-A182-C7E611181F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C2EEF-84D6-4E53-B1BA-9EC18CC26A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962520" cy="26589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stract &amp; 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c as entry-point to ConEx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mmarised abstract-m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cused to reflect traffic mgmt story in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rred definition of congestion 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§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rred overprovisioning argument 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§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voided justifying Traffic Mgmt, just “it exi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E96-5E42-4543-AD02-8F001B0789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6E190-6298-4AC3-953B-8322655762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ceded definitions with explanatory text on main concepts (next sli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gestion definition now consistent with abstract-m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ded Non-Goals &amp; Miscon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fine-grained congestion control by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forcing per-flow fairness considered harm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substituting for capacity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eliminating all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included: ultisation vs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ietf-conex-concepts-uses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C84-2B98-43B7-A904-8D4BA32886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8644E-6FE2-4C32-8C20-5E6855BD33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6:42:27Z</dcterms:created>
  <dc:creator>David McDysan</dc:creator>
  <dc:description/>
  <dc:language>en-US</dc:language>
  <cp:lastModifiedBy>Bob Briscoe</cp:lastModifiedBy>
  <dcterms:modified xsi:type="dcterms:W3CDTF">2011-07-27T12:14:34Z</dcterms:modified>
  <cp:revision>52</cp:revision>
  <dc:subject/>
  <dc:title>ConEx Concepts and Use Cases                    draft-ietf-conex-concepts-uses-01</dc:title>
</cp:coreProperties>
</file>