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9893-56F2-4F27-B901-E78AB905D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17DA-95CD-43CC-80CE-D2A6581D9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A22C-B76C-4D3E-A205-C457355AB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C489-895C-4DD3-BB68-A1E06210E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C3FA-E2CF-4CB1-A24A-6FD671838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0F7F-2496-4F90-ACF1-5DEF2E34F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65CE-BC07-4CD0-8FA6-5BEEE6646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1B94-17F7-4405-AF35-564D4BC6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4FCD-A398-4A4F-BE82-13965C70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E1A8-8992-4566-ABA5-4079F505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3416-7A03-4B78-9182-954DB729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9225-9111-466B-8F7C-BE8D5C26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248B8-7653-423E-84EB-C2B02A444631}" type="datetime5">
              <a:rPr b="0" lang="en-GB" sz="1200" spc="-1" strike="noStrike">
                <a:solidFill>
                  <a:srgbClr val="898989"/>
                </a:solidFill>
                <a:latin typeface="Calibri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78424-9BBC-4211-AC8A-72B0E48C08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nEx Concepts and Use Cases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aft-ietf-conex-concepts-uses-02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. Briscoe, B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R. Woundy, Comca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ETF-81 ConEx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7-Jul-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74FE7-09B3-4A61-B240-108F866AA8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-ietf-conex-concepts-uses-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4ED0-F59D-4CB8-8EDD-355FCCCA9B6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186C4A-BABB-4C5B-9BED-A8341FE9F8D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in Concep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3640" y="838080"/>
            <a:ext cx="8172360" cy="42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ccountabilit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oo little capacity meets too much traff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nges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 property of the link or pa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ngestion-volu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 property of the traff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er user, per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ser’s contribution to conges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ngestion-volume = bytes marked or dropp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6161040" y="1211400"/>
            <a:ext cx="2089080" cy="1060200"/>
          </a:xfrm>
          <a:custGeom>
            <a:avLst/>
            <a:gdLst/>
            <a:ahLst/>
            <a:rect l="l" t="t" r="r" b="b"/>
            <a:pathLst>
              <a:path w="930" h="749">
                <a:moveTo>
                  <a:pt x="0" y="0"/>
                </a:moveTo>
                <a:lnTo>
                  <a:pt x="0" y="749"/>
                </a:lnTo>
                <a:lnTo>
                  <a:pt x="930" y="749"/>
                </a:lnTo>
              </a:path>
            </a:pathLst>
          </a:custGeom>
          <a:noFill/>
          <a:ln w="28440">
            <a:solidFill>
              <a:srgbClr val="000033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6144120" y="114300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3"/>
                </a:solidFill>
                <a:latin typeface="Arial"/>
              </a:rPr>
              <a:t>bit-r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8191800" y="19782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3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6157800" y="1549440"/>
            <a:ext cx="71640" cy="57636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85b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6734160" y="1549440"/>
            <a:ext cx="71280" cy="57636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85b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7453440" y="1549440"/>
            <a:ext cx="72720" cy="57636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85b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6156360" y="1558800"/>
            <a:ext cx="1871640" cy="720720"/>
          </a:xfrm>
          <a:custGeom>
            <a:avLst/>
            <a:gdLst/>
            <a:ahLst/>
            <a:rect l="l" t="t" r="r" b="b"/>
            <a:pathLst>
              <a:path w="1179" h="454">
                <a:moveTo>
                  <a:pt x="0" y="454"/>
                </a:moveTo>
                <a:lnTo>
                  <a:pt x="0" y="363"/>
                </a:lnTo>
                <a:lnTo>
                  <a:pt x="45" y="363"/>
                </a:lnTo>
                <a:lnTo>
                  <a:pt x="62" y="1"/>
                </a:lnTo>
                <a:lnTo>
                  <a:pt x="363" y="0"/>
                </a:lnTo>
                <a:lnTo>
                  <a:pt x="363" y="363"/>
                </a:lnTo>
                <a:lnTo>
                  <a:pt x="408" y="363"/>
                </a:lnTo>
                <a:lnTo>
                  <a:pt x="428" y="1"/>
                </a:lnTo>
                <a:lnTo>
                  <a:pt x="816" y="0"/>
                </a:lnTo>
                <a:lnTo>
                  <a:pt x="816" y="363"/>
                </a:lnTo>
                <a:lnTo>
                  <a:pt x="862" y="363"/>
                </a:lnTo>
                <a:lnTo>
                  <a:pt x="876" y="1"/>
                </a:lnTo>
                <a:lnTo>
                  <a:pt x="1179" y="0"/>
                </a:lnTo>
                <a:lnTo>
                  <a:pt x="1179" y="454"/>
                </a:lnTo>
                <a:lnTo>
                  <a:pt x="0" y="454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  <a:effectLst>
            <a:outerShdw dist="17819" dir="2700000" blurRad="0" rotWithShape="0">
              <a:srgbClr val="005b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/>
          <p:nvPr/>
        </p:nvSpPr>
        <p:spPr>
          <a:xfrm>
            <a:off x="6173640" y="2465280"/>
            <a:ext cx="2089440" cy="1060560"/>
          </a:xfrm>
          <a:custGeom>
            <a:avLst/>
            <a:gdLst/>
            <a:ahLst/>
            <a:rect l="l" t="t" r="r" b="b"/>
            <a:pathLst>
              <a:path w="930" h="749">
                <a:moveTo>
                  <a:pt x="0" y="0"/>
                </a:moveTo>
                <a:lnTo>
                  <a:pt x="0" y="749"/>
                </a:lnTo>
                <a:lnTo>
                  <a:pt x="930" y="749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/>
          <p:nvPr/>
        </p:nvSpPr>
        <p:spPr>
          <a:xfrm>
            <a:off x="6145200" y="239544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ges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/>
          <p:nvPr/>
        </p:nvSpPr>
        <p:spPr>
          <a:xfrm>
            <a:off x="8204400" y="323208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/>
          <p:nvPr/>
        </p:nvSpPr>
        <p:spPr>
          <a:xfrm>
            <a:off x="6167520" y="2805120"/>
            <a:ext cx="1841400" cy="716040"/>
          </a:xfrm>
          <a:custGeom>
            <a:avLst/>
            <a:gdLst/>
            <a:ahLst/>
            <a:rect l="l" t="t" r="r" b="b"/>
            <a:pathLst>
              <a:path w="1160" h="451">
                <a:moveTo>
                  <a:pt x="0" y="41"/>
                </a:moveTo>
                <a:cubicBezTo>
                  <a:pt x="7" y="44"/>
                  <a:pt x="31" y="0"/>
                  <a:pt x="42" y="59"/>
                </a:cubicBezTo>
                <a:cubicBezTo>
                  <a:pt x="53" y="118"/>
                  <a:pt x="19" y="339"/>
                  <a:pt x="66" y="395"/>
                </a:cubicBezTo>
                <a:cubicBezTo>
                  <a:pt x="113" y="451"/>
                  <a:pt x="275" y="448"/>
                  <a:pt x="324" y="394"/>
                </a:cubicBezTo>
                <a:cubicBezTo>
                  <a:pt x="373" y="340"/>
                  <a:pt x="348" y="124"/>
                  <a:pt x="360" y="70"/>
                </a:cubicBezTo>
                <a:cubicBezTo>
                  <a:pt x="372" y="16"/>
                  <a:pt x="388" y="14"/>
                  <a:pt x="399" y="67"/>
                </a:cubicBezTo>
                <a:cubicBezTo>
                  <a:pt x="410" y="120"/>
                  <a:pt x="369" y="333"/>
                  <a:pt x="429" y="386"/>
                </a:cubicBezTo>
                <a:cubicBezTo>
                  <a:pt x="489" y="439"/>
                  <a:pt x="699" y="440"/>
                  <a:pt x="762" y="385"/>
                </a:cubicBezTo>
                <a:cubicBezTo>
                  <a:pt x="825" y="330"/>
                  <a:pt x="793" y="109"/>
                  <a:pt x="807" y="55"/>
                </a:cubicBezTo>
                <a:cubicBezTo>
                  <a:pt x="821" y="1"/>
                  <a:pt x="833" y="7"/>
                  <a:pt x="846" y="61"/>
                </a:cubicBezTo>
                <a:cubicBezTo>
                  <a:pt x="859" y="115"/>
                  <a:pt x="833" y="322"/>
                  <a:pt x="885" y="379"/>
                </a:cubicBezTo>
                <a:cubicBezTo>
                  <a:pt x="937" y="436"/>
                  <a:pt x="1103" y="397"/>
                  <a:pt x="1160" y="40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Freeform 5"/>
          <p:cNvSpPr/>
          <p:nvPr/>
        </p:nvSpPr>
        <p:spPr>
          <a:xfrm>
            <a:off x="4464000" y="5602320"/>
            <a:ext cx="4572000" cy="588960"/>
          </a:xfrm>
          <a:prstGeom prst="pie">
            <a:avLst/>
          </a:prstGeom>
          <a:noFill/>
          <a:ln w="368280">
            <a:solidFill>
              <a:srgbClr val="0099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Line 7"/>
          <p:cNvSpPr/>
          <p:nvPr/>
        </p:nvSpPr>
        <p:spPr>
          <a:xfrm flipV="1">
            <a:off x="6757920" y="495000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/>
          <p:nvPr/>
        </p:nvSpPr>
        <p:spPr>
          <a:xfrm>
            <a:off x="5293440" y="542124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PGothic"/>
              </a:rPr>
              <a:t>10G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/>
          <p:nvPr/>
        </p:nvSpPr>
        <p:spPr>
          <a:xfrm>
            <a:off x="6267600" y="452124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PGothic"/>
              </a:rPr>
              <a:t>0.01% mark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/>
          <p:nvPr/>
        </p:nvSpPr>
        <p:spPr>
          <a:xfrm>
            <a:off x="6746760" y="603252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PGothic"/>
              </a:rPr>
              <a:t>1M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7093080" y="5853240"/>
            <a:ext cx="71280" cy="25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2653920" y="452592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PGothic"/>
              </a:rPr>
              <a:t>1% mark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3133440" y="603720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PGothic"/>
              </a:rPr>
              <a:t>1M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Freeform 5"/>
          <p:cNvSpPr/>
          <p:nvPr/>
        </p:nvSpPr>
        <p:spPr>
          <a:xfrm flipV="1">
            <a:off x="2496960" y="4970520"/>
            <a:ext cx="1629000" cy="588960"/>
          </a:xfrm>
          <a:prstGeom prst="pie">
            <a:avLst/>
          </a:prstGeom>
          <a:noFill/>
          <a:ln w="30492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reeform 6"/>
          <p:cNvSpPr/>
          <p:nvPr/>
        </p:nvSpPr>
        <p:spPr>
          <a:xfrm flipV="1">
            <a:off x="2470320" y="5761080"/>
            <a:ext cx="1509480" cy="465120"/>
          </a:xfrm>
          <a:prstGeom prst="pie">
            <a:avLst/>
          </a:prstGeom>
          <a:noFill/>
          <a:ln w="152280">
            <a:solidFill>
              <a:srgbClr val="00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Line 7"/>
          <p:cNvSpPr/>
          <p:nvPr/>
        </p:nvSpPr>
        <p:spPr>
          <a:xfrm>
            <a:off x="3144960" y="580248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Line 8"/>
          <p:cNvSpPr/>
          <p:nvPr/>
        </p:nvSpPr>
        <p:spPr>
          <a:xfrm>
            <a:off x="3147840" y="495468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Freeform 10"/>
          <p:cNvSpPr/>
          <p:nvPr/>
        </p:nvSpPr>
        <p:spPr>
          <a:xfrm flipV="1">
            <a:off x="3149640" y="5294160"/>
            <a:ext cx="457200" cy="130320"/>
          </a:xfrm>
          <a:prstGeom prst="pie">
            <a:avLst/>
          </a:prstGeom>
          <a:noFill/>
          <a:ln w="7632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3298680" y="5870160"/>
            <a:ext cx="10800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3298680" y="5186520"/>
            <a:ext cx="3672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/>
          <p:nvPr/>
        </p:nvSpPr>
        <p:spPr>
          <a:xfrm>
            <a:off x="2166480" y="522612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PGothic"/>
              </a:rPr>
              <a:t>300M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2166480" y="555156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PGothic"/>
              </a:rPr>
              <a:t>100M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3120840" y="4886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PGothic"/>
              </a:rPr>
              <a:t>3M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9"/>
          <p:cNvSpPr/>
          <p:nvPr/>
        </p:nvSpPr>
        <p:spPr>
          <a:xfrm flipV="1">
            <a:off x="3220920" y="5827680"/>
            <a:ext cx="385920" cy="138240"/>
          </a:xfrm>
          <a:prstGeom prst="pie">
            <a:avLst/>
          </a:pr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3166920" y="3807000"/>
            <a:ext cx="360072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6767640" y="3806640"/>
            <a:ext cx="360360" cy="7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6732720" y="2798640"/>
            <a:ext cx="0" cy="719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451640" y="1572840"/>
            <a:ext cx="0" cy="2089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6804000" y="1572840"/>
            <a:ext cx="0" cy="2089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732720" y="1572840"/>
            <a:ext cx="0" cy="2089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7092000" y="3410640"/>
            <a:ext cx="71280" cy="647640"/>
          </a:xfrm>
          <a:custGeom>
            <a:avLst/>
            <a:gdLst>
              <a:gd name="textAreaLeft" fmla="*/ 45720 w 71280"/>
              <a:gd name="textAreaRight" fmla="*/ 71640 w 7128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6732720" y="3699000"/>
            <a:ext cx="71280" cy="71280"/>
          </a:xfrm>
          <a:custGeom>
            <a:avLst/>
            <a:gdLst>
              <a:gd name="textAreaLeft" fmla="*/ 45720 w 71280"/>
              <a:gd name="textAreaRight" fmla="*/ 71640 w 71280"/>
              <a:gd name="textAreaTop" fmla="*/ 1800 h 71280"/>
              <a:gd name="textAreaBottom" fmla="*/ 69480 h 7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5644080" y="265428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PGothic"/>
              </a:rPr>
              <a:t>1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5366520" y="323064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PGothic"/>
              </a:rPr>
              <a:t>0.01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6084720" y="3483000"/>
            <a:ext cx="2087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6084720" y="2870280"/>
            <a:ext cx="2087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6831000" y="1538280"/>
            <a:ext cx="620640" cy="179280"/>
          </a:xfrm>
          <a:prstGeom prst="rect">
            <a:avLst/>
          </a:prstGeom>
          <a:solidFill>
            <a:srgbClr val="00cc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6808680" y="1898640"/>
            <a:ext cx="642960" cy="179280"/>
          </a:xfrm>
          <a:prstGeom prst="rect">
            <a:avLst/>
          </a:prstGeom>
          <a:solidFill>
            <a:srgbClr val="00cc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131920"/>
            <a:ext cx="71280" cy="34920"/>
          </a:xfrm>
          <a:prstGeom prst="rect">
            <a:avLst/>
          </a:prstGeom>
          <a:solidFill>
            <a:srgbClr val="00cc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6732720" y="2206800"/>
            <a:ext cx="71280" cy="34920"/>
          </a:xfrm>
          <a:prstGeom prst="rect">
            <a:avLst/>
          </a:prstGeom>
          <a:solidFill>
            <a:srgbClr val="00cc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/>
          <p:nvPr/>
        </p:nvSpPr>
        <p:spPr>
          <a:xfrm>
            <a:off x="6156360" y="2131920"/>
            <a:ext cx="71280" cy="34920"/>
          </a:xfrm>
          <a:prstGeom prst="rect">
            <a:avLst/>
          </a:prstGeom>
          <a:solidFill>
            <a:srgbClr val="00cc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/>
          <p:nvPr/>
        </p:nvSpPr>
        <p:spPr>
          <a:xfrm>
            <a:off x="6156360" y="2206800"/>
            <a:ext cx="71280" cy="34920"/>
          </a:xfrm>
          <a:prstGeom prst="rect">
            <a:avLst/>
          </a:prstGeom>
          <a:solidFill>
            <a:srgbClr val="00cc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/>
          <p:nvPr/>
        </p:nvSpPr>
        <p:spPr>
          <a:xfrm>
            <a:off x="7451640" y="2131920"/>
            <a:ext cx="71640" cy="34920"/>
          </a:xfrm>
          <a:prstGeom prst="rect">
            <a:avLst/>
          </a:prstGeom>
          <a:solidFill>
            <a:srgbClr val="00cc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7451640" y="2206800"/>
            <a:ext cx="71640" cy="34920"/>
          </a:xfrm>
          <a:prstGeom prst="rect">
            <a:avLst/>
          </a:prstGeom>
          <a:solidFill>
            <a:srgbClr val="00cc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/>
          <p:nvPr/>
        </p:nvSpPr>
        <p:spPr>
          <a:xfrm>
            <a:off x="7545240" y="1538280"/>
            <a:ext cx="482760" cy="179280"/>
          </a:xfrm>
          <a:prstGeom prst="rect">
            <a:avLst/>
          </a:prstGeom>
          <a:solidFill>
            <a:srgbClr val="00cc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/>
          <p:nvPr/>
        </p:nvSpPr>
        <p:spPr>
          <a:xfrm>
            <a:off x="7523280" y="1898640"/>
            <a:ext cx="504720" cy="179280"/>
          </a:xfrm>
          <a:prstGeom prst="rect">
            <a:avLst/>
          </a:prstGeom>
          <a:solidFill>
            <a:srgbClr val="00cc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/>
          <p:nvPr/>
        </p:nvSpPr>
        <p:spPr>
          <a:xfrm>
            <a:off x="6249960" y="1538280"/>
            <a:ext cx="482760" cy="179280"/>
          </a:xfrm>
          <a:prstGeom prst="rect">
            <a:avLst/>
          </a:prstGeom>
          <a:solidFill>
            <a:srgbClr val="00cc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/>
          <p:nvPr/>
        </p:nvSpPr>
        <p:spPr>
          <a:xfrm>
            <a:off x="6227640" y="1898640"/>
            <a:ext cx="505080" cy="179280"/>
          </a:xfrm>
          <a:prstGeom prst="rect">
            <a:avLst/>
          </a:prstGeom>
          <a:solidFill>
            <a:srgbClr val="00cc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/>
          <p:nvPr/>
        </p:nvSpPr>
        <p:spPr>
          <a:xfrm>
            <a:off x="6156360" y="1538280"/>
            <a:ext cx="288720" cy="144360"/>
          </a:xfrm>
          <a:prstGeom prst="rect">
            <a:avLst/>
          </a:prstGeom>
          <a:noFill/>
          <a:ln cap="rnd" w="28440">
            <a:solidFill>
              <a:srgbClr val="ff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5816520"/>
            <a:ext cx="12668400" cy="2117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82897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828972"/>
              </a:path>
            </a:pathLst>
          </a:cu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Line 7"/>
          <p:cNvSpPr/>
          <p:nvPr/>
        </p:nvSpPr>
        <p:spPr>
          <a:xfrm>
            <a:off x="6767640" y="580248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-ietf-conex-concepts-uses-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1157-488F-488F-8539-B5C19C7965C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F88ED6-A5EA-47CB-A780-607FDE618DA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Use-c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3 main use-cases reframed as one: traffic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ith 2 consequential use-cas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centivises LEDB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forms intra-class Q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tatistical Multiplexing over Differing Timescal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 property of ConEx used in the other use-ca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belongs under Concep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ntroduced a little in Intro &amp; under Traffic mgm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till need a brief explanation of this under Concepts to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ther Use-Cases” section created to contai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reventing congestion collap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form Inter-Operator Contra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form Capacity Provision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-ietf-conex-concepts-uses-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440D-FB62-4620-8D11-241AE1A122D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BE7C4C-0A54-4270-9FEE-ACF8E94026E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iling List response/contrib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Full reviews: Nandita, Alissa, Mika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ubstantial continuous review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ichael M, John L, Toby, Phil, Georgios, Dave Mc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-rewrite of Int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nd diagram bash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echanis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radeoff: concrete explanation vs prejudging deci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erminolo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freedom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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blame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ransport sender/recei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raffic 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tructuring main use-cases as sequenti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Non-Goals nearer e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dvert in “Concepts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mproved structure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-ietf-conex-concepts-uses-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B21D-DD91-41AF-ABE7-5E0B9142665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A5FB64-F423-46CC-9445-9DB7AE80E0B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roposed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ncep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efini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re Use Case: Informing Congestion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His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Existing Approach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Drawbacks of Existing Approach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Use Case Descrip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Other Use Ca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Creating Incentives for Scavenger Transpor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Supporting Intra-Class Quality of Servi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Preventing Congestion Collap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Informing Inter-Operator Contrac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Informing Capacity Provision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eployment Arrangements (see next slid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mmercial Secrecy as a Potential Deployment Barri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Non-Goa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curity Considerations, […etc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5334120" y="228600"/>
            <a:ext cx="3657600" cy="365760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8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alibri"/>
              </a:rPr>
              <a:t>Current Structure (-0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ncep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Definition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raffic 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Exposing Conges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nEx Use-Ca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nform the Operator's Traffic Manageme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Consequence: Incentivise Scavenger Transport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Consequence: User-Controlled Intra-Class Qo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ther Use-Cas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eployment Arrange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otential Issues or Non-Iss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ecurity Considerations,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[…etc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0" y="5100480"/>
            <a:ext cx="4386240" cy="130572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8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lissa Cooper becomes doc edi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(prize for proposing this :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outstanding issu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introduce downstream congestion &amp; ECN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early (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§2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) or late (e.g.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§4.4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)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-ietf-conex-concepts-uses-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0430-AD4A-4340-8A1A-AC505A83902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46F516-AFB7-40A5-AE42-524F00A2EDF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eployment Arrang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call top level go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one take-away message on what ConEx is good f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nd understanding of why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504d"/>
                </a:solidFill>
                <a:latin typeface="Calibri"/>
              </a:rPr>
              <a:t>…</a:t>
            </a:r>
            <a:r>
              <a:rPr b="0" lang="en-GB" sz="1800" spc="-1" strike="noStrike">
                <a:solidFill>
                  <a:srgbClr val="c0504d"/>
                </a:solidFill>
                <a:latin typeface="Calibri"/>
              </a:rPr>
              <a:t>and believable initial deploy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 Prague we promised to add th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de an attempt, but it won’t work, it can’t 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eployment is about mechanism compon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 huge lump to add to a doc that was avoiding mechanis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lternative proposal, 3 informational draft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nEx Concepts and Use-Ca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nEx Abstract Mechanis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nEx Single Network Deployment Scenari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#2 is prerequisite for #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brief section in #1 summarising and pointing to #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-ietf-conex-concepts-uses-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0F79-594B-4BA5-BD23-E7AC982161B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4E1C6E-4DFA-4B58-B7E6-B20F2E6C3A1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ordsmith Concep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ransplant out deployment arrang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eave a signpost to it in a dedicated small s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ordsmith use-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odus operand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ne section at a time to mailing li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im for WGLC around Nov 11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-ietf-conex-concepts-uses-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64D7-FBE7-40A7-97F9-16DBBDEC519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991617-9CA2-405C-A11F-19BD5F41A6A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t we Forget: Top Level Go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nges to draft since Mar-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ling List Reaction/Contrib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ployment Arrang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xt step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334BF-1F14-4785-BBE0-49B71C0C32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-ietf-conex-concepts-uses-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353E-D1B2-435D-AEEA-3D76BF420A1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B4D396-0530-45B3-AAAA-9297E85FC24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st we Forget: Top Level Go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eave reader with one take-away mess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at ConEx is good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d understanding of w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g chose traffic man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EDBAT &amp; QoS use-cases are conseque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ther use-cases must not confuse main mess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-ietf-conex-concepts-uses-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67CE-7505-4DEC-AD59-3BD11B80757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272EEF-958F-44AC-BCEA-279FF0AFB9B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hartered to submit to IESG Mar 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raft-02 posted 11 J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w editing te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b Briscoe &amp; Rich Woun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2f hand-over meetings (where possi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keep the body, change the first impres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w structure &amp; new text pasted to list &amp; bash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rough June/J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-ietf-conex-concepts-uses-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D58F-EC98-4F83-8D1A-33579538BAE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3980F1-691A-4167-9BF2-51022A8EB15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hanges to draft since Mar-11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uctural Cha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bstract &amp; Int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cepts, incl. Non-Goals &amp; Miscon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ther Use-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ployment Arrangements (discussed lat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-ietf-conex-concepts-uses-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7E6A-D13B-4FDB-B395-13F7AEC5211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2BA1AE-F2DE-49BA-B57B-9EB6B9E932A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al Cha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troduced Traffic Mgmt in Intro (see next slid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finitions → Concepts (incl. formal definitio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dded “Non-Goals &amp; Misconceptions” under Concepts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se-c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3 main use-cases reframed as one (traffic mgmt) with 2 conseque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tatistical Multiplexing over Differing Timescales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Concep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Other Use-Cases” section created for brief mentions of oth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ccounting for Congestion”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Other/interconn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elf-congestion, moved from Intro → Potential Iss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formation Security → Security Consider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460800" y="5791320"/>
            <a:ext cx="225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* plan to move ag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-ietf-conex-concepts-uses-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B876-1AC8-4B74-A67F-31414AF469A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901489-8005-4FE1-9239-CAE7BFE5503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urrent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oncep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raffic Man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xposing Cong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onEx Use-C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eployment Arrang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otential Issues or Non-Iss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ecurity Conside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-ietf-conex-concepts-uses-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81BD-AC7C-4FFF-87D4-1EBC98E0F73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89EDDB-79FF-4C9F-8AE3-6056B2BD282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962520" cy="26589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bstract &amp; Intr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oc as entry-point to ConEx docum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ummarised abstract-me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ocused to reflect traffic mgmt story in bo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ferred definition of congestion →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§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ferred overprovisioning argument →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§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voided justifying Traffic Mgmt, just “it exists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-ietf-conex-concepts-uses-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410E-5871-4F34-8B07-295F98A28B9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0D3D59-0B13-4A15-946E-D46D6AD561C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cep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ncep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eceded definitions with explanatory text on main concepts (next slid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ngestion definition now consistent with abstract-me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dded Non-Goals &amp; Miscon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ot fine-grained congestion control by oper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nforcing per-flow fairness considered harmf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ot substituting for capacity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ot eliminating all conges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ot included: ultisation vs conges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-ietf-conex-concepts-uses-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8FF4-7A38-4EDF-89BE-6CAE2AADFF3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09F810-8E46-4ACE-9550-D4A4C29D17A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7T16:42:27Z</dcterms:created>
  <dc:creator>David McDysan</dc:creator>
  <dc:description/>
  <dc:language>en-US</dc:language>
  <cp:lastModifiedBy>Bob Briscoe</cp:lastModifiedBy>
  <dcterms:modified xsi:type="dcterms:W3CDTF">2011-07-27T12:14:34Z</dcterms:modified>
  <cp:revision>52</cp:revision>
  <dc:subject/>
  <dc:title>ConEx Concepts and Use Cases                    draft-ietf-conex-concepts-uses-01</dc:title>
</cp:coreProperties>
</file>