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8B2E4-C651-494E-87A7-C14644A4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E3A60-D86F-4B79-B7D6-C7849854C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D01F5-18B6-412C-A085-F2B616A75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21698-230F-4B01-BC0C-4CDEC7519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D5B54-AF39-4037-B1E8-93C83427F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99DB6-6F58-4E64-A20C-1C8A8B560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51183-22BC-44A6-AA70-DD05CFD5B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89CEC-ED79-46A4-84B0-634921B87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F1828-0B25-4C67-8B04-F92782A3F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42CCB-634E-4D24-A9CD-B7EC2CAA8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A3C80-FEBF-4B17-B2AB-575B47603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59BAF-F51E-44B0-92DC-AE021AD93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1CDC7-A4D1-4505-A280-493BBBCA0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BFE36-022C-48D6-A6DC-167A62A11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25DA2-E6EE-4AE1-80D7-FC02EB3D7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56CC0-23AF-4625-AD1C-BD9B2B111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A05C1-1FA0-4BA3-97A4-60E518B36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5F46D-9642-4646-BCD2-32E906C0B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54427-701D-451A-94AA-2BA2C4AE7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81E82-D8FE-41DF-9D22-58464D59B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02C1-2D62-4E2C-A8F7-ACACBBC44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856C-AF72-48D7-9354-D9760802F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75FF1-17E5-4A44-A451-A2A2721F1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8399E-3782-4F8C-8791-2655C12F0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2DAE-7F34-4FD3-93B0-A6AC0258B5BF}"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046C-1270-4859-9696-DEDDAEEB51FF}"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047760"/>
            <a:ext cx="6842160" cy="3352680"/>
          </a:xfrm>
          <a:prstGeom prst="rect">
            <a:avLst/>
          </a:prstGeom>
          <a:noFill/>
          <a:ln w="0">
            <a:noFill/>
          </a:ln>
        </p:spPr>
        <p:txBody>
          <a:bodyPr anchor="b">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bar Rahman</a:t>
            </a:r>
            <a:br>
              <a:rPr sz="2400"/>
            </a:br>
            <a:r>
              <a:rPr b="0" lang="en-US" sz="2400" spc="-1" strike="noStrike">
                <a:solidFill>
                  <a:srgbClr val="000000"/>
                </a:solidFill>
                <a:latin typeface="Tahoma"/>
              </a:rPr>
              <a:t>Esko Dijk</a:t>
            </a:r>
            <a:br>
              <a:rPr sz="1600"/>
            </a:br>
            <a:br>
              <a:rPr sz="2400"/>
            </a:br>
            <a:br>
              <a:rPr sz="2400"/>
            </a:br>
            <a:br>
              <a:rPr sz="2400"/>
            </a:br>
            <a:r>
              <a:rPr b="0" lang="en-US" sz="2400" spc="-1" strike="noStrike">
                <a:solidFill>
                  <a:srgbClr val="000000"/>
                </a:solidFill>
                <a:latin typeface="Tahoma"/>
              </a:rPr>
              <a:t>IETF 81, July 2011</a:t>
            </a:r>
            <a:br>
              <a:rPr sz="3200"/>
            </a:br>
            <a:r>
              <a:rPr b="0" lang="en-US" sz="1600" spc="-1" strike="noStrike" u="sng">
                <a:solidFill>
                  <a:srgbClr val="ff0000"/>
                </a:solidFill>
                <a:uFillTx/>
                <a:latin typeface="Tahoma"/>
              </a:rPr>
              <a:t>http://tools.ietf.org/html/draft-rahman-core-groupcomm-06</a:t>
            </a:r>
            <a:endParaRPr b="1" lang="en-US" sz="1600" spc="-1" strike="noStrike">
              <a:solidFill>
                <a:srgbClr val="330066"/>
              </a:solidFill>
              <a:latin typeface="Arial"/>
            </a:endParaRPr>
          </a:p>
        </p:txBody>
      </p:sp>
      <p:sp>
        <p:nvSpPr>
          <p:cNvPr id="8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cc00"/>
          </a:solidFill>
          <a:ln w="5724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89" name="Rectangle 2"/>
          <p:cNvSpPr/>
          <p:nvPr/>
        </p:nvSpPr>
        <p:spPr>
          <a:xfrm>
            <a:off x="316080" y="466560"/>
            <a:ext cx="6781680" cy="2133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Group Communication for Co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BACKUP</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112" name="Text Box 3"/>
          <p:cNvSpPr/>
          <p:nvPr/>
        </p:nvSpPr>
        <p:spPr>
          <a:xfrm>
            <a:off x="250920" y="1521000"/>
            <a:ext cx="8569080" cy="4790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is draft is a follow up to our previous draft on “Sleeping and Multicast Considerations for CoAP” which was in a problem statement format:</a:t>
            </a:r>
            <a:endParaRPr b="0" lang="en-US" sz="24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http://tools.ietf.org/html/draft-rahman-core-sleeping-00</a:t>
            </a:r>
            <a:endParaRPr b="0" lang="en-US" sz="20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uring the previous CORE Webex calls, we were asked to produce satellite drafts to more precisely identify the problems and provide some initial solution proposals for:</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Group Communications (as the more general problem of multicast) – This draft</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leeping Nodes – TBD draft (but in progres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IP Multicast</a:t>
            </a:r>
            <a:endParaRPr b="0" lang="en-US" sz="3200" spc="-1" strike="noStrike">
              <a:solidFill>
                <a:srgbClr val="000000"/>
              </a:solidFill>
              <a:latin typeface="Arial"/>
            </a:endParaRPr>
          </a:p>
        </p:txBody>
      </p:sp>
      <p:sp>
        <p:nvSpPr>
          <p:cNvPr id="114" name="Text Box 3"/>
          <p:cNvSpPr/>
          <p:nvPr/>
        </p:nvSpPr>
        <p:spPr>
          <a:xfrm>
            <a:off x="250920" y="1413000"/>
            <a:ext cx="8569080" cy="5238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cept:</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P sub-networks to be connected directly to IP multicast enabled routers (e.g. running PIM-SM [RFC4601]).</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ending CoAP node can directly transmit group messages by setting IP address to selected multicast IP group addres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ceiver CoAP nodes use MLD [RFC3810] to subscribe (listen) to any messages sent to selected IP multicast group</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st efficient solution since done at IP layer</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LL [</a:t>
            </a:r>
            <a:r>
              <a:rPr b="0" lang="en-US" sz="2000" spc="-1" strike="noStrike">
                <a:solidFill>
                  <a:srgbClr val="000000"/>
                </a:solidFill>
                <a:latin typeface="Arial"/>
                <a:ea typeface="MS PGothic"/>
              </a:rPr>
              <a:t>draft-ietf-roll-rpl-14]</a:t>
            </a:r>
            <a:r>
              <a:rPr b="0" lang="en-US" sz="2000" spc="-1" strike="noStrike">
                <a:solidFill>
                  <a:srgbClr val="000000"/>
                </a:solidFill>
                <a:latin typeface="Tahoma"/>
                <a:ea typeface="Tahoma"/>
              </a:rPr>
              <a:t> assumes IP multicast supported</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P-03 draft [section 4.1] assumes IP multicast supported</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IP multicast is not generally deployed outside of corporate LANs and a few ISPs.  So we may specify IP multicast support but practically it may often not be deployed</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Overlay (Proxy based) Multicast (1/2)</a:t>
            </a:r>
            <a:endParaRPr b="0" lang="en-US" sz="3200" spc="-1" strike="noStrike">
              <a:solidFill>
                <a:srgbClr val="000000"/>
              </a:solidFill>
              <a:latin typeface="Arial"/>
            </a:endParaRPr>
          </a:p>
        </p:txBody>
      </p:sp>
      <p:sp>
        <p:nvSpPr>
          <p:cNvPr id="116" name="Text Box 3"/>
          <p:cNvSpPr/>
          <p:nvPr/>
        </p:nvSpPr>
        <p:spPr>
          <a:xfrm>
            <a:off x="250920" y="1413000"/>
            <a:ext cx="8569080" cy="535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cept:</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We define overlay multicast as one that utilizes an infrastructure based on proxies (rather than an IP router based multicast backbone) to deliver IP multicast packets to an end device</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nce ROLL and CoAP drafts already support MLD (see pg. 4), we propose MLD Proxy [RFC3810] to be used as the overlay multicast approach</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ecifically, the CoAP proxy node will also support Proxy MLD</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ceiver CoAP nodes use MLD Proxy signaling to subscribe (listen) to any messages sent to selected IP multicast group</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he CoAP (MLD) proxy node would be responsible for delivering any IP multicast message to the subscribed CoAP device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Note that the CoAP (MLD) proxy need not necessarily be connected to an external multicast backbon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Overlay (Proxy based) Multicast (2/2)</a:t>
            </a:r>
            <a:endParaRPr b="0" lang="en-US" sz="3200" spc="-1" strike="noStrike">
              <a:solidFill>
                <a:srgbClr val="000000"/>
              </a:solidFill>
              <a:latin typeface="Arial"/>
            </a:endParaRPr>
          </a:p>
        </p:txBody>
      </p:sp>
      <p:sp>
        <p:nvSpPr>
          <p:cNvPr id="118" name="Text Box 3"/>
          <p:cNvSpPr/>
          <p:nvPr/>
        </p:nvSpPr>
        <p:spPr>
          <a:xfrm>
            <a:off x="250920" y="1413000"/>
            <a:ext cx="8569080" cy="211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ies well into existing CoAP proxy concept</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It is not obvious that existing MLD Proxy [RFC 3810] allows the specific scenario we are proposing.  Further investigation required.</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CoAP Application level Group Mgmt</a:t>
            </a:r>
            <a:endParaRPr b="0" lang="en-US" sz="3200" spc="-1" strike="noStrike">
              <a:solidFill>
                <a:srgbClr val="000000"/>
              </a:solidFill>
              <a:latin typeface="Arial"/>
            </a:endParaRPr>
          </a:p>
        </p:txBody>
      </p:sp>
      <p:sp>
        <p:nvSpPr>
          <p:cNvPr id="120" name="Text Box 3"/>
          <p:cNvSpPr/>
          <p:nvPr/>
        </p:nvSpPr>
        <p:spPr>
          <a:xfrm>
            <a:off x="250920" y="1413000"/>
            <a:ext cx="8569080" cy="554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cept:</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form all group communications at the CoAP application level</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xpand CoAP headers to allow simple group mgmt functions (Join, Leave, etc.)</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he CoAP proxy node would be responsible for group mgmt</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y CoAP node that wanted to send a message to a CoAP group would first send the CoAP message to the proxy.  The proxy would then explode it out to the group</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unctionality fully within the CoAP protocol (and CORE WG control)</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alogous approach as Email group management (and other Apps)</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Has high overhead compared to lower layer solutions</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Resource Manipulation (1/3)</a:t>
            </a:r>
            <a:endParaRPr b="0" lang="en-US" sz="3200" spc="-1" strike="noStrike">
              <a:solidFill>
                <a:srgbClr val="000000"/>
              </a:solidFill>
              <a:latin typeface="Arial"/>
            </a:endParaRPr>
          </a:p>
        </p:txBody>
      </p:sp>
      <p:sp>
        <p:nvSpPr>
          <p:cNvPr id="122" name="Text Box 3"/>
          <p:cNvSpPr/>
          <p:nvPr/>
        </p:nvSpPr>
        <p:spPr>
          <a:xfrm>
            <a:off x="250920" y="1413000"/>
            <a:ext cx="8569080" cy="49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eeded to replicate functionality of existing standards, e.g. BACnet’s Alarm and Event Notification service</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wo forms of group resource manipulation should be supported:</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ush (PUT or MPUT) as for example “turn off all lights simultaneously”</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ull (GET or MGET) as for example “return all the resources matching a well known URI”</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nceptually, the result of a MGET or MPUT should be the same as if the client had unicast them serially</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Resource Manipulation (2/3)</a:t>
            </a:r>
            <a:endParaRPr b="0" lang="en-US" sz="3200" spc="-1" strike="noStrike">
              <a:solidFill>
                <a:srgbClr val="000000"/>
              </a:solidFill>
              <a:latin typeface="Arial"/>
            </a:endParaRPr>
          </a:p>
        </p:txBody>
      </p:sp>
      <p:sp>
        <p:nvSpPr>
          <p:cNvPr id="124" name="Text Box 3"/>
          <p:cNvSpPr/>
          <p:nvPr/>
        </p:nvSpPr>
        <p:spPr>
          <a:xfrm>
            <a:off x="250920" y="1413000"/>
            <a:ext cx="8569080" cy="57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imit manipulation to idempotent methods (PUT/GET/DEL)</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peat requests can then be used to increase reliability of receipt</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quires a consistent naming and addressing scheme for groups</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lticast is the easy case; can use DNS to resolve FQDN in authority to multicast or unicast address</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an a group be represented by a list of addresses as well?</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f so, perhaps this argues for a group scheme, e.g. “coapm” to signal a proxy to do fan-out task</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Resource Manipulation (3/3)</a:t>
            </a:r>
            <a:endParaRPr b="0" lang="en-US" sz="3200" spc="-1" strike="noStrike">
              <a:solidFill>
                <a:srgbClr val="000000"/>
              </a:solidFill>
              <a:latin typeface="Arial"/>
            </a:endParaRPr>
          </a:p>
        </p:txBody>
      </p:sp>
      <p:sp>
        <p:nvSpPr>
          <p:cNvPr id="126" name="Text Box 3"/>
          <p:cNvSpPr/>
          <p:nvPr/>
        </p:nvSpPr>
        <p:spPr>
          <a:xfrm>
            <a:off x="250920" y="1413000"/>
            <a:ext cx="8569080" cy="2885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arget resource must be located at same port and path for all group members</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uggests a need to advertise path, port or have a priori agreement</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100000"/>
              </a:lnSpc>
              <a:spcBef>
                <a:spcPts val="601"/>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curity Considerations</a:t>
            </a:r>
            <a:endParaRPr b="1" lang="en-US" sz="3900" spc="-1" strike="noStrike">
              <a:solidFill>
                <a:srgbClr val="330066"/>
              </a:solidFill>
              <a:latin typeface="Arial"/>
            </a:endParaRPr>
          </a:p>
        </p:txBody>
      </p:sp>
      <p:sp>
        <p:nvSpPr>
          <p:cNvPr id="128" name=""/>
          <p:cNvSpPr txBox="1"/>
          <p:nvPr/>
        </p:nvSpPr>
        <p:spPr>
          <a:xfrm>
            <a:off x="457200" y="1719360"/>
            <a:ext cx="8229600" cy="4411440"/>
          </a:xfrm>
          <a:prstGeom prst="rect">
            <a:avLst/>
          </a:prstGeom>
          <a:noFill/>
          <a:ln w="0">
            <a:noFill/>
          </a:ln>
        </p:spPr>
        <p:txBody>
          <a:bodyPr anchor="t">
            <a:normAutofit fontScale="95000"/>
          </a:bodyPr>
          <a:p>
            <a:pPr marL="325800" indent="-325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per major comment from IETF79 (Beijing), reviewed output of:</a:t>
            </a:r>
            <a:endParaRPr b="0" lang="en-US" sz="30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ETF MSEC (Multicast Security)</a:t>
            </a:r>
            <a:endParaRPr b="0" lang="en-US" sz="2600" spc="-1" strike="noStrike">
              <a:solidFill>
                <a:srgbClr val="000000"/>
              </a:solidFill>
              <a:latin typeface="Arial"/>
            </a:endParaRPr>
          </a:p>
          <a:p>
            <a:pPr lvl="2" marL="937800" indent="-27900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articular, [RFC3740], [RFC5374] and [RFC4046] are very instructive</a:t>
            </a:r>
            <a:endParaRPr b="0" lang="en-US" sz="23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RTF SAMRG (Scalable Adaptive Multicast Research Group)</a:t>
            </a:r>
            <a:endParaRPr b="0" lang="en-US" sz="26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derived the following requirements for securing group communications in CoA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AP Group Communications Concept</a:t>
            </a:r>
            <a:endParaRPr b="1" lang="en-US" sz="2800" spc="-1" strike="noStrike">
              <a:solidFill>
                <a:srgbClr val="330066"/>
              </a:solidFill>
              <a:latin typeface="Arial"/>
            </a:endParaRPr>
          </a:p>
        </p:txBody>
      </p:sp>
      <p:pic>
        <p:nvPicPr>
          <p:cNvPr id="91" name="Picture 2" descr=""/>
          <p:cNvPicPr/>
          <p:nvPr/>
        </p:nvPicPr>
        <p:blipFill>
          <a:blip r:embed="rId1"/>
          <a:stretch/>
        </p:blipFill>
        <p:spPr>
          <a:xfrm>
            <a:off x="1143000" y="819000"/>
            <a:ext cx="5838840" cy="6039000"/>
          </a:xfrm>
          <a:prstGeom prst="rect">
            <a:avLst/>
          </a:prstGeom>
          <a:ln w="0">
            <a:noFill/>
          </a:ln>
        </p:spPr>
      </p:pic>
      <p:sp>
        <p:nvSpPr>
          <p:cNvPr id="92" name="Line Callout 1 6"/>
          <p:cNvSpPr/>
          <p:nvPr/>
        </p:nvSpPr>
        <p:spPr>
          <a:xfrm>
            <a:off x="7315200" y="1295280"/>
            <a:ext cx="1523880" cy="841320"/>
          </a:xfrm>
          <a:prstGeom prst="borderCallout1">
            <a:avLst>
              <a:gd name="adj1" fmla="val 18750"/>
              <a:gd name="adj2" fmla="val -8333"/>
              <a:gd name="adj3" fmla="val 131361"/>
              <a:gd name="adj4" fmla="val -160421"/>
            </a:avLst>
          </a:prstGeom>
          <a:solidFill>
            <a:srgbClr val="850aff"/>
          </a:solidFill>
          <a:ln w="25560">
            <a:solidFill>
              <a:srgbClr val="850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Multiple receiver nodes form a group</a:t>
            </a:r>
            <a:endParaRPr b="0" lang="en-US" sz="1400" spc="-1" strike="noStrike">
              <a:solidFill>
                <a:srgbClr val="000000"/>
              </a:solidFill>
              <a:latin typeface="Arial"/>
            </a:endParaRPr>
          </a:p>
        </p:txBody>
      </p:sp>
      <p:sp>
        <p:nvSpPr>
          <p:cNvPr id="93" name="Line Callout 1 7"/>
          <p:cNvSpPr/>
          <p:nvPr/>
        </p:nvSpPr>
        <p:spPr>
          <a:xfrm>
            <a:off x="7010280" y="3886200"/>
            <a:ext cx="1676520" cy="1295280"/>
          </a:xfrm>
          <a:prstGeom prst="borderCallout1">
            <a:avLst>
              <a:gd name="adj1" fmla="val 18750"/>
              <a:gd name="adj2" fmla="val -8333"/>
              <a:gd name="adj3" fmla="val 105884"/>
              <a:gd name="adj4" fmla="val -126935"/>
            </a:avLst>
          </a:prstGeom>
          <a:solidFill>
            <a:srgbClr val="850aff"/>
          </a:solidFill>
          <a:ln w="25560">
            <a:solidFill>
              <a:srgbClr val="850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Content is distributed to all members of group (e.g. multicast, series of multicast, or serial unicast)</a:t>
            </a:r>
            <a:endParaRPr b="0" lang="en-US" sz="1400" spc="-1" strike="noStrike">
              <a:solidFill>
                <a:srgbClr val="000000"/>
              </a:solidFill>
              <a:latin typeface="Arial"/>
            </a:endParaRPr>
          </a:p>
        </p:txBody>
      </p:sp>
      <p:sp>
        <p:nvSpPr>
          <p:cNvPr id="94" name="Line Callout 1 8"/>
          <p:cNvSpPr/>
          <p:nvPr/>
        </p:nvSpPr>
        <p:spPr>
          <a:xfrm>
            <a:off x="7162920" y="2286000"/>
            <a:ext cx="1600200" cy="1371600"/>
          </a:xfrm>
          <a:prstGeom prst="borderCallout1">
            <a:avLst>
              <a:gd name="adj1" fmla="val 18750"/>
              <a:gd name="adj2" fmla="val -8333"/>
              <a:gd name="adj3" fmla="val 98240"/>
              <a:gd name="adj4" fmla="val -60296"/>
            </a:avLst>
          </a:prstGeom>
          <a:solidFill>
            <a:srgbClr val="850aff"/>
          </a:solidFill>
          <a:ln w="25560">
            <a:solidFill>
              <a:srgbClr val="850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Source (sender) sends a single message with content to the group address</a:t>
            </a:r>
            <a:endParaRPr b="0" lang="en-US" sz="1400" spc="-1" strike="noStrike">
              <a:solidFill>
                <a:srgbClr val="000000"/>
              </a:solidFill>
              <a:latin typeface="Arial"/>
            </a:endParaRPr>
          </a:p>
        </p:txBody>
      </p:sp>
      <p:sp>
        <p:nvSpPr>
          <p:cNvPr id="95" name="Line Callout 1 9"/>
          <p:cNvSpPr/>
          <p:nvPr/>
        </p:nvSpPr>
        <p:spPr>
          <a:xfrm>
            <a:off x="7620120" y="5562720"/>
            <a:ext cx="1218960" cy="914400"/>
          </a:xfrm>
          <a:prstGeom prst="borderCallout1">
            <a:avLst>
              <a:gd name="adj1" fmla="val 18750"/>
              <a:gd name="adj2" fmla="val -8333"/>
              <a:gd name="adj3" fmla="val 49078"/>
              <a:gd name="adj4" fmla="val -207736"/>
            </a:avLst>
          </a:prstGeom>
          <a:solidFill>
            <a:srgbClr val="850aff"/>
          </a:solidFill>
          <a:ln w="25560">
            <a:solidFill>
              <a:srgbClr val="850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Optional Respon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Group Security Requirements for CoAP (1/3)</a:t>
            </a:r>
            <a:endParaRPr b="1" lang="en-US" sz="3600" spc="-1" strike="noStrike">
              <a:solidFill>
                <a:srgbClr val="330066"/>
              </a:solidFill>
              <a:latin typeface="Arial"/>
            </a:endParaRPr>
          </a:p>
        </p:txBody>
      </p:sp>
      <p:sp>
        <p:nvSpPr>
          <p:cNvPr id="130" name=""/>
          <p:cNvSpPr txBox="1"/>
          <p:nvPr/>
        </p:nvSpPr>
        <p:spPr>
          <a:xfrm>
            <a:off x="457200" y="1719360"/>
            <a:ext cx="8229600" cy="4411440"/>
          </a:xfrm>
          <a:prstGeom prst="rect">
            <a:avLst/>
          </a:prstGeom>
          <a:noFill/>
          <a:ln w="0">
            <a:noFill/>
          </a:ln>
        </p:spPr>
        <p:txBody>
          <a:bodyPr anchor="t">
            <a:normAutofit fontScale="93000"/>
          </a:bodyPr>
          <a:p>
            <a:pPr marL="318960" indent="-31896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 Group communications data encryption:</a:t>
            </a:r>
            <a:endParaRPr b="0" lang="en-US" sz="20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 CoAP group communications shall be encrypted (using a group key) to preserve confidentiality. It shall also be possible to send CoAP group communications in the clear (i.e. unencrypted) for low value data.</a:t>
            </a:r>
            <a:endParaRPr b="0" lang="en-US" sz="16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2: Group communications source data authentication:</a:t>
            </a:r>
            <a:endParaRPr b="0" lang="en-US" sz="20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 CoAP group communications shall be authenticated by verifying the source of the data (i.e. that it was generated by a given and trusted group member). It shall also be possible to send unauthenticated CoAP group communications for low value data.</a:t>
            </a:r>
            <a:endParaRPr b="0" lang="en-US" sz="16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3: Group communications limited data authentication: </a:t>
            </a:r>
            <a:endParaRPr b="0" lang="en-US" sz="20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important CoAP group communications shall be authenticated by simply verifying that it originated from one of the group members (i.e. without explicitly identifying the source node). This is a weaker requirement (but simpler to implement) than REQ2. It shall also be possible to send unauthenticated CoAP group communications for low value dat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Group Security Requirements for CoAP (2/3)</a:t>
            </a:r>
            <a:endParaRPr b="1" lang="en-US" sz="3600" spc="-1" strike="noStrike">
              <a:solidFill>
                <a:srgbClr val="330066"/>
              </a:solidFill>
              <a:latin typeface="Arial"/>
            </a:endParaRPr>
          </a:p>
        </p:txBody>
      </p:sp>
      <p:sp>
        <p:nvSpPr>
          <p:cNvPr id="132" name=""/>
          <p:cNvSpPr txBox="1"/>
          <p:nvPr/>
        </p:nvSpPr>
        <p:spPr>
          <a:xfrm>
            <a:off x="457200" y="1719360"/>
            <a:ext cx="8229600" cy="4411440"/>
          </a:xfrm>
          <a:prstGeom prst="rect">
            <a:avLst/>
          </a:prstGeom>
          <a:noFill/>
          <a:ln w="0">
            <a:noFill/>
          </a:ln>
        </p:spPr>
        <p:txBody>
          <a:bodyPr anchor="t">
            <a:normAutofit fontScale="98000"/>
          </a:bodyPr>
          <a:p>
            <a:pPr marL="335880" indent="-3358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4: Group key management:</a:t>
            </a:r>
            <a:endParaRPr b="0" lang="en-US" sz="2000" spc="-1" strike="noStrike">
              <a:solidFill>
                <a:srgbClr val="000000"/>
              </a:solidFill>
              <a:latin typeface="Arial"/>
            </a:endParaRPr>
          </a:p>
          <a:p>
            <a:pPr lvl="1" marL="678240" indent="-3405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shall be a secure mechanism to manage the cryptographic keys (e.g. generation and distribution) belonging to the group; the state (e.g. current membership) associated with the keys; and other security parameters.</a:t>
            </a:r>
            <a:endParaRPr b="0" lang="en-US" sz="1600" spc="-1" strike="noStrike">
              <a:solidFill>
                <a:srgbClr val="000000"/>
              </a:solidFill>
              <a:latin typeface="Arial"/>
            </a:endParaRPr>
          </a:p>
          <a:p>
            <a:pPr lvl="1" marL="678240" indent="-3405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5: Use of Multicast IPSec: </a:t>
            </a:r>
            <a:endParaRPr b="0" lang="en-US" sz="2000" spc="-1" strike="noStrike">
              <a:solidFill>
                <a:srgbClr val="000000"/>
              </a:solidFill>
              <a:latin typeface="Arial"/>
            </a:endParaRPr>
          </a:p>
          <a:p>
            <a:pPr lvl="1" marL="678240" indent="-3405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AP protocol [I-D.ietf-core-coap] allows IPSec to be used as one option to secure CoAP. If IPSec is used at the CoAP level, then multicast IPSec [RFC5374] should be used for securing CoAP group communications.</a:t>
            </a:r>
            <a:endParaRPr b="0" lang="en-US" sz="1600" spc="-1" strike="noStrike">
              <a:solidFill>
                <a:srgbClr val="000000"/>
              </a:solidFill>
              <a:latin typeface="Arial"/>
            </a:endParaRPr>
          </a:p>
          <a:p>
            <a:pPr lvl="1" marL="678240" indent="-34056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6: Independence from underlying routing security: </a:t>
            </a:r>
            <a:endParaRPr b="0" lang="en-US" sz="2000" spc="-1" strike="noStrike">
              <a:solidFill>
                <a:srgbClr val="000000"/>
              </a:solidFill>
              <a:latin typeface="Arial"/>
            </a:endParaRPr>
          </a:p>
          <a:p>
            <a:pPr lvl="1" marL="678240" indent="-3405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P group communication security shall not be tied to the security of underlying routing and distribution protocols such as PIM [RFC4601] and ROLL [I-D.ietf-roll-rpl]. Insecure or inappropriate routing (including multicast routing) may cause loss of data to CoAP but will not affect the authenticity or secrecy of CoAP group communication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Group Security Requirements for CoAP (3/3)</a:t>
            </a:r>
            <a:endParaRPr b="1" lang="en-US" sz="3600" spc="-1" strike="noStrike">
              <a:solidFill>
                <a:srgbClr val="330066"/>
              </a:solidFill>
              <a:latin typeface="Arial"/>
            </a:endParaRPr>
          </a:p>
        </p:txBody>
      </p:sp>
      <p:sp>
        <p:nvSpPr>
          <p:cNvPr id="134"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7: Interaction with HTTPS: </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urity scheme for CoAP group communications shall account for the fact that it may need to interact with HTTPS (Hypertext Transfer Protocol Secure) when a transaction involves a node in the general Internet (non-constrained net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AP Multicast and HTTP Unicast Interworking (1/2)</a:t>
            </a:r>
            <a:endParaRPr b="1" lang="en-US" sz="3600" spc="-1" strike="noStrike">
              <a:solidFill>
                <a:srgbClr val="330066"/>
              </a:solidFill>
              <a:latin typeface="Arial"/>
            </a:endParaRPr>
          </a:p>
        </p:txBody>
      </p:sp>
      <p:pic>
        <p:nvPicPr>
          <p:cNvPr id="136" name="Picture 2" descr=""/>
          <p:cNvPicPr/>
          <p:nvPr/>
        </p:nvPicPr>
        <p:blipFill>
          <a:blip r:embed="rId1"/>
          <a:stretch/>
        </p:blipFill>
        <p:spPr>
          <a:xfrm>
            <a:off x="1828800" y="1390680"/>
            <a:ext cx="5181480" cy="5384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AP Multicast and HTTP Unicast Interworking (2/2)</a:t>
            </a:r>
            <a:endParaRPr b="1" lang="en-US" sz="3600" spc="-1" strike="noStrike">
              <a:solidFill>
                <a:srgbClr val="330066"/>
              </a:solidFill>
              <a:latin typeface="Arial"/>
            </a:endParaRPr>
          </a:p>
        </p:txBody>
      </p:sp>
      <p:sp>
        <p:nvSpPr>
          <p:cNvPr id="138" name=""/>
          <p:cNvSpPr txBox="1"/>
          <p:nvPr/>
        </p:nvSpPr>
        <p:spPr>
          <a:xfrm>
            <a:off x="457200" y="1719360"/>
            <a:ext cx="8229600" cy="4411440"/>
          </a:xfrm>
          <a:prstGeom prst="rect">
            <a:avLst/>
          </a:prstGeom>
          <a:noFill/>
          <a:ln w="0">
            <a:noFill/>
          </a:ln>
        </p:spPr>
        <p:txBody>
          <a:bodyPr anchor="t">
            <a:normAutofit fontScale="94000"/>
          </a:bodyPr>
          <a:p>
            <a:pPr marL="322200" indent="-3222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y node needs to have the following functionalities to interwork CoAP/UDP  (multicast) and HTTP/TCP (unicast):</a:t>
            </a:r>
            <a:endParaRPr b="0" lang="en-US" sz="20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HTTP Request will carry a URI (with HTTP scheme)</a:t>
            </a:r>
            <a:endParaRPr b="0" lang="en-US" sz="18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proxy node, the URI will then be again resolved (with CoAP scheme) to an IP multicast.  This may be accomplished, for example, by using DNS-SD</a:t>
            </a:r>
            <a:endParaRPr b="0" lang="en-US" sz="18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xy node will then multicast the CoAP Request to the appropriate nodes</a:t>
            </a:r>
            <a:endParaRPr b="0" lang="en-US" sz="18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P proxy can be considered to be a "non-transparent" proxy according to [RFC2616]: </a:t>
            </a:r>
            <a:endParaRPr b="0" lang="en-US" sz="24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RFC2616] states that a "non-transparent proxy is a proxy that modifies the request or response in order to provide some added service to the user agent, such as group annotation services, media type transformation, protocol reduction or anonymity filter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Requirements for Group Comm (1/4)</a:t>
            </a:r>
            <a:endParaRPr b="1" lang="en-US" sz="2800" spc="-1" strike="noStrike">
              <a:solidFill>
                <a:srgbClr val="330066"/>
              </a:solidFill>
              <a:latin typeface="Arial"/>
            </a:endParaRPr>
          </a:p>
        </p:txBody>
      </p:sp>
      <p:sp>
        <p:nvSpPr>
          <p:cNvPr id="97" name=""/>
          <p:cNvSpPr txBox="1"/>
          <p:nvPr/>
        </p:nvSpPr>
        <p:spPr>
          <a:xfrm>
            <a:off x="457200" y="1719360"/>
            <a:ext cx="8229600" cy="4411440"/>
          </a:xfrm>
          <a:prstGeom prst="rect">
            <a:avLst/>
          </a:prstGeom>
          <a:noFill/>
          <a:ln w="0">
            <a:noFill/>
          </a:ln>
        </p:spPr>
        <p:txBody>
          <a:bodyPr anchor="t">
            <a:normAutofit fontScale="91000"/>
          </a:bodyPr>
          <a:p>
            <a:pPr marL="312120" indent="-31212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 Selectable Reliability:</a:t>
            </a:r>
            <a:endParaRPr b="0" lang="en-US" sz="20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least unreliable group communication supported, but preferably reliable group communications as well if possible</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2: Efficiency:</a:t>
            </a:r>
            <a:endParaRPr b="0" lang="en-US" sz="20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messages more efficiently than a “serial unicast only” solution.  Also, it should provide a right balance between group data traffic and control overhead</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3: Low Latency: </a:t>
            </a:r>
            <a:endParaRPr b="0" lang="en-US" sz="20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 a message (preferably) as fast as possible</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4: Synchrony: </a:t>
            </a:r>
            <a:endParaRPr b="0" lang="en-US" sz="20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near-simultaneous modification of a resource on all devices in a group, providing to users a perceived effect of synchrony or simultaneity </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can be expressed as a time span “D” such that message “m” is delivered to all destinations in a time interval [t, t+D] for arbitrary “t” </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Requirements for Group Comm (2/4)</a:t>
            </a:r>
            <a:endParaRPr b="1" lang="en-US" sz="2800" spc="-1" strike="noStrike">
              <a:solidFill>
                <a:srgbClr val="330066"/>
              </a:solidFill>
              <a:latin typeface="Arial"/>
            </a:endParaRPr>
          </a:p>
        </p:txBody>
      </p:sp>
      <p:sp>
        <p:nvSpPr>
          <p:cNvPr id="99"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5: Ordering</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 to check what use cases require in terms of message ordering especially in multi-source situation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6: Security</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Backup slides for 7 security requirements (reviewed in IETF Prague)</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7: Flexibility: </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one or many source(s), for dense and sparse networks, for high or low listener density, one or many group(s), and multi-group membership</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8: Robust Group Management: </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functionality to join groups, leave groups, view group membership, and persistent group membership in failing node or sleeping node situation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Requirements for Group Comm (3/4)</a:t>
            </a:r>
            <a:endParaRPr b="1" lang="en-US" sz="2800" spc="-1" strike="noStrike">
              <a:solidFill>
                <a:srgbClr val="330066"/>
              </a:solidFill>
              <a:latin typeface="Arial"/>
            </a:endParaRPr>
          </a:p>
        </p:txBody>
      </p:sp>
      <p:sp>
        <p:nvSpPr>
          <p:cNvPr id="101"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9: Network Layer Independence</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olution should be specified independent from specific unicast and/or IP multicast routing protocol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hould support different routing protocols and implementations thereof</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0: Minimal Specification Overhead</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roup communication solution should preferably re-use existing/established (IETF) protocols that are suitable for Low Power Lossy Network (LLN) and standard backbone deployments, instead of defining new protocols from scratch</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1: Minimal Implementation Overhead</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 solution allows to re-use existing (software) components that are already present on constrained nodes such as (typical) 6LoWPAN/CoAP node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Requirements for Group Comm (4/4)</a:t>
            </a:r>
            <a:endParaRPr b="1" lang="en-US" sz="2800" spc="-1" strike="noStrike">
              <a:solidFill>
                <a:srgbClr val="330066"/>
              </a:solidFill>
              <a:latin typeface="Arial"/>
            </a:endParaRPr>
          </a:p>
        </p:txBody>
      </p:sp>
      <p:sp>
        <p:nvSpPr>
          <p:cNvPr id="103"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2: Mixed backbone/LLN Topology Support</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olution should work within a single LLN, and in combined LLN/backbone network topologies, including multi-LLN topologie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the senders and receivers of CoAP group messages may be attached to different network links or be part of different LLNs, possibly with routers or switches in between group member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different routing protocols may operate on the LLN and backbone networks.  Preferably a solution also works with existing, common backbone IP infrastructure (e.g. switches or router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3: CoAP Proxying Support</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AP proxy can handle distribution of a message to a group on behalf of a (constrained) CoAP client</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95280" y="257040"/>
            <a:ext cx="713088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otential Approaches for Group Communication</a:t>
            </a:r>
            <a:endParaRPr b="0" lang="en-US" sz="3200" spc="-1" strike="noStrike">
              <a:solidFill>
                <a:srgbClr val="000000"/>
              </a:solidFill>
              <a:latin typeface="Arial"/>
            </a:endParaRPr>
          </a:p>
        </p:txBody>
      </p:sp>
      <p:sp>
        <p:nvSpPr>
          <p:cNvPr id="105" name="Text Box 3"/>
          <p:cNvSpPr/>
          <p:nvPr/>
        </p:nvSpPr>
        <p:spPr>
          <a:xfrm>
            <a:off x="250920" y="1989000"/>
            <a:ext cx="8569080" cy="561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re are three alternative approaches possible for CoAP group communications each with associated pros/cons:</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P Multicast</a:t>
            </a:r>
            <a:endParaRPr b="0" lang="en-US" sz="2400" spc="-1" strike="noStrike">
              <a:solidFill>
                <a:srgbClr val="000000"/>
              </a:solidFill>
              <a:latin typeface="Arial"/>
            </a:endParaRPr>
          </a:p>
          <a:p>
            <a:pPr lvl="2" marL="1257480" indent="-343080">
              <a:lnSpc>
                <a:spcPct val="100000"/>
              </a:lnSpc>
              <a:spcBef>
                <a:spcPts val="499"/>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uters must support multicast protocols</a:t>
            </a:r>
            <a:endParaRPr b="0" lang="en-US" sz="20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Overlay Multicast</a:t>
            </a:r>
            <a:endParaRPr b="0" lang="en-US" sz="2400" spc="-1" strike="noStrike">
              <a:solidFill>
                <a:srgbClr val="000000"/>
              </a:solidFill>
              <a:latin typeface="Arial"/>
            </a:endParaRPr>
          </a:p>
          <a:p>
            <a:pPr lvl="2" marL="1257480" indent="-343080">
              <a:lnSpc>
                <a:spcPct val="100000"/>
              </a:lnSpc>
              <a:spcBef>
                <a:spcPts val="499"/>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P Proxy nodes must support hybrid multicast functionality</a:t>
            </a:r>
            <a:endParaRPr b="0" lang="en-US" sz="20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AP Application level Group Management</a:t>
            </a:r>
            <a:endParaRPr b="0" lang="en-US" sz="2400" spc="-1" strike="noStrike">
              <a:solidFill>
                <a:srgbClr val="000000"/>
              </a:solidFill>
              <a:latin typeface="Arial"/>
            </a:endParaRPr>
          </a:p>
          <a:p>
            <a:pPr lvl="2" marL="1257480" indent="-343080">
              <a:lnSpc>
                <a:spcPct val="100000"/>
              </a:lnSpc>
              <a:spcBef>
                <a:spcPts val="499"/>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P application layer must support multicast functionality</a:t>
            </a:r>
            <a:endParaRPr b="0" lang="en-US" sz="20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ee backup slides for more details - reviewed in previous IETFs)</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ed Solution (1/2)</a:t>
            </a:r>
            <a:endParaRPr b="0" lang="en-US" sz="3200" spc="-1" strike="noStrike">
              <a:solidFill>
                <a:srgbClr val="000000"/>
              </a:solidFill>
              <a:latin typeface="Arial"/>
            </a:endParaRPr>
          </a:p>
        </p:txBody>
      </p:sp>
      <p:sp>
        <p:nvSpPr>
          <p:cNvPr id="107" name="Text Box 3"/>
          <p:cNvSpPr/>
          <p:nvPr/>
        </p:nvSpPr>
        <p:spPr>
          <a:xfrm>
            <a:off x="250920" y="1521000"/>
            <a:ext cx="8569080" cy="505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e recommend that IP Multicast be adopted as the base solution for CoAP Group Communication</a:t>
            </a:r>
            <a:endParaRPr b="0" lang="en-US" sz="24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his approach requires no standards changes to the IP Multicast suite of protocol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It does, however, require carfully implementing pieces of IP Multicast functionality in an LLN, in a backbone network, or in both</a:t>
            </a:r>
            <a:endParaRPr b="0" lang="en-US" sz="20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mplementation strategies for the following target network topologies are outlined in the I-D:</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ngle LLN topology</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ngle LLN with backbone topology</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ltiple LLNs with backbone topology</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ed Solution (2/2)</a:t>
            </a:r>
            <a:endParaRPr b="0" lang="en-US" sz="3200" spc="-1" strike="noStrike">
              <a:solidFill>
                <a:srgbClr val="000000"/>
              </a:solidFill>
              <a:latin typeface="Arial"/>
            </a:endParaRPr>
          </a:p>
        </p:txBody>
      </p:sp>
      <p:sp>
        <p:nvSpPr>
          <p:cNvPr id="109" name="Text Box 3"/>
          <p:cNvSpPr/>
          <p:nvPr/>
        </p:nvSpPr>
        <p:spPr>
          <a:xfrm>
            <a:off x="250920" y="1521000"/>
            <a:ext cx="8569080" cy="434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 all network topologies that were evaluated, CoAP group communication can in principle be  supported with IP Multicast, making use of existing protocols</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so potential (but optional) optimizations were identified for an “MLD-like” or “MLD-lightweight” protocol specifically for LLNs, which would interwork with regular MLD on the backbone network</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G: A subset of MLD could be defined for an “MLD for 6LowPAN” to minimize complexity for constrained node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
  <dc:description/>
  <dc:language>en-US</dc:language>
  <cp:lastModifiedBy>RahmanSA</cp:lastModifiedBy>
  <dcterms:modified xsi:type="dcterms:W3CDTF">2011-07-27T03:59:17Z</dcterms:modified>
  <cp:revision>857</cp:revision>
  <dc:subject/>
  <dc:title>IETF CORE 8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68669863</vt:lpwstr>
  </property>
</Properties>
</file>