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FB1-4BFA-4B21-800B-98658423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272-DCB5-41C4-AABF-5EF992CE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B37-7291-446F-83BF-0F85939F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2C4-5374-47A8-8DF8-CC979B44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FA3-889E-4981-A4DC-22280843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5A5-B6FC-49DD-988D-08283859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0A3-3213-4297-BA56-C0307845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68C-9422-473D-B34D-5933A16B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938-9E6F-42C0-89F0-D753B34B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B80-8C9B-47CE-BD1C-06124462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AB5-A354-48D0-9578-6F858998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CE3-DA3B-4759-BC97-7360C380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D1E71-CD29-4D2E-A607-256418321A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ction on reordering detection is too complex. (Ticket #1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y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serve is a little bit too happy to drop an observation relationship at the slightest sign of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erver must make a commitment for some duration to notify the client even when the client doesn't seem to resp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7920" y="355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: It's difficult to send an observation relationship establishment request to a server when the server is sleeping most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sible solu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xy buffers requests on behalf of sleeping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c observation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 an observation relationship that is configu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8:37:35Z</dcterms:created>
  <dc:creator/>
  <dc:description/>
  <dc:language>en-US</dc:language>
  <cp:lastModifiedBy>Zach Shelby</cp:lastModifiedBy>
  <dcterms:modified xsi:type="dcterms:W3CDTF">2011-07-27T13:35:10Z</dcterms:modified>
  <cp:revision>6</cp:revision>
  <dc:subject/>
  <dc:title/>
</cp:coreProperties>
</file>