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82A-CE9B-4231-B074-094F7E45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C03-CFC6-459B-B77C-258885BE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3F4-621F-473E-BDA2-AE92294D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9B7-ECB8-44A1-9FCF-DEF9A856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AD3-2C09-4C6A-AD77-D933A1E6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2BA-B2DE-45FF-B12C-ECA140EF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B66-2BA0-40FA-BF32-72B22400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995-C345-4363-99E6-FC386AE4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B36-8F6D-49DC-94F1-D26BC926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0BC-7510-46C1-9C83-9E23EA8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A92-7AD5-4516-803A-D807CF0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966-1DCD-4AAE-B156-FB717792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B58E6-A932-4204-8681-4F745D866C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ction on reordering detection is too complex. (Ticket #1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y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serve is a little bit too happy to drop an observation relationship at the slightest sign of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erver must make a commitment for some duration to notify the client even when the client doesn't seem to resp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7920" y="355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: It's difficult to send an observation relationship establishment request to a server when the server is sleeping most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sible solu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xy buffers requests on behalf of sleeping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observation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an observation relationship that is configu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8:37:35Z</dcterms:created>
  <dc:creator/>
  <dc:description/>
  <dc:language>en-US</dc:language>
  <cp:lastModifiedBy>Zach Shelby</cp:lastModifiedBy>
  <dcterms:modified xsi:type="dcterms:W3CDTF">2011-07-27T13:35:10Z</dcterms:modified>
  <cp:revision>6</cp:revision>
  <dc:subject/>
  <dc:title/>
</cp:coreProperties>
</file>