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5E1E-5EEA-438F-B64C-A7D0870E2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1F57-BEEE-4947-81AC-D9833DEC3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3246-A52B-4757-8BBC-FC786678E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FB6F-6BA7-4B00-9036-BAEA25D17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F6C9-DE73-43A7-823D-8CB1602D9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4F6A-3327-4450-AD58-CA85C2BF1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0F6C-3D60-4B4E-8D20-C5753B830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9764-7129-454E-8F7A-69F4A9B3D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0A38-FD19-4224-A418-A59FACECA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2479-9078-499B-96E7-EDF829D2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E586-2AE5-4B1F-9035-7D1A48350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3E79-1572-4114-ABF6-215BAF791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78239-4CEF-4932-AE52-0FC8221F5F7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P Size Option Exten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raft-li-core-coap-size-option-01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26920" y="11556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rrent Issue 1: Post/P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900000" y="4652640"/>
            <a:ext cx="64008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Using Post/Put for a large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3"/>
          <p:cNvSpPr/>
          <p:nvPr/>
        </p:nvSpPr>
        <p:spPr>
          <a:xfrm>
            <a:off x="1403280" y="1197000"/>
            <a:ext cx="1440000" cy="5205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4"/>
          <p:cNvSpPr/>
          <p:nvPr/>
        </p:nvSpPr>
        <p:spPr>
          <a:xfrm>
            <a:off x="4643280" y="1197000"/>
            <a:ext cx="1441440" cy="5205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直接连接符 6"/>
          <p:cNvSpPr/>
          <p:nvPr/>
        </p:nvSpPr>
        <p:spPr>
          <a:xfrm>
            <a:off x="2124000" y="1719360"/>
            <a:ext cx="0" cy="2717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直接连接符 8"/>
          <p:cNvSpPr/>
          <p:nvPr/>
        </p:nvSpPr>
        <p:spPr>
          <a:xfrm>
            <a:off x="5364000" y="1700280"/>
            <a:ext cx="0" cy="2736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" name="直接箭头连接符 12"/>
          <p:cNvCxnSpPr/>
          <p:nvPr/>
        </p:nvCxnSpPr>
        <p:spPr>
          <a:xfrm>
            <a:off x="2124000" y="2204640"/>
            <a:ext cx="324072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0" name="TextBox 13"/>
          <p:cNvSpPr/>
          <p:nvPr/>
        </p:nvSpPr>
        <p:spPr>
          <a:xfrm>
            <a:off x="2843280" y="183672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st/Put: B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直接连接符 16"/>
          <p:cNvSpPr/>
          <p:nvPr/>
        </p:nvSpPr>
        <p:spPr>
          <a:xfrm>
            <a:off x="5364000" y="2995560"/>
            <a:ext cx="2160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直接连接符 18"/>
          <p:cNvSpPr/>
          <p:nvPr/>
        </p:nvSpPr>
        <p:spPr>
          <a:xfrm>
            <a:off x="5580000" y="2995560"/>
            <a:ext cx="0" cy="287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接箭头连接符 20"/>
          <p:cNvCxnSpPr/>
          <p:nvPr/>
        </p:nvCxnSpPr>
        <p:spPr>
          <a:xfrm flipH="1" flipV="1">
            <a:off x="5363640" y="3282120"/>
            <a:ext cx="21672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4" name="TextBox 21"/>
          <p:cNvSpPr/>
          <p:nvPr/>
        </p:nvSpPr>
        <p:spPr>
          <a:xfrm>
            <a:off x="5724360" y="285444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is too big to be accep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直接箭头连接符 23"/>
          <p:cNvCxnSpPr/>
          <p:nvPr/>
        </p:nvCxnSpPr>
        <p:spPr>
          <a:xfrm flipH="1" flipV="1">
            <a:off x="2194920" y="3715560"/>
            <a:ext cx="316908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6" name="TextBox 24"/>
          <p:cNvSpPr/>
          <p:nvPr/>
        </p:nvSpPr>
        <p:spPr>
          <a:xfrm>
            <a:off x="2340000" y="328464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.13 Request Entity Too La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30"/>
          <p:cNvSpPr/>
          <p:nvPr/>
        </p:nvSpPr>
        <p:spPr>
          <a:xfrm>
            <a:off x="324000" y="5397480"/>
            <a:ext cx="83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ssue: In this case the whole transmission has failed, and the previous received data will be useless. This is a waste of transmission resourc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1"/>
          <p:cNvSpPr/>
          <p:nvPr/>
        </p:nvSpPr>
        <p:spPr>
          <a:xfrm>
            <a:off x="2843280" y="400536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ansmission fai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7"/>
          <p:cNvSpPr/>
          <p:nvPr/>
        </p:nvSpPr>
        <p:spPr>
          <a:xfrm>
            <a:off x="3276720" y="2133720"/>
            <a:ext cx="50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26920" y="11556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rrent Issue 2: 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30"/>
          <p:cNvSpPr/>
          <p:nvPr/>
        </p:nvSpPr>
        <p:spPr>
          <a:xfrm>
            <a:off x="395280" y="1125360"/>
            <a:ext cx="835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urrent featur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Use link-format to retrieve the maximum estimated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It is not accurate, and the resource size may be chan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It is not possible for the requester to know exactly how many blocks will be transmitted,  therefore, concurrent Get can't be support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26920" y="11556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ze Op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30"/>
          <p:cNvSpPr/>
          <p:nvPr/>
        </p:nvSpPr>
        <p:spPr>
          <a:xfrm>
            <a:off x="468360" y="3141720"/>
            <a:ext cx="835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In Put/Post request and Get respons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-Indicate the resource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In Get request with Size=0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-Get the resource size, not the pay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17"/>
          <p:cNvSpPr/>
          <p:nvPr/>
        </p:nvSpPr>
        <p:spPr>
          <a:xfrm>
            <a:off x="1187280" y="1628640"/>
            <a:ext cx="567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+-------+------+---------+--------------+-----------+---------------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| Type | C/E | Name | Data type | Length | Default      |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+-------+------+---------+---------------+----------+---------------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| 12     | E     | Size     | uint            | 1-4 B   |                    |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+-------+------+---------+---------------+----------+---------------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2"/>
          <p:cNvSpPr/>
          <p:nvPr/>
        </p:nvSpPr>
        <p:spPr>
          <a:xfrm>
            <a:off x="468360" y="112536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ze Option in a Get respon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矩形 5"/>
          <p:cNvSpPr/>
          <p:nvPr/>
        </p:nvSpPr>
        <p:spPr>
          <a:xfrm>
            <a:off x="1187280" y="1341360"/>
            <a:ext cx="6985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ENT                                                                                 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|                                                                                               |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|          CON [MID=1234], GET, /status ------&gt;                     |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|                                                                                               |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| &lt;------ ACK [MID=1234], 2.00 OK, 0/1/128,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Size: 500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|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|                                                                                               |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|       CON [MID=1235], GET, /status, 1/0/128 ------&gt;       |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|                                                                                               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|       &lt;------ ACK [MID=1235], 2.00 OK, 1/1/128               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|                                                                                               |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|                                      ...      ...                                             |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|                                                                                               |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|     CON [MID=1280], GET, /status, 40/0/128 ------&gt;       |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|                                                                                               |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|         &lt;------ ACK [MID=1280], 2.00 OK, 40/0/128           |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|                                                                                               |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ze Option in a Put requ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矩形 5"/>
          <p:cNvSpPr/>
          <p:nvPr/>
        </p:nvSpPr>
        <p:spPr>
          <a:xfrm>
            <a:off x="1187280" y="1341360"/>
            <a:ext cx="6985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ENT                                                                                       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|                                                                                                      |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|                                                                                                      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| CON [MID=1234], Put, /options, 1/0/128,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Size: 500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--&gt; |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|                                                                                                      |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|   &lt;------ ACK [MID=1234], 4.13 Request Entity Too Large    |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|                                                                                                      |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|                                                                                                      |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|                                                                                                      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|                                                                                                      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3"/>
          <p:cNvSpPr/>
          <p:nvPr/>
        </p:nvSpPr>
        <p:spPr>
          <a:xfrm>
            <a:off x="395280" y="1133640"/>
            <a:ext cx="8497800" cy="34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en Issues from the discussion in the mailing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Should the Size option be Elective or Critical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Need analysis about the influence of the Block1/Block2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Need to check implementations about this 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xt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Is it OK for the group to accept this as a WG it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epeng Li </cp:lastModifiedBy>
  <dcterms:modified xsi:type="dcterms:W3CDTF">2011-07-21T08:03:15Z</dcterms:modified>
  <cp:revision>17</cp:revision>
  <dc:subject/>
  <dc:title>Size Option Extens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flag">
    <vt:lpwstr>1311214878</vt:lpwstr>
  </property>
</Properties>
</file>