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F2CF-C3F4-44DE-B140-33FD48D2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121-7D59-4213-A9F2-55B9EF64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3D36-7495-4506-B898-10C45907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37D-221B-4EEC-B24A-B4C9488B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E86-1D96-4180-80D3-A3877641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99A-CFB9-469B-BB40-132F2D0B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2B2-654A-4F44-83DE-8A0F8ACE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C42-0A1C-49CD-B583-D0460A64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64F-FC8F-46A8-A3DA-28E7F39E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3C13-4B04-49F4-9375-C33DCEB4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230-B6B9-456A-AD84-B0544049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F2F-A120-4BF7-AA82-215FA1A7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2C70-1F54-4D02-8B24-CFA8D3D831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P Size Option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-li-core-coap-size-option-0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Issue 1: Post/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00000" y="46526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ing Post/Put for a large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403280" y="1197000"/>
            <a:ext cx="1440000" cy="520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643280" y="1197000"/>
            <a:ext cx="1441440" cy="520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6"/>
          <p:cNvSpPr/>
          <p:nvPr/>
        </p:nvSpPr>
        <p:spPr>
          <a:xfrm>
            <a:off x="2124000" y="1719360"/>
            <a:ext cx="0" cy="27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8"/>
          <p:cNvSpPr/>
          <p:nvPr/>
        </p:nvSpPr>
        <p:spPr>
          <a:xfrm>
            <a:off x="5364000" y="1700280"/>
            <a:ext cx="0" cy="27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直接箭头连接符 12"/>
          <p:cNvCxnSpPr/>
          <p:nvPr/>
        </p:nvCxnSpPr>
        <p:spPr>
          <a:xfrm>
            <a:off x="2124000" y="2204640"/>
            <a:ext cx="32407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TextBox 13"/>
          <p:cNvSpPr/>
          <p:nvPr/>
        </p:nvSpPr>
        <p:spPr>
          <a:xfrm>
            <a:off x="2843280" y="1836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/Put: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6"/>
          <p:cNvSpPr/>
          <p:nvPr/>
        </p:nvSpPr>
        <p:spPr>
          <a:xfrm>
            <a:off x="5364000" y="2995560"/>
            <a:ext cx="21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18"/>
          <p:cNvSpPr/>
          <p:nvPr/>
        </p:nvSpPr>
        <p:spPr>
          <a:xfrm>
            <a:off x="5580000" y="2995560"/>
            <a:ext cx="0" cy="28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接箭头连接符 20"/>
          <p:cNvCxnSpPr/>
          <p:nvPr/>
        </p:nvCxnSpPr>
        <p:spPr>
          <a:xfrm flipH="1" flipV="1">
            <a:off x="5363640" y="3282120"/>
            <a:ext cx="2167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TextBox 21"/>
          <p:cNvSpPr/>
          <p:nvPr/>
        </p:nvSpPr>
        <p:spPr>
          <a:xfrm>
            <a:off x="5724360" y="28544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is too big to be 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直接箭头连接符 23"/>
          <p:cNvCxnSpPr/>
          <p:nvPr/>
        </p:nvCxnSpPr>
        <p:spPr>
          <a:xfrm flipH="1" flipV="1">
            <a:off x="2194920" y="3715560"/>
            <a:ext cx="31690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24"/>
          <p:cNvSpPr/>
          <p:nvPr/>
        </p:nvSpPr>
        <p:spPr>
          <a:xfrm>
            <a:off x="2340000" y="3284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13 Request Entity Too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0"/>
          <p:cNvSpPr/>
          <p:nvPr/>
        </p:nvSpPr>
        <p:spPr>
          <a:xfrm>
            <a:off x="324000" y="53974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sue: In this case the whole transmission has failed, and the previous received data will be useless. This is a waste of transmission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1"/>
          <p:cNvSpPr/>
          <p:nvPr/>
        </p:nvSpPr>
        <p:spPr>
          <a:xfrm>
            <a:off x="2843280" y="4005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mission fa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7"/>
          <p:cNvSpPr/>
          <p:nvPr/>
        </p:nvSpPr>
        <p:spPr>
          <a:xfrm>
            <a:off x="3276720" y="213372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Issue 2: 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0"/>
          <p:cNvSpPr/>
          <p:nvPr/>
        </p:nvSpPr>
        <p:spPr>
          <a:xfrm>
            <a:off x="395280" y="1125360"/>
            <a:ext cx="835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featu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Use link-format to retrieve the maximum estimated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t is not accurate, and the resource size may be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t is not possible for the requester to know exactly how many blocks will be transmitted,  therefore, concurrent Get can't be suppor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ze O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0"/>
          <p:cNvSpPr/>
          <p:nvPr/>
        </p:nvSpPr>
        <p:spPr>
          <a:xfrm>
            <a:off x="468360" y="314172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 Put/Post request and Get respon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-Indicate the resourc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 Get request with Size=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-Get the resource size, not the 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7"/>
          <p:cNvSpPr/>
          <p:nvPr/>
        </p:nvSpPr>
        <p:spPr>
          <a:xfrm>
            <a:off x="1187280" y="1628640"/>
            <a:ext cx="567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-------+------+---------+--------------+-----------+--------------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Type | C/E | Name | Data type | Length | Default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-------+------+---------+---------------+----------+--------------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12     | E     | Size     | uint            | 1-4 B   |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-------+------+---------+---------------+----------+--------------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468360" y="112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ze Option in a Get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1187280" y="1341360"/>
            <a:ext cx="69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                                                                                 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CON [MID=1234], GET, /status ------&gt;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&lt;------ ACK [MID=1234], 2.00 OK, 0/1/128,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ize: 500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CON [MID=1235], GET, /status, 1/0/128 ------&gt;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&lt;------ ACK [MID=1235], 2.00 OK, 1/1/128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...      ...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CON [MID=1280], GET, /status, 40/0/128 ------&gt;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&lt;------ ACK [MID=1280], 2.00 OK, 40/0/128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ze Option in a Put requ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1187280" y="1341360"/>
            <a:ext cx="69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                                                                                       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CON [MID=1234], Put, /options, 1/0/128,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ize: 500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&gt;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&lt;------ ACK [MID=1234], 4.13 Request Entity Too Large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                                                                  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395280" y="1133640"/>
            <a:ext cx="84978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Issues from the discussion in the 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hould the Size option be Elective or Critica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Need analysis about the influence of the Block1/Block2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Need to check implementations about this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s it OK for the group to accept this as a WG it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peng Li </cp:lastModifiedBy>
  <dcterms:modified xsi:type="dcterms:W3CDTF">2011-07-21T08:03:15Z</dcterms:modified>
  <cp:revision>17</cp:revision>
  <dc:subject/>
  <dc:title>Size Option Exten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214878</vt:lpwstr>
  </property>
</Properties>
</file>