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6497-6BBC-435E-8477-0E0032FAD53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two to the power of T“. T is from 0 to 255, Request-Timeout is from 2^0 ~ 2^2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3223-BDB7-4C45-9900-7ADB8708E2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1C6-9349-43B4-9774-507A97CA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E79-0DF7-4650-AB53-97F5593E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98F-F613-488D-BA1A-BB1B89EA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7FB-07C9-4CFC-AD46-FEB2BBFC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5A2-9E70-41F0-9D9A-52DEBEB2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8C3-DBDC-4367-91D6-52E74B26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0F8-F6E9-45FA-812C-81440503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D31-728C-40B5-9F23-B7DE4016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B1A-8BB3-49E6-8A88-31597FEA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172-7221-4FC0-941B-7C78D8E9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B29-EFF4-4F7D-A3B1-A04ADDFE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383-629B-4C74-83F4-2C3D8F2F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E115-89E1-4138-88BC-1E6A28A84A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P Request-Timeout O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4005000"/>
            <a:ext cx="79930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-li-core-coap-request-timeout-option-00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75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est-Timeout o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95280" y="1133640"/>
            <a:ext cx="849780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dicate the maximum time that a client is prepared to wait for a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lient knows how long it should wait for the response, and keeps state for the request for the indicat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fter the indicated time, client may give up the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t can avoid  that the server wastes resources by sending a response which already exceeds the set timeout of the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 transmission resource can be saved to avoid the retransmission of re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est-Timeout O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0"/>
          <p:cNvSpPr/>
          <p:nvPr/>
        </p:nvSpPr>
        <p:spPr>
          <a:xfrm>
            <a:off x="611280" y="348768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  1  2 3 4  5 6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+-+-+-+-+-+-+-+-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|            T             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+-+-+-+-+-+-+-+-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Request-Timeout = 2^T millisecond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7"/>
          <p:cNvSpPr/>
          <p:nvPr/>
        </p:nvSpPr>
        <p:spPr>
          <a:xfrm>
            <a:off x="1187280" y="162864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-------+------+--------------------------+--------------+-----------+--------------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Type | C/E |           Name              | Data type | Length | Default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-------+------+--------------------------+---------------+----------+--------------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20     | E     | Request-Timeout     | uint            | 0-1 B   |                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-------+------+---------------------------+---------------+----------+---------------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468360" y="112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68360" y="1341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            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-----------&gt; |                    Header: GET (T=CON, Code=1, MID=0x7d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GET     |                       Token: 0x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|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quest-Timeout: 00001011     (2048 milliseco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|                   Uri-Path: "temperatur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&lt;-------- ---+                     Header: 2.05 Content (T=ACK, Code=69, MID=0x7d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2.05    |                        Token: 0x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|                    Payload: "22.3 C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95280" y="1133640"/>
            <a:ext cx="84978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Issues from the discussion in the 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hould we use milliseconds or mibiseconds (1/1024s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ifferences between Request-Timeout and Connection-Time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Need to check implementations about this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s it OK for the group to accept this as a WG it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peng Li </cp:lastModifiedBy>
  <dcterms:modified xsi:type="dcterms:W3CDTF">2011-07-21T08:06:01Z</dcterms:modified>
  <cp:revision>24</cp:revision>
  <dc:subject/>
  <dc:title>Size Option Exten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235448</vt:lpwstr>
  </property>
</Properties>
</file>