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A257-BE01-49D6-A34B-0F34B47FE81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"two to the power of T“. T is from 0 to 255, Request-Timeout is from 2^0 ~ 2^25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43C9-7587-4582-92B0-004331FEAE3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CEE0-8AED-4DEB-9B98-E4FD0FCA0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955D-FBDF-4A02-AACF-ED3804F9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162E-2B8F-40E6-9683-63C2DB8B8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FCAF-581D-4080-B15A-CCDA37B7E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C6A3-A5C9-4220-B775-C9B03107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4A02-318E-4B2D-9437-B827FA72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4CD5-23AE-44C6-B0D8-0FC4AE9A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5D1D-B728-4BAB-9AE9-72D30EDF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0FAA-DB25-452F-ADA0-2FA1AC40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AE2D-6AF6-42CF-B4A2-6AD58BCF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36CE-1CED-4DE1-9427-B557DC57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2FA4-BD33-42C3-87EF-5C8E13D6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4C99-5B19-4057-82BB-0BB671CD49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P Request-Timeout O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280" y="4005000"/>
            <a:ext cx="799308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raft-li-core-coap-request-timeout-option-00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2753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est-Timeout o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395280" y="1133640"/>
            <a:ext cx="8497800" cy="50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Indicate the maximum time that a client is prepared to wait for a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Client knows how long it should wait for the response, and keeps state for the request for the indicate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After the indicated time, client may give up the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It can avoid  that the server wastes resources by sending a response which already exceeds the set timeout of the cl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he transmission resource can be saved to avoid the retransmission of reque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est-Timeout O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0"/>
          <p:cNvSpPr/>
          <p:nvPr/>
        </p:nvSpPr>
        <p:spPr>
          <a:xfrm>
            <a:off x="611280" y="3487680"/>
            <a:ext cx="835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  1  2 3 4  5 6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+-+-+-+-+-+-+-+-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|            T             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+-+-+-+-+-+-+-+-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Request-Timeout = 2^T milliseconds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7"/>
          <p:cNvSpPr/>
          <p:nvPr/>
        </p:nvSpPr>
        <p:spPr>
          <a:xfrm>
            <a:off x="1187280" y="1628640"/>
            <a:ext cx="734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-------+------+--------------------------+--------------+-----------+---------------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Type | C/E |           Name              | Data type | Length | Default  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-------+------+--------------------------+---------------+----------+---------------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20     | E     | Request-Timeout     | uint            | 0-1 B   |                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-------+------+---------------------------+---------------+----------+---------------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2"/>
          <p:cNvSpPr/>
          <p:nvPr/>
        </p:nvSpPr>
        <p:spPr>
          <a:xfrm>
            <a:off x="468360" y="112536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468360" y="134136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ent            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           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           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-----------&gt; |                    Header: GET (T=CON, Code=1, MID=0x7d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GET     |                       Token: 0x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            |  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Request-Timeout: 00001011     (2048 millisecon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            |                   Uri-Path: "temperatur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           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&lt;-------- ---+                     Header: 2.05 Content (T=ACK, Code=69, MID=0x7d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2.05    |                        Token: 0x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            |                    Payload: "22.3 C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           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395280" y="1133640"/>
            <a:ext cx="849780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n Issues from the discussion in the mailing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Should we use milliseconds or mibiseconds (1/1024s)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Differences between Request-Timeout and Connection-Time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Need to check implementations about this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Is it OK for the group to accept this as a WG it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epeng Li </cp:lastModifiedBy>
  <dcterms:modified xsi:type="dcterms:W3CDTF">2011-07-21T08:06:01Z</dcterms:modified>
  <cp:revision>24</cp:revision>
  <dc:subject/>
  <dc:title>Size Option Extens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311235448</vt:lpwstr>
  </property>
</Properties>
</file>