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F6DE-BB97-4B18-98D1-60B37A818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5ADE-B787-45F5-947B-668059E31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1D52-D377-4CA3-AAC1-8450683CD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3F4C-C5A8-438C-8C64-491B20D05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8B76-3EEE-45FE-8770-E933F30F7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8775-CD91-401C-9E7F-F4D281B5DB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F0C8-8CB2-41D6-9355-112AAD8E5F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D00F-0386-487E-B4F1-657A9EE73C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1DB5-8283-4F77-BE56-D6E570DF17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EBFC-B95C-4346-9F8B-7E49383A5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5C8E-5C9A-47FE-97AD-4EAFD60CAC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967B-A778-4D92-B249-C99406DB0C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620C-F62F-4246-8CFB-FD8FE72B1F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F914-16B8-46F3-AFB3-0F32658888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5C32-D12B-4BEA-ACEA-1F6E768D46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843A-06D0-4201-B021-6096177AF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6A45-232F-496C-919F-DAB148246E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373E-6178-4E54-8CD9-0DAE00EE02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219-8DB8-4F9C-91F3-05C515391E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4C4-4B1B-4276-95AE-B43073AAAD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A20-25EE-4DB2-9C7D-3A8ECD515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958C-A0B6-4632-951F-959FAAFE97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541-D4C8-4CBE-95DA-53C6E42F11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20B-4BF6-4B2C-B3EA-ECB6BF3C05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944-C5BD-4C47-A0F4-B62F46C18E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510-9BFE-443E-BADE-FC29903EAD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CE9-F796-48B5-A7F8-AF51E39D97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E61-F537-42FC-B769-3E1F065B6E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A95-509B-4ED9-BE06-7D392716A2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D59-86A5-4FDA-8831-71C081B64D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20C-C6B1-44C1-A423-CEE96995BD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FDDA6-6B2F-49EA-9B61-03F1EE916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6A25-B10E-4DD8-8F11-076FA1F5952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7DCF-511F-49C8-AB71-5259FFD321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78D6C-B0C5-46F7-9F91-0ADB2692A70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92E45-A56F-4D48-8F5F-FBB2B94FED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02F57-5334-4BC2-B1FD-B1CD3E6437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469D-0B6B-4E45-9FAF-BD96126362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04EA-2410-483A-A9F8-B61F9A82AB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08A3F-C300-4599-829F-55994F13C5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3ACE2-C4E6-478F-8C43-67E3F556E7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07A0B-2C8F-41CD-949D-04C4400C5B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60F9F-2B6E-4EF8-B6CA-E0E7064FF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50AB-5382-4129-832C-98B682C90D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8ECED-F52D-46D0-8C3F-5E88FC4849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3EB3-D46D-4107-A89A-D4E63E9FBF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196F-5EE4-4F26-9CBF-DF8FE4E5A1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DF29-2540-4B3A-A3EF-8FDA89E216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21758-802C-489E-84F3-314E354463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E5C3-40CC-45F8-BA05-4A79936BAF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1ACC-5DB6-4C17-B836-F0DB3C25F3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D50ED-F9D1-4A2D-B39E-85E0D22994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C22D-9DC2-40AB-88F7-8EBC997B4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010-E4B4-4501-AC8D-12C1889660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235BE-2107-4175-B3C0-854B37F9CD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C386F-9960-493E-95C9-C70D392EA9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0002-38BD-45D8-9DAF-CA25362862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7209-E721-4992-82E0-722CDE65F6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B197-82D7-44B7-A027-BF7235B55A8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247D-69BC-482C-88B3-739C82697D6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5280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2000" y="19807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52000" y="45280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9076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4680" y="45280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73188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1589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4767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9D4-97D0-4F68-A5AE-3BBCD1A82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040" y="564840"/>
            <a:ext cx="835992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92040" y="1714320"/>
            <a:ext cx="83599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57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82960" indent="-2541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04F9-A420-46D9-9E53-0183A1297F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Num" idx="3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F2A-0A83-4548-ABB8-75865E5BF3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496800" y="6581880"/>
            <a:ext cx="66294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rch 30, 2011, Re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8742240" y="6591240"/>
            <a:ext cx="154080" cy="1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C1D1-FB9F-410D-B6EB-80D6C464F1A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Num" idx="5"/>
          </p:nvPr>
        </p:nvSpPr>
        <p:spPr>
          <a:xfrm>
            <a:off x="8604000" y="64767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D8B6-1D0C-4367-8EB6-324F045BF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liennummernplatzhalter 3"/>
          <p:cNvSpPr/>
          <p:nvPr/>
        </p:nvSpPr>
        <p:spPr>
          <a:xfrm>
            <a:off x="7359480" y="64771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D409-1356-4EAA-8E80-0F226582A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33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6lowapp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re@IETF80, 2011-03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Milestones (from WG charter page)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atatracker.ietf.org/w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co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char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 Bold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5680" y="1980720"/>
            <a:ext cx="84708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ocument submissions to IESG: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Apr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lect WG doc for basis of CoAP protoco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ec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1 – CoAP spec</a:t>
            </a:r>
            <a:r>
              <a:rPr b="0" lang="en-US" sz="2400" spc="-1" strike="noStrike" baseline="32000">
                <a:solidFill>
                  <a:srgbClr val="000000"/>
                </a:solidFill>
                <a:latin typeface="Arial Bold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with mapping to HTTP R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ubmitted to IESG as PS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Dec 2010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2 – Constrained security bootstrapping sp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ubmitted to IESG as PS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Jan 2011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charter to add thing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duced out of initial scope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liennummernplatzhalter 3"/>
          <p:cNvSpPr/>
          <p:nvPr/>
        </p:nvSpPr>
        <p:spPr>
          <a:xfrm>
            <a:off x="7359480" y="64771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1FD-700E-4145-A266-6D6F515AC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533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6lowapp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 Bold"/>
                <a:ea typeface="Arial Narrow Bold"/>
              </a:rPr>
              <a:t>core@IETF80, 2011-03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Updated Milest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pic>
        <p:nvPicPr>
          <p:cNvPr id="312" name="Rectangle 4" descr=""/>
          <p:cNvPicPr/>
          <p:nvPr/>
        </p:nvPicPr>
        <p:blipFill>
          <a:blip r:embed="rId1"/>
          <a:stretch/>
        </p:blipFill>
        <p:spPr>
          <a:xfrm>
            <a:off x="347760" y="1974960"/>
            <a:ext cx="8485200" cy="488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45:22Z</dcterms:created>
  <dc:creator>Carsten Bormann</dc:creator>
  <dc:description/>
  <cp:keywords/>
  <dc:language>en-US</dc:language>
  <cp:lastModifiedBy>Zach Shelby</cp:lastModifiedBy>
  <dcterms:modified xsi:type="dcterms:W3CDTF">2011-07-27T17:12:33Z</dcterms:modified>
  <cp:revision>9</cp:revision>
  <dc:subject/>
  <dc:title>6lowpan IETF 72</dc:title>
</cp:coreProperties>
</file>