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DA7D-B5DD-4F8B-A665-EA808EC24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22B3-5470-4D04-A769-85233EE5C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123F-EFDB-4A6F-A166-25AB54C5A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68E2-7001-4A73-8E8B-4A067748E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750E-5CFE-4888-9E8D-CD7E5A445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F791-714E-4E53-8049-22C8CD569F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84D0-9E72-4CB6-AB8F-F757514516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B26D-89EA-4E3A-B33D-92EC36978A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42CA-A50A-467F-B289-477AB219A4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B4C7-DB35-4E41-9640-19E94860B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1159-025E-47A8-96E6-39A9535D52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2B9F-3E35-48DD-8546-17D64438DF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A1C2-7B2F-467F-AB31-09450C29A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9647-B5D4-48F6-9D4A-5A3ECD0AF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ADA2-36A3-4F76-AF1A-6D2448CBF3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0F90-702E-4127-A8AD-AD37DFD2D3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BC97-95EC-4B26-9EB4-B488E946A8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3604-74C5-49C5-BDDC-85C7FBBDD6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213-90BE-48FB-AAFC-D48B0ABAD0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77E-2267-4608-A219-B571354E52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78C-2BA1-4DA6-AAE7-8CABF2921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BFAE-78E7-4BCD-89C2-7FF4C94177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F24-B8B4-46AD-9AC5-05CC536AE8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ACD-A8B7-4873-9705-35923BE254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CCA-78D1-45DB-B0E5-3792140571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2EE-0CDD-405B-B74C-396C88D53C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E6D-DF24-4439-9D4B-320D62C4E9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E45-AECB-4715-9263-33CBB448A3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3A9-BE09-4EAA-A6A4-383DB27191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B13-1F4F-4AFB-8E61-92ED69A86A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FB8-E352-4BD5-9624-7DE47893CA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0697F-443B-41A8-83FA-E54133218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4DE9-23B0-42A4-B95D-604C6B978A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2FA41-52CD-44CE-AA3C-DD566F37FB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353F0-DFC1-4A73-AA62-D5BD186B7F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4F68A-4781-43EF-B64B-88408905AF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1342-6B61-4725-B2A3-F5E875594B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865F-D3E7-4A85-9F86-DD7CFCC52B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232DF-E4A5-4C6A-91C7-EF053AD84D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E150-6A1C-4207-B464-8DFFAB3322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96896-FD86-4A89-B51C-50611B6790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777B9-20BA-4F50-A100-B3A1D4EBCF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CCB27-D754-470C-BD73-9477D618D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2712-BB12-457D-B115-635A7B9FB2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48D37-442C-47E6-9B27-2AFFEA7C0B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5E95-3B2D-4646-8CAC-211E03C8EA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8EA6C-A82D-44C4-BDCF-3FF4D9E736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EF516-223B-47F2-A416-CD37929E7E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6111F-27FE-439A-B23C-B4767FC517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05DE5-87AE-42D4-A003-6DB9B74D22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7D2ED-910A-4E69-88EA-0AB866FB94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46033-1B01-4FDA-A8E7-B1F7EC4DFE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5041-FD56-4383-A43B-C7DB0BA58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62C1-743E-4E71-9A6C-223985F49E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54ECA-3C88-428A-9BD6-E47FA2EF48A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888A3-A070-4420-8BAC-09CF1E5A7B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0C458-E326-4501-B5FE-CD94A20A0E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11277-E49A-4084-8235-97151FB629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BF11-E199-4069-97C8-22FC6D7343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084-5DC4-4D91-9C69-C7D1E64E25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73188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1589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4767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32A-09B1-4080-914D-05528ABCF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040" y="564840"/>
            <a:ext cx="835992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92040" y="1714320"/>
            <a:ext cx="83599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57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C534-6D63-478C-8A4B-55949D89571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Num" idx="3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05E-84DA-4D72-BC4D-A042540B9D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2FB-F98D-41DA-BDD9-4C89EC74C4A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Num" idx="5"/>
          </p:nvPr>
        </p:nvSpPr>
        <p:spPr>
          <a:xfrm>
            <a:off x="8604000" y="64767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A84F-C6C8-46BC-8A13-4F3B8AE69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liennummernplatzhalter 3"/>
          <p:cNvSpPr/>
          <p:nvPr/>
        </p:nvSpPr>
        <p:spPr>
          <a:xfrm>
            <a:off x="7359480" y="64771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06EF-C25C-41BC-93E4-920B015CE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33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6lowapp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re@IETF80, 2011-03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Milestones (from WG charter page)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atatracker.ietf.org/w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co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char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 Bold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5680" y="1980720"/>
            <a:ext cx="84708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ocument submissions to IESG: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Apr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lect WG doc for basis of CoAP protoco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ec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1 – CoAP spec</a:t>
            </a:r>
            <a:r>
              <a:rPr b="0" lang="en-US" sz="2400" spc="-1" strike="noStrike" baseline="32000">
                <a:solidFill>
                  <a:srgbClr val="000000"/>
                </a:solidFill>
                <a:latin typeface="Arial Bold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with mapping to HTTP R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ubmitted to IESG as PS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ec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2 – Constrained security bootstrapping sp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ubmitted to IESG as PS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Jan 2011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charter to add thing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duced out of initial scope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liennummernplatzhalter 3"/>
          <p:cNvSpPr/>
          <p:nvPr/>
        </p:nvSpPr>
        <p:spPr>
          <a:xfrm>
            <a:off x="7359480" y="64771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6494-8D7C-4A44-BCAE-AFB06346A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533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6lowapp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re@IETF80, 2011-03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Updated Milest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pic>
        <p:nvPicPr>
          <p:cNvPr id="312" name="Rectangle 4" descr=""/>
          <p:cNvPicPr/>
          <p:nvPr/>
        </p:nvPicPr>
        <p:blipFill>
          <a:blip r:embed="rId1"/>
          <a:stretch/>
        </p:blipFill>
        <p:spPr>
          <a:xfrm>
            <a:off x="347760" y="1974960"/>
            <a:ext cx="8485200" cy="488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45:22Z</dcterms:created>
  <dc:creator>Carsten Bormann</dc:creator>
  <dc:description/>
  <cp:keywords/>
  <dc:language>en-US</dc:language>
  <cp:lastModifiedBy>Zach Shelby</cp:lastModifiedBy>
  <dcterms:modified xsi:type="dcterms:W3CDTF">2011-07-27T17:12:33Z</dcterms:modified>
  <cp:revision>9</cp:revision>
  <dc:subject/>
  <dc:title>6lowpan IETF 72</dc:title>
</cp:coreProperties>
</file>