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002-D1F6-46AF-93A3-7CFC9714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A14-8BA3-4905-8D1A-3AFF0600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53D-2C18-497F-849D-A00D94ED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2B6-7BC7-4CF3-B525-07A7FA95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D02-86EC-47C2-B925-EBC9CA5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55D-9BFB-463C-B77D-4A71344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CD9-CF14-4D58-A765-9CF53E4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67C-01A7-4C39-9F6D-26531B5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A57-79F9-4815-90F4-8200E1AC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D0B-DB75-4EC7-8CC8-95A300B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DFF-8290-44E7-BDAF-2A66B90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199-6C24-4256-9307-A88042C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A8AC-F646-49ED-B1E7-F6BB8D09D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s for Sta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[RFC2616] requires that caches "respond to a request with the most up-to-date response held... that is appropriate to the request," although "in carefully considered circumstances" a stale response is allowed to be returned.  This document defines two independent Cache-Control extensions that allow for such control, stale-if-error and stale-while-revali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le-if-error HTTP Cache-Control extension allows a cache to return a stale response when an error -- e.g., a 500 Internal Server Error, a network segment, or DNS failure -- is encountered, rather than returning a "hard" error.  This improves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le-while-revalidate HTTP Cache-Control extension allows a cache to immediately return a stale response while it revalidates it in the background, thereby hiding latency (both in the network and on the server) from cl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0" y="5479920"/>
            <a:ext cx="159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600" spc="-1" strike="noStrike">
                <a:solidFill>
                  <a:srgbClr val="b3b3b3"/>
                </a:solidFill>
                <a:latin typeface="Arial"/>
              </a:rPr>
              <a:t>RFC568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al: Add a Stale-If-Error and Stale-While-Revalidate Option (both elective) to I-D.ietf-core-c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mproves availability &amp; Hides latency an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mplementation experience within HTTP (S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taleness Model useful for sleepy serv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n observ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on't implement it if you don'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wo additional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2:37:05Z</dcterms:created>
  <dc:creator/>
  <dc:description/>
  <dc:language>en-US</dc:language>
  <cp:lastModifiedBy/>
  <dcterms:modified xsi:type="dcterms:W3CDTF">2011-07-26T03:15:29Z</dcterms:modified>
  <cp:revision>2</cp:revision>
  <dc:subject/>
  <dc:title/>
</cp:coreProperties>
</file>