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054C-B3B3-4590-963C-11CE6A3BD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32D9-DDF4-4C61-91D3-ADF12E88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2DFA-3836-4F94-BD95-02879E7A3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C828-CAFE-45BF-83DD-60F4CC7BE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0417-A894-4B20-93B0-C132C525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F742-C5E2-42D4-9B07-24D8C95F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5FFE-C78B-4AE5-9EA7-3D79D20F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7864-6EA3-499C-8E75-CE11487F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4D04-8E5D-44C6-A3E1-2CE9B46D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71A2-4AC6-48DD-81BB-FCF284E5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A69F-9507-49D1-B08E-73EB9004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BEFC-BF71-4688-82AE-2C7FD6ED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B6C42-2B07-44F4-A16A-77BEEC81D3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tions for Stale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[RFC2616] requires that caches "respond to a request with the most up-to-date response held... that is appropriate to the request," although "in carefully considered circumstances" a stale response is allowed to be returned.  This document defines two independent Cache-Control extensions that allow for such control, stale-if-error and stale-while-revalid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920000" y="5479920"/>
            <a:ext cx="159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600" spc="-1" strike="noStrike">
                <a:solidFill>
                  <a:srgbClr val="b3b3b3"/>
                </a:solidFill>
                <a:latin typeface="Arial"/>
              </a:rPr>
              <a:t>RFC568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tale-if-error HTTP Cache-Control extension allows a cache to return a stale response when an error -- e.g., a 500 Internal Server Error, a network segment, or DNS failure -- is encountered, rather than returning a "hard" error.  This improves avail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920000" y="5479920"/>
            <a:ext cx="159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600" spc="-1" strike="noStrike">
                <a:solidFill>
                  <a:srgbClr val="b3b3b3"/>
                </a:solidFill>
                <a:latin typeface="Arial"/>
              </a:rPr>
              <a:t>RFC568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tale-while-revalidate HTTP Cache-Control extension allows a cache to immediately return a stale response while it revalidates it in the background, thereby hiding latency (both in the network and on the server) from cli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920000" y="5479920"/>
            <a:ext cx="159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600" spc="-1" strike="noStrike">
                <a:solidFill>
                  <a:srgbClr val="b3b3b3"/>
                </a:solidFill>
                <a:latin typeface="Arial"/>
              </a:rPr>
              <a:t>RFC568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posal: Add a Stale-If-Error and Stale-While-Revalidate Option (both elective) to I-D.ietf-core-co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Improves availability &amp; Hides latency and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Implementation experience within HTTP (Sq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Staleness Model useful for sleepy server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when observing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Don't implement it if you don't lik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Two additional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02:37:05Z</dcterms:created>
  <dc:creator/>
  <dc:description/>
  <dc:language>en-US</dc:language>
  <cp:lastModifiedBy/>
  <dcterms:modified xsi:type="dcterms:W3CDTF">2011-07-26T03:15:29Z</dcterms:modified>
  <cp:revision>2</cp:revision>
  <dc:subject/>
  <dc:title/>
</cp:coreProperties>
</file>