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42F6-E4A0-461B-977E-8B9848149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76CB-F02C-4A8A-A1B1-1B7BDC253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ppt_palkki"/>
          <p:cNvPicPr/>
          <p:nvPr/>
        </p:nvPicPr>
        <p:blipFill>
          <a:blip r:embed="rId2"/>
          <a:stretch/>
        </p:blipFill>
        <p:spPr>
          <a:xfrm>
            <a:off x="0" y="6673680"/>
            <a:ext cx="9144000" cy="187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ppt_palkki"/>
          <p:cNvPicPr/>
          <p:nvPr/>
        </p:nvPicPr>
        <p:blipFill>
          <a:blip r:embed="rId3"/>
          <a:stretch/>
        </p:blipFill>
        <p:spPr>
          <a:xfrm>
            <a:off x="0" y="0"/>
            <a:ext cx="9144000" cy="187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9"/>
          <p:cNvSpPr/>
          <p:nvPr/>
        </p:nvSpPr>
        <p:spPr>
          <a:xfrm>
            <a:off x="2761200" y="61866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WG, IETF-81 Quebec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09480" y="160020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wise transfers in Co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core-block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09480" y="2911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. Borman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. Shel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urrent Statu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s in -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d block transfer in request and response (BLOCK1, BLOCK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use case is RPC using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s in -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ial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02 is implemented pretty wid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03 has a few implementations (BLOCK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Work Needed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-write the draf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names for BLOCK1, BLOCK2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n’t found consensus yet on the name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rify that a 4.13 (Request Entity Too Large)may mean either "truncated" or "do not have resources for blockwise” [Esko Dijk]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1:49:25Z</dcterms:created>
  <dc:creator>Tero</dc:creator>
  <dc:description/>
  <dc:language>en-US</dc:language>
  <cp:lastModifiedBy>Zach Shelby</cp:lastModifiedBy>
  <cp:lastPrinted>2009-10-21T08:29:59Z</cp:lastPrinted>
  <dcterms:modified xsi:type="dcterms:W3CDTF">2011-07-26T02:21:59Z</dcterms:modified>
  <cp:revision>775</cp:revision>
  <dc:subject/>
  <dc:title>Dia 1</dc:title>
</cp:coreProperties>
</file>