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188-22CD-413B-92F7-8FBB0BE53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724-C561-4A88-A171-FAA2B066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6120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wise transfers in Co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block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. Borman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. Sh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d block transfer in request and response (BLOCK1, BLOCK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use case is RPC using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-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2 is implemented pretty wid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3 has a few implementations (BLOCK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Work Needed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write the draf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names for BLOCK1, BLOCK2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n’t found consensus yet on the nam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y that a 4.13 (Request Entity Too Large)may mean either "truncated" or "do not have resources for blockwise” [Esko Dijk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1:49:25Z</dcterms:created>
  <dc:creator>Tero</dc:creator>
  <dc:description/>
  <dc:language>en-US</dc:language>
  <cp:lastModifiedBy>Zach Shelby</cp:lastModifiedBy>
  <cp:lastPrinted>2009-10-21T08:29:59Z</cp:lastPrinted>
  <dcterms:modified xsi:type="dcterms:W3CDTF">2011-07-26T02:21:59Z</dcterms:modified>
  <cp:revision>775</cp:revision>
  <dc:subject/>
  <dc:title>Dia 1</dc:title>
</cp:coreProperties>
</file>