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6534-32BD-4597-AC6F-4D445CE6C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E250-09BA-42A9-9567-BE550DEC4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8360" y="26964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360" y="26964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9bc1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ppt_palkki"/>
          <p:cNvPicPr/>
          <p:nvPr/>
        </p:nvPicPr>
        <p:blipFill>
          <a:blip r:embed="rId2"/>
          <a:stretch/>
        </p:blipFill>
        <p:spPr>
          <a:xfrm>
            <a:off x="0" y="6673680"/>
            <a:ext cx="9144000" cy="187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ppt_palkki"/>
          <p:cNvPicPr/>
          <p:nvPr/>
        </p:nvPicPr>
        <p:blipFill>
          <a:blip r:embed="rId3"/>
          <a:stretch/>
        </p:blipFill>
        <p:spPr>
          <a:xfrm>
            <a:off x="0" y="0"/>
            <a:ext cx="9144000" cy="1872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9bc1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9"/>
          <p:cNvSpPr/>
          <p:nvPr/>
        </p:nvSpPr>
        <p:spPr>
          <a:xfrm>
            <a:off x="3005640" y="618660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WG, IETF-81 Quebec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609480" y="160020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Application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ietf-core-coap-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609480" y="29113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. Shelby, K. Hartke, C. Bormann, B. Fr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Recent Progress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new document versions since Prag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osed 21 tick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by other S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SI M2M has approved a CoAP 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gBee SE2 exploring the use of Co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ent CoAP t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per – The CoAP Firefox Plug-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P support for Wiresh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Main Editorial Improvements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the UTF-8 language (#13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text on message and token matching rules (#15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d DTLS as mandatory to implement security (#15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congestion control recommendations were added (#1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-come-first-served policy for 2-byte media type registry added (#16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Main Technical Improvements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 jitter added on initial retransmit timeout (#1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 mapping section completed (#137, #16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If-Match and If-None-Match options (#15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an Accept option for content-negotiation (#16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a coaps scheme and DTLS-secured CoAP default port (#15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ontent-Type Negotiation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Accept o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allowed, in order of p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SHOULD return one of the Accept media types if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al from Matthias and Guid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llow a single Accept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accept.png"/>
          <p:cNvPicPr/>
          <p:nvPr/>
        </p:nvPicPr>
        <p:blipFill>
          <a:blip r:embed="rId1"/>
          <a:stretch/>
        </p:blipFill>
        <p:spPr>
          <a:xfrm>
            <a:off x="4191120" y="1219320"/>
            <a:ext cx="47019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GLC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5T19:58:29Z</dcterms:created>
  <dc:creator>Tero</dc:creator>
  <dc:description/>
  <dc:language>en-US</dc:language>
  <cp:lastModifiedBy>Zach Shelby</cp:lastModifiedBy>
  <cp:lastPrinted>2009-10-21T08:29:59Z</cp:lastPrinted>
  <dcterms:modified xsi:type="dcterms:W3CDTF">2011-07-25T23:58:53Z</dcterms:modified>
  <cp:revision>753</cp:revision>
  <dc:subject/>
  <dc:title>Dia 1</dc:title>
</cp:coreProperties>
</file>