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91CE-A1A6-4F0C-8724-2D7F2C6BF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B32D-6DDA-42F9-9463-0668965B3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3005640" y="61866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WG, IETF-81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16002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Application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ore-coap-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0948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. Shelby, K. Hartke, C. Bormann, B. F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Recent Progres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new document versions since Pra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d 21 tick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by other S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SI M2M has approved a CoAP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gBee SE2 exploring the use of Co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CoAP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– The CoAP Firefox Plug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P support for Wire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Main Editorial Improvement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the UTF-8 language (#1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ext on message and token matching rules (#1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d DTLS as mandatory to implement security (#1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congestion control recommendations were added (#1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come-first-served policy for 2-byte media type registry added (#16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Main Technical Improvement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jitter added on initial retransmit timeout (#1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mapping section completed (#137, #16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If-Match and If-None-Match options (#15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n Accept option for content-negotiation (#16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coaps scheme and DTLS-secured CoAP default port (#15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ontent-Type Negotiation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Accept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allowed, in order of 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SHOULD return one of the Accept media types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al from Matthias and Gui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llow a single Accep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ccept.png"/>
          <p:cNvPicPr/>
          <p:nvPr/>
        </p:nvPicPr>
        <p:blipFill>
          <a:blip r:embed="rId1"/>
          <a:stretch/>
        </p:blipFill>
        <p:spPr>
          <a:xfrm>
            <a:off x="4191120" y="1219320"/>
            <a:ext cx="4701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GLC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9:58:29Z</dcterms:created>
  <dc:creator>Tero</dc:creator>
  <dc:description/>
  <dc:language>en-US</dc:language>
  <cp:lastModifiedBy>Zach Shelby</cp:lastModifiedBy>
  <cp:lastPrinted>2009-10-21T08:29:59Z</cp:lastPrinted>
  <dcterms:modified xsi:type="dcterms:W3CDTF">2011-07-25T23:58:53Z</dcterms:modified>
  <cp:revision>753</cp:revision>
  <dc:subject/>
  <dc:title>Dia 1</dc:title>
</cp:coreProperties>
</file>