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110-E469-47AA-AA68-BE63A47D6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724-9799-406F-A96A-5CC63814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784960" y="61866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WG, IETF-81 Quebec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1600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ink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ore-link-format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0948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She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GLC completed on Jan 26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 tickets closed in -03 to -06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dibly helpful AD reviews, 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d the attribut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the ABNF of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bc1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the UTF-8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07 releas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ct= as now included in core-co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- Submission to the IE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23:59:11Z</dcterms:created>
  <dc:creator>Tero</dc:creator>
  <dc:description/>
  <dc:language>en-US</dc:language>
  <cp:lastModifiedBy>Zach Shelby</cp:lastModifiedBy>
  <cp:lastPrinted>2009-10-21T08:29:59Z</cp:lastPrinted>
  <dcterms:modified xsi:type="dcterms:W3CDTF">2011-07-26T01:48:50Z</dcterms:modified>
  <cp:revision>702</cp:revision>
  <dc:subject/>
  <dc:title>Dia 1</dc:title>
</cp:coreProperties>
</file>