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EF07-F507-4D69-BFB5-3D11C5AB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F49C-88E3-499B-B2D7-488B7F229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78496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Resourc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shelby-core-resource-directory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Shelby, S. K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new concept (think search eng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project SENSEI (2008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ensei-project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 M2M web resourc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Directory” was a main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ack f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directories were deployed to make testing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e draft-bormann-core-simple-server-discovery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pic>
        <p:nvPicPr>
          <p:cNvPr id="91" name="Picture 3" descr="core-rd.png"/>
          <p:cNvPicPr/>
          <p:nvPr/>
        </p:nvPicPr>
        <p:blipFill>
          <a:blip r:embed="rId1"/>
          <a:stretch/>
        </p:blipFill>
        <p:spPr>
          <a:xfrm>
            <a:off x="1631880" y="1371600"/>
            <a:ext cx="636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RD REST Interfac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coap://ff02::1/.well-known/rd?rt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re-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.05 Content &lt;/rd&gt;;rt=core-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 coap://{RD}/rd Etag: 0x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.01 Created Locatio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d/{end-poin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coap://{RD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d/{end-poin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coap://{EP}/.well-known/core Etag: 0x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coap://{RD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d/{end-poin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coap://{RD}/rd?rt=Temperatu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New Link-Format Attribute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ew link-format attribut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Instance (ins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s between resources with the same Resource Type (rt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length of 63 oct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Flag (ex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flag allows an RD or other entity to export link to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RD or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-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Known Issue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sec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, End-point, Resource Entry, R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fferentiate between multiple RDs in discov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s= attribute to differentiate between 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ell the RD about the h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“Host ID” attribute to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host name, device serial #, HIT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eem to confuse host, end-point an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at end-point is an logical concept that the RD uses to handle updates and de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hat RD stores the source IP address and port or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how observe can be used on R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7:17:19Z</dcterms:created>
  <dc:creator>Tero</dc:creator>
  <dc:description/>
  <dc:language>en-US</dc:language>
  <cp:lastModifiedBy>Zach Shelby</cp:lastModifiedBy>
  <cp:lastPrinted>2009-10-21T08:29:59Z</cp:lastPrinted>
  <dcterms:modified xsi:type="dcterms:W3CDTF">2011-07-26T20:16:09Z</dcterms:modified>
  <cp:revision>749</cp:revision>
  <dc:subject/>
  <dc:title>Dia 1</dc:title>
</cp:coreProperties>
</file>