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821BD-7827-489C-91CE-675B574C6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5EB0-24FD-4739-9A5A-C35BCD2D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2482-FC97-4377-AEE6-6AF27DA9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AD69-F29D-404B-89E1-1B430771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32176-7B17-45F1-902F-3293835EE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FD8DA-4C3B-4EA7-ABC4-C2AC3683B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E5544-53BA-4993-855D-DE811B78E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81B4F-AE70-461A-A6FA-6471154FA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0173F-0A00-4A0C-B9A1-F778B6BC4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E943F-AE33-4085-9785-588DBFBFD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CC6DC-72FD-4123-BF8D-F8816B1D2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142E-1565-4969-BE50-8B6D3DF72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01590-568D-47A6-9DC9-3FFDCA2DA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D86E-7414-4586-AD02-5C8DA3D70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8899D-E09C-49F3-AB70-F20E91FF1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C2F45-ADAE-462F-A224-C734A068C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4450A-B059-4C14-9B6C-7F75B9C4B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23C88-55D2-4411-AC23-943E2C67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38336-C86C-4152-83D6-7CBEB2C4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9A4E7-9E2D-418F-8CD8-726DEFBD0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549E6-1659-4EA3-8BA7-96123FE45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A06DE-AA96-49F1-B8DA-342D7A7C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78F7-1862-4940-92A2-0A7BE755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ECFA-404F-4D3A-A55C-8AD89697A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9819F-D998-4486-9347-9B9AA0B6CE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ABAC6-6606-4294-8BD4-C91D2E9832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DIME S-NAPTR Usage</a:t>
            </a:r>
            <a:endParaRPr b="1" lang="en-US" sz="4800" spc="-1" strike="noStrike">
              <a:solidFill>
                <a:srgbClr val="330066"/>
              </a:solidFill>
              <a:latin typeface="Arial"/>
            </a:endParaRPr>
          </a:p>
        </p:txBody>
      </p:sp>
      <p:sp>
        <p:nvSpPr>
          <p:cNvPr id="8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July 28, 2011</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dime-extended-napt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Jone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uni Korhone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onel Moran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81</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bec City,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ent Status</a:t>
            </a:r>
            <a:endParaRPr b="1" lang="en-US" sz="3900" spc="-1" strike="noStrike">
              <a:solidFill>
                <a:srgbClr val="330066"/>
              </a:solidFill>
              <a:latin typeface="Arial"/>
            </a:endParaRPr>
          </a:p>
        </p:txBody>
      </p:sp>
      <p:sp>
        <p:nvSpPr>
          <p:cNvPr id="9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rev is -08.</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SG review completed in Ma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one outstanding DISCU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enough votes to pass once the DISCUSS is resolv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SG Comments</a:t>
            </a:r>
            <a:endParaRPr b="1" lang="en-US" sz="3900" spc="-1" strike="noStrike">
              <a:solidFill>
                <a:srgbClr val="330066"/>
              </a:solidFill>
              <a:latin typeface="Arial"/>
            </a:endParaRPr>
          </a:p>
        </p:txBody>
      </p:sp>
      <p:sp>
        <p:nvSpPr>
          <p:cNvPr id="9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citation from Abstrac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ghten the ABNF for the Application Service Ta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more exampl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on likely RRSET size. (Sma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TSVDIR revie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SG DISCUSS</a:t>
            </a:r>
            <a:endParaRPr b="1" lang="en-US" sz="3900" spc="-1" strike="noStrike">
              <a:solidFill>
                <a:srgbClr val="330066"/>
              </a:solidFill>
              <a:latin typeface="Arial"/>
            </a:endParaRPr>
          </a:p>
        </p:txBody>
      </p:sp>
      <p:sp>
        <p:nvSpPr>
          <p:cNvPr id="94" name=""/>
          <p:cNvSpPr txBox="1"/>
          <p:nvPr/>
        </p:nvSpPr>
        <p:spPr>
          <a:xfrm>
            <a:off x="457200" y="1417680"/>
            <a:ext cx="8229600" cy="5214960"/>
          </a:xfrm>
          <a:prstGeom prst="rect">
            <a:avLst/>
          </a:prstGeom>
          <a:noFill/>
          <a:ln w="0">
            <a:noFill/>
          </a:ln>
        </p:spPr>
        <p:txBody>
          <a:bodyPr anchor="t">
            <a:normAutofit fontScale="97000"/>
          </a:bodyPr>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ed from TSVDIR review:</a:t>
            </a:r>
            <a:endParaRPr b="0" lang="en-US" sz="3000" spc="-1" strike="noStrike">
              <a:solidFill>
                <a:srgbClr val="000000"/>
              </a:solidFill>
              <a:latin typeface="Arial"/>
            </a:endParaRPr>
          </a:p>
          <a:p>
            <a:pPr lvl="1" marL="671400" indent="-3373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uggested alternate NAPTR structure seems to imply two things: </a:t>
            </a:r>
            <a:endParaRPr b="0" lang="en-US" sz="2400" spc="-1" strike="noStrike">
              <a:solidFill>
                <a:srgbClr val="000000"/>
              </a:solidFill>
              <a:latin typeface="Arial"/>
            </a:endParaRPr>
          </a:p>
          <a:p>
            <a:pPr lvl="2" marL="1117440" indent="-498600">
              <a:spcBef>
                <a:spcPts val="601"/>
              </a:spcBef>
              <a:buClr>
                <a:srgbClr val="cccc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 than just TCP and UDP as transport labels</a:t>
            </a:r>
            <a:endParaRPr b="0" lang="en-US" sz="2400" spc="-1" strike="noStrike">
              <a:solidFill>
                <a:srgbClr val="000000"/>
              </a:solidFill>
              <a:latin typeface="Arial"/>
            </a:endParaRPr>
          </a:p>
          <a:p>
            <a:pPr lvl="2" marL="1117440" indent="-498600">
              <a:spcBef>
                <a:spcPts val="601"/>
              </a:spcBef>
              <a:buClr>
                <a:srgbClr val="cccc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hierarchical structure of labels that includes intermediate encodings”.</a:t>
            </a:r>
            <a:endParaRPr b="0" lang="en-US" sz="24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ts of email exchanged on this.</a:t>
            </a:r>
            <a:endParaRPr b="0" lang="en-US" sz="30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structure implications:</a:t>
            </a:r>
            <a:endParaRPr b="0" lang="en-US" sz="3000" spc="-1" strike="noStrike">
              <a:solidFill>
                <a:srgbClr val="000000"/>
              </a:solidFill>
              <a:latin typeface="Arial"/>
            </a:endParaRPr>
          </a:p>
          <a:p>
            <a:pPr lvl="1" marL="671400" indent="-33732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but it has no impact on replacement string for SRV entries (_service._proto.example.com).</a:t>
            </a:r>
            <a:endParaRPr b="0" lang="en-US" sz="2400" spc="-1" strike="noStrike">
              <a:solidFill>
                <a:srgbClr val="000000"/>
              </a:solidFill>
              <a:latin typeface="Arial"/>
            </a:endParaRPr>
          </a:p>
          <a:p>
            <a:pPr lvl="1" marL="671400" indent="-33732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tag is simply a label and no hierarchical namespace is implied. </a:t>
            </a:r>
            <a:endParaRPr b="0" lang="en-US" sz="2400" spc="-1" strike="noStrike">
              <a:solidFill>
                <a:srgbClr val="000000"/>
              </a:solidFill>
              <a:latin typeface="Arial"/>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TF DISCUSS Resolution</a:t>
            </a:r>
            <a:endParaRPr b="1" lang="en-US" sz="3900" spc="-1" strike="noStrike">
              <a:solidFill>
                <a:srgbClr val="330066"/>
              </a:solidFill>
              <a:latin typeface="Arial"/>
            </a:endParaRPr>
          </a:p>
        </p:txBody>
      </p:sp>
      <p:sp>
        <p:nvSpPr>
          <p:cNvPr id="96" name=""/>
          <p:cNvSpPr txBox="1"/>
          <p:nvPr/>
        </p:nvSpPr>
        <p:spPr>
          <a:xfrm>
            <a:off x="457200" y="1719360"/>
            <a:ext cx="8229600" cy="48369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call with DISCUSS author yesterday (Joe Touch).</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d next I-D rev will state:</a:t>
            </a:r>
            <a:endParaRPr b="0" lang="en-US" sz="24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NAPTR Service/Protocol tags are unrelated to the IANA Service Name and Transport Protocol Port Number Registry.</a:t>
            </a:r>
            <a:endParaRPr b="0" lang="en-US" sz="20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Protocol tag must not be parsed in any way by the querying application or resolver. The delimiter (".") is present in the tag to improve readability and does not imply a structure or namespace of any kind.</a:t>
            </a:r>
            <a:endParaRPr b="0" lang="en-US" sz="20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 of delimiter (".") for the Application Protocol tag follows the format of existing S-NAPTR registry entries but this does not imply that that it shares semantics with any other RFCs that have created registry entries using the same format.</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fully this now closes the DISCU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xt Steps</a:t>
            </a:r>
            <a:endParaRPr b="1" lang="en-US" sz="3900" spc="-1" strike="noStrike">
              <a:solidFill>
                <a:srgbClr val="330066"/>
              </a:solidFill>
              <a:latin typeface="Arial"/>
            </a:endParaRPr>
          </a:p>
        </p:txBody>
      </p:sp>
      <p:sp>
        <p:nvSpPr>
          <p:cNvPr id="9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mit a new rev of the I-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the DISCU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blic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e: 3588bis and radext-dynamic-discovery need to incorporate the DISCUSS resolution or face the same obj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06:22:14Z</dcterms:created>
  <dc:creator>NSN_User</dc:creator>
  <dc:description/>
  <dc:language>en-US</dc:language>
  <cp:lastModifiedBy>Bridgewater Systems</cp:lastModifiedBy>
  <dcterms:modified xsi:type="dcterms:W3CDTF">2011-07-27T20:50:32Z</dcterms:modified>
  <cp:revision>128</cp:revision>
  <dc:subject/>
  <dc:title>Dime WG</dc:title>
</cp:coreProperties>
</file>