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95FE-BB16-473E-B6C5-FC01D4FF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6062-1CB9-4F4E-9DC4-34B2FE8A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8F00-C9BD-49CA-B5EE-2E599912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D2EB-77E3-417B-9CA0-E071A9E6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E29B-6ADE-4393-AAAA-ABC1A713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660-F0AE-48A5-8A3A-D3DC7BA5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91A2-BD49-4050-82BD-1D94BFDF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BAE3-34F0-45F6-A1A0-B8574C3B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0418-C0E0-4AE2-9CA8-23C0EA4F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5114-4E78-498A-91A7-BFB6C77F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C2BB-D43F-4795-A5D8-88779D39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3DD8-FD09-44B8-A15A-95B6041B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A74C-C8DE-484C-90F4-F99ACAFD07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iameter Bulk Signaling</a:t>
            </a:r>
            <a:br>
              <a:rPr sz="36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raft-liebsch-dime-diameter-bulksig-00.t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M. Liebsch, G. Pun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IETF81, Quebec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Diameter Maintenance and Extensions (DIME) W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de-DE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 July 20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Pract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Use of messages, which do not use Session 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imited existing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w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dicated Session 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edicated for bulk operations in addition to per-user Session I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Practices / Catego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324000" y="2124000"/>
            <a:ext cx="230328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468360" y="2771640"/>
            <a:ext cx="201600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836640" y="21146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665280" y="290664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meter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9"/>
          <p:cNvSpPr/>
          <p:nvPr/>
        </p:nvSpPr>
        <p:spPr>
          <a:xfrm>
            <a:off x="2050920" y="2340000"/>
            <a:ext cx="792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10"/>
          <p:cNvSpPr/>
          <p:nvPr/>
        </p:nvSpPr>
        <p:spPr>
          <a:xfrm>
            <a:off x="2268360" y="3132000"/>
            <a:ext cx="57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2979360" y="29163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ssion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2884680" y="2124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ser Info/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>
            <a:off x="4716360" y="2266920"/>
            <a:ext cx="0" cy="86508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>
            <a:off x="5435640" y="226692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7"/>
          <p:cNvSpPr/>
          <p:nvPr/>
        </p:nvSpPr>
        <p:spPr>
          <a:xfrm flipV="1">
            <a:off x="5435640" y="291600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21"/>
          <p:cNvSpPr/>
          <p:nvPr/>
        </p:nvSpPr>
        <p:spPr>
          <a:xfrm flipV="1">
            <a:off x="7667640" y="291600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22"/>
          <p:cNvSpPr/>
          <p:nvPr/>
        </p:nvSpPr>
        <p:spPr>
          <a:xfrm>
            <a:off x="7667640" y="226692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23"/>
          <p:cNvSpPr/>
          <p:nvPr/>
        </p:nvSpPr>
        <p:spPr>
          <a:xfrm flipH="1">
            <a:off x="7667280" y="2266920"/>
            <a:ext cx="144360" cy="22536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24"/>
          <p:cNvSpPr/>
          <p:nvPr/>
        </p:nvSpPr>
        <p:spPr>
          <a:xfrm>
            <a:off x="7524000" y="2266920"/>
            <a:ext cx="142920" cy="22536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30"/>
          <p:cNvSpPr/>
          <p:nvPr/>
        </p:nvSpPr>
        <p:spPr>
          <a:xfrm>
            <a:off x="8532720" y="226692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31"/>
          <p:cNvSpPr/>
          <p:nvPr/>
        </p:nvSpPr>
        <p:spPr>
          <a:xfrm flipH="1">
            <a:off x="8532360" y="2266920"/>
            <a:ext cx="142920" cy="22536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2"/>
          <p:cNvSpPr/>
          <p:nvPr/>
        </p:nvSpPr>
        <p:spPr>
          <a:xfrm>
            <a:off x="8387640" y="2266920"/>
            <a:ext cx="144360" cy="22536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3"/>
          <p:cNvSpPr/>
          <p:nvPr/>
        </p:nvSpPr>
        <p:spPr>
          <a:xfrm>
            <a:off x="3139200" y="336564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teg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4"/>
          <p:cNvSpPr/>
          <p:nvPr/>
        </p:nvSpPr>
        <p:spPr>
          <a:xfrm>
            <a:off x="4475880" y="33577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 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5"/>
          <p:cNvSpPr/>
          <p:nvPr/>
        </p:nvSpPr>
        <p:spPr>
          <a:xfrm>
            <a:off x="5151240" y="336564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 I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6"/>
          <p:cNvSpPr/>
          <p:nvPr/>
        </p:nvSpPr>
        <p:spPr>
          <a:xfrm>
            <a:off x="5798880" y="336564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 II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7"/>
          <p:cNvSpPr/>
          <p:nvPr/>
        </p:nvSpPr>
        <p:spPr>
          <a:xfrm>
            <a:off x="6554880" y="336564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 IV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8"/>
          <p:cNvSpPr/>
          <p:nvPr/>
        </p:nvSpPr>
        <p:spPr>
          <a:xfrm>
            <a:off x="871200" y="4149720"/>
            <a:ext cx="744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ssion-ID linked to Application user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ssion ID independent of Application user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 Session ID used, single Application user key signa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verloading of Session ID, which is linked to one of multipl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gnaled Application user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verloading of Session ID, which is independent of multiple signale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plication user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 Session ID used, multiple Application user keys signa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39"/>
          <p:cNvSpPr/>
          <p:nvPr/>
        </p:nvSpPr>
        <p:spPr>
          <a:xfrm flipV="1">
            <a:off x="6875640" y="290664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40"/>
          <p:cNvSpPr/>
          <p:nvPr/>
        </p:nvSpPr>
        <p:spPr>
          <a:xfrm>
            <a:off x="6875640" y="2259000"/>
            <a:ext cx="0" cy="71928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41"/>
          <p:cNvSpPr/>
          <p:nvPr/>
        </p:nvSpPr>
        <p:spPr>
          <a:xfrm flipH="1">
            <a:off x="6876720" y="2259000"/>
            <a:ext cx="142920" cy="23328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42"/>
          <p:cNvSpPr/>
          <p:nvPr/>
        </p:nvSpPr>
        <p:spPr>
          <a:xfrm>
            <a:off x="6732000" y="2259000"/>
            <a:ext cx="144360" cy="23328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44"/>
          <p:cNvSpPr/>
          <p:nvPr/>
        </p:nvSpPr>
        <p:spPr>
          <a:xfrm>
            <a:off x="6084720" y="225900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6"/>
          <p:cNvSpPr/>
          <p:nvPr/>
        </p:nvSpPr>
        <p:spPr>
          <a:xfrm>
            <a:off x="7383960" y="335772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 V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7"/>
          <p:cNvSpPr/>
          <p:nvPr/>
        </p:nvSpPr>
        <p:spPr>
          <a:xfrm>
            <a:off x="8139240" y="33577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 V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8"/>
          <p:cNvSpPr/>
          <p:nvPr/>
        </p:nvSpPr>
        <p:spPr>
          <a:xfrm>
            <a:off x="4437720" y="146700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gle-user c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Brace 50"/>
          <p:cNvSpPr/>
          <p:nvPr/>
        </p:nvSpPr>
        <p:spPr>
          <a:xfrm rot="16200000">
            <a:off x="5255280" y="1141920"/>
            <a:ext cx="289080" cy="165564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1655640"/>
              <a:gd name="textAreaBottom" fmla="*/ 164844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7"/>
                  <a:pt x="10800" y="314"/>
                </a:cubicBezTo>
                <a:lnTo>
                  <a:pt x="10800" y="10486"/>
                </a:lnTo>
                <a:cubicBezTo>
                  <a:pt x="10800" y="10643"/>
                  <a:pt x="16200" y="10800"/>
                  <a:pt x="21600" y="10800"/>
                </a:cubicBezTo>
                <a:cubicBezTo>
                  <a:pt x="16200" y="10800"/>
                  <a:pt x="10800" y="10957"/>
                  <a:pt x="10800" y="11114"/>
                </a:cubicBezTo>
                <a:lnTo>
                  <a:pt x="10800" y="21286"/>
                </a:lnTo>
                <a:cubicBezTo>
                  <a:pt x="10800" y="2144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1"/>
          <p:cNvSpPr/>
          <p:nvPr/>
        </p:nvSpPr>
        <p:spPr>
          <a:xfrm>
            <a:off x="6602400" y="1467000"/>
            <a:ext cx="23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-user context (bu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ight Brace 52"/>
          <p:cNvSpPr/>
          <p:nvPr/>
        </p:nvSpPr>
        <p:spPr>
          <a:xfrm rot="16200000">
            <a:off x="7561800" y="856080"/>
            <a:ext cx="289080" cy="222696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2226960"/>
              <a:gd name="textAreaBottom" fmla="*/ 2219760 h 2226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7"/>
                  <a:pt x="10800" y="233"/>
                </a:cubicBezTo>
                <a:lnTo>
                  <a:pt x="10800" y="10567"/>
                </a:lnTo>
                <a:cubicBezTo>
                  <a:pt x="10800" y="10684"/>
                  <a:pt x="16200" y="10800"/>
                  <a:pt x="21600" y="10800"/>
                </a:cubicBezTo>
                <a:cubicBezTo>
                  <a:pt x="16200" y="10800"/>
                  <a:pt x="10800" y="10917"/>
                  <a:pt x="10800" y="11033"/>
                </a:cubicBezTo>
                <a:lnTo>
                  <a:pt x="10800" y="21367"/>
                </a:lnTo>
                <a:cubicBezTo>
                  <a:pt x="10800" y="2148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Grouping APVs for bulk signaling</a:t>
            </a:r>
            <a:br>
              <a:rPr sz="4000"/>
            </a:b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(in the order of efficienc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Group-ID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identifies multiple users, list of attributes/values applies to all users of the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List of Session-IDs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identifies a group of users, list of attributes/values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Calibri"/>
              </a:rPr>
              <a:t>applies to all users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f the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List of Session-IDs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dentifies multiple users, each Session-ID has an 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individual list of AVPs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ssoci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oup 111"/>
          <p:cNvGrpSpPr/>
          <p:nvPr/>
        </p:nvGrpSpPr>
        <p:grpSpPr>
          <a:xfrm>
            <a:off x="179280" y="2349360"/>
            <a:ext cx="8823960" cy="4175280"/>
            <a:chOff x="179280" y="2349360"/>
            <a:chExt cx="8823960" cy="4175280"/>
          </a:xfrm>
        </p:grpSpPr>
        <p:sp>
          <p:nvSpPr>
            <p:cNvPr id="136" name="Rectangle 3"/>
            <p:cNvSpPr/>
            <p:nvPr/>
          </p:nvSpPr>
          <p:spPr>
            <a:xfrm>
              <a:off x="722160" y="2349360"/>
              <a:ext cx="158436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2306520" y="2349360"/>
              <a:ext cx="136656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5"/>
            <p:cNvSpPr/>
            <p:nvPr/>
          </p:nvSpPr>
          <p:spPr>
            <a:xfrm>
              <a:off x="802440" y="234936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iameter H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6"/>
            <p:cNvSpPr/>
            <p:nvPr/>
          </p:nvSpPr>
          <p:spPr>
            <a:xfrm>
              <a:off x="2341080" y="2349360"/>
              <a:ext cx="128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[Session-ID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5402160" y="234936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8"/>
            <p:cNvSpPr/>
            <p:nvPr/>
          </p:nvSpPr>
          <p:spPr>
            <a:xfrm>
              <a:off x="5442840" y="234936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VP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9"/>
            <p:cNvSpPr/>
            <p:nvPr/>
          </p:nvSpPr>
          <p:spPr>
            <a:xfrm>
              <a:off x="3673440" y="2349360"/>
              <a:ext cx="43308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Straight Connector 10"/>
            <p:cNvSpPr/>
            <p:nvPr/>
          </p:nvSpPr>
          <p:spPr>
            <a:xfrm>
              <a:off x="3673440" y="2709720"/>
              <a:ext cx="43308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>
              <a:off x="4106880" y="2349360"/>
              <a:ext cx="129528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2"/>
            <p:cNvSpPr/>
            <p:nvPr/>
          </p:nvSpPr>
          <p:spPr>
            <a:xfrm>
              <a:off x="4186440" y="2370600"/>
              <a:ext cx="101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roup-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traight Connector 22"/>
            <p:cNvSpPr/>
            <p:nvPr/>
          </p:nvSpPr>
          <p:spPr>
            <a:xfrm>
              <a:off x="6986520" y="234936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24"/>
            <p:cNvSpPr/>
            <p:nvPr/>
          </p:nvSpPr>
          <p:spPr>
            <a:xfrm>
              <a:off x="6986520" y="270972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1"/>
            <p:cNvSpPr/>
            <p:nvPr/>
          </p:nvSpPr>
          <p:spPr>
            <a:xfrm>
              <a:off x="6194520" y="234936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42"/>
            <p:cNvSpPr/>
            <p:nvPr/>
          </p:nvSpPr>
          <p:spPr>
            <a:xfrm>
              <a:off x="6234840" y="234936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VP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7"/>
            <p:cNvSpPr/>
            <p:nvPr/>
          </p:nvSpPr>
          <p:spPr>
            <a:xfrm>
              <a:off x="7202520" y="234936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48"/>
            <p:cNvSpPr/>
            <p:nvPr/>
          </p:nvSpPr>
          <p:spPr>
            <a:xfrm>
              <a:off x="7243200" y="23493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VP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9"/>
            <p:cNvSpPr/>
            <p:nvPr/>
          </p:nvSpPr>
          <p:spPr>
            <a:xfrm>
              <a:off x="179280" y="4005000"/>
              <a:ext cx="158436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0"/>
            <p:cNvSpPr/>
            <p:nvPr/>
          </p:nvSpPr>
          <p:spPr>
            <a:xfrm>
              <a:off x="1763640" y="4005000"/>
              <a:ext cx="136836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51"/>
            <p:cNvSpPr/>
            <p:nvPr/>
          </p:nvSpPr>
          <p:spPr>
            <a:xfrm>
              <a:off x="260280" y="400500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iameter H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52"/>
            <p:cNvSpPr/>
            <p:nvPr/>
          </p:nvSpPr>
          <p:spPr>
            <a:xfrm>
              <a:off x="1628640" y="4005000"/>
              <a:ext cx="145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[Session-ID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3"/>
            <p:cNvSpPr/>
            <p:nvPr/>
          </p:nvSpPr>
          <p:spPr>
            <a:xfrm>
              <a:off x="6372360" y="400500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54"/>
            <p:cNvSpPr/>
            <p:nvPr/>
          </p:nvSpPr>
          <p:spPr>
            <a:xfrm>
              <a:off x="6412680" y="400500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VP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55"/>
            <p:cNvSpPr/>
            <p:nvPr/>
          </p:nvSpPr>
          <p:spPr>
            <a:xfrm>
              <a:off x="3132000" y="400500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56"/>
            <p:cNvSpPr/>
            <p:nvPr/>
          </p:nvSpPr>
          <p:spPr>
            <a:xfrm>
              <a:off x="3132000" y="436572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7"/>
            <p:cNvSpPr/>
            <p:nvPr/>
          </p:nvSpPr>
          <p:spPr>
            <a:xfrm>
              <a:off x="3563640" y="4005000"/>
              <a:ext cx="129528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58"/>
            <p:cNvSpPr/>
            <p:nvPr/>
          </p:nvSpPr>
          <p:spPr>
            <a:xfrm>
              <a:off x="3570840" y="4026600"/>
              <a:ext cx="134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ssion-I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59"/>
            <p:cNvSpPr/>
            <p:nvPr/>
          </p:nvSpPr>
          <p:spPr>
            <a:xfrm>
              <a:off x="7956720" y="400500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Straight Connector 60"/>
            <p:cNvSpPr/>
            <p:nvPr/>
          </p:nvSpPr>
          <p:spPr>
            <a:xfrm>
              <a:off x="7956720" y="436572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61"/>
            <p:cNvSpPr/>
            <p:nvPr/>
          </p:nvSpPr>
          <p:spPr>
            <a:xfrm>
              <a:off x="7164360" y="400500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62"/>
            <p:cNvSpPr/>
            <p:nvPr/>
          </p:nvSpPr>
          <p:spPr>
            <a:xfrm>
              <a:off x="7204680" y="400500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VP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63"/>
            <p:cNvSpPr/>
            <p:nvPr/>
          </p:nvSpPr>
          <p:spPr>
            <a:xfrm>
              <a:off x="8172360" y="400500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64"/>
            <p:cNvSpPr/>
            <p:nvPr/>
          </p:nvSpPr>
          <p:spPr>
            <a:xfrm>
              <a:off x="8213040" y="400500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VP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Straight Connector 65"/>
            <p:cNvSpPr/>
            <p:nvPr/>
          </p:nvSpPr>
          <p:spPr>
            <a:xfrm>
              <a:off x="4859280" y="400500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Straight Connector 66"/>
            <p:cNvSpPr/>
            <p:nvPr/>
          </p:nvSpPr>
          <p:spPr>
            <a:xfrm>
              <a:off x="4859280" y="436572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7"/>
            <p:cNvSpPr/>
            <p:nvPr/>
          </p:nvSpPr>
          <p:spPr>
            <a:xfrm>
              <a:off x="5079960" y="4005000"/>
              <a:ext cx="129672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68"/>
            <p:cNvSpPr/>
            <p:nvPr/>
          </p:nvSpPr>
          <p:spPr>
            <a:xfrm>
              <a:off x="5059080" y="4026600"/>
              <a:ext cx="136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ssion-ID 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9"/>
            <p:cNvSpPr/>
            <p:nvPr/>
          </p:nvSpPr>
          <p:spPr>
            <a:xfrm>
              <a:off x="684000" y="5732640"/>
              <a:ext cx="158256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0"/>
            <p:cNvSpPr/>
            <p:nvPr/>
          </p:nvSpPr>
          <p:spPr>
            <a:xfrm>
              <a:off x="2266920" y="5732640"/>
              <a:ext cx="136836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71"/>
            <p:cNvSpPr/>
            <p:nvPr/>
          </p:nvSpPr>
          <p:spPr>
            <a:xfrm>
              <a:off x="764280" y="573300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iameter H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72"/>
            <p:cNvSpPr/>
            <p:nvPr/>
          </p:nvSpPr>
          <p:spPr>
            <a:xfrm>
              <a:off x="2283840" y="5733000"/>
              <a:ext cx="134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[Session-ID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3"/>
            <p:cNvSpPr/>
            <p:nvPr/>
          </p:nvSpPr>
          <p:spPr>
            <a:xfrm>
              <a:off x="5364000" y="573264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74"/>
            <p:cNvSpPr/>
            <p:nvPr/>
          </p:nvSpPr>
          <p:spPr>
            <a:xfrm>
              <a:off x="5359320" y="578520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VP 1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Straight Connector 75"/>
            <p:cNvSpPr/>
            <p:nvPr/>
          </p:nvSpPr>
          <p:spPr>
            <a:xfrm>
              <a:off x="3635280" y="573264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traight Connector 76"/>
            <p:cNvSpPr/>
            <p:nvPr/>
          </p:nvSpPr>
          <p:spPr>
            <a:xfrm>
              <a:off x="3635280" y="609300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79"/>
            <p:cNvSpPr/>
            <p:nvPr/>
          </p:nvSpPr>
          <p:spPr>
            <a:xfrm>
              <a:off x="6948360" y="573264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Straight Connector 80"/>
            <p:cNvSpPr/>
            <p:nvPr/>
          </p:nvSpPr>
          <p:spPr>
            <a:xfrm>
              <a:off x="6948360" y="609300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81"/>
            <p:cNvSpPr/>
            <p:nvPr/>
          </p:nvSpPr>
          <p:spPr>
            <a:xfrm>
              <a:off x="6156360" y="573264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83"/>
            <p:cNvSpPr/>
            <p:nvPr/>
          </p:nvSpPr>
          <p:spPr>
            <a:xfrm>
              <a:off x="7164360" y="573264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89"/>
            <p:cNvSpPr/>
            <p:nvPr/>
          </p:nvSpPr>
          <p:spPr>
            <a:xfrm>
              <a:off x="4066920" y="5732640"/>
              <a:ext cx="129672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90"/>
            <p:cNvSpPr/>
            <p:nvPr/>
          </p:nvSpPr>
          <p:spPr>
            <a:xfrm>
              <a:off x="4070880" y="5785200"/>
              <a:ext cx="120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ssion-ID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traight Connector 91"/>
            <p:cNvSpPr/>
            <p:nvPr/>
          </p:nvSpPr>
          <p:spPr>
            <a:xfrm>
              <a:off x="7956720" y="573264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traight Connector 92"/>
            <p:cNvSpPr/>
            <p:nvPr/>
          </p:nvSpPr>
          <p:spPr>
            <a:xfrm>
              <a:off x="7956720" y="609300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Straight Connector 93"/>
            <p:cNvSpPr/>
            <p:nvPr/>
          </p:nvSpPr>
          <p:spPr>
            <a:xfrm>
              <a:off x="3635280" y="616428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traight Connector 94"/>
            <p:cNvSpPr/>
            <p:nvPr/>
          </p:nvSpPr>
          <p:spPr>
            <a:xfrm>
              <a:off x="3635280" y="652464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95"/>
            <p:cNvSpPr/>
            <p:nvPr/>
          </p:nvSpPr>
          <p:spPr>
            <a:xfrm>
              <a:off x="5364000" y="616428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96"/>
            <p:cNvSpPr/>
            <p:nvPr/>
          </p:nvSpPr>
          <p:spPr>
            <a:xfrm>
              <a:off x="5360040" y="6217200"/>
              <a:ext cx="85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VP K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Straight Connector 97"/>
            <p:cNvSpPr/>
            <p:nvPr/>
          </p:nvSpPr>
          <p:spPr>
            <a:xfrm>
              <a:off x="6948360" y="616428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Straight Connector 98"/>
            <p:cNvSpPr/>
            <p:nvPr/>
          </p:nvSpPr>
          <p:spPr>
            <a:xfrm>
              <a:off x="6948360" y="652464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99"/>
            <p:cNvSpPr/>
            <p:nvPr/>
          </p:nvSpPr>
          <p:spPr>
            <a:xfrm>
              <a:off x="6156360" y="616428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01"/>
            <p:cNvSpPr/>
            <p:nvPr/>
          </p:nvSpPr>
          <p:spPr>
            <a:xfrm>
              <a:off x="7164360" y="616428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03"/>
            <p:cNvSpPr/>
            <p:nvPr/>
          </p:nvSpPr>
          <p:spPr>
            <a:xfrm>
              <a:off x="4066920" y="6164280"/>
              <a:ext cx="129672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104"/>
            <p:cNvSpPr/>
            <p:nvPr/>
          </p:nvSpPr>
          <p:spPr>
            <a:xfrm>
              <a:off x="4071600" y="6217200"/>
              <a:ext cx="122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ssion-ID 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107"/>
            <p:cNvSpPr/>
            <p:nvPr/>
          </p:nvSpPr>
          <p:spPr>
            <a:xfrm>
              <a:off x="6151320" y="578520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VP 1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08"/>
            <p:cNvSpPr/>
            <p:nvPr/>
          </p:nvSpPr>
          <p:spPr>
            <a:xfrm>
              <a:off x="7160040" y="578520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VP 1.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109"/>
            <p:cNvSpPr/>
            <p:nvPr/>
          </p:nvSpPr>
          <p:spPr>
            <a:xfrm>
              <a:off x="6152040" y="6217200"/>
              <a:ext cx="85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VP K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10"/>
            <p:cNvSpPr/>
            <p:nvPr/>
          </p:nvSpPr>
          <p:spPr>
            <a:xfrm>
              <a:off x="7160760" y="621720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VP K.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ETSI TS 183 06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Resources and Admission Control Subsystem (RACS); Re interface based on the Diameter protoc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3GPP TS 29.27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Mobility Management Entity (MME) and SGSN related interfaces based on the Diameter protoc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Calibri"/>
              </a:rPr>
              <a:t>3GPP TS 29.816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, Study on PCRF Failure and Resto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Calibri"/>
              </a:rPr>
              <a:t>TD S2-113795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, Contribution to 3GPP TSG SA2 WG2 meeting #86, 11-15 July 2011, Core Network Overload Solution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cope: Identify and document scenarios, that may result in signaling overl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tate restoration after reboot, results in burst of re-registrations from mobile nod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Nex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pdate according to agreed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arget mature version before next IET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doption of this work item and doc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otivation to have this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roposed structure for a joint dra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ome details on proposed 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Motivation &amp; Background (1/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DOs utilize Diameter on various reference points in their archite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3GP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TSI‘s TISP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Need for bulk signaling identified and discu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ass handling, e.g. re-registration, state resto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scussion about draft-liebsch-dime-diameter-gps during IETF79 and IETF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roposes dedicated Diameter Session for bulk sign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iscusses grouping of Attribute-Values for bulk transmi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Motivation &amp; Background (2/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aluable feedback recei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ore use cases and enlarged 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GP Session has value, but represents a new appl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Platform for specification: DIME or alternative grou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Good idea, but overloading is 3GPP hab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New messages as altern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GP Session has clear rules, but other SDOs (TISPAN) just ignore the Session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nlarge the scope of the idea to address also signaling without Session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Focus on grouping for bulk signal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onclusion at IETF80: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Calibri"/>
              </a:rPr>
              <a:t>Interest &amp; space for this work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n the DIME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tart with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Calibri"/>
              </a:rPr>
              <a:t>Use Cases &amp; 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First version of the draft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s a proactive submission to initiate new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flects the discussion with the W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roposes initial structure and 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olicit input and contributions towards a joint WG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Target: Specification of bulk signaling as solution for S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Proposed Document Struc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onventions and Termi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nalysis of Use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ractices for Bulk Signaling &amp; Class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tailing selected Prac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pproaches to group Attribute-Value-Pairs for bulk transfer of multi-user con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ecurity Consid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ANA conside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Analysis of Use Ca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eneral: Reduce signaling 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ignal bulk information to reduce number of single protocol handshak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tate resto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fter node failure/restart [3GPP TS 29.816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lient re-registration after node failure addressed in [TD S2-11379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roup hand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olicy enforcement [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SI TS 183 060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olicy reque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Analysis of Use Cases</a:t>
            </a:r>
            <a:br>
              <a:rPr sz="4000"/>
            </a:b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xample from 3GPP, Concern about signaling 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ounded Rectangle 5"/>
          <p:cNvSpPr/>
          <p:nvPr/>
        </p:nvSpPr>
        <p:spPr>
          <a:xfrm>
            <a:off x="3297240" y="328608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3369960" y="335772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n 7"/>
          <p:cNvSpPr/>
          <p:nvPr/>
        </p:nvSpPr>
        <p:spPr>
          <a:xfrm>
            <a:off x="4664160" y="1773360"/>
            <a:ext cx="504720" cy="50472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5289120" y="191772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me Subscriber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142160" y="3379680"/>
            <a:ext cx="267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bility Management E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4595760" y="19177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9" descr="it_033"/>
          <p:cNvPicPr/>
          <p:nvPr/>
        </p:nvPicPr>
        <p:blipFill>
          <a:blip r:embed="rId1"/>
          <a:stretch/>
        </p:blipFill>
        <p:spPr>
          <a:xfrm>
            <a:off x="2576520" y="5340240"/>
            <a:ext cx="396720" cy="538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9" descr="it_033"/>
          <p:cNvPicPr/>
          <p:nvPr/>
        </p:nvPicPr>
        <p:blipFill>
          <a:blip r:embed="rId2"/>
          <a:stretch/>
        </p:blipFill>
        <p:spPr>
          <a:xfrm>
            <a:off x="2936880" y="5195880"/>
            <a:ext cx="396720" cy="538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9" descr="it_033"/>
          <p:cNvPicPr/>
          <p:nvPr/>
        </p:nvPicPr>
        <p:blipFill>
          <a:blip r:embed="rId3"/>
          <a:stretch/>
        </p:blipFill>
        <p:spPr>
          <a:xfrm>
            <a:off x="3008160" y="5556240"/>
            <a:ext cx="397080" cy="53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9" descr="it_033"/>
          <p:cNvPicPr/>
          <p:nvPr/>
        </p:nvPicPr>
        <p:blipFill>
          <a:blip r:embed="rId4"/>
          <a:stretch/>
        </p:blipFill>
        <p:spPr>
          <a:xfrm>
            <a:off x="3440160" y="5267160"/>
            <a:ext cx="396720" cy="538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it_033"/>
          <p:cNvPicPr/>
          <p:nvPr/>
        </p:nvPicPr>
        <p:blipFill>
          <a:blip r:embed="rId5"/>
          <a:stretch/>
        </p:blipFill>
        <p:spPr>
          <a:xfrm>
            <a:off x="3584520" y="5556240"/>
            <a:ext cx="397080" cy="538200"/>
          </a:xfrm>
          <a:prstGeom prst="rect">
            <a:avLst/>
          </a:prstGeom>
          <a:ln w="0">
            <a:noFill/>
          </a:ln>
        </p:spPr>
      </p:pic>
      <p:cxnSp>
        <p:nvCxnSpPr>
          <p:cNvPr id="67" name="Straight Arrow Connector 17"/>
          <p:cNvCxnSpPr/>
          <p:nvPr/>
        </p:nvCxnSpPr>
        <p:spPr>
          <a:xfrm flipV="1">
            <a:off x="3367440" y="3862080"/>
            <a:ext cx="2520" cy="122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Straight Arrow Connector 20"/>
          <p:cNvCxnSpPr/>
          <p:nvPr/>
        </p:nvCxnSpPr>
        <p:spPr>
          <a:xfrm flipV="1">
            <a:off x="3440160" y="3862080"/>
            <a:ext cx="2160" cy="122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Straight Arrow Connector 21"/>
          <p:cNvCxnSpPr/>
          <p:nvPr/>
        </p:nvCxnSpPr>
        <p:spPr>
          <a:xfrm flipV="1">
            <a:off x="3521160" y="3862080"/>
            <a:ext cx="2160" cy="122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Straight Arrow Connector 22"/>
          <p:cNvCxnSpPr/>
          <p:nvPr/>
        </p:nvCxnSpPr>
        <p:spPr>
          <a:xfrm flipV="1">
            <a:off x="3727440" y="3862080"/>
            <a:ext cx="2160" cy="122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Straight Arrow Connector 23"/>
          <p:cNvCxnSpPr/>
          <p:nvPr/>
        </p:nvCxnSpPr>
        <p:spPr>
          <a:xfrm flipV="1">
            <a:off x="3870720" y="3862080"/>
            <a:ext cx="2520" cy="122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4"/>
          <p:cNvCxnSpPr/>
          <p:nvPr/>
        </p:nvCxnSpPr>
        <p:spPr>
          <a:xfrm flipV="1">
            <a:off x="4013640" y="3862080"/>
            <a:ext cx="2520" cy="122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TextBox 7"/>
          <p:cNvSpPr/>
          <p:nvPr/>
        </p:nvSpPr>
        <p:spPr>
          <a:xfrm>
            <a:off x="4169520" y="4170240"/>
            <a:ext cx="35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cation Update (new Tracking Are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6"/>
          <p:cNvSpPr/>
          <p:nvPr/>
        </p:nvSpPr>
        <p:spPr>
          <a:xfrm>
            <a:off x="3152880" y="4294080"/>
            <a:ext cx="1079280" cy="216000"/>
          </a:xfrm>
          <a:prstGeom prst="ellipse">
            <a:avLst/>
          </a:prstGeom>
          <a:noFill/>
          <a:ln w="1260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27"/>
          <p:cNvCxnSpPr/>
          <p:nvPr/>
        </p:nvCxnSpPr>
        <p:spPr>
          <a:xfrm flipV="1">
            <a:off x="3513240" y="2204280"/>
            <a:ext cx="1080000" cy="105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Straight Arrow Connector 29"/>
          <p:cNvCxnSpPr/>
          <p:nvPr/>
        </p:nvCxnSpPr>
        <p:spPr>
          <a:xfrm flipV="1">
            <a:off x="3655800" y="2349000"/>
            <a:ext cx="937080" cy="91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Straight Arrow Connector 31"/>
          <p:cNvCxnSpPr/>
          <p:nvPr/>
        </p:nvCxnSpPr>
        <p:spPr>
          <a:xfrm flipV="1">
            <a:off x="3808440" y="2349000"/>
            <a:ext cx="937440" cy="91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Straight Arrow Connector 32"/>
          <p:cNvCxnSpPr/>
          <p:nvPr/>
        </p:nvCxnSpPr>
        <p:spPr>
          <a:xfrm flipV="1">
            <a:off x="3944880" y="2349000"/>
            <a:ext cx="937440" cy="91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Straight Arrow Connector 33"/>
          <p:cNvCxnSpPr/>
          <p:nvPr/>
        </p:nvCxnSpPr>
        <p:spPr>
          <a:xfrm flipV="1">
            <a:off x="4089240" y="2349000"/>
            <a:ext cx="936000" cy="91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34"/>
          <p:cNvCxnSpPr/>
          <p:nvPr/>
        </p:nvCxnSpPr>
        <p:spPr>
          <a:xfrm flipV="1">
            <a:off x="4232160" y="2349000"/>
            <a:ext cx="937440" cy="91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Oval 35"/>
          <p:cNvSpPr/>
          <p:nvPr/>
        </p:nvSpPr>
        <p:spPr>
          <a:xfrm>
            <a:off x="3800520" y="2637000"/>
            <a:ext cx="1152360" cy="215640"/>
          </a:xfrm>
          <a:prstGeom prst="ellipse">
            <a:avLst/>
          </a:prstGeom>
          <a:noFill/>
          <a:ln w="1260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6"/>
          <p:cNvSpPr/>
          <p:nvPr/>
        </p:nvSpPr>
        <p:spPr>
          <a:xfrm>
            <a:off x="2289240" y="5157720"/>
            <a:ext cx="1942920" cy="1079640"/>
          </a:xfrm>
          <a:prstGeom prst="ellipse">
            <a:avLst/>
          </a:prstGeom>
          <a:noFill/>
          <a:ln w="1260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9" descr="bl_016"/>
          <p:cNvPicPr/>
          <p:nvPr/>
        </p:nvPicPr>
        <p:blipFill>
          <a:blip r:embed="rId6"/>
          <a:stretch/>
        </p:blipFill>
        <p:spPr>
          <a:xfrm>
            <a:off x="4305240" y="4581360"/>
            <a:ext cx="392040" cy="1152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4" descr="cha_005"/>
          <p:cNvPicPr/>
          <p:nvPr/>
        </p:nvPicPr>
        <p:blipFill>
          <a:blip r:embed="rId7"/>
          <a:stretch/>
        </p:blipFill>
        <p:spPr>
          <a:xfrm rot="7768200">
            <a:off x="3942720" y="4749480"/>
            <a:ext cx="428760" cy="384480"/>
          </a:xfrm>
          <a:prstGeom prst="rect">
            <a:avLst/>
          </a:prstGeom>
          <a:ln w="0">
            <a:noFill/>
          </a:ln>
        </p:spPr>
      </p:pic>
      <p:sp>
        <p:nvSpPr>
          <p:cNvPr id="85" name="Striped Right Arrow 39"/>
          <p:cNvSpPr/>
          <p:nvPr/>
        </p:nvSpPr>
        <p:spPr>
          <a:xfrm>
            <a:off x="1568520" y="5445000"/>
            <a:ext cx="863640" cy="505080"/>
          </a:xfrm>
          <a:custGeom>
            <a:avLst/>
            <a:gdLst>
              <a:gd name="textAreaLeft" fmla="*/ 78840 w 863640"/>
              <a:gd name="textAreaRight" fmla="*/ 737640 w 863640"/>
              <a:gd name="textAreaTop" fmla="*/ 126000 h 505080"/>
              <a:gd name="textAreaBottom" fmla="*/ 379080 h 505080"/>
            </a:gdLst>
            <a:ahLst/>
            <a:rect l="textAreaLeft" t="textAreaTop" r="textAreaRight" b="textAreaBottom"/>
            <a:pathLst>
              <a:path w="863600" h="504825">
                <a:moveTo>
                  <a:pt x="0" y="126206"/>
                </a:moveTo>
                <a:lnTo>
                  <a:pt x="15776" y="126206"/>
                </a:lnTo>
                <a:lnTo>
                  <a:pt x="15776" y="378619"/>
                </a:lnTo>
                <a:lnTo>
                  <a:pt x="0" y="378619"/>
                </a:lnTo>
                <a:close/>
                <a:moveTo>
                  <a:pt x="31552" y="126206"/>
                </a:moveTo>
                <a:lnTo>
                  <a:pt x="63103" y="126206"/>
                </a:lnTo>
                <a:lnTo>
                  <a:pt x="63103" y="378619"/>
                </a:lnTo>
                <a:lnTo>
                  <a:pt x="31552" y="378619"/>
                </a:lnTo>
                <a:close/>
                <a:moveTo>
                  <a:pt x="78879" y="126206"/>
                </a:moveTo>
                <a:lnTo>
                  <a:pt x="611188" y="126206"/>
                </a:lnTo>
                <a:lnTo>
                  <a:pt x="611188" y="0"/>
                </a:lnTo>
                <a:lnTo>
                  <a:pt x="863600" y="252413"/>
                </a:lnTo>
                <a:lnTo>
                  <a:pt x="611188" y="504825"/>
                </a:lnTo>
                <a:lnTo>
                  <a:pt x="611188" y="378619"/>
                </a:lnTo>
                <a:lnTo>
                  <a:pt x="78879" y="378619"/>
                </a:lnTo>
                <a:close/>
              </a:path>
            </a:pathLst>
          </a:custGeom>
          <a:noFill/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965840" y="2587680"/>
            <a:ext cx="24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date Locati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938240" y="2421000"/>
            <a:ext cx="170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ameter on S6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47"/>
          <p:cNvSpPr/>
          <p:nvPr/>
        </p:nvSpPr>
        <p:spPr>
          <a:xfrm>
            <a:off x="3440160" y="2709720"/>
            <a:ext cx="1081080" cy="4320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49"/>
          <p:cNvSpPr/>
          <p:nvPr/>
        </p:nvSpPr>
        <p:spPr>
          <a:xfrm>
            <a:off x="1639800" y="3286080"/>
            <a:ext cx="792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1713960" y="335772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iped Right Arrow 51"/>
          <p:cNvSpPr/>
          <p:nvPr/>
        </p:nvSpPr>
        <p:spPr>
          <a:xfrm>
            <a:off x="2505240" y="3357720"/>
            <a:ext cx="718920" cy="360360"/>
          </a:xfrm>
          <a:custGeom>
            <a:avLst/>
            <a:gdLst>
              <a:gd name="textAreaLeft" fmla="*/ 56160 w 718920"/>
              <a:gd name="textAreaRight" fmla="*/ 628920 w 718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719138" h="360362">
                <a:moveTo>
                  <a:pt x="0" y="90091"/>
                </a:moveTo>
                <a:lnTo>
                  <a:pt x="11261" y="90091"/>
                </a:lnTo>
                <a:lnTo>
                  <a:pt x="11261" y="270272"/>
                </a:lnTo>
                <a:lnTo>
                  <a:pt x="0" y="270272"/>
                </a:lnTo>
                <a:close/>
                <a:moveTo>
                  <a:pt x="22523" y="90091"/>
                </a:moveTo>
                <a:lnTo>
                  <a:pt x="45045" y="90091"/>
                </a:lnTo>
                <a:lnTo>
                  <a:pt x="45045" y="270272"/>
                </a:lnTo>
                <a:lnTo>
                  <a:pt x="22523" y="270272"/>
                </a:lnTo>
                <a:close/>
                <a:moveTo>
                  <a:pt x="56307" y="90091"/>
                </a:moveTo>
                <a:lnTo>
                  <a:pt x="538957" y="90091"/>
                </a:lnTo>
                <a:lnTo>
                  <a:pt x="538957" y="0"/>
                </a:lnTo>
                <a:lnTo>
                  <a:pt x="719138" y="180181"/>
                </a:lnTo>
                <a:lnTo>
                  <a:pt x="538957" y="360362"/>
                </a:lnTo>
                <a:lnTo>
                  <a:pt x="538957" y="270272"/>
                </a:lnTo>
                <a:lnTo>
                  <a:pt x="56307" y="270272"/>
                </a:lnTo>
                <a:close/>
              </a:path>
            </a:pathLst>
          </a:custGeom>
          <a:noFill/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1003680" y="4284720"/>
            <a:ext cx="196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-MME Track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ea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Pract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5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verloading the Session 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Use single user‘s Session ID, signal multi-user con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sregarding the Session 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pplication user key/Identifier not linked to Session 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o Session-ID maintained for subscri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th-Session-State AVP has value NO_STATE_MAINTAI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w application, Diameter Session-ID ‘terminated implicitly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sed messages mandate Session-ID AVP, but it has no mean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pproach suitable for bulk sign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8:56:34Z</dcterms:created>
  <dc:creator>liebsch</dc:creator>
  <dc:description/>
  <dc:language>en-US</dc:language>
  <cp:lastModifiedBy>liebsch</cp:lastModifiedBy>
  <dcterms:modified xsi:type="dcterms:W3CDTF">2011-07-28T15:32:13Z</dcterms:modified>
  <cp:revision>219</cp:revision>
  <dc:subject/>
  <dc:title>Diameter General Purpose Session draft-liebsch-dime-diameter-gps-00.txt</dc:title>
</cp:coreProperties>
</file>