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A51-845E-441C-B32F-ADE917C8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39F-2179-4DEA-A592-981D6758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2F5-90DF-43DE-AD3F-80066197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4E2-2E28-42FE-B636-A9D7375B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0F8-91FA-4A2F-BEB2-2E291B90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6F5-E3CD-4096-93BF-437ECEE9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198-0C53-409E-B824-6B0A11DE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389-756B-442D-9B55-EEE54FD7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57E-C413-42A4-BDDA-0995AA03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E2C-3833-4EE9-80A7-BFDE89F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A79-EDAD-47CA-A418-115654A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CA9-39B7-4307-AA4D-BFCE6DC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60B2-2A0D-4B30-93F7-C3B26D27AC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iameter Bulk Signaling</a:t>
            </a: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aft-liebsch-dime-diameter-bulksig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M. Liebsch, G. Pun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ETF81, Quebec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Diameter Maintenance and Extensions (DIME) W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de-DE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July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se of messages, which do not use Session 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imited existing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dicated Session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dicated for bulk operations in addition to per-user Session 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ractices / Categ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324000" y="2124000"/>
            <a:ext cx="23032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468360" y="2771640"/>
            <a:ext cx="2016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836640" y="211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65280" y="290664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met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9"/>
          <p:cNvSpPr/>
          <p:nvPr/>
        </p:nvSpPr>
        <p:spPr>
          <a:xfrm>
            <a:off x="2050920" y="2340000"/>
            <a:ext cx="7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0"/>
          <p:cNvSpPr/>
          <p:nvPr/>
        </p:nvSpPr>
        <p:spPr>
          <a:xfrm>
            <a:off x="2268360" y="3132000"/>
            <a:ext cx="57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979360" y="2916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sion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884680" y="2124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r Info/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>
            <a:off x="4716360" y="2266920"/>
            <a:ext cx="0" cy="8650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>
            <a:off x="5435640" y="226692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7"/>
          <p:cNvSpPr/>
          <p:nvPr/>
        </p:nvSpPr>
        <p:spPr>
          <a:xfrm flipV="1">
            <a:off x="5435640" y="291600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1"/>
          <p:cNvSpPr/>
          <p:nvPr/>
        </p:nvSpPr>
        <p:spPr>
          <a:xfrm flipV="1">
            <a:off x="7667640" y="291600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2"/>
          <p:cNvSpPr/>
          <p:nvPr/>
        </p:nvSpPr>
        <p:spPr>
          <a:xfrm>
            <a:off x="7667640" y="226692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3"/>
          <p:cNvSpPr/>
          <p:nvPr/>
        </p:nvSpPr>
        <p:spPr>
          <a:xfrm flipH="1">
            <a:off x="7667280" y="2266920"/>
            <a:ext cx="144360" cy="22536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4"/>
          <p:cNvSpPr/>
          <p:nvPr/>
        </p:nvSpPr>
        <p:spPr>
          <a:xfrm>
            <a:off x="7524000" y="2266920"/>
            <a:ext cx="142920" cy="22536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0"/>
          <p:cNvSpPr/>
          <p:nvPr/>
        </p:nvSpPr>
        <p:spPr>
          <a:xfrm>
            <a:off x="8532720" y="226692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31"/>
          <p:cNvSpPr/>
          <p:nvPr/>
        </p:nvSpPr>
        <p:spPr>
          <a:xfrm flipH="1">
            <a:off x="8532360" y="2266920"/>
            <a:ext cx="142920" cy="22536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2"/>
          <p:cNvSpPr/>
          <p:nvPr/>
        </p:nvSpPr>
        <p:spPr>
          <a:xfrm>
            <a:off x="8387640" y="2266920"/>
            <a:ext cx="144360" cy="22536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3139200" y="3365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4"/>
          <p:cNvSpPr/>
          <p:nvPr/>
        </p:nvSpPr>
        <p:spPr>
          <a:xfrm>
            <a:off x="4475880" y="3357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5151240" y="33656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5798880" y="33656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I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7"/>
          <p:cNvSpPr/>
          <p:nvPr/>
        </p:nvSpPr>
        <p:spPr>
          <a:xfrm>
            <a:off x="6554880" y="33656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IV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8"/>
          <p:cNvSpPr/>
          <p:nvPr/>
        </p:nvSpPr>
        <p:spPr>
          <a:xfrm>
            <a:off x="871200" y="4149720"/>
            <a:ext cx="744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sion-ID linked to Application us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sion ID independent of Application us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Session ID used, single Application user key signa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loading of Session ID, which is linked to one of multipl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gnaled Application use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loading of Session ID, which is independent of multiple signal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use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Session ID used, multiple Application user keys sign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39"/>
          <p:cNvSpPr/>
          <p:nvPr/>
        </p:nvSpPr>
        <p:spPr>
          <a:xfrm flipV="1">
            <a:off x="6875640" y="290664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40"/>
          <p:cNvSpPr/>
          <p:nvPr/>
        </p:nvSpPr>
        <p:spPr>
          <a:xfrm>
            <a:off x="6875640" y="2259000"/>
            <a:ext cx="0" cy="7192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41"/>
          <p:cNvSpPr/>
          <p:nvPr/>
        </p:nvSpPr>
        <p:spPr>
          <a:xfrm flipH="1">
            <a:off x="6876720" y="2259000"/>
            <a:ext cx="142920" cy="2332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42"/>
          <p:cNvSpPr/>
          <p:nvPr/>
        </p:nvSpPr>
        <p:spPr>
          <a:xfrm>
            <a:off x="6732000" y="2259000"/>
            <a:ext cx="144360" cy="2332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44"/>
          <p:cNvSpPr/>
          <p:nvPr/>
        </p:nvSpPr>
        <p:spPr>
          <a:xfrm>
            <a:off x="6084720" y="225900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6"/>
          <p:cNvSpPr/>
          <p:nvPr/>
        </p:nvSpPr>
        <p:spPr>
          <a:xfrm>
            <a:off x="7383960" y="33577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V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7"/>
          <p:cNvSpPr/>
          <p:nvPr/>
        </p:nvSpPr>
        <p:spPr>
          <a:xfrm>
            <a:off x="8139240" y="33577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V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8"/>
          <p:cNvSpPr/>
          <p:nvPr/>
        </p:nvSpPr>
        <p:spPr>
          <a:xfrm>
            <a:off x="4437720" y="146700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gle-user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Brace 50"/>
          <p:cNvSpPr/>
          <p:nvPr/>
        </p:nvSpPr>
        <p:spPr>
          <a:xfrm rot="16200000">
            <a:off x="5255280" y="1141920"/>
            <a:ext cx="289080" cy="16556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655640"/>
              <a:gd name="textAreaBottom" fmla="*/ 16484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7"/>
                  <a:pt x="10800" y="314"/>
                </a:cubicBezTo>
                <a:lnTo>
                  <a:pt x="10800" y="10486"/>
                </a:lnTo>
                <a:cubicBezTo>
                  <a:pt x="10800" y="10643"/>
                  <a:pt x="16200" y="10800"/>
                  <a:pt x="21600" y="10800"/>
                </a:cubicBezTo>
                <a:cubicBezTo>
                  <a:pt x="16200" y="10800"/>
                  <a:pt x="10800" y="10957"/>
                  <a:pt x="10800" y="11114"/>
                </a:cubicBezTo>
                <a:lnTo>
                  <a:pt x="10800" y="21286"/>
                </a:lnTo>
                <a:cubicBezTo>
                  <a:pt x="10800" y="2144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1"/>
          <p:cNvSpPr/>
          <p:nvPr/>
        </p:nvSpPr>
        <p:spPr>
          <a:xfrm>
            <a:off x="6602400" y="1467000"/>
            <a:ext cx="23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-user context (bu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Brace 52"/>
          <p:cNvSpPr/>
          <p:nvPr/>
        </p:nvSpPr>
        <p:spPr>
          <a:xfrm rot="16200000">
            <a:off x="7561800" y="856080"/>
            <a:ext cx="289080" cy="22269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2226960"/>
              <a:gd name="textAreaBottom" fmla="*/ 2219760 h 222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7"/>
                  <a:pt x="10800" y="233"/>
                </a:cubicBezTo>
                <a:lnTo>
                  <a:pt x="10800" y="10567"/>
                </a:lnTo>
                <a:cubicBezTo>
                  <a:pt x="10800" y="10684"/>
                  <a:pt x="16200" y="10800"/>
                  <a:pt x="21600" y="10800"/>
                </a:cubicBezTo>
                <a:cubicBezTo>
                  <a:pt x="16200" y="10800"/>
                  <a:pt x="10800" y="10917"/>
                  <a:pt x="10800" y="11033"/>
                </a:cubicBezTo>
                <a:lnTo>
                  <a:pt x="10800" y="21367"/>
                </a:lnTo>
                <a:cubicBezTo>
                  <a:pt x="10800" y="214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rouping APVs for bulk signaling</a:t>
            </a:r>
            <a:br>
              <a:rPr sz="40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(in the order of efficienc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roup-ID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dentifies multiple users, list of attributes/values applies to all users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ist of Session-IDs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dentifies a group of users, list of attributes/value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applies to all user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ist of Session-ID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dentifies multiple users, each Session-ID has an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individual list of AVPs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ssoc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11"/>
          <p:cNvGrpSpPr/>
          <p:nvPr/>
        </p:nvGrpSpPr>
        <p:grpSpPr>
          <a:xfrm>
            <a:off x="179280" y="2349360"/>
            <a:ext cx="8823960" cy="4175280"/>
            <a:chOff x="179280" y="2349360"/>
            <a:chExt cx="8823960" cy="4175280"/>
          </a:xfrm>
        </p:grpSpPr>
        <p:sp>
          <p:nvSpPr>
            <p:cNvPr id="136" name="Rectangle 3"/>
            <p:cNvSpPr/>
            <p:nvPr/>
          </p:nvSpPr>
          <p:spPr>
            <a:xfrm>
              <a:off x="722160" y="2349360"/>
              <a:ext cx="1584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306520" y="2349360"/>
              <a:ext cx="13665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5"/>
            <p:cNvSpPr/>
            <p:nvPr/>
          </p:nvSpPr>
          <p:spPr>
            <a:xfrm>
              <a:off x="802440" y="234936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6"/>
            <p:cNvSpPr/>
            <p:nvPr/>
          </p:nvSpPr>
          <p:spPr>
            <a:xfrm>
              <a:off x="2341080" y="234936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5402160" y="23493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8"/>
            <p:cNvSpPr/>
            <p:nvPr/>
          </p:nvSpPr>
          <p:spPr>
            <a:xfrm>
              <a:off x="5442840" y="2349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9"/>
            <p:cNvSpPr/>
            <p:nvPr/>
          </p:nvSpPr>
          <p:spPr>
            <a:xfrm>
              <a:off x="3673440" y="2349360"/>
              <a:ext cx="43308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10"/>
            <p:cNvSpPr/>
            <p:nvPr/>
          </p:nvSpPr>
          <p:spPr>
            <a:xfrm>
              <a:off x="3673440" y="2709720"/>
              <a:ext cx="43308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106880" y="2349360"/>
              <a:ext cx="129528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2"/>
            <p:cNvSpPr/>
            <p:nvPr/>
          </p:nvSpPr>
          <p:spPr>
            <a:xfrm>
              <a:off x="4186440" y="237060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roup-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22"/>
            <p:cNvSpPr/>
            <p:nvPr/>
          </p:nvSpPr>
          <p:spPr>
            <a:xfrm>
              <a:off x="6986520" y="234936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24"/>
            <p:cNvSpPr/>
            <p:nvPr/>
          </p:nvSpPr>
          <p:spPr>
            <a:xfrm>
              <a:off x="6986520" y="27097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1"/>
            <p:cNvSpPr/>
            <p:nvPr/>
          </p:nvSpPr>
          <p:spPr>
            <a:xfrm>
              <a:off x="6194520" y="23493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2"/>
            <p:cNvSpPr/>
            <p:nvPr/>
          </p:nvSpPr>
          <p:spPr>
            <a:xfrm>
              <a:off x="6234840" y="2349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7"/>
            <p:cNvSpPr/>
            <p:nvPr/>
          </p:nvSpPr>
          <p:spPr>
            <a:xfrm>
              <a:off x="7202520" y="234936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8"/>
            <p:cNvSpPr/>
            <p:nvPr/>
          </p:nvSpPr>
          <p:spPr>
            <a:xfrm>
              <a:off x="7243200" y="23493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9"/>
            <p:cNvSpPr/>
            <p:nvPr/>
          </p:nvSpPr>
          <p:spPr>
            <a:xfrm>
              <a:off x="179280" y="4005000"/>
              <a:ext cx="1584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0"/>
            <p:cNvSpPr/>
            <p:nvPr/>
          </p:nvSpPr>
          <p:spPr>
            <a:xfrm>
              <a:off x="1763640" y="4005000"/>
              <a:ext cx="1368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51"/>
            <p:cNvSpPr/>
            <p:nvPr/>
          </p:nvSpPr>
          <p:spPr>
            <a:xfrm>
              <a:off x="260280" y="400500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52"/>
            <p:cNvSpPr/>
            <p:nvPr/>
          </p:nvSpPr>
          <p:spPr>
            <a:xfrm>
              <a:off x="1628640" y="400500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6372360" y="40050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54"/>
            <p:cNvSpPr/>
            <p:nvPr/>
          </p:nvSpPr>
          <p:spPr>
            <a:xfrm>
              <a:off x="6412680" y="400500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55"/>
            <p:cNvSpPr/>
            <p:nvPr/>
          </p:nvSpPr>
          <p:spPr>
            <a:xfrm>
              <a:off x="3132000" y="400500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56"/>
            <p:cNvSpPr/>
            <p:nvPr/>
          </p:nvSpPr>
          <p:spPr>
            <a:xfrm>
              <a:off x="3132000" y="436572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3563640" y="4005000"/>
              <a:ext cx="129528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58"/>
            <p:cNvSpPr/>
            <p:nvPr/>
          </p:nvSpPr>
          <p:spPr>
            <a:xfrm>
              <a:off x="3570840" y="402660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ssion-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59"/>
            <p:cNvSpPr/>
            <p:nvPr/>
          </p:nvSpPr>
          <p:spPr>
            <a:xfrm>
              <a:off x="7956720" y="400500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60"/>
            <p:cNvSpPr/>
            <p:nvPr/>
          </p:nvSpPr>
          <p:spPr>
            <a:xfrm>
              <a:off x="7956720" y="43657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7164360" y="40050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62"/>
            <p:cNvSpPr/>
            <p:nvPr/>
          </p:nvSpPr>
          <p:spPr>
            <a:xfrm>
              <a:off x="7204680" y="400500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3"/>
            <p:cNvSpPr/>
            <p:nvPr/>
          </p:nvSpPr>
          <p:spPr>
            <a:xfrm>
              <a:off x="8172360" y="400500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64"/>
            <p:cNvSpPr/>
            <p:nvPr/>
          </p:nvSpPr>
          <p:spPr>
            <a:xfrm>
              <a:off x="8213040" y="40050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VP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65"/>
            <p:cNvSpPr/>
            <p:nvPr/>
          </p:nvSpPr>
          <p:spPr>
            <a:xfrm>
              <a:off x="4859280" y="400500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66"/>
            <p:cNvSpPr/>
            <p:nvPr/>
          </p:nvSpPr>
          <p:spPr>
            <a:xfrm>
              <a:off x="4859280" y="436572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079960" y="400500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68"/>
            <p:cNvSpPr/>
            <p:nvPr/>
          </p:nvSpPr>
          <p:spPr>
            <a:xfrm>
              <a:off x="5059080" y="402660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ssion-ID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9"/>
            <p:cNvSpPr/>
            <p:nvPr/>
          </p:nvSpPr>
          <p:spPr>
            <a:xfrm>
              <a:off x="684000" y="5732640"/>
              <a:ext cx="15825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0"/>
            <p:cNvSpPr/>
            <p:nvPr/>
          </p:nvSpPr>
          <p:spPr>
            <a:xfrm>
              <a:off x="2266920" y="5732640"/>
              <a:ext cx="136836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71"/>
            <p:cNvSpPr/>
            <p:nvPr/>
          </p:nvSpPr>
          <p:spPr>
            <a:xfrm>
              <a:off x="764280" y="573300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ameter H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72"/>
            <p:cNvSpPr/>
            <p:nvPr/>
          </p:nvSpPr>
          <p:spPr>
            <a:xfrm>
              <a:off x="2283840" y="573300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Session-ID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3"/>
            <p:cNvSpPr/>
            <p:nvPr/>
          </p:nvSpPr>
          <p:spPr>
            <a:xfrm>
              <a:off x="5364000" y="573264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74"/>
            <p:cNvSpPr/>
            <p:nvPr/>
          </p:nvSpPr>
          <p:spPr>
            <a:xfrm>
              <a:off x="5359320" y="5785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75"/>
            <p:cNvSpPr/>
            <p:nvPr/>
          </p:nvSpPr>
          <p:spPr>
            <a:xfrm>
              <a:off x="3635280" y="573264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76"/>
            <p:cNvSpPr/>
            <p:nvPr/>
          </p:nvSpPr>
          <p:spPr>
            <a:xfrm>
              <a:off x="3635280" y="609300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79"/>
            <p:cNvSpPr/>
            <p:nvPr/>
          </p:nvSpPr>
          <p:spPr>
            <a:xfrm>
              <a:off x="6948360" y="5732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6948360" y="609300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1"/>
            <p:cNvSpPr/>
            <p:nvPr/>
          </p:nvSpPr>
          <p:spPr>
            <a:xfrm>
              <a:off x="6156360" y="573264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3"/>
            <p:cNvSpPr/>
            <p:nvPr/>
          </p:nvSpPr>
          <p:spPr>
            <a:xfrm>
              <a:off x="7164360" y="573264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9"/>
            <p:cNvSpPr/>
            <p:nvPr/>
          </p:nvSpPr>
          <p:spPr>
            <a:xfrm>
              <a:off x="4066920" y="573264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90"/>
            <p:cNvSpPr/>
            <p:nvPr/>
          </p:nvSpPr>
          <p:spPr>
            <a:xfrm>
              <a:off x="4070880" y="5785200"/>
              <a:ext cx="12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ssion-ID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91"/>
            <p:cNvSpPr/>
            <p:nvPr/>
          </p:nvSpPr>
          <p:spPr>
            <a:xfrm>
              <a:off x="7956720" y="573264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92"/>
            <p:cNvSpPr/>
            <p:nvPr/>
          </p:nvSpPr>
          <p:spPr>
            <a:xfrm>
              <a:off x="7956720" y="609300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93"/>
            <p:cNvSpPr/>
            <p:nvPr/>
          </p:nvSpPr>
          <p:spPr>
            <a:xfrm>
              <a:off x="3635280" y="616428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4"/>
            <p:cNvSpPr/>
            <p:nvPr/>
          </p:nvSpPr>
          <p:spPr>
            <a:xfrm>
              <a:off x="3635280" y="6524640"/>
              <a:ext cx="431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5"/>
            <p:cNvSpPr/>
            <p:nvPr/>
          </p:nvSpPr>
          <p:spPr>
            <a:xfrm>
              <a:off x="5364000" y="6164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96"/>
            <p:cNvSpPr/>
            <p:nvPr/>
          </p:nvSpPr>
          <p:spPr>
            <a:xfrm>
              <a:off x="5360040" y="621720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97"/>
            <p:cNvSpPr/>
            <p:nvPr/>
          </p:nvSpPr>
          <p:spPr>
            <a:xfrm>
              <a:off x="6948360" y="616428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98"/>
            <p:cNvSpPr/>
            <p:nvPr/>
          </p:nvSpPr>
          <p:spPr>
            <a:xfrm>
              <a:off x="6948360" y="6524640"/>
              <a:ext cx="2156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99"/>
            <p:cNvSpPr/>
            <p:nvPr/>
          </p:nvSpPr>
          <p:spPr>
            <a:xfrm>
              <a:off x="6156360" y="6164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1"/>
            <p:cNvSpPr/>
            <p:nvPr/>
          </p:nvSpPr>
          <p:spPr>
            <a:xfrm>
              <a:off x="7164360" y="6164280"/>
              <a:ext cx="79200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3"/>
            <p:cNvSpPr/>
            <p:nvPr/>
          </p:nvSpPr>
          <p:spPr>
            <a:xfrm>
              <a:off x="4066920" y="6164280"/>
              <a:ext cx="1296720" cy="36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04"/>
            <p:cNvSpPr/>
            <p:nvPr/>
          </p:nvSpPr>
          <p:spPr>
            <a:xfrm>
              <a:off x="4071600" y="6217200"/>
              <a:ext cx="122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ssion-ID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07"/>
            <p:cNvSpPr/>
            <p:nvPr/>
          </p:nvSpPr>
          <p:spPr>
            <a:xfrm>
              <a:off x="6151320" y="57852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08"/>
            <p:cNvSpPr/>
            <p:nvPr/>
          </p:nvSpPr>
          <p:spPr>
            <a:xfrm>
              <a:off x="7160040" y="57852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1.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09"/>
            <p:cNvSpPr/>
            <p:nvPr/>
          </p:nvSpPr>
          <p:spPr>
            <a:xfrm>
              <a:off x="6152040" y="621720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10"/>
            <p:cNvSpPr/>
            <p:nvPr/>
          </p:nvSpPr>
          <p:spPr>
            <a:xfrm>
              <a:off x="7160760" y="621720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VP K.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ETSI TS 183 06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sources and Admission Control Subsystem (RACS); Re interface based on the Diameter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GPP TS 29.27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obility Management Entity (MME) and SGSN related interfaces based on the Diameter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3GPP TS 29.816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Study on PCRF Failure and Rest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alibri"/>
              </a:rPr>
              <a:t>TD S2-113795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Contribution to 3GPP TSG SA2 WG2 meeting #86, 11-15 July 2011, Core Network Overload Solution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cope: Identify and document scenarios, that may result in signaling over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ate restoration after reboot, results in burst of re-registrations from mobile nod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pdate according to agreed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arget mature version before next IET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doption of this work item and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tivation to have this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roposed structure for a joint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me details on proposed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otivation &amp; Background (1/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DOs utilize Diameter on various reference points in their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G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TSI‘s TIS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eed for bulk signaling identified and discu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ss handling, e.g. re-registration, state resto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scussion about draft-liebsch-dime-diameter-gps during IETF79 and IETF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roposes dedicated Diameter Session for bulk sign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scusses grouping of Attribute-Values for bulk trans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otivation &amp; Background (2/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aluable feedback recei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ore use cases and enlarged 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P Session has value, but represents a new 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Platform for specification: DIME or alternative gro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ood idea, but overloading is 3GPP ha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New messages as altern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P Session has clear rules, but other SDOs (TISPAN) just ignore the Sessio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large the scope of the idea to address also signaling without Sessio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Focus on grouping for bulk signa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nclusion at IETF80: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Interest &amp; space for this work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 the DIM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Use Cases &amp;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irst version of the draft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 a proactive submission to initiate new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flects the discussion with the 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roposes initial structure and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licit input and contributions towards a joint WG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arget: Specification of bulk signaling as solution for S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roposed Document 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nventions and Termi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nalysis of Us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ractices for Bulk Signaling &amp; Clas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tailing selected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pproaches to group Attribute-Value-Pairs for bulk transfer of multi-user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curity Consid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ANA consid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Analysis of Use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neral: Reduce signaling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gnal bulk information to reduce number of single protocol handshak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te rest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de failure/restart [3GPP TS 29.816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lient re-registration after node failure addressed in [TD S2-11379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roup hand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licy enforcement [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SI TS 183 06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licy requ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Analysis of Use Cases</a:t>
            </a:r>
            <a:br>
              <a:rPr sz="40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xample from 3GPP, Concern about signaling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3297240" y="328608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369960" y="33577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n 7"/>
          <p:cNvSpPr/>
          <p:nvPr/>
        </p:nvSpPr>
        <p:spPr>
          <a:xfrm>
            <a:off x="4664160" y="1773360"/>
            <a:ext cx="504720" cy="50472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289120" y="191772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me Subscriber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142160" y="3379680"/>
            <a:ext cx="26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bility Management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4595760" y="19177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9" descr="it_033"/>
          <p:cNvPicPr/>
          <p:nvPr/>
        </p:nvPicPr>
        <p:blipFill>
          <a:blip r:embed="rId1"/>
          <a:stretch/>
        </p:blipFill>
        <p:spPr>
          <a:xfrm>
            <a:off x="2576520" y="5340240"/>
            <a:ext cx="396720" cy="53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it_033"/>
          <p:cNvPicPr/>
          <p:nvPr/>
        </p:nvPicPr>
        <p:blipFill>
          <a:blip r:embed="rId2"/>
          <a:stretch/>
        </p:blipFill>
        <p:spPr>
          <a:xfrm>
            <a:off x="2936880" y="5195880"/>
            <a:ext cx="396720" cy="538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it_033"/>
          <p:cNvPicPr/>
          <p:nvPr/>
        </p:nvPicPr>
        <p:blipFill>
          <a:blip r:embed="rId3"/>
          <a:stretch/>
        </p:blipFill>
        <p:spPr>
          <a:xfrm>
            <a:off x="3008160" y="5556240"/>
            <a:ext cx="397080" cy="53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it_033"/>
          <p:cNvPicPr/>
          <p:nvPr/>
        </p:nvPicPr>
        <p:blipFill>
          <a:blip r:embed="rId4"/>
          <a:stretch/>
        </p:blipFill>
        <p:spPr>
          <a:xfrm>
            <a:off x="3440160" y="5267160"/>
            <a:ext cx="396720" cy="53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it_033"/>
          <p:cNvPicPr/>
          <p:nvPr/>
        </p:nvPicPr>
        <p:blipFill>
          <a:blip r:embed="rId5"/>
          <a:stretch/>
        </p:blipFill>
        <p:spPr>
          <a:xfrm>
            <a:off x="3584520" y="5556240"/>
            <a:ext cx="397080" cy="538200"/>
          </a:xfrm>
          <a:prstGeom prst="rect">
            <a:avLst/>
          </a:prstGeom>
          <a:ln w="0">
            <a:noFill/>
          </a:ln>
        </p:spPr>
      </p:pic>
      <p:cxnSp>
        <p:nvCxnSpPr>
          <p:cNvPr id="67" name="Straight Arrow Connector 17"/>
          <p:cNvCxnSpPr/>
          <p:nvPr/>
        </p:nvCxnSpPr>
        <p:spPr>
          <a:xfrm flipV="1">
            <a:off x="3367440" y="3862080"/>
            <a:ext cx="252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20"/>
          <p:cNvCxnSpPr/>
          <p:nvPr/>
        </p:nvCxnSpPr>
        <p:spPr>
          <a:xfrm flipV="1">
            <a:off x="3440160" y="3862080"/>
            <a:ext cx="216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1"/>
          <p:cNvCxnSpPr/>
          <p:nvPr/>
        </p:nvCxnSpPr>
        <p:spPr>
          <a:xfrm flipV="1">
            <a:off x="3521160" y="3862080"/>
            <a:ext cx="216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2"/>
          <p:cNvCxnSpPr/>
          <p:nvPr/>
        </p:nvCxnSpPr>
        <p:spPr>
          <a:xfrm flipV="1">
            <a:off x="3727440" y="3862080"/>
            <a:ext cx="216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23"/>
          <p:cNvCxnSpPr/>
          <p:nvPr/>
        </p:nvCxnSpPr>
        <p:spPr>
          <a:xfrm flipV="1">
            <a:off x="3870720" y="3862080"/>
            <a:ext cx="252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4"/>
          <p:cNvCxnSpPr/>
          <p:nvPr/>
        </p:nvCxnSpPr>
        <p:spPr>
          <a:xfrm flipV="1">
            <a:off x="4013640" y="3862080"/>
            <a:ext cx="252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extBox 7"/>
          <p:cNvSpPr/>
          <p:nvPr/>
        </p:nvSpPr>
        <p:spPr>
          <a:xfrm>
            <a:off x="4169520" y="4170240"/>
            <a:ext cx="35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cation Update (new Tracking Are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3152880" y="4294080"/>
            <a:ext cx="1079280" cy="21600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27"/>
          <p:cNvCxnSpPr/>
          <p:nvPr/>
        </p:nvCxnSpPr>
        <p:spPr>
          <a:xfrm flipV="1">
            <a:off x="3513240" y="2204280"/>
            <a:ext cx="1080000" cy="105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29"/>
          <p:cNvCxnSpPr/>
          <p:nvPr/>
        </p:nvCxnSpPr>
        <p:spPr>
          <a:xfrm flipV="1">
            <a:off x="3655800" y="2349000"/>
            <a:ext cx="93708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31"/>
          <p:cNvCxnSpPr/>
          <p:nvPr/>
        </p:nvCxnSpPr>
        <p:spPr>
          <a:xfrm flipV="1">
            <a:off x="3808440" y="2349000"/>
            <a:ext cx="93744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32"/>
          <p:cNvCxnSpPr/>
          <p:nvPr/>
        </p:nvCxnSpPr>
        <p:spPr>
          <a:xfrm flipV="1">
            <a:off x="3944880" y="2349000"/>
            <a:ext cx="93744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33"/>
          <p:cNvCxnSpPr/>
          <p:nvPr/>
        </p:nvCxnSpPr>
        <p:spPr>
          <a:xfrm flipV="1">
            <a:off x="4089240" y="2349000"/>
            <a:ext cx="93600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34"/>
          <p:cNvCxnSpPr/>
          <p:nvPr/>
        </p:nvCxnSpPr>
        <p:spPr>
          <a:xfrm flipV="1">
            <a:off x="4232160" y="2349000"/>
            <a:ext cx="937440" cy="91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Oval 35"/>
          <p:cNvSpPr/>
          <p:nvPr/>
        </p:nvSpPr>
        <p:spPr>
          <a:xfrm>
            <a:off x="3800520" y="2637000"/>
            <a:ext cx="1152360" cy="21564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2289240" y="5157720"/>
            <a:ext cx="1942920" cy="1079640"/>
          </a:xfrm>
          <a:prstGeom prst="ellipse">
            <a:avLst/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9" descr="bl_016"/>
          <p:cNvPicPr/>
          <p:nvPr/>
        </p:nvPicPr>
        <p:blipFill>
          <a:blip r:embed="rId6"/>
          <a:stretch/>
        </p:blipFill>
        <p:spPr>
          <a:xfrm>
            <a:off x="4305240" y="4581360"/>
            <a:ext cx="392040" cy="115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4" descr="cha_005"/>
          <p:cNvPicPr/>
          <p:nvPr/>
        </p:nvPicPr>
        <p:blipFill>
          <a:blip r:embed="rId7"/>
          <a:stretch/>
        </p:blipFill>
        <p:spPr>
          <a:xfrm rot="7768200">
            <a:off x="3942720" y="4749480"/>
            <a:ext cx="428760" cy="384480"/>
          </a:xfrm>
          <a:prstGeom prst="rect">
            <a:avLst/>
          </a:prstGeom>
          <a:ln w="0">
            <a:noFill/>
          </a:ln>
        </p:spPr>
      </p:pic>
      <p:sp>
        <p:nvSpPr>
          <p:cNvPr id="85" name="Striped Right Arrow 39"/>
          <p:cNvSpPr/>
          <p:nvPr/>
        </p:nvSpPr>
        <p:spPr>
          <a:xfrm>
            <a:off x="1568520" y="5445000"/>
            <a:ext cx="863640" cy="505080"/>
          </a:xfrm>
          <a:custGeom>
            <a:avLst/>
            <a:gdLst>
              <a:gd name="textAreaLeft" fmla="*/ 78840 w 863640"/>
              <a:gd name="textAreaRight" fmla="*/ 737640 w 863640"/>
              <a:gd name="textAreaTop" fmla="*/ 126000 h 505080"/>
              <a:gd name="textAreaBottom" fmla="*/ 379080 h 505080"/>
            </a:gdLst>
            <a:ahLst/>
            <a:rect l="textAreaLeft" t="textAreaTop" r="textAreaRight" b="textAreaBottom"/>
            <a:pathLst>
              <a:path w="863600" h="504825">
                <a:moveTo>
                  <a:pt x="0" y="126206"/>
                </a:moveTo>
                <a:lnTo>
                  <a:pt x="15776" y="126206"/>
                </a:lnTo>
                <a:lnTo>
                  <a:pt x="15776" y="378619"/>
                </a:lnTo>
                <a:lnTo>
                  <a:pt x="0" y="378619"/>
                </a:lnTo>
                <a:close/>
                <a:moveTo>
                  <a:pt x="31552" y="126206"/>
                </a:moveTo>
                <a:lnTo>
                  <a:pt x="63103" y="126206"/>
                </a:lnTo>
                <a:lnTo>
                  <a:pt x="63103" y="378619"/>
                </a:lnTo>
                <a:lnTo>
                  <a:pt x="31552" y="378619"/>
                </a:lnTo>
                <a:close/>
                <a:moveTo>
                  <a:pt x="78879" y="126206"/>
                </a:moveTo>
                <a:lnTo>
                  <a:pt x="611188" y="126206"/>
                </a:lnTo>
                <a:lnTo>
                  <a:pt x="611188" y="0"/>
                </a:lnTo>
                <a:lnTo>
                  <a:pt x="863600" y="252413"/>
                </a:lnTo>
                <a:lnTo>
                  <a:pt x="611188" y="504825"/>
                </a:lnTo>
                <a:lnTo>
                  <a:pt x="611188" y="378619"/>
                </a:lnTo>
                <a:lnTo>
                  <a:pt x="78879" y="378619"/>
                </a:lnTo>
                <a:close/>
              </a:path>
            </a:pathLst>
          </a:custGeom>
          <a:noFill/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965840" y="258768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 Loca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938240" y="242100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ameter on S6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47"/>
          <p:cNvSpPr/>
          <p:nvPr/>
        </p:nvSpPr>
        <p:spPr>
          <a:xfrm>
            <a:off x="3440160" y="2709720"/>
            <a:ext cx="1081080" cy="432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9"/>
          <p:cNvSpPr/>
          <p:nvPr/>
        </p:nvSpPr>
        <p:spPr>
          <a:xfrm>
            <a:off x="1639800" y="3286080"/>
            <a:ext cx="79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713960" y="33577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iped Right Arrow 51"/>
          <p:cNvSpPr/>
          <p:nvPr/>
        </p:nvSpPr>
        <p:spPr>
          <a:xfrm>
            <a:off x="2505240" y="3357720"/>
            <a:ext cx="718920" cy="360360"/>
          </a:xfrm>
          <a:custGeom>
            <a:avLst/>
            <a:gdLst>
              <a:gd name="textAreaLeft" fmla="*/ 56160 w 718920"/>
              <a:gd name="textAreaRight" fmla="*/ 62892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719138" h="360362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close/>
                <a:moveTo>
                  <a:pt x="56307" y="90091"/>
                </a:moveTo>
                <a:lnTo>
                  <a:pt x="538957" y="90091"/>
                </a:lnTo>
                <a:lnTo>
                  <a:pt x="538957" y="0"/>
                </a:lnTo>
                <a:lnTo>
                  <a:pt x="719138" y="180181"/>
                </a:lnTo>
                <a:lnTo>
                  <a:pt x="538957" y="360362"/>
                </a:lnTo>
                <a:lnTo>
                  <a:pt x="538957" y="270272"/>
                </a:lnTo>
                <a:lnTo>
                  <a:pt x="56307" y="270272"/>
                </a:lnTo>
                <a:close/>
              </a:path>
            </a:pathLst>
          </a:custGeom>
          <a:noFill/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1003680" y="428472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-MME Trac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ea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verloading the Session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se single user‘s Session ID, signal multi-user con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sregarding the Session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pplication user key/Identifier not linked to Session 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o Session-ID maintained for subscri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th-Session-State AVP has value NO_STATE_MAINTAI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application, Diameter Session-ID ‘terminated implicitly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sed messages mandate Session-ID AVP, but it has no mea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pproach suitable for bulk sign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56:34Z</dcterms:created>
  <dc:creator>liebsch</dc:creator>
  <dc:description/>
  <dc:language>en-US</dc:language>
  <cp:lastModifiedBy>liebsch</cp:lastModifiedBy>
  <dcterms:modified xsi:type="dcterms:W3CDTF">2011-07-28T15:32:13Z</dcterms:modified>
  <cp:revision>219</cp:revision>
  <dc:subject/>
  <dc:title>Diameter General Purpose Session draft-liebsch-dime-diameter-gps-00.txt</dc:title>
</cp:coreProperties>
</file>