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274-3856-4B01-955F-3DD6ED70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133-B866-43B3-A190-A1C7F9E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D9B-0EDA-45DA-ACAF-EAEA3CA0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AA7-A6FE-449D-BC44-33D96357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FEE5-56E4-4EF2-A5DA-C9A516D7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50BA-EAB5-4599-8763-7F36B669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E995-B64B-4270-88BC-9F4A492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F3B5-FCA5-4D4C-929B-CF2205C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859-3A2B-4E81-A4A9-ED0F805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B4FD-981E-4D61-8E93-3DE763F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001A-1FD8-4B11-A4FC-01363EE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1D1-9653-4746-92C5-D7B94EC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25A5-2E84-42F9-A4B6-D49B755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8A0C-6378-4D73-B373-4F30E50A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D9E0-4B93-4A26-B4F8-FDB0DE2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639F-E405-46CE-9654-CA9B93F1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5B0D-C506-4CCC-9DDD-8326875E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AF44-6E98-43A6-BBDC-087C45B7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595C-8977-489F-974E-CF1587F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D146-5980-4161-9B19-BA5A44E4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C38F-C12A-48CB-86C6-AE92CE8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7F79-C48E-4F19-9388-518FA0D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EC5-1569-4D5F-A6BE-A97092DD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CB16-ECD6-46E4-8483-8757B05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F611-90C8-4826-9F90-60B8411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DC15-7380-4695-8DB3-35AA4DA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92A5-E9EC-4823-AF96-D375AD0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DA00-F5B6-4E3E-B5AD-06E9D27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A0E6-2AD3-4EBF-AB79-3CE996C3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73AE-5A91-4D80-8E21-1D5B659C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44DC-9A43-42C9-943E-59038631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720F-1808-40F8-B618-2A5EB07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8BDA-1FDB-4BD0-B70E-67791B8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DA9-DFB4-412A-A1FB-9586A357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80EF-4BBB-4379-9B77-D9A7B2E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77C2-D739-4AEC-B25A-081711D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852C-AAEB-4F03-9AA7-A8F5B5B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92AA-1983-4B65-87C3-45EC171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0E26-7A6C-42E6-8FEE-EBFC7A0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8CED-A73D-46F7-BD3F-2D26145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5EFD-1730-416A-86F5-EBFD7063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9FE6-ADBD-485E-BE77-70D379C9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FF96-864E-4493-90CF-08CF48EF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D869-75EB-4823-8013-A4385BAE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832-4508-4382-B679-79C5030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5E30-8CA4-4C53-AC6B-F41E3DB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B623-519C-457E-A8A3-9D58F5A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A86B-8D48-47B5-860F-3A2BCB0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9E7F-E395-42BA-8EC9-2F947E9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C9A6-3651-4466-A7D9-934A3F3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F5E7-76EC-479C-BB12-B032CC7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81E1-0318-495B-BC66-4077DDB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8CEEB-51F2-4754-8731-B8A4785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47BBC-6F70-402A-A5AC-14EB9BF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7D38-9E59-4283-89E5-1A05E6E4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A70-2996-4B2B-9028-F2FDF33A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7718-F44F-40CE-AF14-5A541925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4947-74DD-4088-80AB-24CB7AF3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80A7-F398-4B99-8481-E69FB50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3121-0270-4BA8-8064-0EC6AA5A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FF34-35EF-4305-B545-CC1CE87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9FDC-FF06-43D5-8117-C088D39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F2764-B669-42BA-8AEC-0D5592E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4982-01DF-4B1E-86C8-C47278D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5BAB-24E6-48A4-A746-77883EC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2F6E-9FBF-46C2-A68F-CA464A7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CBF-2C0D-438A-8C6F-CF8E9CA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6AC8-7A13-4E4C-B4E1-6B9BDD8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A209-FCEE-417D-AECE-A48B6B97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84BB-1D91-46F5-AFF3-F4B2AB28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9C85-D2E8-4702-BCED-AD074B6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66A0-5063-4F83-84F3-BB7B587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DB00-2E54-409F-A6D1-2D6C10B1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48C1-24AE-4AEC-87B9-A74D1BA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C949-B159-4655-89A9-17DAFFC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223BF-FF1C-4D33-BCA3-D8BAD3D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A29B-B799-4FE3-ACCA-889F57B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150-4892-4A59-A9E6-275147C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DBC9-A2E4-427D-85CF-490B03B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79D7-6803-472E-BDAD-DD89C85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D8CA-91F2-40BD-9EBD-02967BD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54FF-C0EB-415B-B296-C403A60C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9E53-345F-45F2-A020-EF81055B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671A-885B-42AD-B509-814E479F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E813-5595-4C42-B841-25266DE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DF063-268E-4DFE-B41B-F8A278F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4276-7CB6-4C70-BA3E-538FEF1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0E9D-0C7B-4B54-93C6-7E0430E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ED6-DD2E-46C0-8636-55FA66E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C125F-57F1-47EF-B28E-5D3370B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77362-9873-48AD-A92B-D460952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88C8-3F50-4D50-9846-02910A7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296B-4BD4-4324-8799-F16FE8AC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3CE14-A1F0-48DF-BBFB-C65AF500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903B2-418F-4EA4-A479-D302CEBC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B005-4625-4D06-960C-17BEEE52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F82-727D-4A34-9C39-D10522F1C86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A812-C297-4D34-9472-CF6D3DF0808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FC6-63BD-4FC3-B2D7-3D1CB229CDB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E6A-19F2-40C8-8BC5-C0B8D0F8E6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8E9-0304-47B6-A8CC-769D9D64837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5D7-7120-4C46-ACAD-3150F04F31B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BA5-F24F-4865-A7C9-6C290C6D4B0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99D-204C-4961-8F24-EE6DFB3915C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vision of the Binary Floor Control Protocol (BFCP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r use over an unreliable transpo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draft-sandbakken-dispatch-bfcp-udp-02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arles Eckel, Tom Kristensen, Mark Thompson, Geir Arne Sandbakken, Eoin McLe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ubtitle 2"/>
          <p:cNvSpPr/>
          <p:nvPr/>
        </p:nvSpPr>
        <p:spPr>
          <a:xfrm>
            <a:off x="914400" y="5105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ETF-81, Quebec City, July  25-29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AT Travers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verage existing NAT traversal infrastructure and strategies deployed to facilitate transport of the media associated with video conferencing se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includes some subset of ICE [RFC5245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OMMEND STUN [RFC5389] for keep-al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 described for SIP [RFC5626]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acilitate establishment and maintenance of NAT binding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OMMEND symmetric ports for sending and receiving BFCP 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 recommended for RTP/RTCP [RFC4961]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uture Wor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apting DTLS usage to BF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TLS-SRTP specifications RFC 5763 and RFC 5764 referenced as example, need to add detail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signaling exchanges over un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pdated transaction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essage retransmiss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TLS during call setup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ANA Consid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ow that draft is informational, it can no longer add attributes to the registries defined for BFCP per the requirements stated in RFC 4582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ctions related to IANA considerations will need to be rework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ank You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arles Eckel, Tom Kristensen, Mark Thompson, Geir Arne Sandbakken, Eoin McLe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ubtitle 2"/>
          <p:cNvSpPr/>
          <p:nvPr/>
        </p:nvSpPr>
        <p:spPr>
          <a:xfrm>
            <a:off x="914400" y="5105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ETF-81, Quebec City, July  25-29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hanges from Previous Vers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witched from standard track to information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ded section on motivation, including alternatives conside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ged semantics of the Transaction Initiator (I) flag-b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anded transport section with considerations fo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gestion contr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CMP erro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large messages/fragment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pdated security related se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TLS when using UD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ded section on NAT Tra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Case – SIP Videoconferenc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FCP used for floor control of content sharing video stre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FCP server and participant roles negotiated via SDP offer/answer ex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sponsibility for opening the BFCP channel negotiated via SDP offer/answer ex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“normal user endpoint” might need to act as a BFCP server and/or initiate the connection for the BFCP chann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oint-to-point/Peer-to-peer/Business-to-busine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oint-to-multipoint (potential internal MCU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e/Both BFCP entities behind NATs/firewal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isting deployments of SIP based videoconferencing typicall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onsist of RTP media streams for audio and vide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Use ICE and/or other methods for NAT/firewall traversa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Found in enterprise network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enhancing with support for content sharing, the BFCP connection often poses a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here may be a strong preference for UDP based signaling in genera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stablishment/traversal of the TCP connection involving ephemeral ports, as is typically the case with BFCP over TCP, can be problematic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draft defines UDP as an alternate transport for BFCP, leveraging the mechanisms in place for RTP over UDP media streams for the BFCP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pproac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or changes to transaction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l requests now have a response to complete transa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39800" indent="-205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ed an explicit “Ack” primitive for each case in which none exis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ransmission timer to ensure reliabil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ransaction Initiator flag to distinguish request vs. respon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e pending request per entity (ordering, congestion contro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odbye/GoodbyeAck dissociate (TCP/BFCP clos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 ERROR-CODEs for following cas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nable to parse messag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DT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TLS MUST be suppor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E/STUN if applicable and need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quest/Respon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4852 primitives in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BLUE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primitives in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GREEN ITAL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lease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Status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FloorRequestStatus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Query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UserQuery / User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Query / Floor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Status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FloorStatus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hairAction / ChairAction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Hello / Hello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Error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Error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Goodbye / Goodbye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UserStatus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 / UserStatusAck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[QUESTION: DO WE NEED TO ADD THIS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ansaction Initiator (the problem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primitives can be either a request or a respon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loorRequest / </a:t>
            </a: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RequestStat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212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t th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RequestStat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/ FloorRequestStatusA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loorQuery / </a:t>
            </a: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Stat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212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t th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Stat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/ FloorStatusA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tinguishing between the two requires some state information beyond that desirable at the stack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ounded Rectangle 4"/>
          <p:cNvSpPr/>
          <p:nvPr/>
        </p:nvSpPr>
        <p:spPr>
          <a:xfrm>
            <a:off x="457200" y="1295280"/>
            <a:ext cx="8229600" cy="2133720"/>
          </a:xfrm>
          <a:prstGeom prst="roundRect">
            <a:avLst>
              <a:gd name="adj" fmla="val 16667"/>
            </a:avLst>
          </a:prstGeom>
          <a:solidFill>
            <a:srgbClr val="fef8e4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unded Rectangle 3"/>
          <p:cNvSpPr/>
          <p:nvPr/>
        </p:nvSpPr>
        <p:spPr>
          <a:xfrm>
            <a:off x="1371600" y="18288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c12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ansaction Initiator (the solution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Ver |I|  Res  |  Primitive    |        Payload Length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Conference ID                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Transaction ID        |            User ID   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s relevance only for use of BFCP over unreliable transpor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clear, it indicates that this message is a request initiating a new transaction, and the Transaction ID that follows has been generated for this transa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set, it indicates that this message is a response to a previous request, and the Transaction ID that follows is the one associated with that reques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BFCP is used over reliable transports, the flag has no significance and SHOULD be clear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ur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date support for DTLS for transport over UDP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BFCP floor control servers and clients (which include both floor participants and floor chairs) MUST support TLS </a:t>
            </a:r>
            <a:r>
              <a:rPr b="0" i="1" lang="en-US" sz="2000" spc="-1" strike="noStrike">
                <a:solidFill>
                  <a:srgbClr val="0070c0"/>
                </a:solidFill>
                <a:latin typeface="Gill Sans MT"/>
              </a:rPr>
              <a:t>for transport over TCP and MUST support DTLS for transport over UDP [RFC5246]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Which party, the client or the floor control server, acts as the TLS/DTLS server depends on how the underlying TCP/DTLS connection is established.  For example, when the TCP/DTLS connection is established using an SDP offer/answer exchange [RFC4583], the answerer (which may be the client or the floor control server) always acts as the TLS/DTLS server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LS/DTLS for mutual authentication and security consid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opt strategy similar to DTLS-SRTP specifications (RFC5763 and RFC5764) for negot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5:10:48Z</dcterms:created>
  <dc:creator>Charles Eckel</dc:creator>
  <dc:description/>
  <dc:language>en-US</dc:language>
  <cp:lastModifiedBy>Charles Eckel</cp:lastModifiedBy>
  <dcterms:modified xsi:type="dcterms:W3CDTF">2011-07-22T22:25:25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13566501</vt:r8>
  </property>
  <property fmtid="{D5CDD505-2E9C-101B-9397-08002B2CF9AE}" pid="3" name="_AuthorEmail">
    <vt:lpwstr>eckelcu@cisco.com</vt:lpwstr>
  </property>
  <property fmtid="{D5CDD505-2E9C-101B-9397-08002B2CF9AE}" pid="4" name="_AuthorEmailDisplayName">
    <vt:lpwstr>Charles Eckel (eckelcu)</vt:lpwstr>
  </property>
  <property fmtid="{D5CDD505-2E9C-101B-9397-08002B2CF9AE}" pid="5" name="_EmailSubject">
    <vt:lpwstr>Charts for DISPATCH WG session on Monday morning - need charts by Friday!!!</vt:lpwstr>
  </property>
  <property fmtid="{D5CDD505-2E9C-101B-9397-08002B2CF9AE}" pid="6" name="_NewReviewCycle">
    <vt:lpwstr/>
  </property>
</Properties>
</file>