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BFC9-0B74-4DEC-AC09-26B7C9E7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9867-0FEE-4FDA-9299-2A8649A4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C2D9-45D9-4C39-8DC3-65388E31C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DC34-B7E2-497C-9CAE-8B7BA7EC6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4BCD-A115-4A4F-992E-BEF84BC74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DB0E-536F-4AB0-B1FE-DE1C7A6F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571D-F2DC-4F58-A338-EC93999F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AF1F-AF4D-4B2F-8EC2-53DECFAB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C3E7-C3A9-40B1-926D-264787E5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CFA8-2123-428C-A91C-7989B26E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579E-DEA5-4460-90B6-FB0DAAC2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7CD1-B587-4BDF-A2B7-63406615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036D-721E-465A-A93E-37031724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55D2-351F-4326-831B-E4A79E47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A70A-1BDA-4469-9059-6A31E59C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9189-A649-4A79-AB39-58EBB4DD0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AAC4-6928-40B5-9017-8F895630A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88B74-A621-4C53-BF5A-FBB16F420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63923-6BC9-44F5-8139-D84C82A7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F779C-595D-4DF3-8F74-1EB79294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AB9FB-8BE6-4004-83EE-55871EA3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45255-AB9A-43A2-BE95-502AD154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414E-C8B6-4166-9C26-C0DB97DB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93F3E-3F63-4C8D-ACCC-9D99B1A8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AC442-9FF3-4B29-AFB3-56506FBB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3FB03-3428-45B0-8343-5976397D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547BC-4B78-49FD-BFF7-CE33665A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19995-BB10-4957-9DB6-DD9C42A9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1AC96-1D80-482D-A46E-D3FB24026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66269-7131-4908-8E08-905ABA934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0F4C1-FD5C-4713-9D4A-21DFA7E9F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06D45-10B6-454E-88B4-2DA24DF3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3F493-A0EE-472C-A149-BBA70FD2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EAFE-73B8-4D0A-822D-69FCF59E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5780E-A5E3-4B74-8E3C-ADD6E136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A2106-F832-4535-8506-E234A9B1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1D7D7-F0F2-4F6A-8FBF-D9D91843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D0683-3B58-494D-A970-66F70D33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5D359-AB69-4281-AAEF-2F8AADFE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B8E0E-B4A0-40D6-9D75-5FB60321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9759A-2F3C-46C0-AB2E-594B0F9F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9418E-FCBE-4C87-B21C-CA43D75F8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EF9DD-57F0-418B-B145-688CF89E0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65721-9C9B-48AA-B242-0CF927107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23D4-807A-44B3-BCC3-F6062F91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AE493-D947-418B-B73D-5892B336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E685F-A1F3-438D-A8F5-14E28AD9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9218A-2624-4CF8-A12D-1379671C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19A11-8FBE-4C11-B32D-E76ABA71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5D21F-57E2-472C-ABA8-C6B8D55B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1E39E-058E-4C00-9762-A864B9C4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8ECB5-1CD9-47C2-83D5-3900AE46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61C4C-EAF9-4793-9C40-73CFF54C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06231-75E3-4531-B8FF-3BF27973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CDFB6-8936-4AE8-B546-C1AD7DEB1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9D61-CB72-4704-9D72-7F22B151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00F3A-D346-48A3-B1A8-8E0D24AD4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F8CB8-25E3-4280-8D47-94A5B8237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2C878-2153-4C56-8568-EB09680E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ED440-AABF-41AE-B089-BD61F2F2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7427C-6C79-4D68-A8FE-55A6F0D7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9DD39-4770-4ED3-90C5-0D609E00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96E8C-10F6-43DE-9D15-F0CD4BC4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CA2FE-ACDE-4EFE-A788-C49AE994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CE0B5-687A-4F45-893B-5CA025CF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FCFC5-5B25-4585-A511-CE5C3F03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A0AB-ABD4-4D1C-AECE-FD649C0E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79784-C3F6-402C-BE5A-5D15A365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A2730-A4E6-4E23-BEFC-A88B259A0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0AE0B-DB72-439C-A4DA-3C445389E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58C3B-5A8C-4C7F-B469-F9DD51BD9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12CD7-A702-4D15-A334-5500CE68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DE604-AFB3-40C6-90BC-9F39F5EA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52D64-140A-4E4B-B03C-08456F75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AC6A5-EC06-4C40-906B-58855533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A2BF7-9ED4-467A-8C51-4423948E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12C73-A518-44AB-9C74-A836A5E4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6F6A-1B31-4429-8922-3B84469C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2C54A-F129-4275-BB72-BAEB3450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CB223-CF2F-4B9A-BA80-C04BAA3D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C10D1-85DF-4D1B-B5DE-82581B8C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B416E-47AE-4580-B392-BDD37BFEF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E77BC-0CD6-409D-AED9-5E6C1EB48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C6E35-4000-4975-8841-B6A0939D4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406D3-3569-413C-B78E-A143A2A2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8F40F-01FA-4DF4-87C9-F486457A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F80E6-3B98-4D09-8EC1-08B9DC0F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9BFB2-D3BE-469D-992C-99DBC237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F299-DF79-49F2-A4C0-9A4B5E45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0A0D0-3E1E-4CB7-8439-575FD7EC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E3440-8326-4CAC-830B-22C3E911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5F297-13F7-4106-8C7D-4041F2BE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76D6B-440F-43A7-AAC4-EBF9A23F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4CC4C-E19A-4950-AD54-0B7B2988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E58BA-2461-4142-89C6-D082C877C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E9D0F-136B-4598-993F-C3917CE9A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88AA-B955-475D-ADDE-965F0A755E14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5C21-E7DE-4135-80F2-E84824094275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4D9E-D81B-407D-87D8-50970349931D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0A27-0BA8-4911-84C7-DEFC26F0FDF2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23E6-CBB8-476D-993B-7297D1B274F4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5510-B438-470B-BBF4-41464AAEC661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E6EF-7F74-4566-B669-7636E435EA98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7C28-3FE3-4432-BDFD-94D040099AC2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7543800" cy="28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Revision of the Binary Floor Control Protocol (BFCP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for use over an unreliable transpor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(draft-sandbakken-dispatch-bfcp-udp-02)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914400" y="3657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harles Eckel, Tom Kristensen, Mark Thompson, Geir Arne Sandbakken, Eoin McLeo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Subtitle 2"/>
          <p:cNvSpPr/>
          <p:nvPr/>
        </p:nvSpPr>
        <p:spPr>
          <a:xfrm>
            <a:off x="914400" y="5105520"/>
            <a:ext cx="7315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IETF-81, Quebec City, July  25-29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NAT Traversa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everage existing NAT traversal infrastructure and strategies deployed to facilitate transport of the media associated with video conferencing sess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ypically includes some subset of ICE [RFC5245]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COMMEND STUN [RFC5389] for keep-aliv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As described for SIP [RFC5626]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Facilitate establishment and maintenance of NAT bindings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COMMEND symmetric ports for sending and receiving BFCP packe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As recommended for RTP/RTCP [RFC4961]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uture Work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apting DTLS usage to BFC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DTLS-SRTP specifications RFC 5763 and RFC 5764 referenced as example, need to add details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ample signaling exchanges over unreliable transpor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updated transactions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message retransmission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DTLS during call setup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ANA Consider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Now that draft is informational, it can no longer add attributes to the registries defined for BFCP per the requirements stated in RFC 4582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Sections related to IANA considerations will need to be reworked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7543800" cy="28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Thank You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914400" y="3657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harles Eckel, Tom Kristensen, Mark Thompson, Geir Arne Sandbakken, Eoin McLeo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Subtitle 2"/>
          <p:cNvSpPr/>
          <p:nvPr/>
        </p:nvSpPr>
        <p:spPr>
          <a:xfrm>
            <a:off x="914400" y="5105520"/>
            <a:ext cx="7315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IETF-81, Quebec City, July  25-29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hanges from Previous Vers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witched from standard track to information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dded section on motivation, including alternatives consider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hanged semantics of the Transaction Initiator (I) flag-b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panded transport section with considerations fo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ongestion control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CMP error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large messages/fragmentation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pdated security related sec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DTLS when using UDP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dded section on NAT Travers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Use Case – SIP Videoconferenc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FCP used for floor control of content sharing video strea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FCP server and participant roles negotiated via SDP offer/answer exchang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sponsibility for opening the BFCP channel negotiated via SDP offer/answer exchang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“normal user endpoint” might need to act as a BFCP server and/or initiate the connection for the BFCP chann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oint-to-point/Peer-to-peer/Business-to-busines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oint-to-multipoint (potential internal MCU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e/Both BFCP entities behind NATs/firewal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Motiva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isting deployments of SIP based videoconferencing typically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76280" indent="-2372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Consist of RTP media streams for audio and video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476280" indent="-2372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Use ICE and/or other methods for NAT/firewall traversal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476280" indent="-2372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Found in enterprise networks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enhancing with support for content sharing, the BFCP connection often poses a proble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76280" indent="-2372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There may be a strong preference for UDP based signaling in general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476280" indent="-2372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stablishment/traversal of the TCP connection involving ephemeral ports, as is typically the case with BFCP over TCP, can be problematic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s draft defines UDP as an alternate transport for BFCP, leveraging the mechanisms in place for RTP over UDP media streams for the BFCP communi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Approach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219320"/>
            <a:ext cx="84582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inor changes to transaction mod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ll requests now have a response to complete transaction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739800" indent="-20556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dded an explicit “Ack” primitive for each case in which none exist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Retransmission timer to ensure reliability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ransaction Initiator flag to distinguish request vs. respons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One pending request per entity (ordering, congestion control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oodbye/GoodbyeAck dissociate (TCP/BFCP clos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ew ERROR-CODEs for following case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Unable to parse messag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Use DTL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TLS MUST be support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CE/STUN if applicable and need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Request/Respons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FC 4852 primitives in </a:t>
            </a:r>
            <a:r>
              <a:rPr b="0" lang="en-US" sz="2000" spc="-1" strike="noStrike">
                <a:solidFill>
                  <a:srgbClr val="0070c0"/>
                </a:solidFill>
                <a:latin typeface="Gill Sans MT"/>
              </a:rPr>
              <a:t>BLUE,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ew primitives in </a:t>
            </a:r>
            <a:r>
              <a:rPr b="0" i="1" lang="en-US" sz="2000" spc="-1" strike="noStrike">
                <a:solidFill>
                  <a:srgbClr val="00b050"/>
                </a:solidFill>
                <a:latin typeface="Gill Sans MT"/>
              </a:rPr>
              <a:t>GREEN ITALIC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-4294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Gill Sans MT"/>
              </a:rPr>
              <a:t>FloorRequest / FloorRequestStatu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-4294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Gill Sans MT"/>
              </a:rPr>
              <a:t>FloorRelease / FloorRequestStatu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-4294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Gill Sans MT"/>
              </a:rPr>
              <a:t>FloorRequestStatus / </a:t>
            </a:r>
            <a:r>
              <a:rPr b="0" i="1" lang="en-US" sz="2000" spc="-1" strike="noStrike">
                <a:solidFill>
                  <a:srgbClr val="00b050"/>
                </a:solidFill>
                <a:latin typeface="Gill Sans MT"/>
              </a:rPr>
              <a:t>FloorRequestStatusAc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-4294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Gill Sans MT"/>
              </a:rPr>
              <a:t>FloorRequestQuery / FloorRequestStatu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-4294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Gill Sans MT"/>
              </a:rPr>
              <a:t>UserQuery / UserStatu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-4294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Gill Sans MT"/>
              </a:rPr>
              <a:t>FloorQuery / FloorStatu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-4294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Gill Sans MT"/>
              </a:rPr>
              <a:t>FloorStatus / </a:t>
            </a:r>
            <a:r>
              <a:rPr b="0" i="1" lang="en-US" sz="2000" spc="-1" strike="noStrike">
                <a:solidFill>
                  <a:srgbClr val="00b050"/>
                </a:solidFill>
                <a:latin typeface="Gill Sans MT"/>
              </a:rPr>
              <a:t>FloorStatusAc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-4294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Gill Sans MT"/>
              </a:rPr>
              <a:t>ChairAction / ChairActionAc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-4294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Gill Sans MT"/>
              </a:rPr>
              <a:t>Hello / HelloAc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-4294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Gill Sans MT"/>
              </a:rPr>
              <a:t>Error / </a:t>
            </a:r>
            <a:r>
              <a:rPr b="0" i="1" lang="en-US" sz="2000" spc="-1" strike="noStrike">
                <a:solidFill>
                  <a:srgbClr val="00b050"/>
                </a:solidFill>
                <a:latin typeface="Gill Sans MT"/>
              </a:rPr>
              <a:t>ErrorAc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-4294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b050"/>
                </a:solidFill>
                <a:latin typeface="Gill Sans MT"/>
              </a:rPr>
              <a:t>Goodbye / GoodbyeAc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-4294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Gill Sans MT"/>
              </a:rPr>
              <a:t>UserStatus</a:t>
            </a:r>
            <a:r>
              <a:rPr b="0" i="1" lang="en-US" sz="2000" spc="-1" strike="noStrike">
                <a:solidFill>
                  <a:srgbClr val="00b050"/>
                </a:solidFill>
                <a:latin typeface="Gill Sans MT"/>
              </a:rPr>
              <a:t> / UserStatusAck 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[QUESTION: DO WE NEED TO ADD THIS]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ransaction Initiator (the problem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me primitives can be either a request or a respon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764640" indent="-212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loorRequest / </a:t>
            </a:r>
            <a:r>
              <a:rPr b="1" i="1" lang="en-US" sz="2200" spc="-1" strike="noStrike">
                <a:solidFill>
                  <a:srgbClr val="0070c0"/>
                </a:solidFill>
                <a:latin typeface="Gill Sans MT"/>
              </a:rPr>
              <a:t>FloorRequestStatu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019880" indent="-212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ut the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764640" indent="-212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70c0"/>
                </a:solidFill>
                <a:latin typeface="Gill Sans MT"/>
              </a:rPr>
              <a:t>FloorRequestStatus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/ FloorRequestStatusAck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764640" indent="-212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764640" indent="-212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loorQuery / </a:t>
            </a:r>
            <a:r>
              <a:rPr b="1" i="1" lang="en-US" sz="2200" spc="-1" strike="noStrike">
                <a:solidFill>
                  <a:srgbClr val="0070c0"/>
                </a:solidFill>
                <a:latin typeface="Gill Sans MT"/>
              </a:rPr>
              <a:t>FloorStatu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019880" indent="-212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ut the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764640" indent="-212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70c0"/>
                </a:solidFill>
                <a:latin typeface="Gill Sans MT"/>
              </a:rPr>
              <a:t>FloorStatus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/ FloorStatusAck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764640" indent="-212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stinguishing between the two requires some state information beyond that desirable at the stack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ounded Rectangle 4"/>
          <p:cNvSpPr/>
          <p:nvPr/>
        </p:nvSpPr>
        <p:spPr>
          <a:xfrm>
            <a:off x="457200" y="1295280"/>
            <a:ext cx="8229600" cy="2133720"/>
          </a:xfrm>
          <a:prstGeom prst="roundRect">
            <a:avLst>
              <a:gd name="adj" fmla="val 16667"/>
            </a:avLst>
          </a:prstGeom>
          <a:solidFill>
            <a:srgbClr val="fef8e4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ounded Rectangle 3"/>
          <p:cNvSpPr/>
          <p:nvPr/>
        </p:nvSpPr>
        <p:spPr>
          <a:xfrm>
            <a:off x="1371600" y="1828800"/>
            <a:ext cx="380880" cy="60948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609480"/>
              <a:gd name="textAreaBottom" fmla="*/ 591120 h 609480"/>
            </a:gdLst>
            <a:ahLst/>
            <a:rect l="textAreaLeft" t="textAreaTop" r="textAreaRight" b="textAreaBottom"/>
            <a:pathLst>
              <a:path w="21600" h="34552">
                <a:moveTo>
                  <a:pt x="3600" y="0"/>
                </a:moveTo>
                <a:arcTo wR="3600" hR="3600" stAng="16200000" swAng="-5400000"/>
                <a:lnTo>
                  <a:pt x="0" y="30952"/>
                </a:lnTo>
                <a:arcTo wR="3600" hR="3600" stAng="10800000" swAng="-5400000"/>
                <a:lnTo>
                  <a:pt x="18000" y="345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7c12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ransaction Initiator (the solution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        1                   2                   3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 1 2 3 4 5 6 7 8 9 0 1 2 3 4 5 6 7 8 9 0 1 2 3 4 5 6 7 8 9 0 1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+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Ver |I|  Res  |  Primitive    |        Payload Length         |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Conference ID                         |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Transaction ID        |            User ID            |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as relevance only for use of BFCP over unreliable transport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en clear, it indicates that this message is a request initiating a new transaction, and the Transaction ID that follows has been generated for this transactio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en set, it indicates that this message is a response to a previous request, and the Transaction ID that follows is the one associated with that request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en BFCP is used over reliable transports, the flag has no significance and SHOULD be cleared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curit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ndate support for DTLS for transport over UDP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64653"/>
                </a:solidFill>
                <a:latin typeface="Gill Sans MT"/>
              </a:rPr>
              <a:t>BFCP floor control servers and clients (which include both floor participants and floor chairs) MUST support TLS </a:t>
            </a:r>
            <a:r>
              <a:rPr b="0" i="1" lang="en-US" sz="2000" spc="-1" strike="noStrike">
                <a:solidFill>
                  <a:srgbClr val="0070c0"/>
                </a:solidFill>
                <a:latin typeface="Gill Sans MT"/>
              </a:rPr>
              <a:t>for transport over TCP and MUST support DTLS for transport over UDP [RFC5246].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64653"/>
                </a:solidFill>
                <a:latin typeface="Gill Sans MT"/>
              </a:rPr>
              <a:t>Which party, the client or the floor control server, acts as the TLS/DTLS server depends on how the underlying TCP/DTLS connection is established.  For example, when the TCP/DTLS connection is established using an SDP offer/answer exchange [RFC4583], the answerer (which may be the client or the floor control server) always acts as the TLS/DTLS server.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L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LS/DTLS for mutual authentication and security consider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opt strategy similar to DTLS-SRTP specifications (RFC5763 and RFC5764) for negoti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2T15:10:48Z</dcterms:created>
  <dc:creator>Charles Eckel</dc:creator>
  <dc:description/>
  <dc:language>en-US</dc:language>
  <cp:lastModifiedBy>Charles Eckel</cp:lastModifiedBy>
  <dcterms:modified xsi:type="dcterms:W3CDTF">2011-07-22T22:25:25Z</dcterms:modified>
  <cp:revision>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13566501</vt:r8>
  </property>
  <property fmtid="{D5CDD505-2E9C-101B-9397-08002B2CF9AE}" pid="3" name="_AuthorEmail">
    <vt:lpwstr>eckelcu@cisco.com</vt:lpwstr>
  </property>
  <property fmtid="{D5CDD505-2E9C-101B-9397-08002B2CF9AE}" pid="4" name="_AuthorEmailDisplayName">
    <vt:lpwstr>Charles Eckel (eckelcu)</vt:lpwstr>
  </property>
  <property fmtid="{D5CDD505-2E9C-101B-9397-08002B2CF9AE}" pid="5" name="_EmailSubject">
    <vt:lpwstr>Charts for DISPATCH WG session on Monday morning - need charts by Friday!!!</vt:lpwstr>
  </property>
  <property fmtid="{D5CDD505-2E9C-101B-9397-08002B2CF9AE}" pid="6" name="_NewReviewCycle">
    <vt:lpwstr/>
  </property>
</Properties>
</file>